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96F-104F-4139-8D77-227B251F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745-4958-49E0-8027-104BFA01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3CD-A9D6-4E75-855E-EF7A2BC8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8C3-95EC-4F85-A179-2D586331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BB98-CEFE-467C-B8F7-CDC9CE28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E594-C90E-4E80-8D0D-F7676AB8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23C5-869F-4251-B070-2973DCA7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7026-BC1B-4372-9AEA-88103858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94AC-7B3D-40A1-A43A-FC2837F3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351C-129D-47B0-8A87-38ADE972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0EE5-39FF-4565-A61B-4A98F07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76A-51BD-4776-8D3A-32416CF5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78CA-0657-47E1-AFF0-4834AFA4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5D13-A7AE-40C9-9B86-89F48AD2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9177-8613-4BD8-AEBF-CE899E76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8D14-4C77-4F19-A455-FB1D652D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51B3-F51D-4433-93AD-EAEA30D4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927-7D19-4458-A1BA-64D3763F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60B-3064-4129-87B8-D4A9CD2D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639-1B70-4569-B95D-E6601DEA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B78-F09C-46D9-AA11-67E343F1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6E3-17E6-4824-8874-23969AE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1BA-45BC-4FE1-B8B9-3B343B4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680-031D-4896-8044-B41D35F7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200-CAF1-489C-B1C9-00F550BEA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A1A2-F823-483B-BD3A-3782CA337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Условия необходимые для жизни растен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692360" y="96840"/>
            <a:ext cx="61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  <a:ea typeface="Arial"/>
              </a:rPr>
              <a:t>Опыт №1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857160" y="5860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  <a:ea typeface="Arial"/>
              </a:rPr>
              <a:t>Влага, тепло     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  <a:ea typeface="Arial"/>
              </a:rPr>
              <a:t>Хранилась в сух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L:\IMG_3336.jpg"/>
          <p:cNvPicPr/>
          <p:nvPr/>
        </p:nvPicPr>
        <p:blipFill>
          <a:blip r:embed="rId1"/>
          <a:stretch/>
        </p:blipFill>
        <p:spPr>
          <a:xfrm>
            <a:off x="1908000" y="1914480"/>
            <a:ext cx="2303640" cy="288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http://im0-tub-ru.yandex.net/i?id=235328830-58-72"/>
          <p:cNvPicPr/>
          <p:nvPr/>
        </p:nvPicPr>
        <p:blipFill>
          <a:blip r:embed="rId2"/>
          <a:stretch/>
        </p:blipFill>
        <p:spPr>
          <a:xfrm>
            <a:off x="5718240" y="1859040"/>
            <a:ext cx="256680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95280" y="968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  <a:ea typeface="Arial"/>
              </a:rPr>
              <a:t>Опыт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071720" y="5658480"/>
            <a:ext cx="76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  <a:ea typeface="Arial"/>
              </a:rPr>
              <a:t>Воздух,свет,тепло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L:\IMG_3337.jpg"/>
          <p:cNvPicPr/>
          <p:nvPr/>
        </p:nvPicPr>
        <p:blipFill>
          <a:blip r:embed="rId1"/>
          <a:stretch/>
        </p:blipFill>
        <p:spPr>
          <a:xfrm>
            <a:off x="1620720" y="2133720"/>
            <a:ext cx="2305080" cy="237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5437080" y="22795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Microsoft</cp:lastModifiedBy>
  <dcterms:modified xsi:type="dcterms:W3CDTF">2017-05-11T10:21:54Z</dcterms:modified>
  <cp:revision>38</cp:revision>
  <dc:subject/>
  <dc:title>Слайд 1</dc:title>
</cp:coreProperties>
</file>