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849-9DE8-4A35-B5C3-1D9F1C7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A5C-8CD9-4A79-9D95-7F3CDFC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23D-99C1-4AAB-B339-0A46A030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AB3-B912-4978-84A7-83F0BC9D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F0EA-31A7-4444-82FF-D385532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9A86-85D2-41DC-B02D-0F922DD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F58-669C-44A1-9E3F-F7E11EA0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528-2DDF-43A6-A943-AF52DB7F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76DB-B9E0-4165-AD44-5587F93D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57BB-27D4-4372-81F5-B368530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907E-0483-45FE-9D27-F3766AA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E86-D447-4629-B566-8116EF8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7A2-3686-4DB5-B7E8-BF4854F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0A55-89D0-4A13-AE51-B18E84E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987E-A3B2-4F65-8B11-354E716C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147-CB83-4DB9-B557-A861E5BE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F617-69B2-42D1-ACBE-0D5F09D0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26E-26E9-4940-B1A4-3735DA99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558-A95F-4D2F-8C48-8EA974F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097-D7B8-4872-98FD-7CEA1FA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769-4DDB-4D5B-871E-758652F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2FE-2500-4CDC-8D71-10D30A6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3CA-4BDD-4569-B784-945796E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65D-9AD0-47DA-AAAA-C2B1449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F57-6ED5-4914-822C-7EFF7958F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B37-8B08-4945-A594-34124263B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Условия необходимые для жизни растен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692360" y="96840"/>
            <a:ext cx="61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Опыт №1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57160" y="5860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Влага, тепло    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  <a:ea typeface="Arial"/>
              </a:rPr>
              <a:t>Хранилась в сух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L:\IMG_3336.jpg"/>
          <p:cNvPicPr/>
          <p:nvPr/>
        </p:nvPicPr>
        <p:blipFill>
          <a:blip r:embed="rId1"/>
          <a:stretch/>
        </p:blipFill>
        <p:spPr>
          <a:xfrm>
            <a:off x="1908000" y="1914480"/>
            <a:ext cx="2303640" cy="28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://im0-tub-ru.yandex.net/i?id=235328830-58-72"/>
          <p:cNvPicPr/>
          <p:nvPr/>
        </p:nvPicPr>
        <p:blipFill>
          <a:blip r:embed="rId2"/>
          <a:stretch/>
        </p:blipFill>
        <p:spPr>
          <a:xfrm>
            <a:off x="5718240" y="1859040"/>
            <a:ext cx="256680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5280" y="968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Опыт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071720" y="5658480"/>
            <a:ext cx="76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  <a:ea typeface="Arial"/>
              </a:rPr>
              <a:t>Воздух,свет,тепл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L:\IMG_3337.jpg"/>
          <p:cNvPicPr/>
          <p:nvPr/>
        </p:nvPicPr>
        <p:blipFill>
          <a:blip r:embed="rId1"/>
          <a:stretch/>
        </p:blipFill>
        <p:spPr>
          <a:xfrm>
            <a:off x="1620720" y="2133720"/>
            <a:ext cx="2305080" cy="237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5437080" y="22795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Microsoft</cp:lastModifiedBy>
  <dcterms:modified xsi:type="dcterms:W3CDTF">2017-05-11T10:21:54Z</dcterms:modified>
  <cp:revision>38</cp:revision>
  <dc:subject/>
  <dc:title>Слайд 1</dc:title>
</cp:coreProperties>
</file>