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A39-EF1A-4D30-ADDE-923245D5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724-55E1-4B8E-B1F7-33E33AA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FD0-3968-414B-8289-5C080F23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8F1-0C42-4F25-BC4B-1603B3A8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667-1D85-43D9-B34D-0A070CF4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B59-2DEC-4C85-B8ED-CCB1ED7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6AF-13FE-4ECC-813A-8D828CBE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B53-B747-4DE5-905B-B98855B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BC8-4504-4DD3-AA4E-E422880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C67-2A2C-4A94-B024-CF6D41B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D46-7279-4F0B-A0A6-3939C4B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F69-D3DB-4287-A01A-C5D3D6C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EB0-84B2-4327-9BF5-8BDE8DFBA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208960" y="912240"/>
            <a:ext cx="66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Был веж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тот ма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, право, очень м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няв у младших мяч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н их благодар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! — говор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mg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609480" y="1600200"/>
            <a:ext cx="769644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ОАЛВАЛЕНТИНАОППР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ЗПЛОСЕЕВАЖПЛ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prevyu-shablon-let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1812a13f11c9d862430c18b7b9e5403"/>
          <p:cNvPicPr/>
          <p:nvPr/>
        </p:nvPicPr>
        <p:blipFill>
          <a:blip r:embed="rId2"/>
          <a:stretch/>
        </p:blipFill>
        <p:spPr>
          <a:xfrm>
            <a:off x="533520" y="838080"/>
            <a:ext cx="3655800" cy="475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422600" y="1828800"/>
            <a:ext cx="45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99"/>
                </a:solidFill>
                <a:latin typeface="Arial"/>
              </a:rPr>
              <a:t>Валент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9999"/>
                </a:solidFill>
                <a:latin typeface="Arial"/>
              </a:rPr>
              <a:t>Осе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036-036-Volshebnyj-mir-zvuk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495080" y="1041480"/>
            <a:ext cx="63712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В.Осе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Волшебное слов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0036-036-Volshebnyj-mir-zvuk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170720" y="914040"/>
            <a:ext cx="7245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кс, фекс, пек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и, лети, лепесто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вка-бурка, вещий каур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нь передо мно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жалуйс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агодарю в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34360" y="914040"/>
            <a:ext cx="871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Добрый человек добру и учи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«Под лежачий камень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е течё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Волшебное слово всег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мочь готово»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7-03-01T05:31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