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4A25-D969-41AF-B9A8-23CD523C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AED-ED4F-49E7-B2F5-E1AF2052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5BFE-BF8A-4CF2-A268-3A404682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2E5-0373-4286-8D58-5B7C737D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C0F-5CAC-4354-B236-6671D86B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CDC-AFE0-4DB5-BBE7-C0523A08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773-CA1C-41F0-9564-4C1715C2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F11-D845-4B78-A395-7B78653F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3F5-A8C7-4048-A555-0E109974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A0B-135A-4EF9-83EC-7F7F8454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334-131F-4C45-9151-4BA44994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9A1-3F3B-4291-A9B4-E8A003C7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98DF-93F3-4924-96F4-5020EEF5CA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4333765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2208960" y="912240"/>
            <a:ext cx="66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Был веж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Этот маль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И, право, очень ми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тняв у младших мячи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н их благодари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пасибо! — говор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img5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609480" y="1600200"/>
            <a:ext cx="769644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ОАЛВАЛЕНТИНАОППР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ЗПЛОСЕЕВАЖПЛ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prevyu-shablon-leto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21812a13f11c9d862430c18b7b9e5403"/>
          <p:cNvPicPr/>
          <p:nvPr/>
        </p:nvPicPr>
        <p:blipFill>
          <a:blip r:embed="rId2"/>
          <a:stretch/>
        </p:blipFill>
        <p:spPr>
          <a:xfrm>
            <a:off x="533520" y="838080"/>
            <a:ext cx="3655800" cy="4753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4422600" y="1828800"/>
            <a:ext cx="45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9999"/>
                </a:solidFill>
                <a:latin typeface="Arial"/>
              </a:rPr>
              <a:t>Валенти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9999"/>
                </a:solidFill>
                <a:latin typeface="Arial"/>
              </a:rPr>
              <a:t>Осее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0036-036-Volshebnyj-mir-zvuko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1495080" y="1041480"/>
            <a:ext cx="637128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В.Осее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«Волшебное слово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6" descr="0036-036-Volshebnyj-mir-zvuko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1170720" y="914040"/>
            <a:ext cx="7245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Крекс, фекс, пекс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пасиб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ти, лети, лепесток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ивка-бурка, вещий каурк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ань передо мной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жалуйст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Благодарю вас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234360" y="914040"/>
            <a:ext cx="8713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«Добрый человек добру и учит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«Под лежачий камень в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не течёт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«Волшебное слово всег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омочь готово»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User</cp:lastModifiedBy>
  <dcterms:modified xsi:type="dcterms:W3CDTF">2017-03-01T05:31:3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