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0FE-2D19-4E9F-AA30-DE0AEE7C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E6D-2209-492E-A522-102E6C0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43D-940C-4F68-B0DB-A98EEB9E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F03-FA0F-479E-B95D-4ECC2552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E25-3AD6-4984-84D5-0F3F05C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4FF-1414-4F7A-9940-F25240C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98A-C62A-4433-8056-3F7D8CC0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006-1A91-4103-B5E2-BC27D00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1B6-90C2-4D22-A9DF-DFC6B59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534-62EA-472C-9067-6F854E9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C4A-1A53-4920-88FA-56BB228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2A2-72D7-45E2-B983-FBD23EA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3C3-0665-4ECD-ACC9-7D4892034358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ebe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7200" y="30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Times New Roman"/>
              </a:rPr>
              <a:t>Тууына бер көн кала бала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ллаһ белән очраша</a:t>
            </a:r>
            <a:r>
              <a:rPr b="1" lang="en-AU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ebek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28600" y="380880"/>
            <a:ext cx="320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tt-RU" sz="4800" spc="-1" strike="noStrike">
                <a:solidFill>
                  <a:srgbClr val="000000"/>
                </a:solidFill>
                <a:latin typeface="Times New Roman"/>
              </a:rPr>
              <a:t>Аның исеме бик мөһим түгел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bek1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28600" y="533520"/>
            <a:ext cx="85345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Әмма син ан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133720" y="22096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ӘНИЕ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9320" y="40384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ип б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Картинка 3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Картинка 0 из 71529"/>
          <p:cNvPicPr/>
          <p:nvPr/>
        </p:nvPicPr>
        <p:blipFill>
          <a:blip r:embed="rId1"/>
          <a:srcRect l="0" t="11083" r="0" b="10000"/>
          <a:stretch/>
        </p:blipFill>
        <p:spPr>
          <a:xfrm>
            <a:off x="1752480" y="0"/>
            <a:ext cx="58309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Картинка 19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Картинка 27 из 94872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Картинка 53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Картинка 115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ebek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80880" y="4572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Аллаһым, мин дөнь</a:t>
            </a:r>
            <a:r>
              <a:rPr b="1" lang="tt-RU" sz="6000" spc="-1" strike="noStrike">
                <a:solidFill>
                  <a:srgbClr val="00ffff"/>
                </a:solidFill>
                <a:latin typeface="Times New Roman"/>
              </a:rPr>
              <a:t>яга китәм</a:t>
            </a: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, анда нишлим, берәр киңәш бир.</a:t>
            </a:r>
            <a:r>
              <a:rPr b="1" lang="en-AU" sz="60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Картинка 200 из 115851"/>
          <p:cNvPicPr/>
          <p:nvPr/>
        </p:nvPicPr>
        <p:blipFill>
          <a:blip r:embed="rId1"/>
          <a:srcRect l="0" t="10003" r="0" b="13337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57200" y="152280"/>
            <a:ext cx="807732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12547"/>
                </a:solidFill>
                <a:latin typeface="Times New Roman"/>
              </a:rPr>
              <a:t>* </a:t>
            </a:r>
            <a:r>
              <a:rPr b="1" lang="tt-RU" sz="4000" spc="-1" strike="noStrike">
                <a:solidFill>
                  <a:srgbClr val="f12547"/>
                </a:solidFill>
                <a:latin typeface="Times New Roman"/>
              </a:rPr>
              <a:t>Мин сиңа бер фәрештә яраттым, ул яклаучың булы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Аллаһым, мин аларның телен белмим бит, алар белән ничек аралашырмын соң</a:t>
            </a:r>
            <a:r>
              <a:rPr b="1" lang="en-AU" sz="3600" spc="-1" strike="noStrike">
                <a:solidFill>
                  <a:srgbClr val="003300"/>
                </a:solidFill>
                <a:latin typeface="Times New Roman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ebek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4648320" y="4038480"/>
            <a:ext cx="43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tt-RU" sz="4000" spc="-1" strike="noStrike">
                <a:solidFill>
                  <a:srgbClr val="ffffff"/>
                </a:solidFill>
                <a:latin typeface="Times New Roman"/>
              </a:rPr>
              <a:t>Яныңдагы фәрештә сиңа аларның телен өйрәт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ebek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28600" y="4343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Аллаһым, дөн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ь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яда золым күп дип ишеттем,аңа каршы ничек торырмын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ebek5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0"/>
            <a:ext cx="89154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Times New Roman"/>
              </a:rPr>
              <a:t>* </a:t>
            </a:r>
            <a:r>
              <a:rPr b="1" lang="tt-RU" sz="4800" spc="-1" strike="noStrike">
                <a:solidFill>
                  <a:srgbClr val="00ffff"/>
                </a:solidFill>
                <a:latin typeface="Times New Roman"/>
              </a:rPr>
              <a:t>Борчылма, фәрештәң сиңа һәрвакыт ярдәм кулын сузырга әз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tt-RU" sz="4800" spc="-1" strike="noStrike">
                <a:solidFill>
                  <a:srgbClr val="00ffff"/>
                </a:solidFill>
                <a:latin typeface="Times New Roman"/>
              </a:rPr>
              <a:t>Аллаһым, сиңа кире ничек кайтырмын соң</a:t>
            </a: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?</a:t>
            </a:r>
            <a:r>
              <a:rPr b="1" lang="en-AU" sz="48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артинка 25 из 1158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80880" y="5029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Фәрештәң миңа кайтыр юлны күрсәт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bek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3520" y="152280"/>
            <a:ext cx="8381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улчак фәрештәләр килеп баланың җир йөзенә китәр вакыты җитүен белдерәлә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арга ияреп дөнь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яга юл алган сабый борылып Аллаһка соңгы соравын бир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ebek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80880" y="2057400"/>
            <a:ext cx="4038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Алла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һым, янымдагы ул фәрештәгә кем дип эндәшим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1:57:35Z</dcterms:created>
  <dc:creator>SWORD</dc:creator>
  <dc:description/>
  <dc:language>en-US</dc:language>
  <cp:lastModifiedBy>Эльмира</cp:lastModifiedBy>
  <dcterms:modified xsi:type="dcterms:W3CDTF">2014-02-13T05:18:06Z</dcterms:modified>
  <cp:revision>20</cp:revision>
  <dc:subject/>
  <dc:title>Slayt Başlığı Yok</dc:title>
</cp:coreProperties>
</file>