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530-240C-4CE8-BD8D-0FA43656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3DA-5B5E-41BC-A8DB-12D30C4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EC8-2F58-4E06-BB3A-C1A7A5FF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87A-1718-41CC-9E4B-DC42168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86E-A3F5-4FC3-AD60-B8014DB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B1F-ABCA-42E3-8715-FC3D23F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02C-8EA5-47BF-B2B1-CE3E55E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C1E-F70C-47CF-8D5F-B7C8234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659-2950-4CE0-A8A1-0F6D3C2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C06-A230-46E1-BCFF-9A23406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182-14C4-40A0-A7C8-747BEDD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3F4-6ED7-468B-BC95-CA62255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CF8E-0192-492A-BA5C-5F738C5B7EB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ebe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7200" y="30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imes New Roman"/>
              </a:rPr>
              <a:t>Тууына бер көн кала бала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ллаһ белән очраша</a:t>
            </a:r>
            <a:r>
              <a:rPr b="1" lang="en-AU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ebek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28600" y="380880"/>
            <a:ext cx="320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tt-RU" sz="4800" spc="-1" strike="noStrike">
                <a:solidFill>
                  <a:srgbClr val="000000"/>
                </a:solidFill>
                <a:latin typeface="Times New Roman"/>
              </a:rPr>
              <a:t>Аның исеме бик мөһим түге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bek1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28600" y="533520"/>
            <a:ext cx="85345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Әмма син ан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133720" y="22096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ӘНИЕ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9320" y="40384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ип б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Картинка 3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а 0 из 71529"/>
          <p:cNvPicPr/>
          <p:nvPr/>
        </p:nvPicPr>
        <p:blipFill>
          <a:blip r:embed="rId1"/>
          <a:srcRect l="0" t="11083" r="0" b="10000"/>
          <a:stretch/>
        </p:blipFill>
        <p:spPr>
          <a:xfrm>
            <a:off x="175248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Картинка 19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Картинка 27 из 94872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Картинка 53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Картинка 115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ebek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Аллаһым, мин дөнь</a:t>
            </a:r>
            <a:r>
              <a:rPr b="1" lang="tt-RU" sz="6000" spc="-1" strike="noStrike">
                <a:solidFill>
                  <a:srgbClr val="00ffff"/>
                </a:solidFill>
                <a:latin typeface="Times New Roman"/>
              </a:rPr>
              <a:t>яга китәм</a:t>
            </a: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, анда нишлим, берәр киңәш бир.</a:t>
            </a:r>
            <a:r>
              <a:rPr b="1" lang="en-AU" sz="60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Картинка 200 из 115851"/>
          <p:cNvPicPr/>
          <p:nvPr/>
        </p:nvPicPr>
        <p:blipFill>
          <a:blip r:embed="rId1"/>
          <a:srcRect l="0" t="10003" r="0" b="13337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152280"/>
            <a:ext cx="807732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12547"/>
                </a:solidFill>
                <a:latin typeface="Times New Roman"/>
              </a:rPr>
              <a:t>* </a:t>
            </a:r>
            <a:r>
              <a:rPr b="1" lang="tt-RU" sz="4000" spc="-1" strike="noStrike">
                <a:solidFill>
                  <a:srgbClr val="f12547"/>
                </a:solidFill>
                <a:latin typeface="Times New Roman"/>
              </a:rPr>
              <a:t>Мин сиңа бер фәрештә яраттым, ул яклаучың булы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Аллаһым, мин аларның телен белмим бит, алар белән ничек аралашырмын соң</a:t>
            </a:r>
            <a:r>
              <a:rPr b="1" lang="en-AU" sz="3600" spc="-1" strike="noStrike">
                <a:solidFill>
                  <a:srgbClr val="003300"/>
                </a:solidFill>
                <a:latin typeface="Times New Roman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ebek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4648320" y="403848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tt-RU" sz="4000" spc="-1" strike="noStrike">
                <a:solidFill>
                  <a:srgbClr val="ffffff"/>
                </a:solidFill>
                <a:latin typeface="Times New Roman"/>
              </a:rPr>
              <a:t>Яныңдагы фәрештә сиңа аларның телен өйрә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ebek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28600" y="4343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Аллаһым, дөн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ь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яда золым күп дип ишеттем,аңа каршы ничек торырмын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ebek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0"/>
            <a:ext cx="8915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* </a:t>
            </a:r>
            <a:r>
              <a:rPr b="1" lang="tt-RU" sz="4800" spc="-1" strike="noStrike">
                <a:solidFill>
                  <a:srgbClr val="00ffff"/>
                </a:solidFill>
                <a:latin typeface="Times New Roman"/>
              </a:rPr>
              <a:t>Борчылма, фәрештәң сиңа һәрвакыт ярдәм кулын сузырга әз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tt-RU" sz="4800" spc="-1" strike="noStrike">
                <a:solidFill>
                  <a:srgbClr val="00ffff"/>
                </a:solidFill>
                <a:latin typeface="Times New Roman"/>
              </a:rPr>
              <a:t>Аллаһым, сиңа кире ничек кайтырмын соң</a:t>
            </a: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?</a:t>
            </a:r>
            <a:r>
              <a:rPr b="1" lang="en-AU" sz="4800" spc="-1" strike="noStrike">
                <a:solidFill>
                  <a:srgbClr val="00ff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артинка 25 из 115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80880" y="5029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Фәрештәң миңа кайтыр юлны күрсәт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bek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3520" y="152280"/>
            <a:ext cx="838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улчак фәрештәләр килеп баланың җир йөзенә китәр вакыты җитүен белдерәлә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арга ияреп дөнь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яга юл алган сабый борылып Аллаһка соңгы соравын бир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ebek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80880" y="2057400"/>
            <a:ext cx="4038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Алла</a:t>
            </a:r>
            <a:r>
              <a:rPr b="1" lang="tt-RU" sz="4800" spc="-1" strike="noStrike">
                <a:solidFill>
                  <a:srgbClr val="0000ff"/>
                </a:solidFill>
                <a:latin typeface="Times New Roman"/>
              </a:rPr>
              <a:t>һым, янымдагы ул фәрештәгә кем дип эндәшим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1:57:35Z</dcterms:created>
  <dc:creator>SWORD</dc:creator>
  <dc:description/>
  <dc:language>en-US</dc:language>
  <cp:lastModifiedBy>Эльмира</cp:lastModifiedBy>
  <dcterms:modified xsi:type="dcterms:W3CDTF">2014-02-13T05:18:06Z</dcterms:modified>
  <cp:revision>20</cp:revision>
  <dc:subject/>
  <dc:title>Slayt Başlığı Yok</dc:title>
</cp:coreProperties>
</file>