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80ED-9865-4D87-8F38-72A219E7E8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A1F7-3A1D-4943-8BB6-0AA96FEBDE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C854-7F37-49A2-B88F-15DC882078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27A9-128F-4C3A-9A8F-AF0218CD96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A85F-EDE1-45A0-AF5F-DA6FBDED1D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9E92-BFED-4DAF-818A-AB18B0FEB4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7DC0-2DF6-47BF-AC04-993717F86C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FB9E-30A9-4C4F-98D4-4BB2532752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F95B-A978-417D-A562-5694B0B743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2423-66FA-4218-8523-673EF5B45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A0AE-6379-4A1B-8BC3-70BB22EB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F011-4806-483E-8E9C-CD3D98669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A219-F935-4D78-AF32-A50B03185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8698-2C57-434B-8FFC-9DC3EE06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15BC-97F7-4C1B-92F8-58DB08E3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26FF-B096-41E7-8DE7-902C0C416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7316-2F32-4E97-A83F-B2661319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36CC-B9DE-480D-BB99-7A135480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38A9-C8D8-412E-A041-A080A102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DA30-4D53-4A47-86D3-35FD3781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E442-53F2-4427-9CE2-2BE1C573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D8EB-E767-49A6-B334-81C0C86E29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189000"/>
            <a:ext cx="8893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Государственное бюджетное общеобразовательное   учреждение Самарской области </a:t>
            </a:r>
            <a:br>
              <a:rPr sz="1600"/>
            </a:b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 средняя общеобразовательная школа №1 «Образовательный центр» п.г.т. Стройкерамика   муниципального района Волжский Самарской области</a:t>
            </a:r>
            <a:br>
              <a:rPr sz="1600"/>
            </a:b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структурное подразделение «Детский сад «Солнышко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539640" y="2205000"/>
            <a:ext cx="80647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 Black"/>
                <a:ea typeface="Aharoni"/>
              </a:rPr>
              <a:t>«ИСПОЛЬЗОВАНИЕ НЕТРАДИЦИОННОГО ОБОРУД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 Black"/>
                <a:ea typeface="Aharoni"/>
              </a:rPr>
              <a:t>по ФЭМП в работе с детьм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3344760" y="5659560"/>
            <a:ext cx="33879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Старший воспитател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Еськова Светлана Геннадь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9"/>
          <p:cNvSpPr/>
          <p:nvPr/>
        </p:nvSpPr>
        <p:spPr>
          <a:xfrm>
            <a:off x="395280" y="333360"/>
            <a:ext cx="8280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«АКВАРИУМ»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D:\АРХИВ\Детский сад\ОФОРМЛЕНИЕ\математика\20170411_100728.jpg"/>
          <p:cNvPicPr/>
          <p:nvPr/>
        </p:nvPicPr>
        <p:blipFill>
          <a:blip r:embed="rId2"/>
          <a:stretch/>
        </p:blipFill>
        <p:spPr>
          <a:xfrm>
            <a:off x="1895400" y="920880"/>
            <a:ext cx="5280120" cy="39589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9"/>
          <p:cNvSpPr/>
          <p:nvPr/>
        </p:nvSpPr>
        <p:spPr>
          <a:xfrm>
            <a:off x="2484360" y="5013360"/>
            <a:ext cx="43912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Цель игры: закрепление навыков счета и состава чис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9"/>
          <p:cNvSpPr/>
          <p:nvPr/>
        </p:nvSpPr>
        <p:spPr>
          <a:xfrm>
            <a:off x="395280" y="333360"/>
            <a:ext cx="8280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«ЧИСЛОВОЕ ДЕРЕВО»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D:\АРХИВ\Детский сад\ОФОРМЛЕНИЕ\математика\20170411_101519.jpg"/>
          <p:cNvPicPr/>
          <p:nvPr/>
        </p:nvPicPr>
        <p:blipFill>
          <a:blip r:embed="rId2"/>
          <a:stretch/>
        </p:blipFill>
        <p:spPr>
          <a:xfrm>
            <a:off x="1763640" y="879480"/>
            <a:ext cx="5280120" cy="39592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9"/>
          <p:cNvSpPr/>
          <p:nvPr/>
        </p:nvSpPr>
        <p:spPr>
          <a:xfrm>
            <a:off x="2484360" y="5013360"/>
            <a:ext cx="43912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Цель игры: закрепление навыков счета и состава чис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9"/>
          <p:cNvSpPr/>
          <p:nvPr/>
        </p:nvSpPr>
        <p:spPr>
          <a:xfrm>
            <a:off x="395280" y="333360"/>
            <a:ext cx="8280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«МАТЕМАТИЧЕСКОЕ ПЛАТЬЕ»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D:\АРХИВ\Детский сад\ОФОРМЛЕНИЕ\математика\20170411_102421.jpg"/>
          <p:cNvPicPr/>
          <p:nvPr/>
        </p:nvPicPr>
        <p:blipFill>
          <a:blip r:embed="rId2"/>
          <a:stretch/>
        </p:blipFill>
        <p:spPr>
          <a:xfrm>
            <a:off x="1655640" y="903240"/>
            <a:ext cx="5280120" cy="39592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9"/>
          <p:cNvSpPr/>
          <p:nvPr/>
        </p:nvSpPr>
        <p:spPr>
          <a:xfrm>
            <a:off x="2484360" y="5013360"/>
            <a:ext cx="43912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Цель игры: закрепление знания геометрических форм; формирование умения классифициров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395280" y="333360"/>
            <a:ext cx="8280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«ЦВЕТНЫЕ ФИГУРЫ»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D:\АРХИВ\Детский сад\ОФОРМЛЕНИЕ\математика\20170411_103235.jpg"/>
          <p:cNvPicPr/>
          <p:nvPr/>
        </p:nvPicPr>
        <p:blipFill>
          <a:blip r:embed="rId2"/>
          <a:srcRect l="6039" t="8641" r="6842" b="10183"/>
          <a:stretch/>
        </p:blipFill>
        <p:spPr>
          <a:xfrm>
            <a:off x="1717560" y="907920"/>
            <a:ext cx="5635800" cy="39592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2484360" y="5013360"/>
            <a:ext cx="43912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Цель игры: закрепление  знаний геометрических  формах,  размеров и цве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9"/>
          <p:cNvSpPr/>
          <p:nvPr/>
        </p:nvSpPr>
        <p:spPr>
          <a:xfrm>
            <a:off x="395280" y="333360"/>
            <a:ext cx="8280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«ЧИСЛОВОЙ ДОМИК»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2484360" y="5013360"/>
            <a:ext cx="42404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Цель игры: закрепление навыков счета и состава чис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D:\АРХИВ\Детский сад\ОФОРМЛЕНИЕ\математика\20170412_123506.jpg"/>
          <p:cNvPicPr/>
          <p:nvPr/>
        </p:nvPicPr>
        <p:blipFill>
          <a:blip r:embed="rId2"/>
          <a:srcRect l="8731" t="3638" r="8840" b="2822"/>
          <a:stretch/>
        </p:blipFill>
        <p:spPr>
          <a:xfrm>
            <a:off x="2097000" y="907920"/>
            <a:ext cx="465300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9"/>
          <p:cNvSpPr/>
          <p:nvPr/>
        </p:nvSpPr>
        <p:spPr>
          <a:xfrm>
            <a:off x="395280" y="333360"/>
            <a:ext cx="828036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ЭТО ВАЖНО ЗНАТЬ!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684360" y="1341360"/>
            <a:ext cx="763272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Дидактические игры </a:t>
            </a:r>
            <a:r>
              <a:rPr b="1" lang="ru-RU" sz="2000" spc="-1" strike="noStrike" u="sng">
                <a:solidFill>
                  <a:srgbClr val="008000"/>
                </a:solidFill>
                <a:uFillTx/>
                <a:latin typeface="Arial"/>
              </a:rPr>
              <a:t>не должны проводиться длительное время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. Для детей младшего возраста на них достаточно выделить 5 минут. Дидактические игры по математике в старшей группе могут длиться не более 15 минут. Превышение этого времени может привести к снижению активности и ослаблению познавательного интереса, что может негативно повлиять на результ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Если в игре принимает участие коллектив, </a:t>
            </a:r>
            <a:r>
              <a:rPr b="1" lang="ru-RU" sz="2000" spc="-1" strike="noStrike" u="sng">
                <a:solidFill>
                  <a:srgbClr val="008000"/>
                </a:solidFill>
                <a:uFillTx/>
                <a:latin typeface="Arial"/>
              </a:rPr>
              <a:t>нужно уделять внимание индивидуальным способностям каждого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, и, если будет такая необходимость, оказывать помощь неуспевающим для благополучного исхода воспитательной пробл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9"/>
          <p:cNvSpPr/>
          <p:nvPr/>
        </p:nvSpPr>
        <p:spPr>
          <a:xfrm>
            <a:off x="395280" y="549360"/>
            <a:ext cx="828036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Обучение ребенка математике – это долгий процесс, направленный на приложение огромных стараний не только педагогом, но и дошкольни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Дидактические игры по математике для детей дошкольного возраста призваны разнообразить воспи-тательно-образовательный процесс, уничтожить строгий официоз, поднять степень результативности усвоения и понимания математических ос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Дидактические игры проводятся с целью повышения уровня информированности ребенка об окружающем мире. Они вырабатывают наблюдательность, учат фиксировать и находить отличия между предметами, сравнивая их по разным характеристикам. В ходе игрового процесса дети учатся находить элементарные причинно – следственные связи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9"/>
          <p:cNvSpPr/>
          <p:nvPr/>
        </p:nvSpPr>
        <p:spPr>
          <a:xfrm>
            <a:off x="395280" y="549360"/>
            <a:ext cx="828036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С целью роста познавательного интереса дошкольников педагоги должны стараться разнообразить ход воспитательно-образовательного процесса. Для этого педагоги нашего дошкольного учреждения делают собственные дидактические пособия. В изготовлении наглядности может пригодиться все, что находится под рукой, основное условие – безопасность для воспитанников детского сада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Материалы для создания дидактических игр могут быть следующи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- подручные материалы – ткань, пряжа, пуговиц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- природное сырье – листья, цветы, трава, шиш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- канцелярия – клей, гуашь, цветная бумага, карто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- воображение – самая главная составляющ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9"/>
          <p:cNvSpPr/>
          <p:nvPr/>
        </p:nvSpPr>
        <p:spPr>
          <a:xfrm>
            <a:off x="395280" y="549360"/>
            <a:ext cx="828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Дидактические игры по математике в ДОУ могут быть самыми разными, их выбор зависит от поставленной цели: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547560" y="1773360"/>
            <a:ext cx="82803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"/>
          <p:cNvSpPr/>
          <p:nvPr/>
        </p:nvSpPr>
        <p:spPr>
          <a:xfrm>
            <a:off x="1003320" y="1347840"/>
            <a:ext cx="7056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Использование в играх цифр и чисел способствует 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знакомлению с понятием сче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историей возникновения цифр, совершенствованию умений счета и сравнения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и дидактические игры по математике для дошкольников содействуют совершенствованию навыка самостоятельно использовать однозначные числа; воспитанию внимательности, памяти, мышления; освоению способа распределения натуральных чисел, совершенствованию навыка счета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9"/>
          <p:cNvSpPr/>
          <p:nvPr/>
        </p:nvSpPr>
        <p:spPr>
          <a:xfrm>
            <a:off x="395280" y="549360"/>
            <a:ext cx="828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Дидактические игры по математике в ДОУ могут быть самыми разными, их выбор зависит от поставленной цели: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547560" y="1773360"/>
            <a:ext cx="82803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971640" y="1343160"/>
            <a:ext cx="7056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Игры, составленные с целью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зучения времен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общают ребят к знакомству с днями недели, названиями месяцев, учат запоминать их положение в календаре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Игры на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азвитие ориент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зволяют воспитанникам научиться фиксировать и излагать собственную позицию на местности, определять и называть местоположение какого-либо предмета относительно другого. При достигнутой воспитательной задаче дошкольники умеют применять слова для названия расположения предметов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9"/>
          <p:cNvSpPr/>
          <p:nvPr/>
        </p:nvSpPr>
        <p:spPr>
          <a:xfrm>
            <a:off x="395280" y="549360"/>
            <a:ext cx="828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Дидактические игры по математике в ДОУ могут быть самыми разными, их выбор зависит от поставленной цели: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"/>
          <p:cNvSpPr/>
          <p:nvPr/>
        </p:nvSpPr>
        <p:spPr>
          <a:xfrm>
            <a:off x="1116000" y="1341360"/>
            <a:ext cx="6985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Игры с фигурами применяют с целью укрепления знаний 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 форме разнообразных геометрических фигу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совершенствования навыка их поиска в располагающихся рядом вещах. Такие игры благоприятствуют воспитанию внимания и формированию творческой фантазии у дошкольников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Дидактические математические игры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азвивающие логическое мышл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изначально предназначены для формирования компонентов научного мышления: высказывание суждений, приведение доводов, подведение итога. Также они помогают развивать креативность и нестандартное мышление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9"/>
          <p:cNvSpPr/>
          <p:nvPr/>
        </p:nvSpPr>
        <p:spPr>
          <a:xfrm>
            <a:off x="2532240" y="5084640"/>
            <a:ext cx="42717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Цель игры: закрепление знаний о геометрических фигурах, развитие умения выделять фигуры по признакам; тренировка ориентиро-вания в пространстве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D:\АРХИВ\Детский сад\ОФОРМЛЕНИЕ\математика\20170406_124430.jpg"/>
          <p:cNvPicPr/>
          <p:nvPr/>
        </p:nvPicPr>
        <p:blipFill>
          <a:blip r:embed="rId2"/>
          <a:stretch/>
        </p:blipFill>
        <p:spPr>
          <a:xfrm>
            <a:off x="1895400" y="907920"/>
            <a:ext cx="5280120" cy="39592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9"/>
          <p:cNvSpPr/>
          <p:nvPr/>
        </p:nvSpPr>
        <p:spPr>
          <a:xfrm>
            <a:off x="395280" y="333360"/>
            <a:ext cx="8280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«МЯГКАЯ ГЕОМЕТРИЧЕСКАЯ МОЗАЙКА»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9"/>
          <p:cNvSpPr/>
          <p:nvPr/>
        </p:nvSpPr>
        <p:spPr>
          <a:xfrm>
            <a:off x="395280" y="333360"/>
            <a:ext cx="8280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«ПИЦЦА»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D:\АРХИВ\Детский сад\ОФОРМЛЕНИЕ\математика\20170406_130449.jpg"/>
          <p:cNvPicPr/>
          <p:nvPr/>
        </p:nvPicPr>
        <p:blipFill>
          <a:blip r:embed="rId2"/>
          <a:stretch/>
        </p:blipFill>
        <p:spPr>
          <a:xfrm>
            <a:off x="1763640" y="882720"/>
            <a:ext cx="5280120" cy="39607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9"/>
          <p:cNvSpPr/>
          <p:nvPr/>
        </p:nvSpPr>
        <p:spPr>
          <a:xfrm>
            <a:off x="2484360" y="5013360"/>
            <a:ext cx="43912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Цель игры: закрепление навыков счета, умения работать по образцу; развитие логики и воображения</a:t>
            </a:r>
            <a:r>
              <a:rPr b="1" lang="ru-RU" sz="1400" spc="-1" strike="noStrike">
                <a:solidFill>
                  <a:srgbClr val="008000"/>
                </a:solidFill>
                <a:latin typeface="Arial"/>
              </a:rPr>
              <a:t> 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9"/>
          <p:cNvSpPr/>
          <p:nvPr/>
        </p:nvSpPr>
        <p:spPr>
          <a:xfrm>
            <a:off x="395280" y="333360"/>
            <a:ext cx="8280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«РЫБАЛКА»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D:\АРХИВ\Детский сад\ОФОРМЛЕНИЕ\математика\20170411_095920.jpg"/>
          <p:cNvPicPr/>
          <p:nvPr/>
        </p:nvPicPr>
        <p:blipFill>
          <a:blip r:embed="rId2"/>
          <a:stretch/>
        </p:blipFill>
        <p:spPr>
          <a:xfrm>
            <a:off x="1763640" y="907920"/>
            <a:ext cx="5280120" cy="39592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9"/>
          <p:cNvSpPr/>
          <p:nvPr/>
        </p:nvSpPr>
        <p:spPr>
          <a:xfrm>
            <a:off x="2484360" y="5013360"/>
            <a:ext cx="43912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Цель игры: закрепление навыков счета и состава чис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6T08:15:19Z</dcterms:created>
  <dc:creator>Сисадмин</dc:creator>
  <dc:description/>
  <dc:language>en-US</dc:language>
  <cp:lastModifiedBy>Наталья Николаевна</cp:lastModifiedBy>
  <dcterms:modified xsi:type="dcterms:W3CDTF">2017-05-12T10:26:30Z</dcterms:modified>
  <cp:revision>81</cp:revision>
  <dc:subject/>
  <dc:title>ОРГАНИЗАЦИЯ, АДМИНИСТРИРОВАНИЕ И АУДИТ КОЛЛЕКТИВНОГО ДОСТУПА В ИНТЕРНЕТ НА БАЗЕ ШКОЛЬНОЙ ЛВС</dc:title>
</cp:coreProperties>
</file>