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0DF-9C29-4660-9028-21E1FA8E3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2D4-A5F5-4CB3-9638-02166158A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FC7-076E-4A8F-A821-BF2DBA2FE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05DF-DCA9-4DF2-BCB8-6DB71B770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EFA1-4103-42D5-809E-B949399EA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A899-332A-48FD-8C9F-6E2DBE204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177-71ED-42F7-B210-0DE027EE5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2D9E-BFA9-41A4-816F-B2AF8CCCF8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C48-8189-47FA-90AB-AF34F3C06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A46-3956-4634-BA9F-F3260B9F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D26-9376-475B-B4C2-C060640E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78E-87D3-419F-8C20-97BE44A5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8F7-2ECE-40E1-BAFE-CD11BFD6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F2C-8F4A-4EE9-BDAF-86BB0A56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88F-225C-49BC-8108-CB66E8F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278-0611-4B23-92C8-544095A4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973-5A40-4670-9141-BEA28A23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6D4-1196-4A15-B8F5-B89D43E9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E93-12B1-4E1A-B8C6-8BF7CB1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EE2-9387-42F4-88BC-3669AAA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0B9-6E32-40BE-9488-AF39A565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50FA-0E25-4DC7-8962-AC86B2ACE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189000"/>
            <a:ext cx="88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Государственное бюджетное общеобразовательное   учреждение Самарской области 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структурное подразделение «Детский сад «Солнышк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9640" y="2205000"/>
            <a:ext cx="8064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  <a:ea typeface="Aharoni"/>
              </a:rPr>
              <a:t>«ИСПОЛЬЗОВАНИЕ НЕТРАДИЦИОННОГО ОБОРУ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  <a:ea typeface="Aharoni"/>
              </a:rPr>
              <a:t>по ФЭМП в работе с деть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344760" y="5659560"/>
            <a:ext cx="3387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Старший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Еськова Светлана Геннад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АКВАРИУМ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АРХИВ\Детский сад\ОФОРМЛЕНИЕ\математика\20170411_100728.jpg"/>
          <p:cNvPicPr/>
          <p:nvPr/>
        </p:nvPicPr>
        <p:blipFill>
          <a:blip r:embed="rId2"/>
          <a:stretch/>
        </p:blipFill>
        <p:spPr>
          <a:xfrm>
            <a:off x="1895400" y="920880"/>
            <a:ext cx="5280120" cy="3958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ЧИСЛОВОЕ ДЕРЕВО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АРХИВ\Детский сад\ОФОРМЛЕНИЕ\математика\20170411_101519.jpg"/>
          <p:cNvPicPr/>
          <p:nvPr/>
        </p:nvPicPr>
        <p:blipFill>
          <a:blip r:embed="rId2"/>
          <a:stretch/>
        </p:blipFill>
        <p:spPr>
          <a:xfrm>
            <a:off x="1763640" y="87948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МАТЕМАТИЧЕСКОЕ ПЛАТЬЕ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D:\АРХИВ\Детский сад\ОФОРМЛЕНИЕ\математика\20170411_102421.jpg"/>
          <p:cNvPicPr/>
          <p:nvPr/>
        </p:nvPicPr>
        <p:blipFill>
          <a:blip r:embed="rId2"/>
          <a:stretch/>
        </p:blipFill>
        <p:spPr>
          <a:xfrm>
            <a:off x="1655640" y="90324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знания геометрических форм; формирование умения классифиц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ЦВЕТНЫЕ ФИГУРЫ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АРХИВ\Детский сад\ОФОРМЛЕНИЕ\математика\20170411_103235.jpg"/>
          <p:cNvPicPr/>
          <p:nvPr/>
        </p:nvPicPr>
        <p:blipFill>
          <a:blip r:embed="rId2"/>
          <a:srcRect l="6039" t="8641" r="6842" b="10183"/>
          <a:stretch/>
        </p:blipFill>
        <p:spPr>
          <a:xfrm>
            <a:off x="1717560" y="907920"/>
            <a:ext cx="5635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 знаний геометрических  формах,  размеров и цв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ЧИСЛОВОЙ ДОМИК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484360" y="5013360"/>
            <a:ext cx="4240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D:\АРХИВ\Детский сад\ОФОРМЛЕНИЕ\математика\20170412_123506.jpg"/>
          <p:cNvPicPr/>
          <p:nvPr/>
        </p:nvPicPr>
        <p:blipFill>
          <a:blip r:embed="rId2"/>
          <a:srcRect l="8731" t="3638" r="8840" b="2822"/>
          <a:stretch/>
        </p:blipFill>
        <p:spPr>
          <a:xfrm>
            <a:off x="2097000" y="907920"/>
            <a:ext cx="4653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395280" y="333360"/>
            <a:ext cx="828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ВАЖНО ЗНАТЬ!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684360" y="1341360"/>
            <a:ext cx="7632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 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е должны проводиться длительное время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. Для детей младшего возраста на них достаточно выделить 5 минут. Дидактические игры по математике в старшей группе могут длиться не более 15 минут. Превышение этого времени может привести к снижению активности и ослаблению познавательного интереса, что может негативно повлиять на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Если в игре принимает участие коллектив, 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нужно уделять внимание индивидуальным способностям каждого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, и, если будет такая необходимость, оказывать помощь неуспевающим для благополучного исхода воспитатель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9"/>
          <p:cNvSpPr/>
          <p:nvPr/>
        </p:nvSpPr>
        <p:spPr>
          <a:xfrm>
            <a:off x="395280" y="549360"/>
            <a:ext cx="8280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бучение ребенка математике – это долгий процесс, направленный на приложение огромных стараний не только педагогом, но и дошколь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для детей дошкольного возраста призваны разнообразить воспи-тательно-образовательный процесс, уничтожить строгий официоз, поднять степень результативности усвоения и понимания математических ос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роводятся с целью повышения уровня информированности ребенка об окружающем мире. Они вырабатывают наблюдательность, учат фиксировать и находить отличия между предметами, сравнивая их по разным характеристикам. В ходе игрового процесса дети учатся находить элементарные причинно – следственные связ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395280" y="549360"/>
            <a:ext cx="8280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 целью роста познавательного интереса дошкольников педагоги должны стараться разнообразить ход воспитательно-образовательного процесса. Для этого педагоги нашего дошкольного учреждения делают собственные дидактические пособия. В изготовлении наглядности может пригодиться все, что находится под рукой, основное условие – безопасность для воспитанников детского сад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атериалы для создания дидактических игр могут быть следующи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подручные материалы – ткань, пряжа, пугов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природное сырье – листья, цветы, трава, ши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канцелярия – клей, гуашь, цветная бумага, карт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- воображение – самая главная составляющ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39528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в ДОУ могут быть самыми разными, их выбор зависит от поставленной цели: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547560" y="1773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1003320" y="1347840"/>
            <a:ext cx="705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Использование в играх цифр и чисел способствует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знакомлению с понятием сч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торией возникновения цифр, совершенствованию умений счета и сравн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дидактические игры по математике для дошкольников содействуют совершенствованию навыка самостоятельно использовать однозначные числа; воспитанию внимательности, памяти, мышления; освоению способа распределения натуральных чисел, совершенствованию навыка сче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39528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в ДОУ могут быть самыми разными, их выбор зависит от поставленной цели: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47560" y="1773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971640" y="1343160"/>
            <a:ext cx="705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гры, составленные с целью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учения времен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ают ребят к знакомству с днями недели, названиями месяцев, учат запоминать их положение в календар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гры 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тие ориен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воспитанникам научиться фиксировать и излагать собственную позицию на местности, определять и называть местоположение какого-либо предмета относительно другого. При достигнутой воспитательной задаче дошкольники умеют применять слова для названия расположения предмет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9"/>
          <p:cNvSpPr/>
          <p:nvPr/>
        </p:nvSpPr>
        <p:spPr>
          <a:xfrm>
            <a:off x="39528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идактические игры по математике в ДОУ могут быть самыми разными, их выбор зависит от поставленной цели: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116000" y="1341360"/>
            <a:ext cx="69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гры с фигурами применяют с целью укрепления знаний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форме разнообразных геометрических фигу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вершенствования навыка их поиска в располагающихся рядом вещах. Такие игры благоприятствуют воспитанию внимания и формированию творческой фантазии у дошкольник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идактические математические игры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логическ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начально предназначены для формирования компонентов научного мышления: высказывание суждений, приведение доводов, подведение итога. Также они помогают развивать креативность и нестандартное мыш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2532240" y="5084640"/>
            <a:ext cx="42717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знаний о геометрических фигурах, развитие умения выделять фигуры по признакам; тренировка ориентиро-вания в пространств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АРХИВ\Детский сад\ОФОРМЛЕНИЕ\математика\20170406_124430.jpg"/>
          <p:cNvPicPr/>
          <p:nvPr/>
        </p:nvPicPr>
        <p:blipFill>
          <a:blip r:embed="rId2"/>
          <a:stretch/>
        </p:blipFill>
        <p:spPr>
          <a:xfrm>
            <a:off x="1895400" y="90792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МЯГКАЯ ГЕОМЕТРИЧЕСКАЯ МОЗАЙКА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ПИЦЦА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АРХИВ\Детский сад\ОФОРМЛЕНИЕ\математика\20170406_130449.jpg"/>
          <p:cNvPicPr/>
          <p:nvPr/>
        </p:nvPicPr>
        <p:blipFill>
          <a:blip r:embed="rId2"/>
          <a:stretch/>
        </p:blipFill>
        <p:spPr>
          <a:xfrm>
            <a:off x="1763640" y="882720"/>
            <a:ext cx="5280120" cy="3960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, умения работать по образцу; развитие логики и воображения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39528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РЫБАЛКА»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АРХИВ\Детский сад\ОФОРМЛЕНИЕ\математика\20170411_095920.jpg"/>
          <p:cNvPicPr/>
          <p:nvPr/>
        </p:nvPicPr>
        <p:blipFill>
          <a:blip r:embed="rId2"/>
          <a:stretch/>
        </p:blipFill>
        <p:spPr>
          <a:xfrm>
            <a:off x="1763640" y="90792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2484360" y="5013360"/>
            <a:ext cx="439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Цель игры: закрепление навыков счета и состав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8:15:19Z</dcterms:created>
  <dc:creator>Сисадмин</dc:creator>
  <dc:description/>
  <dc:language>en-US</dc:language>
  <cp:lastModifiedBy>Наталья Николаевна</cp:lastModifiedBy>
  <dcterms:modified xsi:type="dcterms:W3CDTF">2017-05-12T10:26:30Z</dcterms:modified>
  <cp:revision>81</cp:revision>
  <dc:subject/>
  <dc:title>ОРГАНИЗАЦИЯ, АДМИНИСТРИРОВАНИЕ И АУДИТ КОЛЛЕКТИВНОГО ДОСТУПА В ИНТЕРНЕТ НА БАЗЕ ШКОЛЬНОЙ ЛВС</dc:title>
</cp:coreProperties>
</file>