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C9FC-5513-469E-99ED-558633BE5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E9FD-514B-49FE-B2C9-F931991A4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B1F0-9F63-4596-91A4-CE9EB59DF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E5A5-A83E-41EE-B583-797B6A15A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FB63D-1FF3-42B2-8776-F884E2538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ABA99-DC31-430C-87C5-A4C350EDD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FCBDF-1C78-499F-9B41-41640A494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BB0BF-987E-4DAB-B30F-AD4583A23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1FD71-8011-4640-9BB8-96F7F38A0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122F1-D390-4763-9B4C-6C41B8A7E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5D4B5-E5BB-4776-A187-D583FCB1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CBDE-C580-4CE1-9DD5-28F9D8A53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FDE5B-60DD-4970-9147-8739672F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37EBD-E022-40A1-B035-4C1659E7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71945-A923-43F7-8A8B-B3258EA0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AB95F-BE19-43F8-AAD8-98A08F489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0663C-AEA8-47F5-BD46-F69190DA1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BF78-C9B6-451D-B92A-B39C8233B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A94B-C1B0-4B16-AF8E-DAEFB1407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A6B1-31A2-4A97-9384-4095E3018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B621-47DC-4945-B592-E4615E513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C772-64C0-4E4D-A487-03ADCEDA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301B-3E9F-4C46-B801-6315847B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FDD8-FB61-49B6-841C-99AB9973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FAC3C-E039-4885-8CDE-193A7159D2E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DA00B-C233-4804-B8A0-C7A175DD760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0ea00"/>
                </a:solidFill>
                <a:latin typeface="Comic Sans MS"/>
              </a:rPr>
              <a:t>Экономика и экология.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28240" y="6172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Выполнила: Дикая Ольга  Анатольевна 3  класс  МБОУ Черкесская СОШ х. Черкесски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20.03.2017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5" descr="brosit-kurit-oboi-005"/>
          <p:cNvPicPr/>
          <p:nvPr/>
        </p:nvPicPr>
        <p:blipFill>
          <a:blip r:embed="rId1"/>
          <a:stretch/>
        </p:blipFill>
        <p:spPr>
          <a:xfrm>
            <a:off x="228600" y="1143000"/>
            <a:ext cx="8534520" cy="49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f81c"/>
                </a:solidFill>
                <a:latin typeface="Comic Sans MS"/>
              </a:rPr>
              <a:t>Всё в природе взаимосвязано.</a:t>
            </a:r>
            <a:br>
              <a:rPr sz="2800"/>
            </a:br>
            <a:r>
              <a:rPr b="1" lang="ru-RU" sz="2800" spc="-1" strike="noStrike">
                <a:solidFill>
                  <a:srgbClr val="fdf81c"/>
                </a:solidFill>
                <a:latin typeface="Comic Sans MS"/>
              </a:rPr>
              <a:t>Человек напрямую связан с природой.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8" name="Picture 6" descr="priroda-i-chelovek-%5b1920x1200%5d-%5b31396147%5d"/>
          <p:cNvPicPr/>
          <p:nvPr/>
        </p:nvPicPr>
        <p:blipFill>
          <a:blip r:embed="rId1"/>
          <a:srcRect l="0" t="0" r="0" b="4331"/>
          <a:stretch/>
        </p:blipFill>
        <p:spPr>
          <a:xfrm>
            <a:off x="228600" y="1523880"/>
            <a:ext cx="8534520" cy="51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69004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f81c"/>
                </a:solidFill>
                <a:latin typeface="Comic Sans MS"/>
              </a:rPr>
              <a:t>Не нужно мусорить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0" name="Picture 6" descr="%D0%BC%D1%83%D1%81%D0%BE%D1%80%20%D1%81%D1%86%D0%BF"/>
          <p:cNvPicPr/>
          <p:nvPr/>
        </p:nvPicPr>
        <p:blipFill>
          <a:blip r:embed="rId1"/>
          <a:stretch/>
        </p:blipFill>
        <p:spPr>
          <a:xfrm>
            <a:off x="533520" y="1295280"/>
            <a:ext cx="807696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df81c"/>
                </a:solidFill>
                <a:latin typeface="Comic Sans MS"/>
              </a:rPr>
              <a:t>Спасибо за внимание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2" name="Picture 6" descr="8153029"/>
          <p:cNvPicPr/>
          <p:nvPr/>
        </p:nvPicPr>
        <p:blipFill>
          <a:blip r:embed="rId1"/>
          <a:stretch/>
        </p:blipFill>
        <p:spPr>
          <a:xfrm>
            <a:off x="609480" y="1523880"/>
            <a:ext cx="8153640" cy="50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3492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оверка домашнего зада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09120" y="13716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 такое доходы семь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Arial"/>
              </a:rPr>
              <a:t>Зарплата папы, мамы, пенсия бабушки и т. 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сходы семьи…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Arial"/>
              </a:rPr>
              <a:t>на питание, одежду и т. 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 такое семейный бюджет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Arial"/>
              </a:rPr>
              <a:t>Это доходы и расходы семь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зовите отрасли промышлен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Arial"/>
              </a:rPr>
              <a:t>Добывающая, элекроэнергетика, маталлургия, машиностроение, химическая, легкая, пищева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5345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f81c"/>
                </a:solidFill>
                <a:latin typeface="Comic Sans MS"/>
              </a:rPr>
              <a:t>Без промышленности не будет необходимой и полезной продукции, без которой ни отдельному человеку, ни всему обществу не прожить.</a:t>
            </a:r>
            <a:r>
              <a:rPr b="1" lang="ru-RU" sz="2400" spc="-1" strike="noStrike">
                <a:solidFill>
                  <a:srgbClr val="ffffb7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4" name="Picture 6" descr="sibur-1"/>
          <p:cNvPicPr/>
          <p:nvPr/>
        </p:nvPicPr>
        <p:blipFill>
          <a:blip r:embed="rId1"/>
          <a:srcRect l="0" t="5883" r="0" b="0"/>
          <a:stretch/>
        </p:blipFill>
        <p:spPr>
          <a:xfrm>
            <a:off x="685800" y="1371600"/>
            <a:ext cx="75438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df81c"/>
                </a:solidFill>
                <a:latin typeface="Comic Sans MS"/>
              </a:rPr>
              <a:t>Человек своей деятельностью безвозвратно изменяет естественный режим водных объектов отходами и сбросами</a:t>
            </a:r>
            <a:r>
              <a:rPr b="1" lang="ru-RU" sz="2400" spc="-1" strike="noStrike">
                <a:solidFill>
                  <a:srgbClr val="fdf81c"/>
                </a:solidFill>
                <a:latin typeface="Comic Sans MS"/>
              </a:rPr>
              <a:t>.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6" name="Picture 6" descr="jSo8iqMC"/>
          <p:cNvPicPr/>
          <p:nvPr/>
        </p:nvPicPr>
        <p:blipFill>
          <a:blip r:embed="rId1"/>
          <a:srcRect l="0" t="7816" r="0" b="2283"/>
          <a:stretch/>
        </p:blipFill>
        <p:spPr>
          <a:xfrm>
            <a:off x="304920" y="1371600"/>
            <a:ext cx="85723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РОБЛЕМА:</a:t>
            </a:r>
            <a:br>
              <a:rPr sz="4000"/>
            </a:br>
            <a:r>
              <a:rPr b="1" lang="ru-RU" sz="2400" spc="-1" strike="noStrike">
                <a:solidFill>
                  <a:srgbClr val="fdf81c"/>
                </a:solidFill>
                <a:latin typeface="Comic Sans MS"/>
              </a:rPr>
              <a:t>отрицательная—вредная для природы и человека</a:t>
            </a:r>
            <a:br>
              <a:rPr sz="2400"/>
            </a:br>
            <a:r>
              <a:rPr b="1" lang="ru-RU" sz="2400" spc="-1" strike="noStrike">
                <a:solidFill>
                  <a:srgbClr val="fdf81c"/>
                </a:solidFill>
                <a:latin typeface="Comic Sans MS"/>
              </a:rPr>
              <a:t>ЭКОЛОГИЧЕСКИЕ  КАТАСТРОФЫ.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8" name="Picture 6" descr="a0b003bb66ca514d53162f1b4912a451"/>
          <p:cNvPicPr/>
          <p:nvPr/>
        </p:nvPicPr>
        <p:blipFill>
          <a:blip r:embed="rId1"/>
          <a:stretch/>
        </p:blipFill>
        <p:spPr>
          <a:xfrm>
            <a:off x="380880" y="1523880"/>
            <a:ext cx="830592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76312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df81c"/>
                </a:solidFill>
                <a:latin typeface="Comic Sans MS"/>
              </a:rPr>
              <a:t>Когда строят водохранилище, вырубают деревья. Остаются пни, корни. Они потом начинаю гнить, и вода засорится и станет зелёным. Могут погибнуть рыбы, животные, которые живут там от не хватки кислорода.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0" name="Picture 6" descr="gbpvtzzq-650-1"/>
          <p:cNvPicPr/>
          <p:nvPr/>
        </p:nvPicPr>
        <p:blipFill>
          <a:blip r:embed="rId1"/>
          <a:srcRect l="0" t="11473" r="0" b="0"/>
          <a:stretch/>
        </p:blipFill>
        <p:spPr>
          <a:xfrm>
            <a:off x="838080" y="1752480"/>
            <a:ext cx="7391520" cy="49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df81c"/>
                </a:solidFill>
                <a:latin typeface="Comic Sans MS"/>
              </a:rPr>
              <a:t>Нерациональное использование лесных ресурсов, а так же их безжалостная вырубка и уничтожение, является серьезной экологической проблемой глобального характера.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Picture 7" descr="virubka_lesa"/>
          <p:cNvPicPr/>
          <p:nvPr/>
        </p:nvPicPr>
        <p:blipFill>
          <a:blip r:embed="rId1"/>
          <a:stretch/>
        </p:blipFill>
        <p:spPr>
          <a:xfrm>
            <a:off x="838080" y="1523880"/>
            <a:ext cx="762012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ешение проблемы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Строительство очистных сооружений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фильтры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заповедн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df81c"/>
                </a:solidFill>
                <a:latin typeface="Comic Sans MS"/>
              </a:rPr>
              <a:t>УТИЛИЗАЦИЯ ОТХОДОВ- </a:t>
            </a:r>
            <a:r>
              <a:rPr b="0" lang="ru-RU" sz="2000" spc="-1" strike="noStrike">
                <a:solidFill>
                  <a:srgbClr val="fdf81c"/>
                </a:solidFill>
                <a:latin typeface="Comic Sans MS"/>
              </a:rPr>
              <a:t>использование отходов производства и отходов потребления после соответствующей переработки.</a:t>
            </a:r>
            <a:r>
              <a:rPr b="1" lang="ru-RU" sz="2000" spc="-1" strike="noStrike">
                <a:solidFill>
                  <a:srgbClr val="fdf81c"/>
                </a:solidFill>
                <a:latin typeface="Comic Sans MS"/>
              </a:rPr>
              <a:t> 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6" name="Picture 6" descr="kzgar"/>
          <p:cNvPicPr/>
          <p:nvPr/>
        </p:nvPicPr>
        <p:blipFill>
          <a:blip r:embed="rId1"/>
          <a:srcRect l="0" t="0" r="0" b="8573"/>
          <a:stretch/>
        </p:blipFill>
        <p:spPr>
          <a:xfrm>
            <a:off x="762120" y="1295280"/>
            <a:ext cx="7619760" cy="534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Черкесская</cp:lastModifiedBy>
  <dcterms:modified xsi:type="dcterms:W3CDTF">2017-05-12T09:11:50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