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F657-BCCD-477F-8F02-11848275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AB97-F8C5-4CC8-961F-FFAF82D2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8B46-587A-4C77-83F6-D16D430B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B3E6-E2C2-4BDE-8D1C-8F1CED9B4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8E7E-0CAB-4D17-BE66-149C4D710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32E9-E3C7-4C02-BBD8-72336670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3FDA-353D-46E0-8608-344537F7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F898-829C-4EE2-9C85-3133E6CA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F3B9-E781-4DB4-B15F-F6C40667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654B-4DD3-4BA1-8621-56D095E7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C892-C71C-4127-B701-A07D9611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46B0-9AE8-4F2B-AEF9-8862C2FD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0FE8-6EF7-4BAC-A1D2-2E805A1D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18FF-49EE-413D-9722-45178FD3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5948-8568-4C2B-AF1A-AEABA4D5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FCBD-B903-48FE-B727-28690751D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2288-569F-46A9-A154-3AA298DA5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4372-32D8-4909-A1D4-A1A600CA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F685-95F1-424F-BF13-8BE1B6A6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5F47-020B-4922-858C-F9D09F46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0994-5C1E-46B2-9440-692D351C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EB7A-FEF0-404C-853F-05878060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3700-EBC3-4DC9-8FF1-19F823AD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8212-8E01-44B2-8FDF-4727B026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7389-C4E0-41B0-BFEB-3982D8D9EA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1190-3C12-4877-84F6-E7B7B2DF9A3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ea00"/>
                </a:solidFill>
                <a:latin typeface="Comic Sans MS"/>
              </a:rPr>
              <a:t>Экономика и экология.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28240" y="6172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ыполнила: Дикая Ольга  Анатольевна 3  класс  МБОУ Черкесская СОШ х. Черкесски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20.03.2017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brosit-kurit-oboi-005"/>
          <p:cNvPicPr/>
          <p:nvPr/>
        </p:nvPicPr>
        <p:blipFill>
          <a:blip r:embed="rId1"/>
          <a:stretch/>
        </p:blipFill>
        <p:spPr>
          <a:xfrm>
            <a:off x="228600" y="1143000"/>
            <a:ext cx="853452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f81c"/>
                </a:solidFill>
                <a:latin typeface="Comic Sans MS"/>
              </a:rPr>
              <a:t>Всё в природе взаимосвязано.</a:t>
            </a:r>
            <a:br>
              <a:rPr sz="2800"/>
            </a:br>
            <a:r>
              <a:rPr b="1" lang="ru-RU" sz="2800" spc="-1" strike="noStrike">
                <a:solidFill>
                  <a:srgbClr val="fdf81c"/>
                </a:solidFill>
                <a:latin typeface="Comic Sans MS"/>
              </a:rPr>
              <a:t>Человек напрямую связан с природой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Picture 6" descr="priroda-i-chelovek-%5b1920x1200%5d-%5b31396147%5d"/>
          <p:cNvPicPr/>
          <p:nvPr/>
        </p:nvPicPr>
        <p:blipFill>
          <a:blip r:embed="rId1"/>
          <a:srcRect l="0" t="0" r="0" b="4331"/>
          <a:stretch/>
        </p:blipFill>
        <p:spPr>
          <a:xfrm>
            <a:off x="228600" y="1523880"/>
            <a:ext cx="853452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6900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f81c"/>
                </a:solidFill>
                <a:latin typeface="Comic Sans MS"/>
              </a:rPr>
              <a:t>Не нужно мусорить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Picture 6" descr="%D0%BC%D1%83%D1%81%D0%BE%D1%80%20%D1%81%D1%86%D0%BF"/>
          <p:cNvPicPr/>
          <p:nvPr/>
        </p:nvPicPr>
        <p:blipFill>
          <a:blip r:embed="rId1"/>
          <a:stretch/>
        </p:blipFill>
        <p:spPr>
          <a:xfrm>
            <a:off x="533520" y="1295280"/>
            <a:ext cx="807696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df81c"/>
                </a:solidFill>
                <a:latin typeface="Comic Sans MS"/>
              </a:rPr>
              <a:t>Спасибо за внимание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Picture 6" descr="8153029"/>
          <p:cNvPicPr/>
          <p:nvPr/>
        </p:nvPicPr>
        <p:blipFill>
          <a:blip r:embed="rId1"/>
          <a:stretch/>
        </p:blipFill>
        <p:spPr>
          <a:xfrm>
            <a:off x="609480" y="1523880"/>
            <a:ext cx="815364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3492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верка домашнего зад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09120" y="13716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такое доходы семь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Зарплата папы, мамы, пенсия бабушки и т. 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ходы семьи…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на питание, одежду и т. 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такое семейный бюдже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Это доходы и расходы семь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овите отрасли промышлен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Добывающая, элекроэнергетика, маталлургия, машиностроение, химическая, легкая, пищев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5345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f81c"/>
                </a:solidFill>
                <a:latin typeface="Comic Sans MS"/>
              </a:rPr>
              <a:t>Без промышленности не будет необходимой и полезной продукции, без которой ни отдельному человеку, ни всему обществу не прожить.</a:t>
            </a:r>
            <a:r>
              <a:rPr b="1" lang="ru-RU" sz="2400" spc="-1" strike="noStrike">
                <a:solidFill>
                  <a:srgbClr val="ffffb7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Picture 6" descr="sibur-1"/>
          <p:cNvPicPr/>
          <p:nvPr/>
        </p:nvPicPr>
        <p:blipFill>
          <a:blip r:embed="rId1"/>
          <a:srcRect l="0" t="5883" r="0" b="0"/>
          <a:stretch/>
        </p:blipFill>
        <p:spPr>
          <a:xfrm>
            <a:off x="685800" y="1371600"/>
            <a:ext cx="7543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df81c"/>
                </a:solidFill>
                <a:latin typeface="Comic Sans MS"/>
              </a:rPr>
              <a:t>Человек своей деятельностью безвозвратно изменяет естественный режим водных объектов отходами и сбросами</a:t>
            </a:r>
            <a:r>
              <a:rPr b="1" lang="ru-RU" sz="2400" spc="-1" strike="noStrike">
                <a:solidFill>
                  <a:srgbClr val="fdf81c"/>
                </a:solidFill>
                <a:latin typeface="Comic Sans MS"/>
              </a:rPr>
              <a:t>.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Picture 6" descr="jSo8iqMC"/>
          <p:cNvPicPr/>
          <p:nvPr/>
        </p:nvPicPr>
        <p:blipFill>
          <a:blip r:embed="rId1"/>
          <a:srcRect l="0" t="7816" r="0" b="2283"/>
          <a:stretch/>
        </p:blipFill>
        <p:spPr>
          <a:xfrm>
            <a:off x="304920" y="1371600"/>
            <a:ext cx="8572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ОБЛЕМА:</a:t>
            </a:r>
            <a:br>
              <a:rPr sz="4000"/>
            </a:br>
            <a:r>
              <a:rPr b="1" lang="ru-RU" sz="2400" spc="-1" strike="noStrike">
                <a:solidFill>
                  <a:srgbClr val="fdf81c"/>
                </a:solidFill>
                <a:latin typeface="Comic Sans MS"/>
              </a:rPr>
              <a:t>отрицательная—вредная для природы и человека</a:t>
            </a:r>
            <a:br>
              <a:rPr sz="2400"/>
            </a:br>
            <a:r>
              <a:rPr b="1" lang="ru-RU" sz="2400" spc="-1" strike="noStrike">
                <a:solidFill>
                  <a:srgbClr val="fdf81c"/>
                </a:solidFill>
                <a:latin typeface="Comic Sans MS"/>
              </a:rPr>
              <a:t>ЭКОЛОГИЧЕСКИЕ  КАТАСТРОФЫ.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Picture 6" descr="a0b003bb66ca514d53162f1b4912a451"/>
          <p:cNvPicPr/>
          <p:nvPr/>
        </p:nvPicPr>
        <p:blipFill>
          <a:blip r:embed="rId1"/>
          <a:stretch/>
        </p:blipFill>
        <p:spPr>
          <a:xfrm>
            <a:off x="380880" y="1523880"/>
            <a:ext cx="830592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76312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df81c"/>
                </a:solidFill>
                <a:latin typeface="Comic Sans MS"/>
              </a:rPr>
              <a:t>Когда строят водохранилище, вырубают деревья. Остаются пни, корни. Они потом начинаю гнить, и вода засорится и станет зелёным. Могут погибнуть рыбы, животные, которые живут там от не хватки кислорода.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Picture 6" descr="gbpvtzzq-650-1"/>
          <p:cNvPicPr/>
          <p:nvPr/>
        </p:nvPicPr>
        <p:blipFill>
          <a:blip r:embed="rId1"/>
          <a:srcRect l="0" t="11473" r="0" b="0"/>
          <a:stretch/>
        </p:blipFill>
        <p:spPr>
          <a:xfrm>
            <a:off x="838080" y="1752480"/>
            <a:ext cx="739152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df81c"/>
                </a:solidFill>
                <a:latin typeface="Comic Sans MS"/>
              </a:rPr>
              <a:t>Нерациональное использование лесных ресурсов, а так же их безжалостная вырубка и уничтожение, является серьезной экологической проблемой глобального характера.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7" descr="virubka_lesa"/>
          <p:cNvPicPr/>
          <p:nvPr/>
        </p:nvPicPr>
        <p:blipFill>
          <a:blip r:embed="rId1"/>
          <a:stretch/>
        </p:blipFill>
        <p:spPr>
          <a:xfrm>
            <a:off x="838080" y="1523880"/>
            <a:ext cx="762012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ешение проблемы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троительство очистных сооружени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фильтры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заповед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df81c"/>
                </a:solidFill>
                <a:latin typeface="Comic Sans MS"/>
              </a:rPr>
              <a:t>УТИЛИЗАЦИЯ ОТХОДОВ- </a:t>
            </a:r>
            <a:r>
              <a:rPr b="0" lang="ru-RU" sz="2000" spc="-1" strike="noStrike">
                <a:solidFill>
                  <a:srgbClr val="fdf81c"/>
                </a:solidFill>
                <a:latin typeface="Comic Sans MS"/>
              </a:rPr>
              <a:t>использование отходов производства и отходов потребления после соответствующей переработки.</a:t>
            </a:r>
            <a:r>
              <a:rPr b="1" lang="ru-RU" sz="2000" spc="-1" strike="noStrike">
                <a:solidFill>
                  <a:srgbClr val="fdf81c"/>
                </a:solidFill>
                <a:latin typeface="Comic Sans MS"/>
              </a:rPr>
              <a:t> 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Picture 6" descr="kzgar"/>
          <p:cNvPicPr/>
          <p:nvPr/>
        </p:nvPicPr>
        <p:blipFill>
          <a:blip r:embed="rId1"/>
          <a:srcRect l="0" t="0" r="0" b="8573"/>
          <a:stretch/>
        </p:blipFill>
        <p:spPr>
          <a:xfrm>
            <a:off x="762120" y="1295280"/>
            <a:ext cx="7619760" cy="53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Черкесская</cp:lastModifiedBy>
  <dcterms:modified xsi:type="dcterms:W3CDTF">2017-05-12T09:11:50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