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17.wmf" ContentType="image/x-wmf"/>
  <Override PartName="/ppt/media/image8.gif" ContentType="image/gif"/>
  <Override PartName="/ppt/media/image19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65C-BCED-4548-A8C4-9AD209B1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B68-DD57-470B-AACE-73B8E43A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A2A-C5C4-4117-97BA-00694654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F20-2F8E-4A9B-B0DF-D7677107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6C54-6F5C-41B3-93BB-669BAC17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6DCE-99FF-4444-AEAC-D8D26C64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A09C-7974-4D69-9873-E6774BF5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D02C-73D7-43F9-935D-3B43ACEB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1A9A-42D3-4194-8507-DA6BD33B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BDC3-48BA-44F3-93C2-FCBE580E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E831-4728-4355-A6FD-D2DA5E42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019-84A7-473A-84C9-668C53F1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CC79-6CE4-4807-AF83-DB6C5007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FB3D-167B-4C33-AEA4-F2499276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7563-FAD9-4B83-9AAE-BB526EB7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64B2-DD5B-4983-8547-1B3A6380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D28B-E9AD-4FDE-A08C-7C9A070D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6F6-0432-4B3E-8A93-61DF2C8F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A85-94D2-4544-957E-D59AAC89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E73-5B79-41D3-829B-59AD56D8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57F-2BF3-4D38-ACE1-80084664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DCA-B640-497D-AB08-D0526BCA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592-7EBE-4B06-B362-26FEE0E3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CDA-42F4-4B73-9442-169A0B4F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2C20-E3D9-4DA5-AF05-E3DDBFAF02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B41B-384C-4306-B03F-830F10EE8D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krvo.km.ua/storinki/vydavnycha_files/013.gif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stkrvo.km.ua/storinki/vydavnycha_files/013.gif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6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ТКРЫТЫЙ УРОК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 ОКРУЖАЮЩЕМУ МИР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2"/>
          <p:cNvGrpSpPr/>
          <p:nvPr/>
        </p:nvGrpSpPr>
        <p:grpSpPr>
          <a:xfrm>
            <a:off x="762120" y="1676520"/>
            <a:ext cx="6327000" cy="772920"/>
            <a:chOff x="762120" y="1676520"/>
            <a:chExt cx="6327000" cy="772920"/>
          </a:xfrm>
        </p:grpSpPr>
        <p:sp>
          <p:nvSpPr>
            <p:cNvPr id="190" name="Прямоугольник 3"/>
            <p:cNvSpPr/>
            <p:nvPr/>
          </p:nvSpPr>
          <p:spPr>
            <a:xfrm>
              <a:off x="1853280" y="1676520"/>
              <a:ext cx="523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Calibri"/>
                  <a:ea typeface="Times New Roman"/>
                </a:rPr>
                <a:t>Что нового узнали на уроке 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Рисунок 4" descr="л.png"/>
            <p:cNvPicPr/>
            <p:nvPr/>
          </p:nvPicPr>
          <p:blipFill>
            <a:blip r:embed="rId1"/>
            <a:stretch/>
          </p:blipFill>
          <p:spPr>
            <a:xfrm>
              <a:off x="762120" y="1747800"/>
              <a:ext cx="1070640" cy="70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Группа 8"/>
          <p:cNvGrpSpPr/>
          <p:nvPr/>
        </p:nvGrpSpPr>
        <p:grpSpPr>
          <a:xfrm>
            <a:off x="685800" y="2362320"/>
            <a:ext cx="4936680" cy="772920"/>
            <a:chOff x="685800" y="2362320"/>
            <a:chExt cx="4936680" cy="772920"/>
          </a:xfrm>
        </p:grpSpPr>
        <p:sp>
          <p:nvSpPr>
            <p:cNvPr id="193" name="Прямоугольник 9"/>
            <p:cNvSpPr/>
            <p:nvPr/>
          </p:nvSpPr>
          <p:spPr>
            <a:xfrm>
              <a:off x="1700280" y="2362320"/>
              <a:ext cx="392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6600"/>
                  </a:solidFill>
                  <a:latin typeface="Calibri"/>
                  <a:ea typeface="Times New Roman"/>
                </a:rPr>
                <a:t>Из чего состоит гриб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Рисунок 10" descr="л.png"/>
            <p:cNvPicPr/>
            <p:nvPr/>
          </p:nvPicPr>
          <p:blipFill>
            <a:blip r:embed="rId2"/>
            <a:stretch/>
          </p:blipFill>
          <p:spPr>
            <a:xfrm>
              <a:off x="685800" y="2433600"/>
              <a:ext cx="1070280" cy="70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Группа 11"/>
          <p:cNvGrpSpPr/>
          <p:nvPr/>
        </p:nvGrpSpPr>
        <p:grpSpPr>
          <a:xfrm>
            <a:off x="762120" y="3048120"/>
            <a:ext cx="7967160" cy="772920"/>
            <a:chOff x="762120" y="3048120"/>
            <a:chExt cx="7967160" cy="772920"/>
          </a:xfrm>
        </p:grpSpPr>
        <p:sp>
          <p:nvSpPr>
            <p:cNvPr id="196" name="Прямоугольник 12"/>
            <p:cNvSpPr/>
            <p:nvPr/>
          </p:nvSpPr>
          <p:spPr>
            <a:xfrm>
              <a:off x="1789560" y="3048120"/>
              <a:ext cx="69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99"/>
                  </a:solidFill>
                  <a:latin typeface="Calibri"/>
                  <a:ea typeface="Times New Roman"/>
                </a:rPr>
                <a:t>Какие правила грибов вы выполняете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Рисунок 13" descr="л.png"/>
            <p:cNvPicPr/>
            <p:nvPr/>
          </p:nvPicPr>
          <p:blipFill>
            <a:blip r:embed="rId3"/>
            <a:stretch/>
          </p:blipFill>
          <p:spPr>
            <a:xfrm>
              <a:off x="762120" y="3119400"/>
              <a:ext cx="1070280" cy="70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а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01" name="звуки леса.wav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5874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600200" y="2133720"/>
            <a:ext cx="583236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вая приро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4952880"/>
            <a:ext cx="2103480" cy="636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арство живот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590920" y="4941720"/>
            <a:ext cx="198108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арство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716360" y="4941720"/>
            <a:ext cx="187164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арство гр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804000" y="4941720"/>
            <a:ext cx="201600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арство бактер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1476000" y="3933720"/>
            <a:ext cx="3095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3635280" y="3933720"/>
            <a:ext cx="936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4572000" y="3933720"/>
            <a:ext cx="1079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4572000" y="3933720"/>
            <a:ext cx="3168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3276720" y="2133720"/>
            <a:ext cx="75960" cy="759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3505320" y="1981080"/>
            <a:ext cx="7596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3809880" y="2133720"/>
            <a:ext cx="76320" cy="759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5257800" y="2286000"/>
            <a:ext cx="7632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6019920" y="2057400"/>
            <a:ext cx="7596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5791320" y="2286000"/>
            <a:ext cx="7596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5410080" y="2057400"/>
            <a:ext cx="7632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27000" y="3733920"/>
            <a:ext cx="9117000" cy="312408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10"/>
          <p:cNvSpPr/>
          <p:nvPr/>
        </p:nvSpPr>
        <p:spPr>
          <a:xfrm>
            <a:off x="63360" y="4102200"/>
            <a:ext cx="4203720" cy="2070000"/>
          </a:xfrm>
          <a:prstGeom prst="pie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1"/>
          <p:cNvSpPr/>
          <p:nvPr/>
        </p:nvSpPr>
        <p:spPr>
          <a:xfrm>
            <a:off x="3886200" y="2209680"/>
            <a:ext cx="1523880" cy="2793960"/>
          </a:xfrm>
          <a:prstGeom prst="pie">
            <a:avLst/>
          </a:prstGeom>
          <a:gradFill rotWithShape="0">
            <a:gsLst>
              <a:gs pos="0">
                <a:srgbClr val="969696"/>
              </a:gs>
              <a:gs pos="50000">
                <a:srgbClr val="dcdcdc"/>
              </a:gs>
              <a:gs pos="100000">
                <a:srgbClr val="96969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2"/>
          <p:cNvSpPr/>
          <p:nvPr/>
        </p:nvSpPr>
        <p:spPr>
          <a:xfrm>
            <a:off x="2971800" y="990720"/>
            <a:ext cx="3657600" cy="1485720"/>
          </a:xfrm>
          <a:prstGeom prst="pie">
            <a:avLst/>
          </a:prstGeom>
          <a:gradFill rotWithShape="0">
            <a:gsLst>
              <a:gs pos="0">
                <a:srgbClr val="2f18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4191120" y="2895480"/>
            <a:ext cx="1066680" cy="368280"/>
          </a:xfrm>
          <a:prstGeom prst="pi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4"/>
          <p:cNvSpPr/>
          <p:nvPr/>
        </p:nvSpPr>
        <p:spPr>
          <a:xfrm>
            <a:off x="5029200" y="4952880"/>
            <a:ext cx="2895480" cy="1143000"/>
          </a:xfrm>
          <a:prstGeom prst="pie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5270400" y="3352680"/>
            <a:ext cx="3873600" cy="1778040"/>
            <a:chOff x="5270400" y="3352680"/>
            <a:chExt cx="3873600" cy="1778040"/>
          </a:xfrm>
        </p:grpSpPr>
        <p:sp>
          <p:nvSpPr>
            <p:cNvPr id="125" name="Freeform 16"/>
            <p:cNvSpPr/>
            <p:nvPr/>
          </p:nvSpPr>
          <p:spPr>
            <a:xfrm>
              <a:off x="5270400" y="3657600"/>
              <a:ext cx="3873600" cy="1473120"/>
            </a:xfrm>
            <a:prstGeom prst="pi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6324480" y="3352680"/>
              <a:ext cx="457200" cy="419400"/>
            </a:xfrm>
            <a:prstGeom prst="pie">
              <a:avLst/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8077320" y="3733920"/>
              <a:ext cx="380880" cy="228600"/>
            </a:xfrm>
            <a:prstGeom prst="pie">
              <a:avLst/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9"/>
          <p:cNvSpPr/>
          <p:nvPr/>
        </p:nvSpPr>
        <p:spPr>
          <a:xfrm>
            <a:off x="6781680" y="10666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шля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2590920" y="5867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гриб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1"/>
          <p:cNvSpPr/>
          <p:nvPr/>
        </p:nvSpPr>
        <p:spPr>
          <a:xfrm rot="20541600">
            <a:off x="6095520" y="1828440"/>
            <a:ext cx="1257480" cy="268200"/>
          </a:xfrm>
          <a:prstGeom prst="leftArrow">
            <a:avLst>
              <a:gd name="adj1" fmla="val 23231"/>
              <a:gd name="adj2" fmla="val 174324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646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0" y="2514600"/>
            <a:ext cx="434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плодов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те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3"/>
          <p:cNvSpPr/>
          <p:nvPr/>
        </p:nvSpPr>
        <p:spPr>
          <a:xfrm rot="19327200">
            <a:off x="1170000" y="3630600"/>
            <a:ext cx="1247760" cy="235080"/>
          </a:xfrm>
          <a:prstGeom prst="leftArrow">
            <a:avLst>
              <a:gd name="adj1" fmla="val 23231"/>
              <a:gd name="adj2" fmla="val 197347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767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5867280" y="25146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нож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5"/>
          <p:cNvSpPr/>
          <p:nvPr/>
        </p:nvSpPr>
        <p:spPr>
          <a:xfrm rot="20541600">
            <a:off x="4800240" y="3200040"/>
            <a:ext cx="1257480" cy="268200"/>
          </a:xfrm>
          <a:prstGeom prst="leftArrow">
            <a:avLst>
              <a:gd name="adj1" fmla="val 23231"/>
              <a:gd name="adj2" fmla="val 174324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646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Arial"/>
              </a:rPr>
              <a:t>Строение гриб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457200" y="13716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сп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8"/>
          <p:cNvSpPr/>
          <p:nvPr/>
        </p:nvSpPr>
        <p:spPr>
          <a:xfrm>
            <a:off x="3048120" y="2286000"/>
            <a:ext cx="1371600" cy="228600"/>
          </a:xfrm>
          <a:prstGeom prst="pie">
            <a:avLst/>
          </a:prstGeom>
          <a:solidFill>
            <a:srgbClr val="ffccff"/>
          </a:solidFill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9"/>
          <p:cNvSpPr/>
          <p:nvPr/>
        </p:nvSpPr>
        <p:spPr>
          <a:xfrm>
            <a:off x="5105520" y="2362320"/>
            <a:ext cx="1143000" cy="152280"/>
          </a:xfrm>
          <a:prstGeom prst="pie">
            <a:avLst/>
          </a:prstGeom>
          <a:solidFill>
            <a:srgbClr val="ffccff"/>
          </a:solidFill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1"/>
          <p:cNvSpPr/>
          <p:nvPr/>
        </p:nvSpPr>
        <p:spPr>
          <a:xfrm rot="11633400">
            <a:off x="2209680" y="3498480"/>
            <a:ext cx="1828800" cy="152280"/>
          </a:xfrm>
          <a:prstGeom prst="leftArrow">
            <a:avLst>
              <a:gd name="adj1" fmla="val 23231"/>
              <a:gd name="adj2" fmla="val 446518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153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2"/>
          <p:cNvSpPr/>
          <p:nvPr/>
        </p:nvSpPr>
        <p:spPr>
          <a:xfrm rot="7254600">
            <a:off x="2018880" y="2704680"/>
            <a:ext cx="1219320" cy="228600"/>
          </a:xfrm>
          <a:prstGeom prst="leftArrow">
            <a:avLst>
              <a:gd name="adj1" fmla="val 23231"/>
              <a:gd name="adj2" fmla="val 198316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1974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3"/>
          <p:cNvSpPr/>
          <p:nvPr/>
        </p:nvSpPr>
        <p:spPr>
          <a:xfrm rot="9063000">
            <a:off x="4114080" y="5714640"/>
            <a:ext cx="1219320" cy="228600"/>
          </a:xfrm>
          <a:prstGeom prst="leftArrow">
            <a:avLst>
              <a:gd name="adj1" fmla="val 23231"/>
              <a:gd name="adj2" fmla="val 198316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179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4"/>
          <p:cNvSpPr/>
          <p:nvPr/>
        </p:nvSpPr>
        <p:spPr>
          <a:xfrm rot="3490800">
            <a:off x="3527640" y="5557680"/>
            <a:ext cx="912600" cy="255600"/>
          </a:xfrm>
          <a:prstGeom prst="leftArrow">
            <a:avLst>
              <a:gd name="adj1" fmla="val 23231"/>
              <a:gd name="adj2" fmla="val 132750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19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8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78834E-006 L 0.00834 0.36641 E">
                                      <p:cBhvr>
                                        <p:cTn id="90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08813E-006 L -0.00416 0.40527 E">
                                      <p:cBhvr>
                                        <p:cTn id="9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555 L 5.55112E-017 0.3331 E">
                                      <p:cBhvr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127E-006 L 0.00417 0.37197 E">
                                      <p:cBhvr>
                                        <p:cTn id="96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676520" y="228600"/>
            <a:ext cx="5562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азка о грибах и деревья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Picture 15" descr="Картинка 12 из 785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7920"/>
            <a:ext cx="2362320" cy="358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Картинка 12 из 7859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743200"/>
            <a:ext cx="236232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Картинка 12 из 785983"/>
          <p:cNvPicPr/>
          <p:nvPr/>
        </p:nvPicPr>
        <p:blipFill>
          <a:blip r:embed="rId5"/>
          <a:stretch/>
        </p:blipFill>
        <p:spPr>
          <a:xfrm>
            <a:off x="6781680" y="0"/>
            <a:ext cx="2362320" cy="358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Картинка 35 из 596487"/>
          <p:cNvPicPr/>
          <p:nvPr/>
        </p:nvPicPr>
        <p:blipFill>
          <a:blip r:embed="rId6"/>
          <a:stretch/>
        </p:blipFill>
        <p:spPr>
          <a:xfrm>
            <a:off x="7115040" y="3200400"/>
            <a:ext cx="202896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Картинка 35 из 596487"/>
          <p:cNvPicPr/>
          <p:nvPr/>
        </p:nvPicPr>
        <p:blipFill>
          <a:blip r:embed="rId7"/>
          <a:stretch/>
        </p:blipFill>
        <p:spPr>
          <a:xfrm>
            <a:off x="1676520" y="3429000"/>
            <a:ext cx="20286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4" descr="MCj01933120000[1]"/>
          <p:cNvPicPr/>
          <p:nvPr/>
        </p:nvPicPr>
        <p:blipFill>
          <a:blip r:embed="rId8"/>
          <a:stretch/>
        </p:blipFill>
        <p:spPr>
          <a:xfrm>
            <a:off x="2819520" y="6019920"/>
            <a:ext cx="99036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MCj01932700000[1]"/>
          <p:cNvPicPr/>
          <p:nvPr/>
        </p:nvPicPr>
        <p:blipFill>
          <a:blip r:embed="rId9"/>
          <a:stretch/>
        </p:blipFill>
        <p:spPr>
          <a:xfrm>
            <a:off x="1066680" y="4419720"/>
            <a:ext cx="482760" cy="55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MCj03513440000[1]"/>
          <p:cNvPicPr/>
          <p:nvPr/>
        </p:nvPicPr>
        <p:blipFill>
          <a:blip r:embed="rId10"/>
          <a:stretch/>
        </p:blipFill>
        <p:spPr>
          <a:xfrm>
            <a:off x="7924680" y="3048120"/>
            <a:ext cx="378000" cy="587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MCj03598250000[1]"/>
          <p:cNvPicPr/>
          <p:nvPr/>
        </p:nvPicPr>
        <p:blipFill>
          <a:blip r:embed="rId11"/>
          <a:stretch/>
        </p:blipFill>
        <p:spPr>
          <a:xfrm>
            <a:off x="5334120" y="5943600"/>
            <a:ext cx="533160" cy="39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MCj03313640000[1]"/>
          <p:cNvPicPr/>
          <p:nvPr/>
        </p:nvPicPr>
        <p:blipFill>
          <a:blip r:embed="rId12"/>
          <a:stretch/>
        </p:blipFill>
        <p:spPr>
          <a:xfrm>
            <a:off x="7772400" y="6019920"/>
            <a:ext cx="527040" cy="511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9" descr="MCj01933120000[1]"/>
          <p:cNvPicPr/>
          <p:nvPr/>
        </p:nvPicPr>
        <p:blipFill>
          <a:blip r:embed="rId13"/>
          <a:stretch/>
        </p:blipFill>
        <p:spPr>
          <a:xfrm>
            <a:off x="3581280" y="21337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0" descr="MCj01933120000[1]"/>
          <p:cNvPicPr/>
          <p:nvPr/>
        </p:nvPicPr>
        <p:blipFill>
          <a:blip r:embed="rId14"/>
          <a:stretch/>
        </p:blipFill>
        <p:spPr>
          <a:xfrm>
            <a:off x="6477120" y="2743200"/>
            <a:ext cx="99036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1" descr="MCj01932700000[1]"/>
          <p:cNvPicPr/>
          <p:nvPr/>
        </p:nvPicPr>
        <p:blipFill>
          <a:blip r:embed="rId15"/>
          <a:stretch/>
        </p:blipFill>
        <p:spPr>
          <a:xfrm>
            <a:off x="0" y="6302520"/>
            <a:ext cx="4827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MCj01932700000[1]"/>
          <p:cNvPicPr/>
          <p:nvPr/>
        </p:nvPicPr>
        <p:blipFill>
          <a:blip r:embed="rId1"/>
          <a:stretch/>
        </p:blipFill>
        <p:spPr>
          <a:xfrm>
            <a:off x="1828800" y="4419720"/>
            <a:ext cx="482760" cy="55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MCj03598250000[1]"/>
          <p:cNvPicPr/>
          <p:nvPr/>
        </p:nvPicPr>
        <p:blipFill>
          <a:blip r:embed="rId2"/>
          <a:stretch/>
        </p:blipFill>
        <p:spPr>
          <a:xfrm>
            <a:off x="5334120" y="5943600"/>
            <a:ext cx="533160" cy="395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MCj01933120000[1]"/>
          <p:cNvPicPr/>
          <p:nvPr/>
        </p:nvPicPr>
        <p:blipFill>
          <a:blip r:embed="rId3"/>
          <a:stretch/>
        </p:blipFill>
        <p:spPr>
          <a:xfrm>
            <a:off x="3581280" y="21337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MCj01932700000[1]"/>
          <p:cNvPicPr/>
          <p:nvPr/>
        </p:nvPicPr>
        <p:blipFill>
          <a:blip r:embed="rId4"/>
          <a:stretch/>
        </p:blipFill>
        <p:spPr>
          <a:xfrm>
            <a:off x="6477120" y="3200400"/>
            <a:ext cx="4824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2895480" y="304920"/>
            <a:ext cx="4186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а исследования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762120" y="1295280"/>
            <a:ext cx="7848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чему деревьям плохо без грибов 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209680"/>
            <a:ext cx="1676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ипотез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WordArt 7"/>
          <p:cNvSpPr txBox="1"/>
          <p:nvPr/>
        </p:nvSpPr>
        <p:spPr>
          <a:xfrm>
            <a:off x="3200400" y="297180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положим,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WordArt 8"/>
          <p:cNvSpPr txBox="1"/>
          <p:nvPr/>
        </p:nvSpPr>
        <p:spPr>
          <a:xfrm>
            <a:off x="914400" y="3581280"/>
            <a:ext cx="7296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грибы помогают расти деревьям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WordArt 9"/>
          <p:cNvSpPr txBox="1"/>
          <p:nvPr/>
        </p:nvSpPr>
        <p:spPr>
          <a:xfrm>
            <a:off x="4114800" y="4267080"/>
            <a:ext cx="114300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WordArt 10"/>
          <p:cNvSpPr txBox="1"/>
          <p:nvPr/>
        </p:nvSpPr>
        <p:spPr>
          <a:xfrm>
            <a:off x="1828800" y="5105520"/>
            <a:ext cx="53910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яснить, что же связыва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WordArt 11"/>
          <p:cNvSpPr txBox="1"/>
          <p:nvPr/>
        </p:nvSpPr>
        <p:spPr>
          <a:xfrm>
            <a:off x="1600200" y="5638680"/>
            <a:ext cx="5896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ревья и грибы друг с друг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2133720" y="304920"/>
            <a:ext cx="550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зультаты исследования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2057400" y="1143000"/>
            <a:ext cx="5648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Грибы получают от дере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514600" y="1828800"/>
            <a:ext cx="4390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тельные вещест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380880" y="2362320"/>
            <a:ext cx="6172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Корни деревьев всасываю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838080" y="2971800"/>
            <a:ext cx="632484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ду и минеральные соли из земл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2057400" y="3581280"/>
            <a:ext cx="5867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Грибница доставляет воду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2438280" y="4267080"/>
            <a:ext cx="3419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ням деревье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11"/>
          <p:cNvSpPr txBox="1"/>
          <p:nvPr/>
        </p:nvSpPr>
        <p:spPr>
          <a:xfrm>
            <a:off x="380880" y="4800600"/>
            <a:ext cx="586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Грибница перерабатыва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12"/>
          <p:cNvSpPr txBox="1"/>
          <p:nvPr/>
        </p:nvSpPr>
        <p:spPr>
          <a:xfrm>
            <a:off x="838080" y="5486400"/>
            <a:ext cx="531504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татки живых организм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581280" y="22860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457200" y="1676520"/>
            <a:ext cx="1285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иб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2057400" y="1828800"/>
            <a:ext cx="5562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гают расти деревьям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1981080" y="2362320"/>
            <a:ext cx="464832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ставляют воду,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1981080" y="2895480"/>
            <a:ext cx="678204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рабатывают остатки живых организм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3" name="Picture 9" descr="Картинка 12 из 785983"/>
          <p:cNvPicPr/>
          <p:nvPr/>
        </p:nvPicPr>
        <p:blipFill>
          <a:blip r:embed="rId1"/>
          <a:stretch/>
        </p:blipFill>
        <p:spPr>
          <a:xfrm>
            <a:off x="6881760" y="3429000"/>
            <a:ext cx="2262240" cy="3429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MCj01933120000[1]"/>
          <p:cNvPicPr/>
          <p:nvPr/>
        </p:nvPicPr>
        <p:blipFill>
          <a:blip r:embed="rId2"/>
          <a:stretch/>
        </p:blipFill>
        <p:spPr>
          <a:xfrm>
            <a:off x="0" y="6019920"/>
            <a:ext cx="990720" cy="838080"/>
          </a:xfrm>
          <a:prstGeom prst="rect">
            <a:avLst/>
          </a:prstGeom>
          <a:ln w="0">
            <a:noFill/>
          </a:ln>
        </p:spPr>
      </p:pic>
      <p:sp>
        <p:nvSpPr>
          <p:cNvPr id="185" name="Line 11"/>
          <p:cNvSpPr/>
          <p:nvPr/>
        </p:nvSpPr>
        <p:spPr>
          <a:xfrm>
            <a:off x="1219320" y="6019920"/>
            <a:ext cx="5562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219320" y="6400800"/>
            <a:ext cx="55623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4"/>
          <p:cNvSpPr txBox="1"/>
          <p:nvPr/>
        </p:nvSpPr>
        <p:spPr>
          <a:xfrm>
            <a:off x="2514600" y="5105520"/>
            <a:ext cx="32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мбио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Черкесская</cp:lastModifiedBy>
  <dcterms:modified xsi:type="dcterms:W3CDTF">2017-05-12T09:44:09Z</dcterms:modified>
  <cp:revision>77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