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2BE-7AE1-464B-89A4-16FFB6BD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82F-DA94-4A11-AD64-C77B675F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858-52D8-4185-95B3-022E4EF0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876-2134-4113-96CB-C5372536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F4B1-878F-4200-B1D7-940C1FFC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5440-ED0B-44E6-B30E-6C78F4E9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9069-383F-4E9E-8D5E-0D294B58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ADBE-819A-4BF7-8768-4114E0F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F905-3CF1-4117-B4CC-AAF76B23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E0C2-74F0-4C8C-9B48-B217EC33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F8F2-FC63-443C-A200-735EA80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F52-4524-469B-998D-2F752FB0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8A10-4ABE-4E0E-AA81-E2836636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ABCF-4AA7-4827-A34A-9D5BD558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F1AF-C2C7-4A5B-B810-E26878E4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F7CF-B28A-48BB-B219-A119D86D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6214-2496-429F-B915-8A473CB6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4B8A-9717-4256-B56C-40E98202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556A-6D8C-4CD3-96B2-D60AD7BF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FED2-9116-4E53-A9E5-74926144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C6BE9-6919-4350-8B92-D4E68D65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F24D1-E47D-4768-AFB9-739E8673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D10-E851-4E91-8521-E9D73EA5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D5A9-8BF6-4CC6-A5DB-EA64777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39667-0FE5-43B7-A03E-E3DC109B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7B4C-EA02-4570-B9D5-E8E43F25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1D57-6BF2-453E-AEAA-0E07E433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EA26-B174-4650-88D8-912DFE40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B9B1-8BC9-4B9A-BBC7-D5137922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613E-589C-4A6F-BE28-192A94F2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FBDE-17E9-4BEF-A933-07121435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2FF6B-17C3-4CCB-80D3-3B62BDA5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1060-6FD3-4FF9-801B-55260242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DB5-2031-474E-BAF6-BA3E7409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9C12F-D7A1-4FA3-8F37-2F3053C1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70335-780E-4658-9656-E15DDC52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8AA7E-3818-4EF0-BEEF-D0EEA92A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E279B-67DD-4508-A1F0-CD22F122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70B1B-F94D-422E-A6DE-5F273C5B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ED0D-FECA-487F-84DA-EA886CD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773E8-3351-4F3E-82F1-FD6572CC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7593-14B1-4593-8E1C-5EA3179F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84220-344A-4125-86F9-FE397331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07A-A5AC-4B06-A422-D6882452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703-2205-4BEB-B07A-1148DC3A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C10-509B-4090-A3A8-F263DB6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7B8-1D68-43C5-B391-888686E8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422-0DE9-416A-884B-5569A8CE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472B-C184-4B7C-9033-DFAE13A1812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C4EE-4781-4250-A95E-127B7A7A1BF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ACA3-A5CE-40AC-B596-81C956FEF19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0988-CE16-409A-9FC8-A6B54898970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Памятка контроля по выполнению домашних заданий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    Не сравнивайте его умения с умениями других дет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    Не кричите, лучше определите причину отсутствия у ребенка умения выполнять заданное упражн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    Создайте условия для успешного выполнения ребенком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4.    Не пытайтесь выполнить за своего сына или дочь домашнее задание, это сослужит им плохую служб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5.    Поощряйте упорство и проявление характера в достижении цел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6.    Требуйте от своего ребенка внимательного прочтения инструкций по выполнению учебных заданий, формулировки вопрос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7.    Учите его детальному изучению содержания материалов учебника, справочных материалов, правил и инструкц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40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8.    Развивайте его внимание и внимательность при выполнении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9.    Хвалите ребенка за своевременно и качественно выполненное домашнее зада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0. Демонстрируйте его достижения перед другими членами семьи, братьями и сестр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1. Для того, чтобы облегчить своему ребенку выполнение домашнего задания, покупайте ему энциклопедии, словари и справочные пособия по различным предметам, справочники на информационных носителя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2. Формируйте привычку доводить начатое дело до конца, даже если придется чем-то жертвоват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3. Покупайте своему ребенку логические игры, способствующие формированию усидчивости, терпения и ответствен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4. Не отмахивайтесь от вопросов ребенка. Этим вы усугубляете проблемы, связанные с подготовкой домашних зада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5:22:08Z</dcterms:created>
  <dc:creator>1234</dc:creator>
  <dc:description/>
  <dc:language>en-US</dc:language>
  <cp:lastModifiedBy>Admin</cp:lastModifiedBy>
  <dcterms:modified xsi:type="dcterms:W3CDTF">2013-06-08T21:12:02Z</dcterms:modified>
  <cp:revision>78</cp:revision>
  <dc:subject/>
  <dc:title>На 22 октября</dc:title>
</cp:coreProperties>
</file>