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C15-95D6-492A-8006-F8D77795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EDA-3AA8-4653-8028-224EAEB3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641-E4FC-43F7-BBE3-ECB710FA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5B5E-194D-4559-83A4-67AF32B9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6570-BED2-4580-8B09-00E6E27F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AF1B-F54C-4034-87E2-B43BCB8A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A633-5B4A-4717-AC7A-A357B2F5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21A8-611E-4EFE-BFC1-4050D034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FE0C-5E5F-43A7-ABD8-8519FB87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AF4D-03D0-4FD5-BA54-A77D965F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8A8C-2E04-4DD6-A1BB-5F37C657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1AE3-2376-4C32-ADDB-0D893284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327C-F9CD-431B-9AE2-894DAABA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3DAA-4B9A-4757-B377-3D941D99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7F25-878B-4ED1-BFF9-928B5902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C1AE-55B0-485C-9B28-B674394B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5D8B-2849-478D-B9F9-AF5BE092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6F474-6B36-47DF-B0DF-41A50D29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1239E-2C3A-4C05-9D0E-4D83947F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AA189-20BC-4148-85FF-B9060728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98A39-C891-486B-AF0E-10E01697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AC43D-2599-4612-9120-A7965534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B80-91B1-4BFF-B5C5-F7E41800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0E7A4-A27D-4C07-BEA0-B00A2BC3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12CB4-3C4B-4B41-A5E2-C667521D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847CF-A708-4ECB-A93B-37E1AD16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669B6-8F53-4A46-BF65-5E22DC6E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9DFAC-B632-4864-8551-B43AE61A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2436F-CF56-4EAA-919F-26B8DF51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5AF34-F06D-4F95-8BF7-A9309E8A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C50DB-EF42-465A-AD0C-FF862DF4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6A408-5986-4972-B64E-B12DA6F9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70A4A-D801-42BF-92E1-2BA1C69B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EAD2-F1C9-4B74-910D-8E993C43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F4A3B-26EF-435A-B648-875D1FDC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548CE-280A-495D-A913-6A57FC2F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1D826-6597-4188-9AA9-07E4BF38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4A28D-AE88-4E88-9964-A5B1876C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18BFB-1D3D-4F48-80BD-2D55209D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4FD0B-2027-48F3-944F-4DF9362C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B156E-D834-48B3-B03C-0877EA7C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8EB93-E459-408D-A27A-E68E9C22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52CD7-0244-4287-BFFD-BF615E45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3A2-D31C-4D96-9B16-985464BB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E11-39D7-4C98-B534-8B9A9759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9B2-BCCB-4858-8C0C-8CC95903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75B-2893-4881-8DED-4FE96ACC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689-2125-4CBB-878C-E9D6083E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997A-D766-41E2-9A27-58BC8723D78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E5B1-5BB0-435F-98C6-3FC3D7EAE5F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3954-3E96-47EE-9967-4D3E1271C5C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BCFC-AE8C-4B7C-A64C-987C08DD408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Памятка контроля по выполнению домашних заданий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.    Не сравнивайте его умения с умениями других дете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.    Не кричите, лучше определите причину отсутствия у ребенка умения выполнять заданное упражнени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.    Создайте условия для успешного выполнения ребенком домашнего зада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4.    Не пытайтесь выполнить за своего сына или дочь домашнее задание, это сослужит им плохую службу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5.    Поощряйте упорство и проявление характера в достижении цел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6.    Требуйте от своего ребенка внимательного прочтения инструкций по выполнению учебных заданий, формулировки вопрос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7.    Учите его детальному изучению содержания материалов учебника, справочных материалов, правил и инструкц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50920" y="40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8.    Развивайте его внимание и внимательность при выполнении домашнего зада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9.    Хвалите ребенка за своевременно и качественно выполненное домашнее задани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0. Демонстрируйте его достижения перед другими членами семьи, братьями и сестрам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1. Для того, чтобы облегчить своему ребенку выполнение домашнего задания, покупайте ему энциклопедии, словари и справочные пособия по различным предметам, справочники на информационных носителя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2. Формируйте привычку доводить начатое дело до конца, даже если придется чем-то жертвоват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3. Покупайте своему ребенку логические игры, способствующие формированию усидчивости, терпения и ответственност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4. Не отмахивайтесь от вопросов ребенка. Этим вы усугубляете проблемы, связанные с подготовкой домашних задан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5:22:08Z</dcterms:created>
  <dc:creator>1234</dc:creator>
  <dc:description/>
  <dc:language>en-US</dc:language>
  <cp:lastModifiedBy>Admin</cp:lastModifiedBy>
  <dcterms:modified xsi:type="dcterms:W3CDTF">2013-06-08T21:12:02Z</dcterms:modified>
  <cp:revision>78</cp:revision>
  <dc:subject/>
  <dc:title>На 22 октября</dc:title>
</cp:coreProperties>
</file>