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4A33-0C0D-4FA5-8EDD-86D9FAB71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A6AF-4CD8-473E-A636-8EE932BB3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7039-9590-47B4-ADA8-EBF6935D6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27B4-22AA-49D7-B5C6-A3A509A2F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CB2AF-3C09-457F-AF11-A1061D619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0487C-B26F-442D-B34E-3525EA679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DD279-6119-44C1-A031-BF540604E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6261B-FA8C-4529-8C96-FA80BC69B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DA3F1-ABD8-464D-8734-934075801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0D384-0AFC-4F8A-8655-A1B575937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CF9FA-106C-4373-8886-E80AA1455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5904-1805-4D43-92E5-6EC81F949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50521-04B7-4C3D-AE27-E6B92BE77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EF284-1ADD-4AE2-AC8E-F99C1909F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51B48-79A5-4C66-9E5C-66C86D0A7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3A2D9-4D25-437F-BD63-282EDA325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43A70-CC65-4226-937A-B87CED8B3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CF0C5-4D20-4070-BC34-16829AA80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BBE29-977E-4708-A6E2-4CCE6EBEA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B0C97-7C0B-4E16-88B9-94CCED110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B5A5B-8340-4C42-A49C-C8B9AB106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E9B58-E35C-437C-AB79-ACC609786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34F9-C244-4BE6-A9C6-9E55F9CE2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D6BCB-BB1E-47D1-AD95-FD9BE64BE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A262D-9B41-4CF5-8FCB-02419EE36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C5387-DE01-4D49-9075-1A82011D0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678AC-65F7-4051-9B15-8BF15F77B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ED74C-0F57-4D28-9671-EB53AB6F0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984E5-2937-4BFF-85A9-9B677B537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ADEF7-95EB-4191-8257-F0A6EA98D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4A104-3EC5-4F4B-8B0C-790C35D13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2982F-FA2F-4F38-AE3E-AD93C7C5C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D903D-99DD-4128-9FDD-F7FC967A7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EAF1-6899-459F-A074-CAA62168A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65F97-E5C1-470C-BD5B-EF34D5236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C4C13-0B22-42D2-9E61-DAD3DC415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6D296-9DA6-460C-BDDA-D83435094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1EA86-1A0D-4DA3-B0F3-74E072DEB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A3F4C-85D1-4FB9-B259-9B0B10157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AD173-A47D-4968-A550-3E21FD61B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EA8BE-2D94-4D82-A759-BA162436D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AA197-5F39-4E2D-ACEF-AA145A200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8E701-D767-4066-B19E-6AB9B35DC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7740-E042-4D49-A508-04148D1FC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BAD7-592C-49BF-B712-0F9859355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5DB6-AFE1-4C27-958C-97BCCD296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6F7B-5355-4A41-BB3F-3761C96FD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E89D-6AA9-4A6B-90F1-34EC29BEF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0A0A8-B630-4981-8A47-D5A7DBAFB937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6DE1B-DD72-4D39-B693-9142AA4D8543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C73D2-10DB-440B-A291-52D9E8496581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08115-3979-4C82-AB9C-D204CFF92E65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Памятка контроля по выполнению домашних заданий</a:t>
            </a:r>
            <a:br>
              <a:rPr sz="2400"/>
            </a:b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1.    Не сравнивайте его умения с умениями других детей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2.    Не кричите, лучше определите причину отсутствия у ребенка умения выполнять заданное упражнение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3.    Создайте условия для успешного выполнения ребенком домашнего задания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4.    Не пытайтесь выполнить за своего сына или дочь домашнее задание, это сослужит им плохую службу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5.    Поощряйте упорство и проявление характера в достижении цели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6.    Требуйте от своего ребенка внимательного прочтения инструкций по выполнению учебных заданий, формулировки вопросов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7.    Учите его детальному изучению содержания материалов учебника, справочных материалов, правил и инструкций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250920" y="404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196200" indent="-19620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8.    Развивайте его внимание и внимательность при выполнении домашнего задания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196200" indent="-19620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9.    Хвалите ребенка за своевременно и качественно выполненное домашнее задание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196200" indent="-19620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10. Демонстрируйте его достижения перед другими членами семьи, братьями и сестрами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196200" indent="-19620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11. Для того, чтобы облегчить своему ребенку выполнение домашнего задания, покупайте ему энциклопедии, словари и справочные пособия по различным предметам, справочники на информационных носителях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196200" indent="-19620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12. Формируйте привычку доводить начатое дело до конца, даже если придется чем-то жертвовать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196200" indent="-19620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13. Покупайте своему ребенку логические игры, способствующие формированию усидчивости, терпения и ответственности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196200" indent="-19620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14. Не отмахивайтесь от вопросов ребенка. Этим вы усугубляете проблемы, связанные с подготовкой домашних заданий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196200" indent="-196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96200" indent="-196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1T05:22:08Z</dcterms:created>
  <dc:creator>1234</dc:creator>
  <dc:description/>
  <dc:language>en-US</dc:language>
  <cp:lastModifiedBy>Admin</cp:lastModifiedBy>
  <dcterms:modified xsi:type="dcterms:W3CDTF">2013-06-08T21:12:02Z</dcterms:modified>
  <cp:revision>78</cp:revision>
  <dc:subject/>
  <dc:title>На 22 октября</dc:title>
</cp:coreProperties>
</file>