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5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DA0C-D446-4094-9D47-A284C05B5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879D-C601-4F29-A478-464C91FE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ED75-79B3-4E58-B127-C489F3C73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2E37-EAE2-4E0C-96B7-0CF76BFC5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8B93-20A8-4746-AC99-7CABDD535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1E1A-71BA-494C-AAEE-43A3AD3D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BA5D-590D-4035-B017-B9315425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66EA-9259-4D95-A2A7-8D9DB69F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B03D-9A10-4F28-891E-5BD44811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AE43-239B-49FE-8069-41839E3E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D4B5-308D-4116-8A0E-BDD3CEDF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FB81-C15F-4E82-8224-555C032A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CE70-8E0F-476B-A7A8-6CED7B9C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A174-A2BE-4B90-A50D-4350C353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A3D6-8CC1-433B-B6DA-F561FB22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44F9-B7A6-4561-8EC7-6DE7098FD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329F-D774-4BCE-8E5D-90EA8FE75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9926-53EC-4120-A970-5414069A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4925-27AA-4B67-AEBF-B8254EB9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BFD2-59D6-4AD8-8993-1621BEEA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9253-C95A-4BE3-B15B-C836A14E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101B-8202-4027-814B-38A7E857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35B2-C7ED-421B-9DF1-580C7B80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E76E-6A68-4138-8EA2-BB10169A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2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CE48-E3B4-4C9D-90D6-266C436D8F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2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27AC-F3D8-40FD-A354-1D77F0A8F0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ПРАВИЛА ДОРОЖНОЙ БЕЗОПАСНОСТИ</a:t>
            </a:r>
            <a:endParaRPr b="1" lang="en-US" sz="48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787480" y="2421000"/>
            <a:ext cx="3799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Почему дети попадают под машину?</a:t>
            </a: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4360" y="1600200"/>
            <a:ext cx="763272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ЗНАЕТЕ ЛИ ВЫ?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ьше всего дорожных происшествий с детьми происходит в апреле – мае и в сентябре – октябре. В течение суток самое травмоопасное время – вторая половина дн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ьше всего от дорожных происшествий страдают дети от 7 до 14 лет. На их долю приходится более 62% всех происшествий, случившихся с несовершеннолетним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ибольшее число аварий с участием детей и подростков происходит в крупных городах (65%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и категорий участников дорожного движения  наиболее часто попадают в аварию юные пешеходы (52,7%) и юные велосипедисты (7,1%), а  также дети-пассажиры (35,5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ПРАВИЛА ДЛЯ ПЕШЕХОДОВ</a:t>
            </a: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988640"/>
            <a:ext cx="40384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пиши, что происходит на картинк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йди причину аварии, которая произошла или могла бы произой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спомни Правила дорожного движения, которые помогут избежать несчастных случаев в данной ситуац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44654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ОПАСНЫЕ СИТУАЦИИ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 этих двух картинках пока не происходит ничего опасного для людей. Но в любой момент могут возникнуть опасные ситуации. Можете ли вы назвать их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28800" y="1600200"/>
            <a:ext cx="3095640" cy="2189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868320" y="3941640"/>
            <a:ext cx="32148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БУДЬ ОСТОРОЖЕН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НА ДОРОГЕ</a:t>
            </a: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кажи неосторожных людей, которые подвергают себя опас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979640" y="1449360"/>
            <a:ext cx="5400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смотри внимательно на рисунки. На каких из них ребенок может быть сбит машиной потому, что водитель не видит его?</a:t>
            </a:r>
            <a:endParaRPr b="1" lang="en-US" sz="18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1480" y="1643040"/>
            <a:ext cx="4035240" cy="1630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971640" y="3933720"/>
            <a:ext cx="3529080" cy="17607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219640" y="4076640"/>
            <a:ext cx="3309840" cy="17067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5659560" y="1658880"/>
            <a:ext cx="201456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ОПАЗДЫВАЯ В ШКОЛУ…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2953080" cy="2428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508720" y="1628640"/>
            <a:ext cx="2935080" cy="2500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900000" y="4292640"/>
            <a:ext cx="2880000" cy="2341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508720" y="4365720"/>
            <a:ext cx="293508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5"/>
          <p:cNvSpPr txBox="1"/>
          <p:nvPr/>
        </p:nvSpPr>
        <p:spPr>
          <a:xfrm>
            <a:off x="1371600" y="1219320"/>
            <a:ext cx="70102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33"/>
                    </a:gs>
                    <a:gs pos="50000">
                      <a:srgbClr val="ff9999"/>
                    </a:gs>
                    <a:gs pos="100000">
                      <a:srgbClr val="990033"/>
                    </a:gs>
                  </a:gsLst>
                  <a:lin ang="5400000"/>
                </a:gradFill>
                <a:latin typeface="Times New Roman"/>
              </a:rPr>
              <a:t>До свидани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33"/>
                  </a:gs>
                  <a:gs pos="50000">
                    <a:srgbClr val="ff9999"/>
                  </a:gs>
                  <a:gs pos="100000">
                    <a:srgbClr val="990033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33"/>
                    </a:gs>
                    <a:gs pos="50000">
                      <a:srgbClr val="ff9999"/>
                    </a:gs>
                    <a:gs pos="100000">
                      <a:srgbClr val="990033"/>
                    </a:gs>
                  </a:gsLst>
                  <a:lin ang="5400000"/>
                </a:gradFill>
                <a:latin typeface="Times New Roman"/>
              </a:rPr>
              <a:t>Желаем удачи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33"/>
                  </a:gs>
                  <a:gs pos="50000">
                    <a:srgbClr val="ff9999"/>
                  </a:gs>
                  <a:gs pos="100000">
                    <a:srgbClr val="990033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33"/>
                    </a:gs>
                    <a:gs pos="50000">
                      <a:srgbClr val="ff9999"/>
                    </a:gs>
                    <a:gs pos="100000">
                      <a:srgbClr val="990033"/>
                    </a:gs>
                  </a:gsLst>
                  <a:lin ang="5400000"/>
                </a:gradFill>
                <a:latin typeface="Times New Roman"/>
              </a:rPr>
              <a:t>До новой встречи!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33"/>
                  </a:gs>
                  <a:gs pos="50000">
                    <a:srgbClr val="ff9999"/>
                  </a:gs>
                  <a:gs pos="100000">
                    <a:srgbClr val="990033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17240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19:27:37Z</dcterms:created>
  <dc:creator>User</dc:creator>
  <dc:description/>
  <dc:language>en-US</dc:language>
  <cp:lastModifiedBy>User</cp:lastModifiedBy>
  <dcterms:modified xsi:type="dcterms:W3CDTF">2008-09-13T05:55:05Z</dcterms:modified>
  <cp:revision>4</cp:revision>
  <dc:subject/>
  <dc:title>ПРАВИЛА ДОРОЖНОЙ БЕЗОПАСНОСТИ</dc:title>
</cp:coreProperties>
</file>