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A07-4A1F-4E5F-B54A-1340D6B2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217-1728-4211-9C64-064E1D20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4B0-5B78-4E6E-9855-E74920F3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7CF-7A2A-41F8-8086-D486979B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63F8-D33B-4BCD-9124-6F504A82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7517-5F3A-40B0-B61F-CF1CB723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CBF1-0488-449E-9FB4-EBE8AF78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A455-D8FD-4B8D-8FFE-5FEBC870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E76D-E885-419E-A1B1-514CDB0E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B03D-0E80-477A-8D16-CC36D670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D768-3464-4632-B374-CC9FBCC2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DEB-A5FA-430F-BBEF-2B11A51D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6D5C-5810-4666-B790-62C2D5EE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C021-525B-45DF-9D72-64130E1C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57FB-347A-4D96-8B56-54EF1006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EF2C-A5FE-4F8C-9075-D0C6A717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0CC5-4590-49B6-84DC-77101D36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6A1-2C28-459F-BAD8-911C6121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201-93D1-4D01-98E9-0EF538AA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E84-714C-440F-A5E9-30C784FC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53C-DE36-4422-B96F-5130D44D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6A3-6211-491E-BAA8-8F97214C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9F5-57BF-46DF-9253-C8B3B8CB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260-F4F0-432B-A544-871B16C4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C63F-9591-4EF1-AE12-33312784E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5255-9FE0-40B4-9957-D50FE478A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ПРАВИЛА ДОРОЖНОЙ БЕЗОПАСНОСТИ</a:t>
            </a:r>
            <a:endParaRPr b="1" lang="en-US" sz="4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87480" y="2421000"/>
            <a:ext cx="3799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очему дети попадают под машину?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763272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НАЕТЕ ЛИ ВЫ?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всего дорожных происшествий с детьми происходит в апреле – мае и в сентябре – октябре. В течение суток самое травмоопасное время – вторая половина дн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всего от дорожных происшествий страдают дети от 7 до 14 лет. На их долю приходится более 62% всех происшествий, случившихся с несовершеннолетни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ьшее число аварий с участием детей и подростков происходит в крупных городах (65%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категорий участников дорожного движения  наиболее часто попадают в аварию юные пешеходы (52,7%) и юные велосипедисты (7,1%), а  также дети-пассажиры (35,5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ДЛЯ ПЕШЕХОДОВ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86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иши, что происходит на картин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йди причину аварии, которая произошла или могла бы произой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помни Правила дорожного движения, которые помогут избежать несчастных случаев в данной ситу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465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ОПАСНЫЕ СИТУАЦИИ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этих двух картинках пока не происходит ничего опасного для людей. Но в любой момент могут возникнуть опасные ситуации. Можете ли вы назвать и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28800" y="160020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68320" y="3941640"/>
            <a:ext cx="32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БУДЬ ОСТОРОЖЕН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НА ДОРОГЕ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кажи неосторожных людей, которые подвергают себя опас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79640" y="1449360"/>
            <a:ext cx="5400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смотри внимательно на рисунки. На каких из них ребенок может быть сбит машиной потому, что водитель не видит его?</a:t>
            </a:r>
            <a:endParaRPr b="1" lang="en-US" sz="1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1480" y="1643040"/>
            <a:ext cx="4035240" cy="163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3529080" cy="176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19640" y="4076640"/>
            <a:ext cx="3309840" cy="1706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659560" y="1658880"/>
            <a:ext cx="20145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ОПАЗДЫВАЯ В ШКОЛУ…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953080" cy="2428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508720" y="1628640"/>
            <a:ext cx="2935080" cy="2500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2880000" cy="234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508720" y="4365720"/>
            <a:ext cx="29350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5"/>
          <p:cNvSpPr txBox="1"/>
          <p:nvPr/>
        </p:nvSpPr>
        <p:spPr>
          <a:xfrm>
            <a:off x="1371600" y="1219320"/>
            <a:ext cx="70102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9999"/>
                    </a:gs>
                    <a:gs pos="100000">
                      <a:srgbClr val="990033"/>
                    </a:gs>
                  </a:gsLst>
                  <a:lin ang="5400000"/>
                </a:gradFill>
                <a:latin typeface="Times New Roman"/>
              </a:rPr>
              <a:t>До свида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9999"/>
                  </a:gs>
                  <a:gs pos="100000">
                    <a:srgbClr val="990033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9999"/>
                    </a:gs>
                    <a:gs pos="100000">
                      <a:srgbClr val="990033"/>
                    </a:gs>
                  </a:gsLst>
                  <a:lin ang="5400000"/>
                </a:gradFill>
                <a:latin typeface="Times New Roman"/>
              </a:rPr>
              <a:t>Желаем удач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9999"/>
                  </a:gs>
                  <a:gs pos="100000">
                    <a:srgbClr val="990033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9999"/>
                    </a:gs>
                    <a:gs pos="100000">
                      <a:srgbClr val="990033"/>
                    </a:gs>
                  </a:gsLst>
                  <a:lin ang="5400000"/>
                </a:gradFill>
                <a:latin typeface="Times New Roman"/>
              </a:rPr>
              <a:t>До новой встречи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9999"/>
                  </a:gs>
                  <a:gs pos="100000">
                    <a:srgbClr val="990033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724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9:27:37Z</dcterms:created>
  <dc:creator>User</dc:creator>
  <dc:description/>
  <dc:language>en-US</dc:language>
  <cp:lastModifiedBy>User</cp:lastModifiedBy>
  <dcterms:modified xsi:type="dcterms:W3CDTF">2008-09-13T05:55:05Z</dcterms:modified>
  <cp:revision>4</cp:revision>
  <dc:subject/>
  <dc:title>ПРАВИЛА ДОРОЖНОЙ БЕЗОПАСНОСТИ</dc:title>
</cp:coreProperties>
</file>