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04F75-E13B-4687-B2DF-2D891F2252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14D1B-3BE7-4A5E-816C-6CFC1AD5AC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4E657-02F5-4679-A2A4-8CB944CB04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48CA6-537B-4E63-8B07-A69AD7E5E4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8A133-06A2-4668-911D-F11E39806F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22165-92CB-421E-84E3-152C04B8A5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Сказка-рукавичка»</a:t>
            </a:r>
            <a:br>
              <a:rPr sz="4400"/>
            </a:br>
            <a:r>
              <a:rPr b="1" lang="ru-RU" sz="2000" spc="-1" strike="noStrike">
                <a:solidFill>
                  <a:srgbClr val="c00000"/>
                </a:solidFill>
                <a:latin typeface="Monotype Corsiva"/>
              </a:rPr>
              <a:t>Исследовательская раб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457200" y="274680"/>
            <a:ext cx="822816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Цель: создать изделия для детского  кукольного театра, изучив технику выполнения лоскутной апплик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411120" y="1595520"/>
            <a:ext cx="822816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-  Выявить отличия лоскут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ехники от тексти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коллаж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-  Определить способ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зготовления изделия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различных предмет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быта и одеж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-  Разработать метод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зготовления издел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-  Определить зна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лоскутной техники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-  Применить техн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ыполнения лоскут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ппликации на издел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500720" y="1979640"/>
            <a:ext cx="4319280" cy="4325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457200" y="274680"/>
            <a:ext cx="82281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Гипот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179280" y="720720"/>
            <a:ext cx="8506080" cy="54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еатральные представления в дошко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учреждениях в условиях сельских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будет успешным и интересным, если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на уроках изобразительного искусств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ехнологии разрабатываются издел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зготовленные обучающими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Еще древние народы часто использов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ппликации в качестве украшений в сво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домах. Казахи украшали ими войлочные ков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юрты, татары – мягкие кожаные сапог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конские седла, народы Севера на кожа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дежду нашивали узоры из меха, рус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широко использовали аппликацию на тк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 сегодня встречаются художники- любите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которые  без разметки из сложенного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несколько раз листа вырезают удивите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о красоте узоры, сюжеты со слож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компози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5400720" y="539640"/>
            <a:ext cx="3543120" cy="5729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0" y="615960"/>
            <a:ext cx="8299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Удивительное рукоделие – лоскут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ехника- своими конями уходит глубоко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древность. Толчком для ее созд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ослужили обыкновенные заплаты, котор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тавились на еще крепкие, но слег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отертые вещи. Заплаты им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разнообразные формы и расцветки.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навещало мастериц на мысль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озможности создания изделий из лоскут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35000" y="3070080"/>
            <a:ext cx="832644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Лоскутная техника очень прос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оэтому доступна каждому. Для эт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занятия не нужны какие- то особ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материалы, а лишь лоскутки  и нит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которые можно найти в любом до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 самые обычные инструменты: ножниц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 иголка. Вооружившись фантаз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 желанием создать что – либо нов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можно почувствовать себя творц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пособным создать исти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рукотворную вещь. Свое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лоскутные многоцветные вещ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еображают дом, придают уют и тепло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040360" y="569880"/>
            <a:ext cx="3940200" cy="5908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214200" y="285840"/>
            <a:ext cx="908532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Аппликации являются самыми  распространенными видами  декоративно – прикладных работ с бумагой, тканью. Их разделяют на плоские или простые и объем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79280" y="1595520"/>
            <a:ext cx="822816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Аппликации выполняются путем вырез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деталей из бумаги, ткани и  нашивания 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наклеивания их на основание.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изготовления любого изделия из тк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существует определен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последовательность действи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- определиться с основной идеей будущ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изделия и выполнить эскиз аппл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-    подготовить все материалы котор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могут понадобиться при изготов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изде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- вырезать нужные детали или развер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издел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-разложить детали на эскизы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пришить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-высушить апплик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5400720" y="1260360"/>
            <a:ext cx="3579840" cy="5337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357120" y="857160"/>
            <a:ext cx="83282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амым  популярным и увлекательным направлением в дошкольном воспитании является театральная деятельность. Участвуя в театральных играх, дети становятся участниками событий из жизни людей, животных, растений, что дает им возможность глубже познать окружающий ми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11040" y="2243160"/>
            <a:ext cx="832824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казка- это  особый мир фантаз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и реальности. Уходя кор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глубокую древность, сказ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образной формирует жизнен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уклад народа, раскрывает 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затаенные чувства, мечты и ча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ир сказки- это мир счаст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где нет жестокости, ни завист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где добро всегда торжеств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ад з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680000" y="2340000"/>
            <a:ext cx="4319640" cy="3959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еник</cp:lastModifiedBy>
  <dcterms:modified xsi:type="dcterms:W3CDTF">2017-04-03T03:52:27Z</dcterms:modified>
  <cp:revision>3</cp:revision>
  <dc:subject/>
  <dc:title>Слайд 1</dc:title>
</cp:coreProperties>
</file>