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4661D-CD30-425F-AFF3-1760E9A4B2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527AF-6700-48E9-BECC-A4C6F4923E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03C3E-50EE-44FA-8D4F-95E1364435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0910C-726D-45CB-963D-E981E1C6C6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D469F-401C-4C53-93A3-0516EFA498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18DDF-FF1D-4EDC-87A1-7EE9EBB025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«Сказка-рукавичка»</a:t>
            </a:r>
            <a:br>
              <a:rPr sz="4400"/>
            </a:br>
            <a:r>
              <a:rPr b="1" lang="ru-RU" sz="2000" spc="-1" strike="noStrike">
                <a:solidFill>
                  <a:srgbClr val="c00000"/>
                </a:solidFill>
                <a:latin typeface="Monotype Corsiva"/>
              </a:rPr>
              <a:t>Исследовательская рабо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457200" y="274680"/>
            <a:ext cx="822816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Monotype Corsiva"/>
              </a:rPr>
              <a:t>Цель: создать изделия для детского  кукольного театра, изучив технику выполнения лоскутной апплик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411120" y="1595520"/>
            <a:ext cx="822816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Задач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-  Выявить отличия лоскут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техники от тексти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коллаж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-  Определить способ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изготовления изделия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различных предмет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быта и одеж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-  Разработать методи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изготовления издел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-  Определить зна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лоскутной техники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-  Применить техни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выполнения лоскут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аппликации на издел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4500720" y="1979640"/>
            <a:ext cx="4319280" cy="43257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457200" y="274680"/>
            <a:ext cx="822816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Гипот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179280" y="720720"/>
            <a:ext cx="8506080" cy="54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Театральные представления в дошко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учреждениях в условиях сельских посе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будет успешным и интересным, если в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на уроках изобразительного искусства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технологии разрабатываются издел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изготовленные обучающими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Еще древние народы часто использов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аппликации в качестве украшений в сво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домах. Казахи украшали ими войлочные ков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юрты, татары – мягкие кожаные сапог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конские седла, народы Севера на кожа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одежду нашивали узоры из меха, рус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широко использовали аппликацию на тка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И сегодня встречаются художники- любител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которые  без разметки из сложенного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несколько раз листа вырезают удивите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о красоте узоры, сюжеты со слож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композиц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5400720" y="539640"/>
            <a:ext cx="3543120" cy="57294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0" y="615960"/>
            <a:ext cx="8299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Удивительное рукоделие – лоскут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техника- своими конями уходит глубоко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древность. Толчком для ее созд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ослужили обыкновенные заплаты, котор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ставились на еще крепкие, но слег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отертые вещи. Заплаты име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разнообразные формы и расцветки. 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навещало мастериц на мысль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возможности создания изделий из лоскут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135000" y="3070080"/>
            <a:ext cx="8326440" cy="32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Лоскутная техника очень прос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оэтому доступна каждому. Для эт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занятия не нужны какие- то особе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материалы, а лишь лоскутки  и нит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которые можно найти в любом дом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И самые обычные инструменты: ножниц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и иголка. Вооружившись фантази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и желанием создать что – либо нов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можно почувствовать себя творц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способным создать истин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рукотворную вещь. Свое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лоскутные многоцветные вещ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реображают дом, придают уют и тепло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5040360" y="569880"/>
            <a:ext cx="3940200" cy="5908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214200" y="285840"/>
            <a:ext cx="908532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Аппликации являются самыми  распространенными видами  декоративно – прикладных работ с бумагой, тканью. Их разделяют на плоские или простые и объемны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179280" y="1595520"/>
            <a:ext cx="822816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Monotype Corsiva"/>
              </a:rPr>
              <a:t>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Аппликации выполняются путем вырез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деталей из бумаги, ткани и  нашивания 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наклеивания их на основание.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изготовления любого изделия из тк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существует определен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последовательность действи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- определиться с основной идеей будущ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изделия и выполнить эскиз аппл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-    подготовить все материалы котор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могут понадобиться при изготовл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изде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- вырезать нужные детали или развер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издел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-разложить детали на эскизы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пришить 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-высушить апплика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5400720" y="1260360"/>
            <a:ext cx="3579840" cy="53373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357120" y="857160"/>
            <a:ext cx="832824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амым  популярным и увлекательным направлением в дошкольном воспитании является театральная деятельность. Участвуя в театральных играх, дети становятся участниками событий из жизни людей, животных, растений, что дает им возможность глубже познать окружающий ми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11040" y="2243160"/>
            <a:ext cx="832824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казка- это  особый мир фантаз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и реальности. Уходя корн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 глубокую древность, сказ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 образной формирует жизнен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уклад народа, раскрывает 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затаенные чувства, мечты и чая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Мир сказки- это мир счасть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где нет жестокости, ни зависти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где добро всегда торжеств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ад з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4680000" y="2340000"/>
            <a:ext cx="4319640" cy="39592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еник</cp:lastModifiedBy>
  <dcterms:modified xsi:type="dcterms:W3CDTF">2017-04-03T03:52:27Z</dcterms:modified>
  <cp:revision>3</cp:revision>
  <dc:subject/>
  <dc:title>Слайд 1</dc:title>
</cp:coreProperties>
</file>