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3465-E587-4C7B-973F-B516E2579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5ADB-DE65-4A65-B757-89047EAC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AD7F-05A2-47AF-B47D-608DCE735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3976-B9D3-4667-8379-F388BDC45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E245-B8B5-41DE-9BA7-185DE57A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D31C-44A8-409E-99F3-AEB2E503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AF97-8DD8-45BE-85F0-0B1EDFBB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4657-4213-4973-BFAD-DB12958C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C70E-E3A3-470F-84F1-CA4276F2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3217-6364-47BC-9EAD-E9AF2771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318C-9A60-4C34-AC14-D781252E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CB5B-8336-4044-A380-54FDCFB2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687D-9A54-4A9E-A448-9BB17147E1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титул 1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850752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b9b9"/>
                </a:solidFill>
                <a:latin typeface="Times New Roman"/>
                <a:ea typeface="Times New Roman"/>
              </a:rPr>
              <a:t>Акция «Чистый лес»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48320" y="3647880"/>
            <a:ext cx="4038480" cy="24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уководитель школьного лесничества   Бадина Наталья Владимировна, учитель химии и биологии    МБОУ Сосновской СОШ №1 филиал в д. Зареч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унова Алёна, ученица 9 класса написала стихотворение: «Наша планета – это наш дом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ша планета – это наш д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 чудес и загадок есть в н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ть водопады, моря, океа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ть континенты, заливы и стра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ы, озера, прекрасные ре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 чудес на нашей план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лишь одно человек должен зна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м этот нужно оберег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са не рубить и воду береч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стры в неположенном месте не жеч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сорить меньше, деревья саж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тиц и зверей не обижа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1019160"/>
            <a:ext cx="9537840" cy="45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SOS» - спасите наши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а всем кричит дав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ыть глаза, заткнуть бы 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ыжить – так не сужде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бить тревогу в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у что все в отве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м в новом веке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ироду сохран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D:\Бадина\фото\Нат Анат\IMG_123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0" y="2340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4f400"/>
                </a:solidFill>
                <a:latin typeface="Times New Roman"/>
                <a:ea typeface="Times New Roman"/>
              </a:rPr>
              <a:t>«SOS» - спасите наши душ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4f400"/>
                </a:solidFill>
                <a:latin typeface="Times New Roman"/>
                <a:ea typeface="Times New Roman"/>
              </a:rPr>
              <a:t>Природа всем кричит давн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4f400"/>
                </a:solidFill>
                <a:latin typeface="Times New Roman"/>
                <a:ea typeface="Times New Roman"/>
              </a:rPr>
              <a:t>Закрыть глаза, заткнуть бы уш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4f400"/>
                </a:solidFill>
                <a:latin typeface="Times New Roman"/>
                <a:ea typeface="Times New Roman"/>
              </a:rPr>
              <a:t>И выжить – так не сужден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4f400"/>
                </a:solidFill>
                <a:latin typeface="Times New Roman"/>
                <a:ea typeface="Times New Roman"/>
              </a:rPr>
              <a:t>Будем бить тревогу вмес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4f400"/>
                </a:solidFill>
                <a:latin typeface="Times New Roman"/>
                <a:ea typeface="Times New Roman"/>
              </a:rPr>
              <a:t>Потому что все в ответ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4f400"/>
                </a:solidFill>
                <a:latin typeface="Times New Roman"/>
                <a:ea typeface="Times New Roman"/>
              </a:rPr>
              <a:t>Как нам в новом веке жит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4f400"/>
                </a:solidFill>
                <a:latin typeface="Times New Roman"/>
                <a:ea typeface="Times New Roman"/>
              </a:rPr>
              <a:t>Как природу сохранит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1116000" y="2133720"/>
            <a:ext cx="640872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Лес — наше богатств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Береги ег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F:\школьное лесничество\чистый лес\DSC07934.JPG"/>
          <p:cNvPicPr/>
          <p:nvPr/>
        </p:nvPicPr>
        <p:blipFill>
          <a:blip r:embed="rId1"/>
          <a:stretch/>
        </p:blipFill>
        <p:spPr>
          <a:xfrm>
            <a:off x="0" y="0"/>
            <a:ext cx="93996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4"/>
          <p:cNvSpPr/>
          <p:nvPr/>
        </p:nvSpPr>
        <p:spPr>
          <a:xfrm>
            <a:off x="811080" y="1238400"/>
            <a:ext cx="73756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до мусорить в лесу!  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до мусорить в лесу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ы портя всю красу, 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ы мы срочно прекращать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а в помойку превращать!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есу играйте и гуляйте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мусор там не оставляйте –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лес чист, красив, опрятен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отдых в нём вдвойне приятен!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Цели проведения акции «Чистый лес»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логическое воспит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ние любви и бережного отношения к родной природе, уважение   к профессии лесов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лубление знаний подростков в области лесного хозяй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ессиональная ориентация, подготовка будущих кадров лесного хозяй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ать важнейшую роль леса в жизни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еть основные причины и последствия сокращения ле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влечь внимание молодежи к проблеме лесопользования в нашей дерев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нравственных и эстетических чувств через любовь к родной дерев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ь видеть прекрасное вокруг себя, удивляться и восхищаться красотой при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ктуальность акции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хранение лесных богатств  и восстановление растительного мира на территории деревни Заречь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ультате акции очищен от мусора 1 га. л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 экологический праздник в школе- «Лес – наше богатств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ован конкурс поделок из природного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о анкетирование среди учащихся по проблеме охраны окружающей среды и лесной террит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щимися выпущены буклеты на тему: «Людям чистоту- лесу красоту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Объект 2" descr=""/>
          <p:cNvPicPr/>
          <p:nvPr/>
        </p:nvPicPr>
        <p:blipFill>
          <a:blip r:embed="rId1"/>
          <a:stretch/>
        </p:blipFill>
        <p:spPr>
          <a:xfrm>
            <a:off x="0" y="120600"/>
            <a:ext cx="9144000" cy="6737400"/>
          </a:xfrm>
          <a:prstGeom prst="rect">
            <a:avLst/>
          </a:prstGeom>
          <a:ln w="0">
            <a:noFill/>
          </a:ln>
        </p:spPr>
      </p:pic>
      <p:pic>
        <p:nvPicPr>
          <p:cNvPr id="58" name="Объект 2" descr=""/>
          <p:cNvPicPr/>
          <p:nvPr/>
        </p:nvPicPr>
        <p:blipFill>
          <a:blip r:embed="rId2"/>
          <a:stretch/>
        </p:blipFill>
        <p:spPr>
          <a:xfrm>
            <a:off x="152280" y="272880"/>
            <a:ext cx="9144000" cy="67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курс поделок из природного материа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Содержимое 3" descr="F:\школьное лесничество\чистый лес\день леса\IMG_4176.JPG"/>
          <p:cNvPicPr/>
          <p:nvPr/>
        </p:nvPicPr>
        <p:blipFill>
          <a:blip r:embed="rId1"/>
          <a:stretch/>
        </p:blipFill>
        <p:spPr>
          <a:xfrm>
            <a:off x="0" y="1635120"/>
            <a:ext cx="9144000" cy="52228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F:\школьное лесничество\чистый лес\день леса\IMG_4168.JPG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F:\школьное лесничество\чистый лес\день леса\IMG_4167.JPG"/>
          <p:cNvPicPr/>
          <p:nvPr/>
        </p:nvPicPr>
        <p:blipFill>
          <a:blip r:embed="rId3"/>
          <a:stretch/>
        </p:blipFill>
        <p:spPr>
          <a:xfrm>
            <a:off x="0" y="1603440"/>
            <a:ext cx="9144000" cy="5254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F:\школьное лесничество\чистый лес\день леса\IMG_4185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8:48:51Z</dcterms:created>
  <dc:creator>User</dc:creator>
  <dc:description/>
  <dc:language>en-US</dc:language>
  <cp:lastModifiedBy>Елена</cp:lastModifiedBy>
  <dcterms:modified xsi:type="dcterms:W3CDTF">2017-05-12T07:50:25Z</dcterms:modified>
  <cp:revision>109</cp:revision>
  <dc:subject/>
  <dc:title>Леса России                      4 класс</dc:title>
</cp:coreProperties>
</file>