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531-D34F-4980-923C-7DE80C38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D35-70B7-4C04-84F3-048A2B7E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488-4E3D-4653-A31D-6E015CDE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01B-56DA-4944-9CA0-EF7EB772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1F7-FAF0-40E2-9B6E-31D9E91B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9CB-2E6B-4BD9-9B3F-485B043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D5D-7FC0-4E0E-923E-CFAB279A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7C5-EBCF-488C-A683-DBFB8D47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1A4-6887-425C-98FE-4AD53DD4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5FA-054E-4322-8301-2D62412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FD5-28D2-4D4F-A822-53B7B7D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6F1-FEF5-4248-8E08-A6ABCBA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F99-F5FF-4ABA-B220-7BDD2E1AD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титул 1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5075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b9b9"/>
                </a:solidFill>
                <a:latin typeface="Times New Roman"/>
                <a:ea typeface="Times New Roman"/>
              </a:rPr>
              <a:t>Акция «Чистый лес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3647880"/>
            <a:ext cx="403848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уководитель школьного лесничества   Бадина Наталья Владимировна, учитель химии и биологии    МБОУ Сосновской СОШ №1 филиал в д. Зареч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нова Алёна, ученица 9 класса написала стихотворение: «Наша планета – это наш д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планета – это наш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чудес и загадок есть в 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водопады, моря, оке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онтиненты, заливы и стр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ы, озера, прекрасные ре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чудес на нашей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лишь одно человек должен 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 этот нужно оберег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са не рубить и воду береч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ры в неположенном месте не жеч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сорить меньше, деревья са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иц и зверей не обиж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019160"/>
            <a:ext cx="953784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SOS» - спасите наши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всем кричит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ь глаза, заткнуть бы 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жить – так не сужде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бить тревогу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все в от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м в новом веке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роду сохран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:\Бадина\фото\Нат Анат\IMG_12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23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«SOS» - спасите наши душ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Природа всем кричит да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Закрыть глаза, заткнуть бы уш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И выжить – так не сужде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Будем бить тревогу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Потому что все в отв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Как нам в новом веке ж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f400"/>
                </a:solidFill>
                <a:latin typeface="Times New Roman"/>
                <a:ea typeface="Times New Roman"/>
              </a:rPr>
              <a:t>Как природу сохран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116000" y="2133720"/>
            <a:ext cx="6408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Лес — наше богатст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Береги е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F:\школьное лесничество\чистый лес\DSC07934.JPG"/>
          <p:cNvPicPr/>
          <p:nvPr/>
        </p:nvPicPr>
        <p:blipFill>
          <a:blip r:embed="rId1"/>
          <a:stretch/>
        </p:blipFill>
        <p:spPr>
          <a:xfrm>
            <a:off x="0" y="0"/>
            <a:ext cx="9399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811080" y="1238400"/>
            <a:ext cx="7375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мусорить в лесу! 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мусорить в лесу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ы портя всю красу,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мы срочно прекраща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в помойку превращать!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играйте и гуляйт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усор там не оставляйте –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лес чист, красив, опрятен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тдых в нём вдвойне приятен!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Цели проведения акции «Чистый лес»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ое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любви и бережного отношения к родной природе, уважение   к профессии лесо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убление знаний подростков в области лесного хозя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ориентация, подготовка будущих кадров лесного хозя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важнейшую роль леса в жизн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новные причины и последствия сокращения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ь внимание молодежи к проблеме лесопользования в нашей дере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равственных и эстетических чувств через любовь к родной дере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видеть прекрасное вокруг себя, удивляться и восхищаться красот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 акц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хранение лесных богатств  и восстановление растительного мира на территории деревни Заречь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акции очищен от мусора 1 га.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 экологический праздник в школе- «Лес – наше богат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н конкурс поделок из природ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о анкетирование среди учащихся по проблеме охраны окружающей среды и лесн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мися выпущены буклеты на тему: «Людям чистоту- лесу красот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2" descr=""/>
          <p:cNvPicPr/>
          <p:nvPr/>
        </p:nvPicPr>
        <p:blipFill>
          <a:blip r:embed="rId2"/>
          <a:stretch/>
        </p:blipFill>
        <p:spPr>
          <a:xfrm>
            <a:off x="152280" y="272880"/>
            <a:ext cx="9144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курс поделок из природного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F:\школьное лесничество\чистый лес\день леса\IMG_4176.JPG"/>
          <p:cNvPicPr/>
          <p:nvPr/>
        </p:nvPicPr>
        <p:blipFill>
          <a:blip r:embed="rId1"/>
          <a:stretch/>
        </p:blipFill>
        <p:spPr>
          <a:xfrm>
            <a:off x="0" y="1635120"/>
            <a:ext cx="9144000" cy="5222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F:\школьное лесничество\чистый лес\день леса\IMG_4168.JPG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:\школьное лесничество\чистый лес\день леса\IMG_4167.JPG"/>
          <p:cNvPicPr/>
          <p:nvPr/>
        </p:nvPicPr>
        <p:blipFill>
          <a:blip r:embed="rId3"/>
          <a:stretch/>
        </p:blipFill>
        <p:spPr>
          <a:xfrm>
            <a:off x="0" y="1603440"/>
            <a:ext cx="9144000" cy="525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школьное лесничество\чистый лес\день леса\IMG_418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48:51Z</dcterms:created>
  <dc:creator>User</dc:creator>
  <dc:description/>
  <dc:language>en-US</dc:language>
  <cp:lastModifiedBy>Елена</cp:lastModifiedBy>
  <dcterms:modified xsi:type="dcterms:W3CDTF">2017-05-12T07:50:25Z</dcterms:modified>
  <cp:revision>109</cp:revision>
  <dc:subject/>
  <dc:title>Леса России                      4 класс</dc:title>
</cp:coreProperties>
</file>