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95F-CB09-439F-9E0B-2C99C4BF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C3A-8A4B-44C9-B8AA-1FAC82C5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805-1690-4653-9F20-1AD85983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6F3-31A8-4CAA-BE18-89EC78C4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CBD3-C7F1-4DED-9E73-ABD53998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DB18-E0C6-4C03-8CFC-467D4DFF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73ED-7CB1-451D-8393-C538C09D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E5A8-9D0F-40CE-A7D0-31569287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33F2-C6D6-4402-85A2-98898125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099A-4CCE-4F8F-948C-FF583815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DC87-8E2A-4B78-9801-269682A4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D6A-2627-46BD-9A47-C053F4DB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CEE7-25C8-496E-9049-A3B1C1B2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0241-25ED-4DFE-9BDF-F8C693FA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41D2-42E6-485E-B201-4F2601F6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D994-7ADE-48BB-82EA-31DF1C47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D92E-8B39-4BC7-A2B5-D45BEDB7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C903B-CD6D-4314-8A05-3FDE51D7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D104C-396A-4E50-951B-F356DBE6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682F9-9C9B-42B1-9716-226E0A97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40903-913D-4A24-8809-C3111A10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E2F63-A6A4-48C8-B822-62A8156E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BB8-7A61-4A7E-9BAC-01227152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BF471-3062-424C-8BA9-4E4C8D11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F804C-0FF6-418D-A7DD-12DB7D9B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A8CDB-6006-4683-8A47-2A576D28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DE516-65DB-4AA8-B86E-4E44DD99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DE2A2-6076-4726-8E31-E376EF65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17DF3-5E83-4FA0-9E6A-6F69C818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44356-1CD3-43D7-A7CD-D4E82D0A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166C-1917-44FD-B755-DB97236B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2D05-A05D-4E5E-AB24-167FF3AA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2B3F0-93F4-49D0-991B-6CFB3A4A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D5B-807E-4B3E-A977-AAFDF668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9C4A-7F08-408F-AE38-8FAA5CC9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A80B2-3665-41D1-AD16-FAE87B2D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60B50-E3FE-4A74-88FB-C3D06A40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F4C1-AB73-4833-91B2-32E320DB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0F341-8A50-4F4B-852C-A78E0A75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830B-CA22-4FD6-BEF5-13749D3B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65DF-3026-4F57-BBDC-8E18FBF3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94998-370E-449D-826F-1BF19590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4D10-C6DD-406A-9507-54ACA58B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B07-2534-4233-90E7-3139C818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1FF-4B61-4FF4-986D-75E196C8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FA3-435F-4934-A202-F5E3F213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B68-CCA1-4F0D-9D63-50F7858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98F-737C-4756-AF71-DD5F4AA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4dd"/>
            </a:gs>
            <a:gs pos="100000">
              <a:srgbClr val="9582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a34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3d6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B160-648D-4347-8E8F-CBD12B1D394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4dd"/>
            </a:gs>
            <a:gs pos="100000">
              <a:srgbClr val="9582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a34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3d6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3d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3B4E-B75F-4C96-AA36-935C8A5BCA97}" type="slidenum">
              <a:rPr b="0" lang="ru-RU" sz="1200" spc="-1" strike="noStrike">
                <a:solidFill>
                  <a:srgbClr val="b83d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4dd"/>
            </a:gs>
            <a:gs pos="100000">
              <a:srgbClr val="9582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a34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3d6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E18C-0B6C-4916-B682-17AD2545864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4dd"/>
            </a:gs>
            <a:gs pos="100000">
              <a:srgbClr val="9582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a34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591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3d6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450D-ADED-4536-8D81-52F8DD96C8E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2556000" y="4292640"/>
            <a:ext cx="648000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entury Gothic"/>
              </a:rPr>
              <a:t>Проект выполнили студенты  2 курса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entury Gothic"/>
              </a:rPr>
              <a:t>Дронов Александр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entury Gothic"/>
              </a:rPr>
              <a:t>Федосов Алексей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entury Gothic"/>
              </a:rPr>
              <a:t>Абрамов Максим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entury Gothic"/>
              </a:rPr>
              <a:t>Преподаватель- Логачёва Е.С.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6" name="Подзаголовок 2"/>
          <p:cNvSpPr/>
          <p:nvPr/>
        </p:nvSpPr>
        <p:spPr>
          <a:xfrm>
            <a:off x="1501920" y="573120"/>
            <a:ext cx="6400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entury Gothic"/>
              </a:rPr>
              <a:t>Исследователь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Теория вероятности в домино</a:t>
            </a:r>
            <a:endParaRPr b="0" lang="en-US" sz="3200" spc="-1" strike="noStrike">
              <a:solidFill>
                <a:srgbClr val="b83d68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5280" y="-69840"/>
            <a:ext cx="7311960" cy="21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entury Gothic"/>
              </a:rPr>
              <a:t>З</a:t>
            </a:r>
            <a:r>
              <a:rPr b="0" lang="ru-RU" sz="2400" spc="-1" strike="noStrike">
                <a:solidFill>
                  <a:srgbClr val="538022"/>
                </a:solidFill>
                <a:latin typeface="Century Gothic"/>
              </a:rPr>
              <a:t>адача 3</a:t>
            </a:r>
            <a:r>
              <a:rPr b="0" lang="en-US" sz="2400" spc="-1" strike="noStrike">
                <a:solidFill>
                  <a:srgbClr val="538022"/>
                </a:solidFill>
                <a:latin typeface="Century Gothic"/>
              </a:rPr>
              <a:t>:</a:t>
            </a:r>
            <a:r>
              <a:rPr b="0" lang="ru-RU" sz="2400" spc="-1" strike="noStrike">
                <a:solidFill>
                  <a:srgbClr val="538022"/>
                </a:solidFill>
                <a:latin typeface="Century Gothic"/>
              </a:rPr>
              <a:t>Из полного набора домино берут 4 шт.</a:t>
            </a:r>
            <a:r>
              <a:rPr b="0" lang="en-US" sz="2400" spc="-1" strike="noStrike">
                <a:solidFill>
                  <a:srgbClr val="538022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38022"/>
                </a:solidFill>
                <a:latin typeface="Century Gothic"/>
              </a:rPr>
              <a:t>Найти</a:t>
            </a:r>
            <a:r>
              <a:rPr b="0" lang="en-US" sz="2400" spc="-1" strike="noStrike">
                <a:solidFill>
                  <a:srgbClr val="538022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38022"/>
                </a:solidFill>
                <a:latin typeface="Century Gothic"/>
              </a:rPr>
              <a:t> вероятность,</a:t>
            </a:r>
            <a:r>
              <a:rPr b="0" lang="en-US" sz="2400" spc="-1" strike="noStrike">
                <a:solidFill>
                  <a:srgbClr val="538022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38022"/>
                </a:solidFill>
                <a:latin typeface="Century Gothic"/>
              </a:rPr>
              <a:t>что среди них будет одна тройка</a:t>
            </a:r>
            <a:r>
              <a:rPr b="0" lang="en-US" sz="2400" spc="-1" strike="noStrike">
                <a:solidFill>
                  <a:srgbClr val="538022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81" name="Заголовок 1"/>
          <p:cNvSpPr/>
          <p:nvPr/>
        </p:nvSpPr>
        <p:spPr>
          <a:xfrm>
            <a:off x="781200" y="4476600"/>
            <a:ext cx="74563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твет : 0,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 rot="1037400">
            <a:off x="802800" y="1680840"/>
            <a:ext cx="77742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Спасибо за  внимание!</a:t>
            </a:r>
            <a:r>
              <a:rPr b="1" lang="ru-RU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b13f9a"/>
              </a:solidFill>
              <a:latin typeface="Century Gothic"/>
            </a:endParaRPr>
          </a:p>
        </p:txBody>
      </p:sp>
      <p:pic>
        <p:nvPicPr>
          <p:cNvPr id="383" name="Picture 2" descr="C:\Documents and Settings\Настёнка\Рабочий стол\dominos_468x472.jpg"/>
          <p:cNvPicPr/>
          <p:nvPr/>
        </p:nvPicPr>
        <p:blipFill>
          <a:blip r:embed="rId1"/>
          <a:stretch/>
        </p:blipFill>
        <p:spPr>
          <a:xfrm>
            <a:off x="684360" y="2349360"/>
            <a:ext cx="3736800" cy="3768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1008000" y="1557360"/>
            <a:ext cx="1905120" cy="30002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4"/>
          <p:cNvSpPr/>
          <p:nvPr/>
        </p:nvSpPr>
        <p:spPr>
          <a:xfrm>
            <a:off x="3606840" y="1434960"/>
            <a:ext cx="439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Фокусы, подвижные игры (крокет), настольные игры (домино) и другие развлечения поддерживают у учащихся интерес к наукам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817560" y="515772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. И. Перельм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9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83d68"/>
                </a:solidFill>
                <a:latin typeface="Century Gothic"/>
              </a:rPr>
              <a:t>История домино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4160"/>
            <a:ext cx="69138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История домино уходит корнями приблизительно во II век до н.э. Домино, хотя и достаточно распространено на Западе, на самом деле является Китайским изобретением. Оно произошло от игральных костей, которые были ввезены в Китай из Индии в далеком       прошлом. Каждая косточка домино первоначально представляла собой результат бросания двух игральных костей. Одна половинка домино представляет результат бросания одной кости, вторая - другой.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02468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entury Gothic"/>
              </a:rPr>
              <a:t>Домино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Century Gothic"/>
              </a:rPr>
              <a:t>Правила игры в домино</a:t>
            </a:r>
            <a:br>
              <a:rPr sz="2000"/>
            </a:br>
            <a:endParaRPr b="0" lang="en-US" sz="2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86920" y="1699920"/>
            <a:ext cx="6705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13f9a"/>
              </a:solidFill>
              <a:latin typeface="Century Gothic"/>
            </a:endParaRPr>
          </a:p>
          <a:p>
            <a:pPr marL="69840">
              <a:spcBef>
                <a:spcPts val="349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Gothic"/>
              </a:rPr>
              <a:t>Костяшка домино представляет собой прямоугольную плитку, лицевая сторона которой разделена линией на две квадратные части. Каждая часть содержит от нуля до шести точек .</a:t>
            </a:r>
            <a:endParaRPr b="0" lang="en-US" sz="1400" spc="-1" strike="noStrike">
              <a:solidFill>
                <a:srgbClr val="b13f9a"/>
              </a:solidFill>
              <a:latin typeface="Century Gothic"/>
            </a:endParaRPr>
          </a:p>
          <a:p>
            <a:pPr marL="69840">
              <a:spcBef>
                <a:spcPts val="349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Gothic"/>
              </a:rPr>
              <a:t>Домино – настольная игра, в процессе которой выстраивается цепь костяшек ("костей", "камней"), соприкасающихся половинками с одинаковым числом очков. Название Домино произошло от сочетания белого и черного цветов. "Домино" - французское слово; так называли священники-христиане зимнее одеяние, которое был черным снаружи и белым внутри. "Домино" - это также тип маски, представляющей черный и белый мотив.</a:t>
            </a:r>
            <a:endParaRPr b="0" lang="en-US" sz="1400" spc="-1" strike="noStrike">
              <a:solidFill>
                <a:srgbClr val="b13f9a"/>
              </a:solidFill>
              <a:latin typeface="Century Gothic"/>
            </a:endParaRPr>
          </a:p>
        </p:txBody>
      </p:sp>
      <p:pic>
        <p:nvPicPr>
          <p:cNvPr id="345" name="Picture 5" descr="http://prosdo.ru/ouazoa/%D0%9A%D0%BE%D0%BD%D1%81%D0%BF%D0%B5%D0%BA%D1%82%D1%8B+%D0%BD%D0%B0%D0%BF%D0%B8%D1%81%D0%B0%D0%BD%D1%8B+%D0%BF%D0%BE%D0%B4%D1%80%D0%BE%D0%B1%D0%BD%D0%BE+%D0%B8+%D1%81%D0%BE%D0%B4%D0%B5%D1%80%D0%B6%D0%B0%D1%82a/82851_html_4f84d845.png"/>
          <p:cNvPicPr/>
          <p:nvPr/>
        </p:nvPicPr>
        <p:blipFill>
          <a:blip r:embed="rId1"/>
          <a:stretch/>
        </p:blipFill>
        <p:spPr>
          <a:xfrm>
            <a:off x="1771560" y="5056200"/>
            <a:ext cx="3313080" cy="828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http://celebrity-weddings.ru/uploads/posts/2016-03/1457362181_domino-6-6.jpg"/>
          <p:cNvPicPr/>
          <p:nvPr/>
        </p:nvPicPr>
        <p:blipFill>
          <a:blip r:embed="rId2"/>
          <a:stretch/>
        </p:blipFill>
        <p:spPr>
          <a:xfrm>
            <a:off x="5364000" y="5056200"/>
            <a:ext cx="173376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83d68"/>
                </a:solidFill>
                <a:latin typeface="Century Gothic"/>
              </a:rPr>
              <a:t>Состав домино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11280" y="2784240"/>
            <a:ext cx="690552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entury Gothic"/>
              </a:rPr>
              <a:t>Костяшки домино произошли от всем известных игральных костей (кубиков). Стандартный набор домино включает в себя  28 костей.</a:t>
            </a:r>
            <a:endParaRPr b="0" lang="en-US" sz="1400" spc="-1" strike="noStrike">
              <a:solidFill>
                <a:srgbClr val="b13f9a"/>
              </a:solidFill>
              <a:latin typeface="Century Gothic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322200" y="3279600"/>
            <a:ext cx="2741760" cy="1940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166920" cy="2552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324000" y="4560840"/>
            <a:ext cx="476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45632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задача1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: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Какова вероятность из полного набора домино выбрать дубль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?</a:t>
            </a:r>
            <a:endParaRPr b="0" lang="en-US" sz="2800" spc="-1" strike="noStrike">
              <a:solidFill>
                <a:srgbClr val="b83d68"/>
              </a:solidFill>
              <a:latin typeface="Century Gothic"/>
            </a:endParaRPr>
          </a:p>
        </p:txBody>
      </p:sp>
      <p:pic>
        <p:nvPicPr>
          <p:cNvPr id="353" name="Picture 10" descr="http://images.freeimages.com/images/premium/large-thumbs/5371/53713874-domino-black-set.jpg"/>
          <p:cNvPicPr/>
          <p:nvPr/>
        </p:nvPicPr>
        <p:blipFill>
          <a:blip r:embed="rId1"/>
          <a:srcRect l="0" t="0" r="0" b="50012"/>
          <a:stretch/>
        </p:blipFill>
        <p:spPr>
          <a:xfrm>
            <a:off x="1763640" y="2627280"/>
            <a:ext cx="3303720" cy="1927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http://images.freeimages.com/images/premium/large-thumbs/5371/53713874-domino-black-set.jpg"/>
          <p:cNvPicPr/>
          <p:nvPr/>
        </p:nvPicPr>
        <p:blipFill>
          <a:blip r:embed="rId2"/>
          <a:srcRect l="0" t="50012" r="0" b="0"/>
          <a:stretch/>
        </p:blipFill>
        <p:spPr>
          <a:xfrm>
            <a:off x="4859280" y="2567160"/>
            <a:ext cx="3313080" cy="19303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http://images.freeimages.com/images/premium/large-thumbs/5371/53713874-domino-black-set.jpg"/>
          <p:cNvPicPr/>
          <p:nvPr/>
        </p:nvPicPr>
        <p:blipFill>
          <a:blip r:embed="rId3"/>
          <a:srcRect l="0" t="0" r="64274" b="50012"/>
          <a:stretch/>
        </p:blipFill>
        <p:spPr>
          <a:xfrm>
            <a:off x="755640" y="2651040"/>
            <a:ext cx="1181160" cy="192564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1"/>
          <p:cNvSpPr/>
          <p:nvPr/>
        </p:nvSpPr>
        <p:spPr>
          <a:xfrm>
            <a:off x="1258920" y="3068640"/>
            <a:ext cx="288720" cy="36036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0"/>
          <p:cNvSpPr/>
          <p:nvPr/>
        </p:nvSpPr>
        <p:spPr>
          <a:xfrm>
            <a:off x="1258920" y="3789360"/>
            <a:ext cx="288720" cy="36036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Заголовок 1"/>
          <p:cNvSpPr/>
          <p:nvPr/>
        </p:nvSpPr>
        <p:spPr>
          <a:xfrm>
            <a:off x="781200" y="4476600"/>
            <a:ext cx="74563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твет : 0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7632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83d68"/>
                </a:solidFill>
                <a:latin typeface="Century Gothic"/>
              </a:rPr>
              <a:t>Статистические исследования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13f9a"/>
                </a:solidFill>
                <a:latin typeface="Century Gothic"/>
              </a:rPr>
              <a:t>Выпадение  дубля: вероятность 0,25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403280" y="3573360"/>
          <a:ext cx="6096240" cy="13813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личество выпадений дуб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атистическая вероя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личество выпадений дуб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атистическая вероя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7"/>
          <p:cNvSpPr/>
          <p:nvPr/>
        </p:nvSpPr>
        <p:spPr>
          <a:xfrm>
            <a:off x="190800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4716360" y="31813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167600" cy="21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Задача 2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: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Из полного набора домино последовательно выбраны 2 кости . Какова   вероятность ,что вторую можно приставить к первой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65" name="TextBox 1"/>
          <p:cNvSpPr/>
          <p:nvPr/>
        </p:nvSpPr>
        <p:spPr>
          <a:xfrm>
            <a:off x="2700360" y="2492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случа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Прямая со стрелкой 3"/>
          <p:cNvCxnSpPr/>
          <p:nvPr/>
        </p:nvCxnSpPr>
        <p:spPr>
          <a:xfrm flipH="1">
            <a:off x="2195280" y="2862360"/>
            <a:ext cx="1297440" cy="5673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67" name="Прямая со стрелкой 5"/>
          <p:cNvCxnSpPr/>
          <p:nvPr/>
        </p:nvCxnSpPr>
        <p:spPr>
          <a:xfrm>
            <a:off x="4066920" y="2862360"/>
            <a:ext cx="1152720" cy="5673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68" name="TextBox 7"/>
          <p:cNvSpPr/>
          <p:nvPr/>
        </p:nvSpPr>
        <p:spPr>
          <a:xfrm>
            <a:off x="839880" y="350028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ду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4140360" y="365292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не ду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http://images.freeimages.com/images/premium/large-thumbs/5371/53713874-domino-black-set.jpg"/>
          <p:cNvPicPr/>
          <p:nvPr/>
        </p:nvPicPr>
        <p:blipFill>
          <a:blip r:embed="rId1"/>
          <a:srcRect l="0" t="64416" r="50012" b="0"/>
          <a:stretch/>
        </p:blipFill>
        <p:spPr>
          <a:xfrm>
            <a:off x="855720" y="3971880"/>
            <a:ext cx="2560680" cy="1562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http://images.onlinelabels.com/images/clip-art/molumen/molumen_domino_set_16.png"/>
          <p:cNvPicPr/>
          <p:nvPr/>
        </p:nvPicPr>
        <p:blipFill>
          <a:blip r:embed="rId2"/>
          <a:stretch/>
        </p:blipFill>
        <p:spPr>
          <a:xfrm>
            <a:off x="4243320" y="4221000"/>
            <a:ext cx="2129040" cy="1063800"/>
          </a:xfrm>
          <a:prstGeom prst="rect">
            <a:avLst/>
          </a:prstGeom>
          <a:ln w="0">
            <a:noFill/>
          </a:ln>
        </p:spPr>
      </p:pic>
      <p:sp>
        <p:nvSpPr>
          <p:cNvPr id="372" name="Заголовок 1"/>
          <p:cNvSpPr/>
          <p:nvPr/>
        </p:nvSpPr>
        <p:spPr>
          <a:xfrm>
            <a:off x="781200" y="4476600"/>
            <a:ext cx="74563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твет : 0,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63272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83d68"/>
                </a:solidFill>
                <a:latin typeface="Century Gothic"/>
              </a:rPr>
              <a:t>Статистические исследования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91920" y="1557000"/>
            <a:ext cx="78390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1852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13f9a"/>
                </a:solidFill>
                <a:latin typeface="Century Gothic"/>
              </a:rPr>
              <a:t>Вторую кость можно приставить к первой: вероятность 0,38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marL="274320" indent="-21852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13f9a"/>
                </a:solidFill>
                <a:latin typeface="Century Gothic"/>
              </a:rPr>
              <a:t>После этого третью можно приставить ко второй 0,28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marL="274320" indent="-21852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050920" y="3584520"/>
          <a:ext cx="5616720" cy="138132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5080"/>
                <a:gridCol w="14032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личество благоприятных и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атистическая вероя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личество благоприятных и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атистическая вероя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376" name="TextBox 7"/>
          <p:cNvSpPr/>
          <p:nvPr/>
        </p:nvSpPr>
        <p:spPr>
          <a:xfrm>
            <a:off x="2627280" y="31701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5364000" y="31813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692280" y="414972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9"/>
          <p:cNvSpPr/>
          <p:nvPr/>
        </p:nvSpPr>
        <p:spPr>
          <a:xfrm>
            <a:off x="692280" y="453060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7-02-16T08:14:48Z</cp:lastPrinted>
  <dcterms:modified xsi:type="dcterms:W3CDTF">2017-02-17T05:46:02Z</dcterms:modified>
  <cp:revision>70</cp:revision>
  <dc:subject/>
  <dc:title>«Математика и домино».</dc:title>
</cp:coreProperties>
</file>