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6FD-569F-47E1-BDB2-625D01FD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02E-7D31-4A17-83D7-0C49C8F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D6A-D541-4AE3-801E-59BC9319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A9E-0633-4019-857B-45FBB790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B4BF-4F05-47C1-96AF-943B477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3B8B-A815-4740-ADEB-D3A7888A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6483-5FB0-4EFC-A335-017C334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158C-895A-4CCF-8082-2B8E8D5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C37-40F8-4D1F-8E33-60D07B1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352C-F911-4DED-8DB5-C68E062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D38-5A1D-4845-A128-ECD6226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612-7811-4F3F-8789-CBBC070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A37-E6EE-4CB7-A4F3-4AE728C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18F0-7A29-4BED-9799-861C7D8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43CF-CE8B-4C70-8C7F-FBC49038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C19-6185-4AB3-A4D9-337025FF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93D-BEBD-47DA-B699-81A7FD7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FC3C4-6D38-4A1C-9FAA-D4E4352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33FA6-8060-4C78-87C2-8C2CBBEC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5E82F-952C-4FB5-8ED8-CBB1C31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476B0-42B4-4383-AD50-C94D383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09D5F-A0AA-439B-B91B-C0DC708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1E8-F1A2-4C81-9A65-631C8AC9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D5195-E701-4A85-A712-50F0AC23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DFA8-8EF2-49DD-807F-32D44C23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21A63-7799-4379-A849-6F2BD9D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2481F-E6D8-4CDF-A70F-823960DA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F8F75-0C84-4828-BBF4-1170D43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A8AA0-B144-421A-819D-68C1B9F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92698-5008-475B-AB5F-88A98EC2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C8C2-CA66-45A1-937C-0EFD831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44AD-B298-43A8-8107-694878DC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D1F9-C3B7-47D6-A3CF-290B8A6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1E0-A9B5-48D5-BFC3-6CAA1B2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8C53-AC0E-45A2-9FBA-47364F9D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7A64-0AF0-453D-ACEB-AC24B65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1A72-0CB6-40E5-AA55-44D964C5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D07F-B552-4A06-AC49-8014D20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30D8-4424-4CFA-AF7F-B397779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D2C1-B63F-4D75-A4F8-EEB6EB3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45E6-EF2D-46A3-B317-0ABE9ED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C413-8C08-48C7-A092-C8267FA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5CE8-5155-4711-A585-A418A75D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CA2-4962-43DD-9645-8807291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5E1-E45F-4045-94E9-B0E51C7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470-3D92-4E50-A894-B841C4B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5AA-9181-4580-A0D9-7BC61B6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489-2246-4733-BC12-FCEFC46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767-9958-4F1C-ADAA-1120DD1A5F3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3d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108-FE6B-4652-8CC5-F06334B5FB90}" type="slidenum">
              <a:rPr b="0" lang="ru-RU" sz="1200" spc="-1" strike="noStrike">
                <a:solidFill>
                  <a:srgbClr val="b83d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728-4C17-444F-804B-F5C6FF54831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4dd"/>
            </a:gs>
            <a:gs pos="100000">
              <a:srgbClr val="958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591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3d6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7E80-6C05-4684-8886-B0896ABC911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2556000" y="4292640"/>
            <a:ext cx="64800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Проект выполнили студенты  2 курса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Дронов Александр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Федосов Алексей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Абрамов Максим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entury Gothic"/>
              </a:rPr>
              <a:t>Преподаватель- Логачёва Е.С.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1501920" y="573120"/>
            <a:ext cx="640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entury Gothic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Теория вероятности в домино</a:t>
            </a:r>
            <a:endParaRPr b="0" lang="en-US" sz="3200" spc="-1" strike="noStrike">
              <a:solidFill>
                <a:srgbClr val="b83d68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-69840"/>
            <a:ext cx="731196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entury Gothic"/>
              </a:rPr>
              <a:t>З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адача 3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Из полного набора домино берут 4 шт.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Найти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 вероятность,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38022"/>
                </a:solidFill>
                <a:latin typeface="Century Gothic"/>
              </a:rPr>
              <a:t>что среди них будет одна тройка</a:t>
            </a:r>
            <a:r>
              <a:rPr b="0" lang="en-US" sz="2400" spc="-1" strike="noStrike">
                <a:solidFill>
                  <a:srgbClr val="538022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81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1037400">
            <a:off x="802800" y="1680840"/>
            <a:ext cx="77742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пасибо за  внимание!</a:t>
            </a:r>
            <a:r>
              <a:rPr b="1" lang="ru-RU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83" name="Picture 2" descr="C:\Documents and Settings\Настёнка\Рабочий стол\dominos_468x472.jpg"/>
          <p:cNvPicPr/>
          <p:nvPr/>
        </p:nvPicPr>
        <p:blipFill>
          <a:blip r:embed="rId1"/>
          <a:stretch/>
        </p:blipFill>
        <p:spPr>
          <a:xfrm>
            <a:off x="684360" y="2349360"/>
            <a:ext cx="3736800" cy="376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008000" y="1557360"/>
            <a:ext cx="1905120" cy="30002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3606840" y="1434960"/>
            <a:ext cx="439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окусы, подвижные игры (крокет), настольные игры (домино) и другие развлечения поддерживают у учащихся интерес к наука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817560" y="515772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. И. Перельм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9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История домино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4160"/>
            <a:ext cx="6913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История домино уходит корнями приблизительно во II век до н.э. Домино, хотя и достаточно распространено на Западе, на самом деле является Китайским изобретением. Оно произошло от игральных костей, которые были ввезены в Китай из Индии в далеком       прошлом. Каждая косточка домино первоначально представляла собой результат бросания двух игральных костей. Одна половинка домино представляет результат бросания одной кости, вторая - другой.</a:t>
            </a: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0246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Gothic"/>
              </a:rPr>
              <a:t>Домино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entury Gothic"/>
              </a:rPr>
              <a:t>Правила игры в домино</a:t>
            </a:r>
            <a:br>
              <a:rPr sz="2000"/>
            </a:br>
            <a:endParaRPr b="0" lang="en-US" sz="2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86920" y="1699920"/>
            <a:ext cx="6705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  <a:p>
            <a:pPr marL="69840">
              <a:spcBef>
                <a:spcPts val="349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Gothic"/>
              </a:rPr>
              <a:t>Костяшка домино представляет собой прямоугольную плитку, лицевая сторона которой разделена линией на две квадратные части. Каждая часть содержит от нуля до шести точек 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  <a:p>
            <a:pPr marL="69840">
              <a:spcBef>
                <a:spcPts val="349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Gothic"/>
              </a:rPr>
              <a:t>Домино – настольная игра, в процессе которой выстраивается цепь костяшек ("костей", "камней"), соприкасающихся половинками с одинаковым числом очков. Название Домино произошло от сочетания белого и черного цветов. "Домино" - французское слово; так называли священники-христиане зимнее одеяние, которое был черным снаружи и белым внутри. "Домино" - это также тип маски, представляющей черный и белый мотив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45" name="Picture 5" descr="http://prosdo.ru/ouazoa/%D0%9A%D0%BE%D0%BD%D1%81%D0%BF%D0%B5%D0%BA%D1%82%D1%8B+%D0%BD%D0%B0%D0%BF%D0%B8%D1%81%D0%B0%D0%BD%D1%8B+%D0%BF%D0%BE%D0%B4%D1%80%D0%BE%D0%B1%D0%BD%D0%BE+%D0%B8+%D1%81%D0%BE%D0%B4%D0%B5%D1%80%D0%B6%D0%B0%D1%82a/82851_html_4f84d845.png"/>
          <p:cNvPicPr/>
          <p:nvPr/>
        </p:nvPicPr>
        <p:blipFill>
          <a:blip r:embed="rId1"/>
          <a:stretch/>
        </p:blipFill>
        <p:spPr>
          <a:xfrm>
            <a:off x="1771560" y="5056200"/>
            <a:ext cx="3313080" cy="828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http://celebrity-weddings.ru/uploads/posts/2016-03/1457362181_domino-6-6.jpg"/>
          <p:cNvPicPr/>
          <p:nvPr/>
        </p:nvPicPr>
        <p:blipFill>
          <a:blip r:embed="rId2"/>
          <a:stretch/>
        </p:blipFill>
        <p:spPr>
          <a:xfrm>
            <a:off x="5364000" y="5056200"/>
            <a:ext cx="173376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остав домино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11280" y="2784240"/>
            <a:ext cx="690552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entury Gothic"/>
              </a:rPr>
              <a:t>Костяшки домино произошли от всем известных игральных костей (кубиков). Стандартный набор домино включает в себя  28 костей.</a:t>
            </a:r>
            <a:endParaRPr b="0" lang="en-US" sz="1400" spc="-1" strike="noStrike">
              <a:solidFill>
                <a:srgbClr val="b13f9a"/>
              </a:solidFill>
              <a:latin typeface="Century Gothic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22200" y="3279600"/>
            <a:ext cx="2741760" cy="194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166920" cy="2552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24000" y="4560840"/>
            <a:ext cx="476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45632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задача1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Какова вероятность из полного набора домино выбрать дубль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b83d68"/>
              </a:solidFill>
              <a:latin typeface="Century Gothic"/>
            </a:endParaRPr>
          </a:p>
        </p:txBody>
      </p:sp>
      <p:pic>
        <p:nvPicPr>
          <p:cNvPr id="353" name="Picture 10" descr="http://images.freeimages.com/images/premium/large-thumbs/5371/53713874-domino-black-set.jpg"/>
          <p:cNvPicPr/>
          <p:nvPr/>
        </p:nvPicPr>
        <p:blipFill>
          <a:blip r:embed="rId1"/>
          <a:srcRect l="0" t="0" r="0" b="50012"/>
          <a:stretch/>
        </p:blipFill>
        <p:spPr>
          <a:xfrm>
            <a:off x="1763640" y="2627280"/>
            <a:ext cx="3303720" cy="1927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images.freeimages.com/images/premium/large-thumbs/5371/53713874-domino-black-set.jpg"/>
          <p:cNvPicPr/>
          <p:nvPr/>
        </p:nvPicPr>
        <p:blipFill>
          <a:blip r:embed="rId2"/>
          <a:srcRect l="0" t="50012" r="0" b="0"/>
          <a:stretch/>
        </p:blipFill>
        <p:spPr>
          <a:xfrm>
            <a:off x="4859280" y="2567160"/>
            <a:ext cx="3313080" cy="1930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://images.freeimages.com/images/premium/large-thumbs/5371/53713874-domino-black-set.jpg"/>
          <p:cNvPicPr/>
          <p:nvPr/>
        </p:nvPicPr>
        <p:blipFill>
          <a:blip r:embed="rId3"/>
          <a:srcRect l="0" t="0" r="64274" b="50012"/>
          <a:stretch/>
        </p:blipFill>
        <p:spPr>
          <a:xfrm>
            <a:off x="755640" y="2651040"/>
            <a:ext cx="1181160" cy="1925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"/>
          <p:cNvSpPr/>
          <p:nvPr/>
        </p:nvSpPr>
        <p:spPr>
          <a:xfrm>
            <a:off x="1258920" y="3068640"/>
            <a:ext cx="288720" cy="360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0"/>
          <p:cNvSpPr/>
          <p:nvPr/>
        </p:nvSpPr>
        <p:spPr>
          <a:xfrm>
            <a:off x="1258920" y="3789360"/>
            <a:ext cx="288720" cy="360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632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татистические исследования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Выпадение  дубля: вероятность 0,25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03280" y="3573360"/>
          <a:ext cx="6096240" cy="1381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выпадений дуб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выпадений дуб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190800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4716360" y="31813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16760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Задача 2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Из полного набора домино последовательно выбраны 2 кости . Какова   вероятность ,что вторую можно приставить к первой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27003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случ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3"/>
          <p:cNvCxnSpPr/>
          <p:nvPr/>
        </p:nvCxnSpPr>
        <p:spPr>
          <a:xfrm flipH="1">
            <a:off x="2195280" y="2862360"/>
            <a:ext cx="1297440" cy="567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67" name="Прямая со стрелкой 5"/>
          <p:cNvCxnSpPr/>
          <p:nvPr/>
        </p:nvCxnSpPr>
        <p:spPr>
          <a:xfrm>
            <a:off x="4066920" y="2862360"/>
            <a:ext cx="1152720" cy="567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68" name="TextBox 7"/>
          <p:cNvSpPr/>
          <p:nvPr/>
        </p:nvSpPr>
        <p:spPr>
          <a:xfrm>
            <a:off x="839880" y="3500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д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4140360" y="36529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не д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http://images.freeimages.com/images/premium/large-thumbs/5371/53713874-domino-black-set.jpg"/>
          <p:cNvPicPr/>
          <p:nvPr/>
        </p:nvPicPr>
        <p:blipFill>
          <a:blip r:embed="rId1"/>
          <a:srcRect l="0" t="64416" r="50012" b="0"/>
          <a:stretch/>
        </p:blipFill>
        <p:spPr>
          <a:xfrm>
            <a:off x="855720" y="3971880"/>
            <a:ext cx="2560680" cy="1562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http://images.onlinelabels.com/images/clip-art/molumen/molumen_domino_set_16.png"/>
          <p:cNvPicPr/>
          <p:nvPr/>
        </p:nvPicPr>
        <p:blipFill>
          <a:blip r:embed="rId2"/>
          <a:stretch/>
        </p:blipFill>
        <p:spPr>
          <a:xfrm>
            <a:off x="4243320" y="4221000"/>
            <a:ext cx="2129040" cy="1063800"/>
          </a:xfrm>
          <a:prstGeom prst="rect">
            <a:avLst/>
          </a:prstGeom>
          <a:ln w="0">
            <a:noFill/>
          </a:ln>
        </p:spPr>
      </p:pic>
      <p:sp>
        <p:nvSpPr>
          <p:cNvPr id="372" name="Заголовок 1"/>
          <p:cNvSpPr/>
          <p:nvPr/>
        </p:nvSpPr>
        <p:spPr>
          <a:xfrm>
            <a:off x="781200" y="4476600"/>
            <a:ext cx="7456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твет : 0,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63272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83d68"/>
                </a:solidFill>
                <a:latin typeface="Century Gothic"/>
              </a:rPr>
              <a:t>Статистические исследования</a:t>
            </a:r>
            <a:endParaRPr b="0" lang="en-US" sz="4000" spc="-1" strike="noStrike">
              <a:solidFill>
                <a:srgbClr val="b83d68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91920" y="1557000"/>
            <a:ext cx="7839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Вторую кость можно приставить к первой: вероятность 0,38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Century Gothic"/>
              </a:rPr>
              <a:t>После этого третью можно приставить ко второй 0,28</a:t>
            </a: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  <a:p>
            <a:pPr marL="274320" indent="-218520">
              <a:spcBef>
                <a:spcPts val="601"/>
              </a:spcBef>
              <a:buClr>
                <a:srgbClr val="b83d6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3f9a"/>
              </a:solidFill>
              <a:latin typeface="Century Gothic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0920" y="3584520"/>
          <a:ext cx="5616720" cy="138132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5080"/>
                <a:gridCol w="1403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благоприятных и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благоприятных и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атистическая веро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76" name="TextBox 7"/>
          <p:cNvSpPr/>
          <p:nvPr/>
        </p:nvSpPr>
        <p:spPr>
          <a:xfrm>
            <a:off x="2627280" y="31701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5364000" y="31813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92280" y="41497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692280" y="453060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7-02-16T08:14:48Z</cp:lastPrinted>
  <dcterms:modified xsi:type="dcterms:W3CDTF">2017-02-17T05:46:02Z</dcterms:modified>
  <cp:revision>70</cp:revision>
  <dc:subject/>
  <dc:title>«Математика и домино».</dc:title>
</cp:coreProperties>
</file>