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D8E90-EEE3-4876-8B29-F5708BEC88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Знай: лук и стрелы не хватал бур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напрас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но отчизну защищая, мог мет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Сотню стрел послать подря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И славе предков отдавая дан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На славу завоевывает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Сегодня юность - и куда не глянь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Богатыри налево и  направ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Вам, лучники, бароо- бара, бара да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Слава, слава, слава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Г. Раднае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2C817-8CEE-44B0-8DC3-5CFCF34F728E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ванулись скакуны, летят впере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тремительно пространство поглощая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, словно вихрь, скрываются вда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Лишь эхо улетает к небосклон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от-вот и оторвутся от зем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тав белой стаей облаков с разгону…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(Г. Раднае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Tahoma"/>
                <a:ea typeface="Tahoma"/>
              </a:rPr>
              <a:t>Из двух меринов, пришедших первыми, один подносился в дар старшему ламе, второй - старшему нойону, а имена владельцев лошадей даже не объявлялись; теперь владельцы лошадей-победителей получают специальный приз и поощрение к улучшению породы. Получает приз и наезд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EC1BF-A6EE-489D-8A95-2C8FFA135DF6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стают борцы. Их мощные тел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з солнца? Меди? – пот покрыл как гляне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ни старинный исполняют танец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Бесстрашные, как два степных ор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спытывают силу и отва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руг друга в равной, доблестной борьб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е уступая ни за что ни ша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опернику, подобному себ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Так, предки в праздник превратив борьб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ильнейшего из сильных выявля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 каждый испытать хотел судьб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а праздник торопясь из дальней дал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(Г. Раднаева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FCC5D-904A-4D5D-9EE1-324E6798B50E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я побывала на состязаниях взрослых, мне стало интересно, есть ли у бурятского народа игры дл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тив краеведческий музей г. Улан-Удэ выяснила, что раньше у детей не было такого разнообразия игрушек, как теперь. Дети развлекались по-другому: скачки, прыжки, прятки, бабки. Играли тем, что было под рукой: камушки, веточки, самодельные куколки. Излюбленной игрой детишек были, шагай бараньи косточки – лодыжки. Эти игры были разнообразны и требовали ловкости, быстроты, терпения – качеств, необходимых кочев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2DA4C-2FB1-423B-885F-158F2DD758CD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Бросание лодыжек (таранных костей) имеет много разновидносте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7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1. Несколько лодыжек расставляют в ряд друг против друга по краям стола. Игроки разделяются на две команды. Они по очереди щелкают любую лодыжку из своего ряда в противоположную сторону. Сбитые лодыжки соперников они забирают себе. Выигрывает та команда, которая больше сбила лодыж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7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2. Большим пальцем щелкают по одной лодыжке, чтобы попасть в другую. Если попадание было удачным, то игрок сшибает следующую и т. д. Сбитые лодыжки забирает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7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3. Бег лодыжек: игрок щелчками по лодыжкам добивается, чтобы его лодыжки обогнали лодыжки сопер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7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4. Бодание баранов: два игрока одновременно щелчками с противоположных сторон пускают друг на друга лодыжки. Побеждает тот, чья лодыжка упала на бок или перевернула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7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5. Кидание лодыжек с ладони вверх. Пока одна летит вверх, надо собрать в кучу лодыжки, расположенные врассыпную на ст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7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Правила игры: следует точно соблюдать приемы игры</a:t>
            </a: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7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07475-644E-47D4-B5A3-2601D816A946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0EA-AF0F-4567-9506-477B22AF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4F9-A0F8-4C4C-99C3-0FD5B132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040-349F-4E1A-B0A5-05C0EEC3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750-0202-4FD6-A28E-4A79005C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3FCC-FECC-4677-861E-462ABD6F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2896-3B9F-473C-BA10-96CD7424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957E-4835-4F4F-90F2-C04C835A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6BE1-1BCE-4387-84F6-0E057350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67C1-D02C-463E-BFA0-C097AF90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C63F-C07B-4698-81A6-9391ABB2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E844-DD8D-4D10-A818-30D1266C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2502-E823-4E64-8AE0-D01CF7AA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ABD5-B8CB-4FDE-92FE-508D2C6F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707A-C7C9-4FF3-8D2C-4B559E0F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FFFC-62D0-4828-BC95-E6544AF3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63A6-1954-49F4-A31F-09231130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9B93-4235-411C-A274-FD2863FA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EE009-2442-4765-8A1B-6CED4A97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5A110-EF93-40C8-949C-FE4656FF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A76E0-1B6A-46AB-BF48-298F07B2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0C65F-2E5B-4F40-845F-7EC94BC8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799A5-EF27-4C29-85DA-66BF3384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740-8E71-459A-97B9-067114C4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1EF0F-AC5C-463E-A7EA-C761D264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1F319-8BEB-4E61-84A6-42D23237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05439-7B73-4EF1-B316-889894EC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C570B-3DEA-495E-9E04-386E0EA2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5F182-B2D0-4342-988B-692ED80D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FCF18-4212-4DC6-A9DC-24DE1FB3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791D-CCF3-47FB-8DE6-C964168C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C2AC2-F779-4863-8931-C9102D90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E022F-75ED-403C-8D03-CE23EDF0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91F77-B0ED-4A7E-8DF8-8C7AEFAD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79E-698F-44CC-AE43-90C1005D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77088-155D-4E17-B215-551F56DC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0195D-AAD0-4877-8FA4-4A79E3DA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3E801-A9F9-42FE-887C-B76E8185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9351C-2624-460F-8960-33B7D327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4BA78-92FC-48DD-984E-EBF23F0E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BF8ED-F139-4F71-98D3-4BD2B8DF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12F21-64B2-424E-B0E6-CE020064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E54AE-FEB5-40B6-BCA1-D68F3B26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A8EC9-A14D-4EEF-BA15-4D262D59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017A-EC99-4E16-8924-61B0A112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88B-978E-4680-BE78-62A634C4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545-C37C-47F8-8CA1-6F4C45FA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7A2-FA3E-4F05-97A1-7E26D51A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7F1-CD70-4147-9974-C470A791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827CB-AF15-403D-8EB1-2463039A871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68CDA-EDA1-4FDB-9EDF-D486FE7B7433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B09EE-B584-4CED-AEED-B810913ADF3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1323F-F1F8-4921-9761-486DE98A92B6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7160" y="328680"/>
            <a:ext cx="9651960" cy="12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рятские народные игры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34760" y="5415120"/>
            <a:ext cx="8521560" cy="104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Выполнила ученица 2 «А» Кабанская СОШ: Тырхеева Дулм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Классный руководитель: Суворова Татьяна Ивановна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Рисунок 4" descr=""/>
          <p:cNvPicPr/>
          <p:nvPr/>
        </p:nvPicPr>
        <p:blipFill>
          <a:blip r:embed="rId1"/>
          <a:stretch/>
        </p:blipFill>
        <p:spPr>
          <a:xfrm>
            <a:off x="3087720" y="2000160"/>
            <a:ext cx="460368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бъект 2"/>
          <p:cNvSpPr/>
          <p:nvPr/>
        </p:nvSpPr>
        <p:spPr>
          <a:xfrm>
            <a:off x="239760" y="271440"/>
            <a:ext cx="859644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О, сурхарбан! Летит вперед скакун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Веселым ржанием праздник обновля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Его полету вторит  из-под струн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Стремительная песня удалая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Объект 3" descr=""/>
          <p:cNvPicPr/>
          <p:nvPr/>
        </p:nvPicPr>
        <p:blipFill>
          <a:blip r:embed="rId1"/>
          <a:stretch/>
        </p:blipFill>
        <p:spPr>
          <a:xfrm>
            <a:off x="10104480" y="128520"/>
            <a:ext cx="2027160" cy="19954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4" descr=""/>
          <p:cNvPicPr/>
          <p:nvPr/>
        </p:nvPicPr>
        <p:blipFill>
          <a:blip r:embed="rId2"/>
          <a:stretch/>
        </p:blipFill>
        <p:spPr>
          <a:xfrm>
            <a:off x="639720" y="2503440"/>
            <a:ext cx="3127320" cy="23320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5" descr=""/>
          <p:cNvPicPr/>
          <p:nvPr/>
        </p:nvPicPr>
        <p:blipFill>
          <a:blip r:embed="rId3"/>
          <a:stretch/>
        </p:blipFill>
        <p:spPr>
          <a:xfrm>
            <a:off x="1198440" y="4835520"/>
            <a:ext cx="3318120" cy="20224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6" descr=""/>
          <p:cNvPicPr/>
          <p:nvPr/>
        </p:nvPicPr>
        <p:blipFill>
          <a:blip r:embed="rId4"/>
          <a:stretch/>
        </p:blipFill>
        <p:spPr>
          <a:xfrm>
            <a:off x="7526160" y="4152960"/>
            <a:ext cx="2621160" cy="17445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"/>
          <p:cNvPicPr/>
          <p:nvPr/>
        </p:nvPicPr>
        <p:blipFill>
          <a:blip r:embed="rId5"/>
          <a:stretch/>
        </p:blipFill>
        <p:spPr>
          <a:xfrm>
            <a:off x="4205160" y="1270080"/>
            <a:ext cx="2894040" cy="19857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"/>
          <p:cNvPicPr/>
          <p:nvPr/>
        </p:nvPicPr>
        <p:blipFill>
          <a:blip r:embed="rId6"/>
          <a:stretch/>
        </p:blipFill>
        <p:spPr>
          <a:xfrm>
            <a:off x="4870440" y="3597120"/>
            <a:ext cx="2409840" cy="32148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9" descr=""/>
          <p:cNvPicPr/>
          <p:nvPr/>
        </p:nvPicPr>
        <p:blipFill>
          <a:blip r:embed="rId7"/>
          <a:stretch/>
        </p:blipFill>
        <p:spPr>
          <a:xfrm>
            <a:off x="7386480" y="609480"/>
            <a:ext cx="19926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2880" y="130320"/>
            <a:ext cx="859644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Һ</a:t>
            </a:r>
            <a:r>
              <a:rPr b="1" lang="ru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үр харбаан – стрельба из лук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4122720" y="974880"/>
            <a:ext cx="73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  <a:ea typeface="Tahoma"/>
              </a:rPr>
              <a:t>Состязание «Стрельба из лука» пришло из далекой древ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  <a:ea typeface="Tahoma"/>
              </a:rPr>
              <a:t>Соревнования по стрельбе у бурят проводятся так: на расстоянии 30 луков и 20 луков (один  лук - 160 см) ставятся горизонтально суры (мишени) на высоту лука; через расстояние, равное длине лука, сзади и спереди суров проводится черта. Стрела не должна падать ближе передней черты и выбивать сур за черту. Выпускают поочередно по две стрелы, но когда остается по одному суру на каждом из участков, то выпускают по одной стрел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Рисунок 3" descr=""/>
          <p:cNvPicPr/>
          <p:nvPr/>
        </p:nvPicPr>
        <p:blipFill>
          <a:blip r:embed="rId1"/>
          <a:stretch/>
        </p:blipFill>
        <p:spPr>
          <a:xfrm>
            <a:off x="1163520" y="4336920"/>
            <a:ext cx="2827440" cy="2119320"/>
          </a:xfrm>
          <a:prstGeom prst="rect">
            <a:avLst/>
          </a:prstGeom>
          <a:ln w="0">
            <a:noFill/>
          </a:ln>
        </p:spPr>
      </p:pic>
      <p:pic>
        <p:nvPicPr>
          <p:cNvPr id="233" name="Объект 5" descr=""/>
          <p:cNvPicPr/>
          <p:nvPr/>
        </p:nvPicPr>
        <p:blipFill>
          <a:blip r:embed="rId2"/>
          <a:stretch/>
        </p:blipFill>
        <p:spPr>
          <a:xfrm>
            <a:off x="677880" y="1650960"/>
            <a:ext cx="167940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Мори урилдаан – Конные скачк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Объект 3" descr=""/>
          <p:cNvPicPr/>
          <p:nvPr/>
        </p:nvPicPr>
        <p:blipFill>
          <a:blip r:embed="rId1"/>
          <a:stretch/>
        </p:blipFill>
        <p:spPr>
          <a:xfrm>
            <a:off x="5816520" y="1266840"/>
            <a:ext cx="3810240" cy="26287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719280" y="1222200"/>
            <a:ext cx="498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  <a:ea typeface="Tahoma"/>
              </a:rPr>
              <a:t>С древности у бурят-монголов были очень популярны конные скачки. Раньше на соревнования допускали только  коней-меринов, а теперь допускаются производители и кобылиц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Рисунок 3" descr=""/>
          <p:cNvPicPr/>
          <p:nvPr/>
        </p:nvPicPr>
        <p:blipFill>
          <a:blip r:embed="rId2"/>
          <a:stretch/>
        </p:blipFill>
        <p:spPr>
          <a:xfrm>
            <a:off x="5934240" y="3941640"/>
            <a:ext cx="3809880" cy="26179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" descr=""/>
          <p:cNvPicPr/>
          <p:nvPr/>
        </p:nvPicPr>
        <p:blipFill>
          <a:blip r:embed="rId3"/>
          <a:stretch/>
        </p:blipFill>
        <p:spPr>
          <a:xfrm>
            <a:off x="1639800" y="4259160"/>
            <a:ext cx="385920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4" descr=""/>
          <p:cNvPicPr/>
          <p:nvPr/>
        </p:nvPicPr>
        <p:blipFill>
          <a:blip r:embed="rId1"/>
          <a:stretch/>
        </p:blipFill>
        <p:spPr>
          <a:xfrm>
            <a:off x="8978760" y="3078000"/>
            <a:ext cx="3444840" cy="3810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Documents and Settings\Admin\Рабочий стол\Новая папка\i.jpeg"/>
          <p:cNvPicPr/>
          <p:nvPr/>
        </p:nvPicPr>
        <p:blipFill>
          <a:blip r:embed="rId2"/>
          <a:stretch/>
        </p:blipFill>
        <p:spPr>
          <a:xfrm>
            <a:off x="165240" y="3425760"/>
            <a:ext cx="3371760" cy="3300480"/>
          </a:xfrm>
          <a:prstGeom prst="rect">
            <a:avLst/>
          </a:prstGeom>
          <a:ln w="0">
            <a:noFill/>
          </a:ln>
        </p:spPr>
      </p:pic>
      <p:pic>
        <p:nvPicPr>
          <p:cNvPr id="241" name="Объект 3" descr=""/>
          <p:cNvPicPr/>
          <p:nvPr/>
        </p:nvPicPr>
        <p:blipFill>
          <a:blip r:embed="rId3"/>
          <a:stretch/>
        </p:blipFill>
        <p:spPr>
          <a:xfrm>
            <a:off x="165240" y="971640"/>
            <a:ext cx="3371760" cy="24541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8360" y="46080"/>
            <a:ext cx="85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k-KZ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Бүхэ барилдаан </a:t>
            </a:r>
            <a:r>
              <a:rPr b="1" lang="ru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- Борьб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3718080" y="1066680"/>
            <a:ext cx="536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rebuchet MS"/>
              </a:rPr>
              <a:t>Третий вид соревнований на сурхарбане - борьба, которая считается национальным видом спорта у буря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rebuchet MS"/>
              </a:rPr>
              <a:t>На ламаистских праздниках также устраивались соревнования по борьбе и проходили они в соответствии с религиозным этикетом: перед схваткой борцы подходили к ламе за благословением, а после схватки победитель подносил ламе часть своего приз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Объект 4" descr=""/>
          <p:cNvPicPr/>
          <p:nvPr/>
        </p:nvPicPr>
        <p:blipFill>
          <a:blip r:embed="rId4"/>
          <a:stretch/>
        </p:blipFill>
        <p:spPr>
          <a:xfrm>
            <a:off x="9599760" y="46080"/>
            <a:ext cx="24717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96480" y="225360"/>
            <a:ext cx="8277480" cy="61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ЦЕЛЬ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Познакомится с играми бурятского 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народа, на примере праздника « 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Сурхарбан», « Шагай надаан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Задачи: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 1. Изучить литератур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2. Провести опрос среди дете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3. Провести открытое занятие в 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садике в школ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Методы: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1. Игрово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2. Наглядны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3. Практическ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4. Творческ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5" descr="C:\Users\вход\Desktop\DSC00457.JPG"/>
          <p:cNvPicPr/>
          <p:nvPr/>
        </p:nvPicPr>
        <p:blipFill>
          <a:blip r:embed="rId1"/>
          <a:stretch/>
        </p:blipFill>
        <p:spPr>
          <a:xfrm>
            <a:off x="5381640" y="15145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C:\Users\Home\Desktop\Нэлли\Фотки  из садика\20170411_163841.jpg"/>
          <p:cNvPicPr/>
          <p:nvPr/>
        </p:nvPicPr>
        <p:blipFill>
          <a:blip r:embed="rId2"/>
          <a:stretch/>
        </p:blipFill>
        <p:spPr>
          <a:xfrm>
            <a:off x="3301920" y="1469880"/>
            <a:ext cx="1963800" cy="1800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Users\Home\Desktop\Нэлли\Фотки  из садика\20170411_163841.jpg"/>
          <p:cNvPicPr/>
          <p:nvPr/>
        </p:nvPicPr>
        <p:blipFill>
          <a:blip r:embed="rId3"/>
          <a:stretch/>
        </p:blipFill>
        <p:spPr>
          <a:xfrm>
            <a:off x="7039080" y="4692600"/>
            <a:ext cx="1590480" cy="1701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:\Users\Home\Desktop\Нэлли\Фотки  из садика\20170410_164347.jpg"/>
          <p:cNvPicPr/>
          <p:nvPr/>
        </p:nvPicPr>
        <p:blipFill>
          <a:blip r:embed="rId4"/>
          <a:stretch/>
        </p:blipFill>
        <p:spPr>
          <a:xfrm>
            <a:off x="1579680" y="5315040"/>
            <a:ext cx="2519280" cy="14176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8800" y="161640"/>
            <a:ext cx="86104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Творческая рабо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1" name="Picture 2" descr="C:\Users\Home\Desktop\Нэлли\Фотки  из садика\DSC03875.JPG"/>
          <p:cNvPicPr/>
          <p:nvPr/>
        </p:nvPicPr>
        <p:blipFill>
          <a:blip r:embed="rId5"/>
          <a:stretch/>
        </p:blipFill>
        <p:spPr>
          <a:xfrm>
            <a:off x="480960" y="1709640"/>
            <a:ext cx="2820960" cy="1782720"/>
          </a:xfrm>
          <a:prstGeom prst="rect">
            <a:avLst/>
          </a:prstGeom>
          <a:ln w="0">
            <a:noFill/>
          </a:ln>
        </p:spPr>
      </p:pic>
      <p:sp>
        <p:nvSpPr>
          <p:cNvPr id="252" name="Овал 2"/>
          <p:cNvSpPr/>
          <p:nvPr/>
        </p:nvSpPr>
        <p:spPr>
          <a:xfrm>
            <a:off x="25560" y="942840"/>
            <a:ext cx="3276360" cy="78444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/с «Успех» средняя групп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5-6 ле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3" descr="C:\Users\Home\Desktop\Нэлли\Фотки  из садика\DSC03879.JPG"/>
          <p:cNvPicPr/>
          <p:nvPr/>
        </p:nvPicPr>
        <p:blipFill>
          <a:blip r:embed="rId6"/>
          <a:stretch/>
        </p:blipFill>
        <p:spPr>
          <a:xfrm>
            <a:off x="3492360" y="4067280"/>
            <a:ext cx="3546720" cy="1954080"/>
          </a:xfrm>
          <a:prstGeom prst="rect">
            <a:avLst/>
          </a:prstGeom>
          <a:ln w="0">
            <a:noFill/>
          </a:ln>
        </p:spPr>
      </p:pic>
      <p:sp>
        <p:nvSpPr>
          <p:cNvPr id="254" name="Овал 3"/>
          <p:cNvSpPr/>
          <p:nvPr/>
        </p:nvSpPr>
        <p:spPr>
          <a:xfrm>
            <a:off x="3801960" y="3294000"/>
            <a:ext cx="3237120" cy="79524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Д/с «Успех» младшая групп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3-4 год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Овал 4"/>
          <p:cNvSpPr/>
          <p:nvPr/>
        </p:nvSpPr>
        <p:spPr>
          <a:xfrm>
            <a:off x="7120080" y="1049400"/>
            <a:ext cx="2800080" cy="84132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2 «А» клас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абанская СОШ 8-9 ле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Скругленный прямоугольник 5"/>
          <p:cNvSpPr/>
          <p:nvPr/>
        </p:nvSpPr>
        <p:spPr>
          <a:xfrm>
            <a:off x="2266920" y="6488280"/>
            <a:ext cx="1638360" cy="24444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няхалдаах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Скругленный прямоугольник 6"/>
          <p:cNvSpPr/>
          <p:nvPr/>
        </p:nvSpPr>
        <p:spPr>
          <a:xfrm>
            <a:off x="6657840" y="6357960"/>
            <a:ext cx="2138400" cy="43344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Морин урилдах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6" descr="C:\Users\Home\Desktop\Нэлли\Фотки  из садика\DSC03874.JPG"/>
          <p:cNvPicPr/>
          <p:nvPr/>
        </p:nvPicPr>
        <p:blipFill>
          <a:blip r:embed="rId7"/>
          <a:stretch/>
        </p:blipFill>
        <p:spPr>
          <a:xfrm>
            <a:off x="65160" y="3492360"/>
            <a:ext cx="2049480" cy="1689120"/>
          </a:xfrm>
          <a:prstGeom prst="rect">
            <a:avLst/>
          </a:prstGeom>
          <a:ln w="0">
            <a:noFill/>
          </a:ln>
        </p:spPr>
      </p:pic>
      <p:sp>
        <p:nvSpPr>
          <p:cNvPr id="259" name="Скругленный прямоугольник 12"/>
          <p:cNvSpPr/>
          <p:nvPr/>
        </p:nvSpPr>
        <p:spPr>
          <a:xfrm>
            <a:off x="65160" y="3270240"/>
            <a:ext cx="2049480" cy="24444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няхалдаах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Скругленный прямоугольник 14"/>
          <p:cNvSpPr/>
          <p:nvPr/>
        </p:nvSpPr>
        <p:spPr>
          <a:xfrm>
            <a:off x="3273480" y="1119240"/>
            <a:ext cx="1976400" cy="43164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Морин урилдах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Рисунок 16" descr="C:\Users\вход\Desktop\DSC00459.JPG"/>
          <p:cNvPicPr/>
          <p:nvPr/>
        </p:nvPicPr>
        <p:blipFill>
          <a:blip r:embed="rId8"/>
          <a:stretch/>
        </p:blipFill>
        <p:spPr>
          <a:xfrm>
            <a:off x="7746840" y="2419200"/>
            <a:ext cx="222588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690480" y="141120"/>
            <a:ext cx="79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ahoma"/>
                <a:ea typeface="Tahoma"/>
              </a:rPr>
              <a:t>Бабки-лодыжки</a:t>
            </a:r>
            <a:r>
              <a:rPr b="1" lang="ru-RU" sz="18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Шагай наадан</a:t>
            </a:r>
            <a:r>
              <a:rPr b="1" lang="ru-RU" sz="3200" spc="-1" strike="noStrike">
                <a:solidFill>
                  <a:srgbClr val="7030a0"/>
                </a:solidFill>
                <a:latin typeface="Trebuchet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Picture 5" descr="C:\Users\Home\Desktop\Нэлли\шагай наадан\IMG_20170326_132956.jpg"/>
          <p:cNvPicPr/>
          <p:nvPr/>
        </p:nvPicPr>
        <p:blipFill>
          <a:blip r:embed="rId1"/>
          <a:stretch/>
        </p:blipFill>
        <p:spPr>
          <a:xfrm>
            <a:off x="6532560" y="787320"/>
            <a:ext cx="1638360" cy="3279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C:\Users\Home\Desktop\Нэлли\шагай наадан\IMG_20170326_132928.jpg"/>
          <p:cNvPicPr/>
          <p:nvPr/>
        </p:nvPicPr>
        <p:blipFill>
          <a:blip r:embed="rId2"/>
          <a:stretch/>
        </p:blipFill>
        <p:spPr>
          <a:xfrm>
            <a:off x="8296200" y="787320"/>
            <a:ext cx="3392640" cy="3260880"/>
          </a:xfrm>
          <a:prstGeom prst="rect">
            <a:avLst/>
          </a:prstGeom>
          <a:ln w="0">
            <a:noFill/>
          </a:ln>
        </p:spPr>
      </p:pic>
      <p:pic>
        <p:nvPicPr>
          <p:cNvPr id="265" name="Объект 9" descr=""/>
          <p:cNvPicPr/>
          <p:nvPr/>
        </p:nvPicPr>
        <p:blipFill>
          <a:blip r:embed="rId3"/>
          <a:stretch/>
        </p:blipFill>
        <p:spPr>
          <a:xfrm>
            <a:off x="272880" y="717480"/>
            <a:ext cx="5521320" cy="36831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3"/>
          <p:cNvSpPr/>
          <p:nvPr/>
        </p:nvSpPr>
        <p:spPr>
          <a:xfrm>
            <a:off x="7029360" y="4048200"/>
            <a:ext cx="415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ahoma"/>
                <a:ea typeface="Tahoma"/>
              </a:rPr>
              <a:t>Мори</a:t>
            </a:r>
            <a:r>
              <a:rPr b="1" lang="ru-RU" sz="2400" spc="-1" strike="noStrike">
                <a:solidFill>
                  <a:srgbClr val="0070c0"/>
                </a:solidFill>
                <a:latin typeface="Tahoma"/>
                <a:ea typeface="Tahoma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Tahoma"/>
                <a:ea typeface="Tahoma"/>
              </a:rPr>
              <a:t>урилдаан –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ahoma"/>
                <a:ea typeface="Tahoma"/>
              </a:rPr>
              <a:t>Конные скачк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2" descr="C:\Users\Home\Desktop\Нэлли\шагай наадан\IMG_20170326_132920.jpg"/>
          <p:cNvPicPr/>
          <p:nvPr/>
        </p:nvPicPr>
        <p:blipFill>
          <a:blip r:embed="rId4"/>
          <a:stretch/>
        </p:blipFill>
        <p:spPr>
          <a:xfrm>
            <a:off x="2639880" y="4137120"/>
            <a:ext cx="1935360" cy="25797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C:\Users\Home\Desktop\Нэлли\шагай наадан\IMG_20170326_132903.jpg"/>
          <p:cNvPicPr/>
          <p:nvPr/>
        </p:nvPicPr>
        <p:blipFill>
          <a:blip r:embed="rId5"/>
          <a:stretch/>
        </p:blipFill>
        <p:spPr>
          <a:xfrm>
            <a:off x="4684680" y="4137120"/>
            <a:ext cx="1935360" cy="2579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Users\Home\Desktop\Нэлли\шагай наадан\IMG_20170326_132648.jpg"/>
          <p:cNvPicPr/>
          <p:nvPr/>
        </p:nvPicPr>
        <p:blipFill>
          <a:blip r:embed="rId6"/>
          <a:stretch/>
        </p:blipFill>
        <p:spPr>
          <a:xfrm>
            <a:off x="566640" y="4114800"/>
            <a:ext cx="1935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30360" y="694800"/>
            <a:ext cx="857088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Выводы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23600" y="1685880"/>
            <a:ext cx="85503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познакомились с национальной играми «Сухарбан», «Шагай надаан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Развивать интерес к историческому прошлому и культуре народов России, к бурятской национальной культуре, народному творчеству, обычаям, традициям, обрядам, к народным игра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2:56:10Z</dcterms:created>
  <dc:creator>TUMEN</dc:creator>
  <dc:description/>
  <dc:language>en-US</dc:language>
  <cp:lastModifiedBy>Admin</cp:lastModifiedBy>
  <dcterms:modified xsi:type="dcterms:W3CDTF">2017-05-13T01:48:24Z</dcterms:modified>
  <cp:revision>53</cp:revision>
  <dc:subject/>
  <dc:title>Эрын гурбан наадан</dc:title>
</cp:coreProperties>
</file>