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AB8D8-461E-47A4-B662-237F71A9E5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Знай: лук и стрелы не хватал бур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напрас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но отчизну защищая, мог мет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Сотню стрел послать подря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И славе предков отдавая дан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На славу завоевывает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Сегодня юность - и куда не глянь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Богатыри налево и  направ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Вам, лучники, бароо- бара, бара да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Слава, слава, слава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Г. Раднае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49C9C-FACF-4AD7-98DD-D610B2A2A12D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ванулись скакуны, летят впере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тремительно пространство поглощая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, словно вихрь, скрываются вда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Лишь эхо улетает к небосклон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от-вот и оторвутся от зем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тав белой стаей облаков с разгону…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(Г. Раднае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ahoma"/>
                <a:ea typeface="Tahoma"/>
              </a:rPr>
              <a:t>Из двух меринов, пришедших первыми, один подносился в дар старшему ламе, второй - старшему нойону, а имена владельцев лошадей даже не объявлялись; теперь владельцы лошадей-победителей получают специальный приз и поощрение к улучшению породы. Получает приз и наезд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1C790-B1B8-44D0-A056-00137DE8E429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стают борцы. Их мощные тел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з солнца? Меди? – пот покрыл как гляне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ни старинный исполняют танец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Бесстрашные, как два степных ор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спытывают силу и отва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руг друга в равной, доблестной борьб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е уступая ни за что ни ша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опернику, подобному себ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Так, предки в праздник превратив борьб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ильнейшего из сильных выявля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 каждый испытать хотел судьб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а праздник торопясь из дальней дал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(Г. Раднаева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EE2A9-FB2D-4D60-BFA3-D8B872D98FF6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я побывала на состязаниях взрослых, мне стало интересно, есть ли у бурятского народа игры дл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тив краеведческий музей г. Улан-Удэ выяснила, что раньше у детей не было такого разнообразия игрушек, как теперь. Дети развлекались по-другому: скачки, прыжки, прятки, бабки. Играли тем, что было под рукой: камушки, веточки, самодельные куколки. Излюбленной игрой детишек были, шагай бараньи косточки – лодыжки. Эти игры были разнообразны и требовали ловкости, быстроты, терпения – качеств, необходимых кочев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3FA68-19DD-40D9-9199-812F5128630D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Бросание лодыжек (таранных костей) имеет много разновидносте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7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1. Несколько лодыжек расставляют в ряд друг против друга по краям стола. Игроки разделяются на две команды. Они по очереди щелкают любую лодыжку из своего ряда в противоположную сторону. Сбитые лодыжки соперников они забирают себе. Выигрывает та команда, которая больше сбила лодыж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7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2. Большим пальцем щелкают по одной лодыжке, чтобы попасть в другую. Если попадание было удачным, то игрок сшибает следующую и т. д. Сбитые лодыжки забирает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7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3. Бег лодыжек: игрок щелчками по лодыжкам добивается, чтобы его лодыжки обогнали лодыжки сопер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7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4. Бодание баранов: два игрока одновременно щелчками с противоположных сторон пускают друг на друга лодыжки. Побеждает тот, чья лодыжка упала на бок или переверну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7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5. Кидание лодыжек с ладони вверх. Пока одна летит вверх, надо собрать в кучу лодыжки, расположенные врассыпную на ст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7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Правила игры: следует точно соблюдать приемы игры</a:t>
            </a: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7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8F620-321F-4AF7-BDAC-0FF85AF023FF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F3B-018C-4F5E-927E-32FF94E1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4DB-1711-4B9A-BA7F-08D82901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519-4EAE-4280-B883-83455CD0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08F-4479-4C5A-9800-26336288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AD69-7150-4BA6-95A0-D18AFECE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73E3-B0E0-437C-B80F-398175B8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B07D-1217-4C2B-B140-19B203C5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579B-C135-4562-8969-E479E4F3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22BF-46F9-4A2A-841F-00B3E82B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4AD1-3BF5-4B8A-A484-769C305D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4005-ECDF-4EB2-B8C2-9C02349D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C6F-4053-4A90-AD45-89DAA089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CE8D-6B65-4BE3-899F-45530104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D99A-5984-4D11-BBB8-6FAA7EF8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7848-28A1-4F9E-90E3-ADAF8AB2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BB44-B7E2-4430-820F-6A7EC79A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4D33-1B8A-4FDB-AC14-3BBA2DCB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B0D89-634B-4CAB-889B-7C8E4581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6F747-D7CD-4968-B57D-0B75C7B2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88B26-3A94-4795-B31A-B2365431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2AA35-BB24-49CB-9413-D0FCB300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40840-5E53-4DE7-872D-0D8BC979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3B7-FFEC-49DE-8C2A-147FB426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EA4EF-4689-4A99-BF3E-546CF49A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EF58A-99B5-479E-9E56-B79E0115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095E2-E336-4D9E-B3AE-A5143DB7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1CE4F-9256-4079-83C1-D3FEBF42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B9A7B-A9BF-4B3C-9E82-C0372299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B8623-731A-4D90-979C-1777AA27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10214-6CE1-4250-9CC0-EF16404B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67534-D1FD-47F3-ADCE-83D399E7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92B84-BB46-4296-929A-117C4C30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AA84F-0920-4DB6-B8BB-C3AC0F66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C01-0A89-4EFE-8AC5-1ADFE305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707A2-3736-49F7-BB94-BB1BB099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77A75-60CF-46C3-9BDC-EFADA2B6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73A12-72CF-4666-8FB5-63C4EFDC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C3946-B8CC-4001-A192-2382CF5B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68542-13FE-4DAB-B4D4-0DD57EA1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C5825-4216-4409-805A-35BD6D39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92A37-7C83-42CD-A69F-585F0F68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CB879-AE10-443A-B43B-CA36C985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1D2F5-A3F1-4176-AFD8-538B0379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399-D23B-469D-B3A9-C867A8E9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5B3-D608-4BDA-AF8E-65709F83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915-584A-41B4-91DF-8AB741B7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2CE-2770-45A9-A145-30DBBD11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D40-EAF9-4A45-9436-FD5A5C70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BC56C-DA1B-41A5-80F9-41064B8F77D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232CA-755A-484B-B06B-A4A043ABF38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29E98-9AD4-494F-8F4A-32B65C3C41C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FA516-6DAA-4E8B-9A2A-C1281CA63F2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7160" y="328680"/>
            <a:ext cx="9651960" cy="12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рятские народные игры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34760" y="5415120"/>
            <a:ext cx="8521560" cy="104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Выполнила ученица 2 «А» Кабанская СОШ: Тырхеева Дулм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Классный руководитель: Суворова Татьяна Ивановна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Рисунок 4" descr=""/>
          <p:cNvPicPr/>
          <p:nvPr/>
        </p:nvPicPr>
        <p:blipFill>
          <a:blip r:embed="rId1"/>
          <a:stretch/>
        </p:blipFill>
        <p:spPr>
          <a:xfrm>
            <a:off x="3087720" y="2000160"/>
            <a:ext cx="460368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бъект 2"/>
          <p:cNvSpPr/>
          <p:nvPr/>
        </p:nvSpPr>
        <p:spPr>
          <a:xfrm>
            <a:off x="239760" y="271440"/>
            <a:ext cx="859644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О, сурхарбан! Летит вперед скакун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Веселым ржанием праздник обновля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Его полету вторит  из-под струн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Стремительная песня удалая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Объект 3" descr=""/>
          <p:cNvPicPr/>
          <p:nvPr/>
        </p:nvPicPr>
        <p:blipFill>
          <a:blip r:embed="rId1"/>
          <a:stretch/>
        </p:blipFill>
        <p:spPr>
          <a:xfrm>
            <a:off x="10104480" y="128520"/>
            <a:ext cx="2027160" cy="19954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4" descr=""/>
          <p:cNvPicPr/>
          <p:nvPr/>
        </p:nvPicPr>
        <p:blipFill>
          <a:blip r:embed="rId2"/>
          <a:stretch/>
        </p:blipFill>
        <p:spPr>
          <a:xfrm>
            <a:off x="639720" y="2503440"/>
            <a:ext cx="3127320" cy="23320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5" descr=""/>
          <p:cNvPicPr/>
          <p:nvPr/>
        </p:nvPicPr>
        <p:blipFill>
          <a:blip r:embed="rId3"/>
          <a:stretch/>
        </p:blipFill>
        <p:spPr>
          <a:xfrm>
            <a:off x="1198440" y="4835520"/>
            <a:ext cx="3318120" cy="2022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6" descr=""/>
          <p:cNvPicPr/>
          <p:nvPr/>
        </p:nvPicPr>
        <p:blipFill>
          <a:blip r:embed="rId4"/>
          <a:stretch/>
        </p:blipFill>
        <p:spPr>
          <a:xfrm>
            <a:off x="7526160" y="4152960"/>
            <a:ext cx="2621160" cy="17445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"/>
          <p:cNvPicPr/>
          <p:nvPr/>
        </p:nvPicPr>
        <p:blipFill>
          <a:blip r:embed="rId5"/>
          <a:stretch/>
        </p:blipFill>
        <p:spPr>
          <a:xfrm>
            <a:off x="4205160" y="1270080"/>
            <a:ext cx="2894040" cy="19857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"/>
          <p:cNvPicPr/>
          <p:nvPr/>
        </p:nvPicPr>
        <p:blipFill>
          <a:blip r:embed="rId6"/>
          <a:stretch/>
        </p:blipFill>
        <p:spPr>
          <a:xfrm>
            <a:off x="4870440" y="3597120"/>
            <a:ext cx="2409840" cy="32148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"/>
          <p:cNvPicPr/>
          <p:nvPr/>
        </p:nvPicPr>
        <p:blipFill>
          <a:blip r:embed="rId7"/>
          <a:stretch/>
        </p:blipFill>
        <p:spPr>
          <a:xfrm>
            <a:off x="7386480" y="609480"/>
            <a:ext cx="19926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2880" y="130320"/>
            <a:ext cx="859644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Һ</a:t>
            </a:r>
            <a:r>
              <a:rPr b="1" lang="ru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үр харбаан – стрельба из лук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4122720" y="974880"/>
            <a:ext cx="73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  <a:ea typeface="Tahoma"/>
              </a:rPr>
              <a:t>Состязание «Стрельба из лука» пришло из далекой древ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  <a:ea typeface="Tahoma"/>
              </a:rPr>
              <a:t>Соревнования по стрельбе у бурят проводятся так: на расстоянии 30 луков и 20 луков (один  лук - 160 см) ставятся горизонтально суры (мишени) на высоту лука; через расстояние, равное длине лука, сзади и спереди суров проводится черта. Стрела не должна падать ближе передней черты и выбивать сур за черту. Выпускают поочередно по две стрелы, но когда остается по одному суру на каждом из участков, то выпускают по одной стрел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Рисунок 3" descr=""/>
          <p:cNvPicPr/>
          <p:nvPr/>
        </p:nvPicPr>
        <p:blipFill>
          <a:blip r:embed="rId1"/>
          <a:stretch/>
        </p:blipFill>
        <p:spPr>
          <a:xfrm>
            <a:off x="1163520" y="4336920"/>
            <a:ext cx="2827440" cy="2119320"/>
          </a:xfrm>
          <a:prstGeom prst="rect">
            <a:avLst/>
          </a:prstGeom>
          <a:ln w="0">
            <a:noFill/>
          </a:ln>
        </p:spPr>
      </p:pic>
      <p:pic>
        <p:nvPicPr>
          <p:cNvPr id="233" name="Объект 5" descr=""/>
          <p:cNvPicPr/>
          <p:nvPr/>
        </p:nvPicPr>
        <p:blipFill>
          <a:blip r:embed="rId2"/>
          <a:stretch/>
        </p:blipFill>
        <p:spPr>
          <a:xfrm>
            <a:off x="677880" y="1650960"/>
            <a:ext cx="167940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Мори урилдаан – Конные скачк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Объект 3" descr=""/>
          <p:cNvPicPr/>
          <p:nvPr/>
        </p:nvPicPr>
        <p:blipFill>
          <a:blip r:embed="rId1"/>
          <a:stretch/>
        </p:blipFill>
        <p:spPr>
          <a:xfrm>
            <a:off x="5816520" y="1266840"/>
            <a:ext cx="3810240" cy="26287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719280" y="1222200"/>
            <a:ext cx="498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  <a:ea typeface="Tahoma"/>
              </a:rPr>
              <a:t>С древности у бурят-монголов были очень популярны конные скачки. Раньше на соревнования допускали только  коней-меринов, а теперь допускаются производители и кобылиц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Рисунок 3" descr=""/>
          <p:cNvPicPr/>
          <p:nvPr/>
        </p:nvPicPr>
        <p:blipFill>
          <a:blip r:embed="rId2"/>
          <a:stretch/>
        </p:blipFill>
        <p:spPr>
          <a:xfrm>
            <a:off x="5934240" y="3941640"/>
            <a:ext cx="3809880" cy="26179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" descr=""/>
          <p:cNvPicPr/>
          <p:nvPr/>
        </p:nvPicPr>
        <p:blipFill>
          <a:blip r:embed="rId3"/>
          <a:stretch/>
        </p:blipFill>
        <p:spPr>
          <a:xfrm>
            <a:off x="1639800" y="4259160"/>
            <a:ext cx="38592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4" descr=""/>
          <p:cNvPicPr/>
          <p:nvPr/>
        </p:nvPicPr>
        <p:blipFill>
          <a:blip r:embed="rId1"/>
          <a:stretch/>
        </p:blipFill>
        <p:spPr>
          <a:xfrm>
            <a:off x="8978760" y="3078000"/>
            <a:ext cx="3444840" cy="3810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Documents and Settings\Admin\Рабочий стол\Новая папка\i.jpeg"/>
          <p:cNvPicPr/>
          <p:nvPr/>
        </p:nvPicPr>
        <p:blipFill>
          <a:blip r:embed="rId2"/>
          <a:stretch/>
        </p:blipFill>
        <p:spPr>
          <a:xfrm>
            <a:off x="165240" y="3425760"/>
            <a:ext cx="3371760" cy="3300480"/>
          </a:xfrm>
          <a:prstGeom prst="rect">
            <a:avLst/>
          </a:prstGeom>
          <a:ln w="0">
            <a:noFill/>
          </a:ln>
        </p:spPr>
      </p:pic>
      <p:pic>
        <p:nvPicPr>
          <p:cNvPr id="241" name="Объект 3" descr=""/>
          <p:cNvPicPr/>
          <p:nvPr/>
        </p:nvPicPr>
        <p:blipFill>
          <a:blip r:embed="rId3"/>
          <a:stretch/>
        </p:blipFill>
        <p:spPr>
          <a:xfrm>
            <a:off x="165240" y="971640"/>
            <a:ext cx="3371760" cy="24541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8360" y="46080"/>
            <a:ext cx="85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k-KZ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Бүхэ барилдаан </a:t>
            </a:r>
            <a:r>
              <a:rPr b="1" lang="ru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- Борьб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3718080" y="1066680"/>
            <a:ext cx="536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rebuchet MS"/>
              </a:rPr>
              <a:t>Третий вид соревнований на сурхарбане - борьба, которая считается национальным видом спорта у буря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rebuchet MS"/>
              </a:rPr>
              <a:t>На ламаистских праздниках также устраивались соревнования по борьбе и проходили они в соответствии с религиозным этикетом: перед схваткой борцы подходили к ламе за благословением, а после схватки победитель подносил ламе часть своего приз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Объект 4" descr=""/>
          <p:cNvPicPr/>
          <p:nvPr/>
        </p:nvPicPr>
        <p:blipFill>
          <a:blip r:embed="rId4"/>
          <a:stretch/>
        </p:blipFill>
        <p:spPr>
          <a:xfrm>
            <a:off x="9599760" y="46080"/>
            <a:ext cx="24717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96480" y="225360"/>
            <a:ext cx="8277480" cy="61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ЦЕЛЬ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Познакомится с играми бурятского 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народа, на примере праздника « 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Сурхарбан», « Шагай надаан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Задачи: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 1. Изучить литератур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2. Провести опрос среди дете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3. Провести открытое занятие в 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садике в школ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Методы: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1. Игрово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2. Наглядны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3. Практическ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4. Творческ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5" descr="C:\Users\вход\Desktop\DSC00457.JPG"/>
          <p:cNvPicPr/>
          <p:nvPr/>
        </p:nvPicPr>
        <p:blipFill>
          <a:blip r:embed="rId1"/>
          <a:stretch/>
        </p:blipFill>
        <p:spPr>
          <a:xfrm>
            <a:off x="5381640" y="15145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C:\Users\Home\Desktop\Нэлли\Фотки  из садика\20170411_163841.jpg"/>
          <p:cNvPicPr/>
          <p:nvPr/>
        </p:nvPicPr>
        <p:blipFill>
          <a:blip r:embed="rId2"/>
          <a:stretch/>
        </p:blipFill>
        <p:spPr>
          <a:xfrm>
            <a:off x="3301920" y="1469880"/>
            <a:ext cx="1963800" cy="1800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Users\Home\Desktop\Нэлли\Фотки  из садика\20170411_163841.jpg"/>
          <p:cNvPicPr/>
          <p:nvPr/>
        </p:nvPicPr>
        <p:blipFill>
          <a:blip r:embed="rId3"/>
          <a:stretch/>
        </p:blipFill>
        <p:spPr>
          <a:xfrm>
            <a:off x="7039080" y="4692600"/>
            <a:ext cx="1590480" cy="1701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:\Users\Home\Desktop\Нэлли\Фотки  из садика\20170410_164347.jpg"/>
          <p:cNvPicPr/>
          <p:nvPr/>
        </p:nvPicPr>
        <p:blipFill>
          <a:blip r:embed="rId4"/>
          <a:stretch/>
        </p:blipFill>
        <p:spPr>
          <a:xfrm>
            <a:off x="1579680" y="5315040"/>
            <a:ext cx="2519280" cy="14176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8800" y="161640"/>
            <a:ext cx="86104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Творческая рабо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1" name="Picture 2" descr="C:\Users\Home\Desktop\Нэлли\Фотки  из садика\DSC03875.JPG"/>
          <p:cNvPicPr/>
          <p:nvPr/>
        </p:nvPicPr>
        <p:blipFill>
          <a:blip r:embed="rId5"/>
          <a:stretch/>
        </p:blipFill>
        <p:spPr>
          <a:xfrm>
            <a:off x="480960" y="1709640"/>
            <a:ext cx="2820960" cy="1782720"/>
          </a:xfrm>
          <a:prstGeom prst="rect">
            <a:avLst/>
          </a:prstGeom>
          <a:ln w="0">
            <a:noFill/>
          </a:ln>
        </p:spPr>
      </p:pic>
      <p:sp>
        <p:nvSpPr>
          <p:cNvPr id="252" name="Овал 2"/>
          <p:cNvSpPr/>
          <p:nvPr/>
        </p:nvSpPr>
        <p:spPr>
          <a:xfrm>
            <a:off x="25560" y="942840"/>
            <a:ext cx="3276360" cy="78444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/с «Успех» средняя групп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5-6 ле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3" descr="C:\Users\Home\Desktop\Нэлли\Фотки  из садика\DSC03879.JPG"/>
          <p:cNvPicPr/>
          <p:nvPr/>
        </p:nvPicPr>
        <p:blipFill>
          <a:blip r:embed="rId6"/>
          <a:stretch/>
        </p:blipFill>
        <p:spPr>
          <a:xfrm>
            <a:off x="3492360" y="4067280"/>
            <a:ext cx="3546720" cy="1954080"/>
          </a:xfrm>
          <a:prstGeom prst="rect">
            <a:avLst/>
          </a:prstGeom>
          <a:ln w="0">
            <a:noFill/>
          </a:ln>
        </p:spPr>
      </p:pic>
      <p:sp>
        <p:nvSpPr>
          <p:cNvPr id="254" name="Овал 3"/>
          <p:cNvSpPr/>
          <p:nvPr/>
        </p:nvSpPr>
        <p:spPr>
          <a:xfrm>
            <a:off x="3801960" y="3294000"/>
            <a:ext cx="3237120" cy="79524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Д/с «Успех» младшая групп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3-4 год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Овал 4"/>
          <p:cNvSpPr/>
          <p:nvPr/>
        </p:nvSpPr>
        <p:spPr>
          <a:xfrm>
            <a:off x="7120080" y="1049400"/>
            <a:ext cx="2800080" cy="84132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 «А» клас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абанская СОШ 8-9 ле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Скругленный прямоугольник 5"/>
          <p:cNvSpPr/>
          <p:nvPr/>
        </p:nvSpPr>
        <p:spPr>
          <a:xfrm>
            <a:off x="2266920" y="6488280"/>
            <a:ext cx="1638360" cy="24444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няхалдаах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Скругленный прямоугольник 6"/>
          <p:cNvSpPr/>
          <p:nvPr/>
        </p:nvSpPr>
        <p:spPr>
          <a:xfrm>
            <a:off x="6657840" y="6357960"/>
            <a:ext cx="2138400" cy="43344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Морин урилдах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6" descr="C:\Users\Home\Desktop\Нэлли\Фотки  из садика\DSC03874.JPG"/>
          <p:cNvPicPr/>
          <p:nvPr/>
        </p:nvPicPr>
        <p:blipFill>
          <a:blip r:embed="rId7"/>
          <a:stretch/>
        </p:blipFill>
        <p:spPr>
          <a:xfrm>
            <a:off x="65160" y="3492360"/>
            <a:ext cx="2049480" cy="1689120"/>
          </a:xfrm>
          <a:prstGeom prst="rect">
            <a:avLst/>
          </a:prstGeom>
          <a:ln w="0">
            <a:noFill/>
          </a:ln>
        </p:spPr>
      </p:pic>
      <p:sp>
        <p:nvSpPr>
          <p:cNvPr id="259" name="Скругленный прямоугольник 12"/>
          <p:cNvSpPr/>
          <p:nvPr/>
        </p:nvSpPr>
        <p:spPr>
          <a:xfrm>
            <a:off x="65160" y="3270240"/>
            <a:ext cx="2049480" cy="24444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няхалдаах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Скругленный прямоугольник 14"/>
          <p:cNvSpPr/>
          <p:nvPr/>
        </p:nvSpPr>
        <p:spPr>
          <a:xfrm>
            <a:off x="3273480" y="1119240"/>
            <a:ext cx="1976400" cy="43164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Морин урилдах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Рисунок 16" descr="C:\Users\вход\Desktop\DSC00459.JPG"/>
          <p:cNvPicPr/>
          <p:nvPr/>
        </p:nvPicPr>
        <p:blipFill>
          <a:blip r:embed="rId8"/>
          <a:stretch/>
        </p:blipFill>
        <p:spPr>
          <a:xfrm>
            <a:off x="7746840" y="2419200"/>
            <a:ext cx="222588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690480" y="141120"/>
            <a:ext cx="79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ahoma"/>
                <a:ea typeface="Tahoma"/>
              </a:rPr>
              <a:t>Бабки-лодыжки</a:t>
            </a:r>
            <a:r>
              <a:rPr b="1" lang="ru-RU" sz="18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Шагай наадан</a:t>
            </a:r>
            <a:r>
              <a:rPr b="1" lang="ru-RU" sz="3200" spc="-1" strike="noStrike">
                <a:solidFill>
                  <a:srgbClr val="7030a0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5" descr="C:\Users\Home\Desktop\Нэлли\шагай наадан\IMG_20170326_132956.jpg"/>
          <p:cNvPicPr/>
          <p:nvPr/>
        </p:nvPicPr>
        <p:blipFill>
          <a:blip r:embed="rId1"/>
          <a:stretch/>
        </p:blipFill>
        <p:spPr>
          <a:xfrm>
            <a:off x="6532560" y="787320"/>
            <a:ext cx="1638360" cy="3279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C:\Users\Home\Desktop\Нэлли\шагай наадан\IMG_20170326_132928.jpg"/>
          <p:cNvPicPr/>
          <p:nvPr/>
        </p:nvPicPr>
        <p:blipFill>
          <a:blip r:embed="rId2"/>
          <a:stretch/>
        </p:blipFill>
        <p:spPr>
          <a:xfrm>
            <a:off x="8296200" y="787320"/>
            <a:ext cx="3392640" cy="3260880"/>
          </a:xfrm>
          <a:prstGeom prst="rect">
            <a:avLst/>
          </a:prstGeom>
          <a:ln w="0">
            <a:noFill/>
          </a:ln>
        </p:spPr>
      </p:pic>
      <p:pic>
        <p:nvPicPr>
          <p:cNvPr id="265" name="Объект 9" descr=""/>
          <p:cNvPicPr/>
          <p:nvPr/>
        </p:nvPicPr>
        <p:blipFill>
          <a:blip r:embed="rId3"/>
          <a:stretch/>
        </p:blipFill>
        <p:spPr>
          <a:xfrm>
            <a:off x="272880" y="717480"/>
            <a:ext cx="5521320" cy="36831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3"/>
          <p:cNvSpPr/>
          <p:nvPr/>
        </p:nvSpPr>
        <p:spPr>
          <a:xfrm>
            <a:off x="7029360" y="4048200"/>
            <a:ext cx="415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ahoma"/>
                <a:ea typeface="Tahoma"/>
              </a:rPr>
              <a:t>Мори</a:t>
            </a:r>
            <a:r>
              <a:rPr b="1" lang="ru-RU" sz="2400" spc="-1" strike="noStrike">
                <a:solidFill>
                  <a:srgbClr val="0070c0"/>
                </a:solidFill>
                <a:latin typeface="Tahoma"/>
                <a:ea typeface="Tahoma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Tahoma"/>
                <a:ea typeface="Tahoma"/>
              </a:rPr>
              <a:t>урилдаан –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ahoma"/>
                <a:ea typeface="Tahoma"/>
              </a:rPr>
              <a:t>Конные скачк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2" descr="C:\Users\Home\Desktop\Нэлли\шагай наадан\IMG_20170326_132920.jpg"/>
          <p:cNvPicPr/>
          <p:nvPr/>
        </p:nvPicPr>
        <p:blipFill>
          <a:blip r:embed="rId4"/>
          <a:stretch/>
        </p:blipFill>
        <p:spPr>
          <a:xfrm>
            <a:off x="2639880" y="4137120"/>
            <a:ext cx="1935360" cy="25797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C:\Users\Home\Desktop\Нэлли\шагай наадан\IMG_20170326_132903.jpg"/>
          <p:cNvPicPr/>
          <p:nvPr/>
        </p:nvPicPr>
        <p:blipFill>
          <a:blip r:embed="rId5"/>
          <a:stretch/>
        </p:blipFill>
        <p:spPr>
          <a:xfrm>
            <a:off x="4684680" y="4137120"/>
            <a:ext cx="1935360" cy="2579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Users\Home\Desktop\Нэлли\шагай наадан\IMG_20170326_132648.jpg"/>
          <p:cNvPicPr/>
          <p:nvPr/>
        </p:nvPicPr>
        <p:blipFill>
          <a:blip r:embed="rId6"/>
          <a:stretch/>
        </p:blipFill>
        <p:spPr>
          <a:xfrm>
            <a:off x="566640" y="4114800"/>
            <a:ext cx="1935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30360" y="694800"/>
            <a:ext cx="857088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ыводы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23600" y="1685880"/>
            <a:ext cx="85503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познакомились с национальной играми «Сухарбан», «Шагай надаан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Развивать интерес к историческому прошлому и культуре народов России, к бурятской национальной культуре, народному творчеству, обычаям, традициям, обрядам, к народным игра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2:56:10Z</dcterms:created>
  <dc:creator>TUMEN</dc:creator>
  <dc:description/>
  <dc:language>en-US</dc:language>
  <cp:lastModifiedBy>Admin</cp:lastModifiedBy>
  <dcterms:modified xsi:type="dcterms:W3CDTF">2017-05-13T01:48:24Z</dcterms:modified>
  <cp:revision>53</cp:revision>
  <dc:subject/>
  <dc:title>Эрын гурбан наадан</dc:title>
</cp:coreProperties>
</file>