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617-AAF4-4794-A407-29A8C6A7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FC-09F5-4DFB-ACD6-4CC4974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B85-DF2C-4193-B6DB-55470957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E8E-99B0-42B3-BD8C-582D264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B9A-DD50-451B-9A14-1EB7244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17D-FF3D-4BFD-A1FA-1EA7F05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D9E-8049-4C90-97F8-DBD129E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714-ECA3-40AA-89D9-39FFBA5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B90-2BD9-4C9C-ABBD-C113ECA6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CBE-5766-4332-AEAE-A59C97C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872-1075-40D6-98C0-0CB48CC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2BA-BBFA-4D1F-994E-568CA848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ED7-4297-4F49-8FDE-CBB4BBC914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24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озеф Кэвинс лишился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99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болевания, которые вызывает электронная сигар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413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ипергликемию (увеличение содержания глюкозы в сыворотке крови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может вызвать употребление никотинаартериальную гипертон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теросклероз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хикард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итм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нокард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шемическую болезнь сердц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дечную недостаточ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аркт миокар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ерпевший Маркус Форцан получил ожог ноги в результате взрыва аккумулятора е-сигареты в кармане брю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70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мериканец Кеннет Барберо, взрыв е-сигареты насквозь разорвал язы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453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мас Боэса курил девайс за рулем. Удар от взрыва сигареты выбыл ему передние зубы и вонзил их прямо в нё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3:18:24Z</dcterms:created>
  <dc:creator>Учитель</dc:creator>
  <dc:description/>
  <dc:language>en-US</dc:language>
  <cp:lastModifiedBy>Учитель</cp:lastModifiedBy>
  <dcterms:modified xsi:type="dcterms:W3CDTF">2016-10-31T11:59:38Z</dcterms:modified>
  <cp:revision>7</cp:revision>
  <dc:subject/>
  <dc:title>Презентация PowerPoint</dc:title>
</cp:coreProperties>
</file>