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C9D-4817-4828-BA79-13791D15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348-CB3C-466E-A942-B8E7E13F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547-B777-4C20-8D03-393551C0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107-51BA-4713-BAA0-C2BC8B92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824-2A09-4663-A513-8194575E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C76-7F99-4AED-B991-7DCC383C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94E-A908-458B-99D3-F18F0B0C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B2B-F1DC-4D28-A7C1-E34880BD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F06-4391-44C5-954F-EB2F8E54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240-0763-4889-A48C-2F320C0B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426-9F68-4AB2-9BDD-FF72226A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6ED-FC27-457D-A70D-E6EEDEFB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F3F2-E568-4133-9C7A-9B1E12378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7249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жозеф Кэвинс лишился гла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9080"/>
            <a:ext cx="91994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болевания, которые вызывает электронная сигар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413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ипергликемию (увеличение содержания глюкозы в сыворотке крови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может вызвать употребление никотинаартериальную гипертон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теросклероз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хикард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итм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нокард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шемическую болезнь сердц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рдечную недостаточн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аркт миокар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терпевший Маркус Форцан получил ожог ноги в результате взрыва аккумулятора е-сигареты в кармане брю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670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Американец Кеннет Барберо, взрыв е-сигареты насквозь разорвал язы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2453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мас Боэса курил девайс за рулем. Удар от взрыва сигареты выбыл ему передние зубы и вонзил их прямо в нё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3:18:24Z</dcterms:created>
  <dc:creator>Учитель</dc:creator>
  <dc:description/>
  <dc:language>en-US</dc:language>
  <cp:lastModifiedBy>Учитель</cp:lastModifiedBy>
  <dcterms:modified xsi:type="dcterms:W3CDTF">2016-10-31T11:59:38Z</dcterms:modified>
  <cp:revision>7</cp:revision>
  <dc:subject/>
  <dc:title>Презентация PowerPoint</dc:title>
</cp:coreProperties>
</file>