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25E-3699-43B0-B09F-130AE175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EEF-D4C3-45DD-819A-7318EF3B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ABB-276A-4C56-906D-D27310E3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F9B-81CD-4CE6-BF35-5BBB02BA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E7D5-F589-499C-9CAC-A08C61B7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6839-A9D6-4134-A83D-FDFB3D02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6C0A-DE9B-42A3-B4D9-D5A9C32D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1E22-7015-4691-B201-C5245F76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316E-FA1A-4597-963F-3F4B29E9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0EA6-1590-4A64-8C19-A3CD2EAF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A458-426B-4F73-9C71-1BDFAAAB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002-76C6-44FB-BC1F-F96DFDCB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4089-877B-4293-9E17-A0843072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E783-85FB-415B-8303-948FB4AF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C88B-E386-4AB6-A183-510B536B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66C8-E8DD-4F9B-AAEC-64D55577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8AEA-ACED-462F-AA52-664D5B88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45D16-5FE8-4B07-A3CC-3F461189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3DA7A-6638-4E82-AAA2-94E9B70B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52931-53B8-4041-B823-E454681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CF9DD-EADE-4425-B1ED-DFAEED84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37AF2-C039-4464-8028-2293E00E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73C-99BB-4960-B6FF-7C0339DF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5EFE5-9B6C-4838-8A50-4CB9DEA3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44A48-956F-4F97-9C39-16FF83E4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C8580-1CF8-453E-A390-93BEF4D5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73C2D-FE90-4E78-8FFB-8ED23B47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F1305-7B0F-4797-836E-45D16442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B390B-128A-4FB9-B0F3-C0F8D801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0F1BD-C35E-43C5-8511-667DB0ED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99C6-3DF0-4822-9454-DDBEC7F4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48476-A3FD-4D89-9153-FF798BF7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36E23-12AB-4755-A506-3A4501EA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EB6-B7AE-4A01-B826-D407A92D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18912-998B-4098-9149-2188ECC2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44971-DAF9-4289-B21A-0FC4E6F6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94451-9359-421B-BC8B-50691361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09C28-D683-424C-894C-3429B07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4570B-3E43-4525-98F3-D10502DD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8343-BD1C-4481-AAE5-5210BAEA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1610-BBCB-4F6D-A73F-1C8273B0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13CC-D154-46D5-9C14-4C22B01C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344B-870E-4060-989D-2F1CB299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BF923-DDEC-4DEC-B317-0AFE51A4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D2D-EC41-4020-8D2E-5666E55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96E0B-9FB0-42F9-91D0-A71541FD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B793E-B93E-4F89-B5A4-D6A743E2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83849-A11E-4FFA-B6B8-9054086A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56F81-EF57-4229-895E-5EA8E60C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7C5C4-AAE7-4DF7-86F5-8FC9D753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1DC40-C45E-4151-8869-C271DB4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43B36-C72B-4280-8D8C-AB97AEB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5FDF0-31DE-4FE8-B523-354405FE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726DD-C989-46B5-AA67-2589028A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5C653-71CE-4120-A16B-004B3C46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CBD-5DDF-4457-9CE3-4925A271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9DBE3-D16F-4714-8A9D-6B99DBD2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5E742-6914-44F1-A975-64CB39FC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92137-B664-4D30-BD28-D514DDE9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3B6BF-BE70-4710-8D18-148DEEE8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17C75-46D0-4306-BA94-C714BC6B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FD339-5AFE-4FFB-B0A8-E94DE91F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3212F-EF0B-430C-9231-8FD02A6C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C3336-E315-4ECF-BF8E-1845095C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453D4-5BE5-4802-BB42-25E35758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F4ABD-9A8B-4D94-A3D0-690ED242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247-B73C-41DC-B0BA-4B0181D8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48289-A579-46F6-AC4F-0FB32BD7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B52CF-1D80-47C5-82CD-D7E8AB02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3027C-6E0E-4C62-B1ED-1C5B904F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6D0D7-235A-449A-85A4-0E0A7ECA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8BB00F-8B98-48B2-87DB-71CFC2C3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BF4E6B-B450-40B2-9435-6ADE87FE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7D05D-3CAB-43B7-8D80-7CE22A25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0CE04-27DB-4AD1-85A4-00420C6D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BD175-1E68-4B7A-AF80-DC479CC8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9D919-0188-4F67-8289-9E10F1AF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040-0BA3-4E70-848C-05B137A5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01FDB-BF28-4C07-BD5B-F0BA254E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2FA84-1F50-40C9-AA66-2444FE8B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128B5-2A27-49E6-9A38-852ED506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DD2F9-0DD6-4815-921A-E1098E70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5825D-FAE8-4B04-BD8A-92DA9CB6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E12-FD7D-4978-9F69-29F053C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05D7-1CEF-4D13-B0ED-AEB26ABDD4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E0E4-F8A8-4068-881F-C9E1C71DAB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8D28-6814-4247-B799-8FDC3AAFCF1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2AF7-FCD9-476F-8555-0423278028E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A015-0C97-40C4-A0B8-18274D6B23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B73E-981E-4D8C-BBF5-A88B5136908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2FC1-AEAA-4CEB-8282-945DB01EBCA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61722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: МЕТОДИКА И МЕТОДОЛОГИЯ ДИЗАЙНА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834920" y="2565360"/>
            <a:ext cx="7057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1. Общие понят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2. Методы исследования в дизайн-проектирован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3. Методы дизайн-проектирова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1. ОБЩИЕ ПОНЯТ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54900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        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Метод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т греч. methodos - путь исследования, познания, теория, учение) - совокупность приемов или операций практического или теоретического освоения действительности, подчиненных решению конкретной задач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Метод и методика в дизайне</a:t>
            </a: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порядок достижения проектной цели, решения поставленной перед дизайнером функционально-пространственной, технологической и художественной задач, последовательность приемов или операций, необходимых для получения искомого результата; система мер по оптимальной организации проектной (дизайнерской) деятельнос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общем случае термин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«метод»</a:t>
            </a: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дразумевает практический способ выполнения относительно узко очерченной работы;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«методика»</a:t>
            </a:r>
            <a:r>
              <a:rPr b="0" lang="ru-RU" sz="2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ставляет совокупность разных способов, позволяющих решать широкий спектр профессиональных заданий дизайнер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КОМПОНЕНТЫ МЕТОД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ановка пробл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ановка предмета исслед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е научной те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рка полученного результа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олог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(от греческого methodos – понятие 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gos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онятие, мысль) учение о структуре, рациональной организации методов и средств дизайнерской деятельности, высшая ступень представления о методике и дизай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2. МЕТОДЫ ИССЛЕДОВАНИЯ В  ДИЗАЙН-ПРОЕКТИРОВАНИИ.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5280" y="907920"/>
          <a:ext cx="8291520" cy="508644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404280">
                <a:tc row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 типу вос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зуально - граф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eba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ebab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bab"/>
                    </a:solidFill>
                  </a:tcPr>
                </a:tc>
              </a:tr>
              <a:tr h="40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bab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bab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ербальные (словесно-логическ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9e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9e91"/>
                    </a:solidFill>
                  </a:tcPr>
                </a:tc>
              </a:tr>
              <a:tr h="40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9e91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9e91"/>
                    </a:solidFill>
                  </a:tcPr>
                </a:tc>
              </a:tr>
              <a:tr h="40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9e91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ме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трактно-мод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етно-мод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</a:tr>
              <a:tr h="40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эксперимент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250920" y="549360"/>
          <a:ext cx="8229600" cy="482904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3715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 оснас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у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о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371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 месту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сл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производ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36"/>
                    </a:solidFill>
                  </a:tcPr>
                </a:tc>
              </a:tr>
              <a:tr h="3715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 способу 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6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ный (один объ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6f0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ьный (один мет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6f0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общи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объек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6f0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сальны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етод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6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3. МЕТОДЫ ДИЗАЙН-ПРОЕКТИР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Метод отражает повторяемость приемов и путей дизайнерской деятельности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, в последствии становятся законо­мерности создания проектной модели правилами работы дизайнер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Аналогия эвристическая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агрегатирования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ассоциации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«вживания в роль»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«мозговая атака» (от англ. brein storming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роективография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структурного моделирования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сценарного моделирования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случайностей и ассоциаций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Творческий метод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«сенектики»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Футурология (в дизайне)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«Штучный метод»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«Ликвидация тупиковых ситуаций»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оллективный поиск идей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омбинаторика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Метод «дельфы» (дельфийская техника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ЗАДАНИЕ ДЛЯ РАБОТЫ С ОПОРНЫМ КОНСПЕКТОМ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ние №1 : заполните таблицу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Задание № 2: Выберите метод, который считаете наиболее результативным и оптимальным именно для Вас, обоснуйте свой выбор письменно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971640" y="2133720"/>
          <a:ext cx="7200720" cy="2120760"/>
        </p:xfrm>
        <a:graphic>
          <a:graphicData uri="http://schemas.openxmlformats.org/drawingml/2006/table">
            <a:tbl>
              <a:tblPr/>
              <a:tblGrid>
                <a:gridCol w="681120"/>
                <a:gridCol w="1360440"/>
                <a:gridCol w="515916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Методы дизайн-проект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т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ность и содержание мет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7T04:18:36Z</dcterms:created>
  <dc:creator>User</dc:creator>
  <dc:description/>
  <dc:language>en-US</dc:language>
  <cp:lastModifiedBy>Olga</cp:lastModifiedBy>
  <dcterms:modified xsi:type="dcterms:W3CDTF">2017-05-13T10:56:09Z</dcterms:modified>
  <cp:revision>26</cp:revision>
  <dc:subject/>
  <dc:title>Тема: Методика и методология дизайна.</dc:title>
</cp:coreProperties>
</file>