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165-53B8-408B-9860-FCDFDE45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5E1-9C60-41D0-BC72-05CC5F66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88D-4A81-458F-BB59-06C936C1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1BF-466C-431C-956B-9CA4632F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0EC0-6146-4412-AD77-7565D091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AD27-DD7C-40AA-B8F2-697AD1D2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E8B0-2566-4FBF-87AC-DC430B93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C40F-3B2B-4312-873C-FF978C8D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AF03-5860-4D82-A4AF-A420545E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1E39-382D-4A59-914E-8FD11343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D3F8-8081-4AFC-80CB-7EF3984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F04-5A95-41C0-A926-A98493EB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7342-DBAB-448C-87FA-048CB6C3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A7DF-B325-4FB2-B251-F52A574D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E0E6-29F6-45FF-A68C-EA5C88B1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FADE-6475-4944-8331-2EC23638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08D3-8D0F-440A-A868-37352175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C7DC3-5166-45C4-96F4-0F753BBB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E33EB-C89B-4F89-B48F-D6E1F031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F4338-F4B9-49E6-BA27-D4CD4358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1AC97-9828-4189-9861-75E13699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9EB02-9646-409F-A841-338604DE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B67-1D34-4298-89F3-80973306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F4AE5-BF11-4139-B1B8-CA3F2533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235F0-7DB8-4AB1-84AF-6B712BD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23833-A2EE-470D-B04D-A9BF3139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F0D65-D684-470A-B889-FD2F5456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F79DB-EA60-40F6-B21E-7570E182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FD531-218A-421E-BD09-068EDB1D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68068-EEB1-48B1-8767-3DE02835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CF3D-85AB-430C-A6E2-80922FA0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D78C-4140-4B61-8EFC-5D71B1E6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06C57-7667-469A-8FB9-E9B12B36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6AB-DBC1-4A9C-9DF7-C243358E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385A-F35D-4336-B049-238AA05F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02723-2C6B-4D49-9EE8-A9892CF2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6C43-C462-4777-A276-49B6B3C1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92BC3-0377-4D75-8D17-E3B84AEA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AD92-C06A-42E8-8602-BC59A1D3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1F03-97BE-4CE4-A552-37290CBC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DF478-4D86-43CA-BDC5-E02D8F41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3DE8-D219-4224-9DF8-4444CA1D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5776-A041-4CE8-9258-2F19C155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A05BED-9217-4BE1-A1BF-22C30967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3B0-5558-43A8-A697-E11A5286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089F1-BC4A-485D-977A-24784336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62282-A618-4436-A11D-165A2F2A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069D3-A045-4A15-A4D6-667F09E0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8751C-8B8B-474A-9B84-18F7B23A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BC8A7-AA06-4BEA-ADD1-0B1C406A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67F1B-9D27-45B5-8588-CDB83E71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85368-E33B-48A8-96AA-B4FB78F5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AE773-D899-484F-B01A-6FBD47C6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6A0E4-74E3-49F5-9D13-D0F82080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433AA-A49F-47F7-8D50-02D566A5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7C7-4D33-4E87-A93C-A0D83524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862CD-997E-497E-B96B-E3850DCC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B25D8-3817-4667-B05D-BEA0DA5F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4B2D8-98FF-402B-ACC1-86553A85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85CC5-E7CC-432F-AEE6-812B4CA4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326C5-6E0A-45FB-B64D-ADFFC562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8E43A-1076-4D6F-A036-29F3A979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A05F3-C6E9-476E-A36B-D01E29DA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19B2B-86AD-477C-9125-EF84D95E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85648-2C33-4C9F-B04C-6F6CAAE3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278CB-D922-45AB-84BA-318CC7F8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509-A62B-453E-AA8D-E2A0EFCA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F4B6B-9824-4A31-B4CA-9B0BD064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6960A-B1C4-4C81-BCBE-6FA6527D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48D79-95F3-495F-BB2F-10CA35CA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E7237A-81B5-48DC-9EF1-70D7A6AB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B1624-872F-4FCA-B5CB-067A83AF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D4C2A-8C71-48AE-8996-DA618266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DF273-AD53-4845-BB40-AC18EA0B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E2FD4-C57B-4357-8045-D68C5EA2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FCD24C-A029-4C8E-B097-6A30588A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13971A-3788-4D75-BC0B-4C26FC63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02D-9E85-4421-AE08-18D59E47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CDF56B-A6B0-47EA-A9A4-94802320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2FD6D-D3BE-49D5-A233-6C81054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11EED-77CE-4BD0-BF53-50560439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33733-AF79-48DA-AF35-C3EBCDEC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99435-34F4-4DAD-A910-16C0E123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4F6-B777-4BFC-99C3-DD6FBC3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E0EF-814C-4E0F-9802-57ED9C92F79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8DB6-61CB-4CBF-8ADB-606B3A60C0C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0D1A-7DE6-4252-A006-D31263C815D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C94A-74D7-45E0-AB18-114DE634A4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6C31-B70C-4912-B700-13314B35FE6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8AC5-1EC9-4B67-8275-E7DE1184B3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1F37-512D-45F7-B308-6B7DA336F29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61722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: МЕТОДИКА И МЕТОДОЛОГИЯ ДИЗАЙНА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834920" y="2565360"/>
            <a:ext cx="7057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1. Общие понят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2. Методы исследования в дизайн-проектирован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3. Методы дизайн-проектирова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1. ОБЩИЕ ПОНЯТ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54900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        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Метод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т греч. methodos - путь исследования, познания, теория, учение) - совокупность приемов или операций практического или теоретического освоения действительности, подчиненных решению конкретной задач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Метод и методика в дизайне</a:t>
            </a: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порядок достижения проектной цели, решения поставленной перед дизайнером функционально-пространственной, технологической и художественной задач, последовательность приемов или операций, необходимых для получения искомого результата; система мер по оптимальной организации проектной (дизайнерской) деятельнос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общем случае термин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«метод»</a:t>
            </a: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дразумевает практический способ выполнения относительно узко очерченной работы;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«методика»</a:t>
            </a: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ставляет совокупность разных способов, позволяющих решать широкий спектр профессиональных заданий дизайнер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КОМПОНЕНТЫ МЕТОД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ановка пробл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ановка предмета исслед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е научной те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рка полученного результа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олог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(от греческого methodos – понятие 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gos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онятие, мысль) учение о структуре, рациональной организации методов и средств дизайнерской деятельности, высшая ступень представления о методике и дизай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2. МЕТОДЫ ИССЛЕДОВАНИЯ В  ДИЗАЙН-ПРОЕКТИРОВАНИИ.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5280" y="907920"/>
          <a:ext cx="8291520" cy="508644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404280">
                <a:tc row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 типу вос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зуально - граф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eba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ebab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bab"/>
                    </a:solidFill>
                  </a:tcPr>
                </a:tc>
              </a:tr>
              <a:tr h="40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bab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bab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ербальные (словесно-логическ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9e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9e91"/>
                    </a:solidFill>
                  </a:tcPr>
                </a:tc>
              </a:tr>
              <a:tr h="40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9e91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9e91"/>
                    </a:solidFill>
                  </a:tcPr>
                </a:tc>
              </a:tr>
              <a:tr h="40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9e91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ме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трактно-мод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етно-мод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</a:tr>
              <a:tr h="40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эксперимент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250920" y="549360"/>
          <a:ext cx="8229600" cy="482904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3715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 оснас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у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о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371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 месту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сл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производ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  <a:tr h="3715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 способу 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6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ный (один объ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6f0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ьный (один мет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6f0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общи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объек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6f0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сальны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етод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6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3. МЕТОДЫ ДИЗАЙН-ПРОЕКТИР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Метод отражает повторяемость приемов и путей дизайнерской деятельности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, в последствии становятся законо­мерности создания проектной модели правилами работы дизайнер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Аналогия эвристическая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агрегатирования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ассоциации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«вживания в роль»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«мозговая атака» (от англ. brein storming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роективография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структурного моделирования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сценарного моделирования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случайностей и ассоциаций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Творческий метод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«сенектики»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Футурология (в дизайне)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«Штучный метод»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«Ликвидация тупиковых ситуаций»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оллективный поиск идей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омбинаторика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«дельфы» (дельфийская техника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ЗАДАНИЕ ДЛЯ РАБОТЫ С ОПОРНЫМ КОНСПЕКТОМ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ние №1 : заполните таблицу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Задание № 2: Выберите метод, который считаете наиболее результативным и оптимальным именно для Вас, обоснуйте свой выбор письменно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971640" y="2133720"/>
          <a:ext cx="7200720" cy="2120760"/>
        </p:xfrm>
        <a:graphic>
          <a:graphicData uri="http://schemas.openxmlformats.org/drawingml/2006/table">
            <a:tbl>
              <a:tblPr/>
              <a:tblGrid>
                <a:gridCol w="681120"/>
                <a:gridCol w="1360440"/>
                <a:gridCol w="515916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Методы дизайн-проект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т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ность и содержание мет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7T04:18:36Z</dcterms:created>
  <dc:creator>User</dc:creator>
  <dc:description/>
  <dc:language>en-US</dc:language>
  <cp:lastModifiedBy>Olga</cp:lastModifiedBy>
  <dcterms:modified xsi:type="dcterms:W3CDTF">2017-05-13T10:56:09Z</dcterms:modified>
  <cp:revision>26</cp:revision>
  <dc:subject/>
  <dc:title>Тема: Методика и методология дизайна.</dc:title>
</cp:coreProperties>
</file>