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B7A-5B61-4489-830C-15CA6AB7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8FD-78EE-41C5-8B3D-0C054DAD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906-D8A9-4AFC-81B4-D5FAD0A9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B87-C956-4E7E-AE42-4BBAD0DD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E5C-3AF9-42DD-8B81-0F28379B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C80-9F19-4E04-ACD2-B228CCD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5EC-B62A-42F3-88B0-2A59E98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9BA-5178-42C5-AAA3-3B690CEC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F01-F694-4639-B0FD-77B1549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041-A832-4749-A1DD-602D850E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AF3-020D-47DF-B7DD-5CFF582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C04-06C6-4EDA-BC5B-9CA2EC9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b5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F9B-A148-41D7-A0E5-9602D252BD50}" type="slidenum">
              <a:rPr b="0" lang="ru-RU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4739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связной речи у дошкольников методом наглядного моделирования</a:t>
            </a:r>
            <a:r>
              <a:rPr b="0" lang="ru-RU" sz="4400" spc="-1" strike="noStrike">
                <a:solidFill>
                  <a:srgbClr val="686b5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6480" y="5589720"/>
            <a:ext cx="81471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ила: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– логопед Александрова Е.В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3" name="Picture 5" descr="img2"/>
          <p:cNvPicPr/>
          <p:nvPr/>
        </p:nvPicPr>
        <p:blipFill>
          <a:blip r:embed="rId1"/>
          <a:stretch/>
        </p:blipFill>
        <p:spPr>
          <a:xfrm>
            <a:off x="2054160" y="2639880"/>
            <a:ext cx="49690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7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78" name="Прямоугольник с двумя скругленными противолежащими углами 6"/>
          <p:cNvSpPr/>
          <p:nvPr/>
        </p:nvSpPr>
        <p:spPr>
          <a:xfrm>
            <a:off x="3564000" y="3860640"/>
            <a:ext cx="2303280" cy="2521080"/>
          </a:xfrm>
          <a:custGeom>
            <a:avLst/>
            <a:gdLst/>
            <a:ahLst/>
            <a:rect l="l" t="t" r="r" b="b"/>
            <a:pathLst>
              <a:path w="2303462" h="2520950">
                <a:moveTo>
                  <a:pt x="383918" y="0"/>
                </a:moveTo>
                <a:lnTo>
                  <a:pt x="2303462" y="0"/>
                </a:lnTo>
                <a:lnTo>
                  <a:pt x="2303462" y="0"/>
                </a:lnTo>
                <a:lnTo>
                  <a:pt x="2303462" y="2137032"/>
                </a:lnTo>
                <a:cubicBezTo>
                  <a:pt x="2303462" y="2349064"/>
                  <a:pt x="2131576" y="2520950"/>
                  <a:pt x="1919544" y="2520950"/>
                </a:cubicBezTo>
                <a:lnTo>
                  <a:pt x="0" y="2520950"/>
                </a:lnTo>
                <a:lnTo>
                  <a:pt x="0" y="2520950"/>
                </a:lnTo>
                <a:lnTo>
                  <a:pt x="0" y="383918"/>
                </a:lnTo>
                <a:cubicBezTo>
                  <a:pt x="0" y="171886"/>
                  <a:pt x="171886" y="0"/>
                  <a:pt x="383918" y="0"/>
                </a:cubicBezTo>
                <a:close/>
              </a:path>
            </a:pathLst>
          </a:custGeom>
          <a:solidFill>
            <a:srgbClr val="909082">
              <a:alpha val="48000"/>
            </a:srgbClr>
          </a:solidFill>
          <a:ln w="25560">
            <a:solidFill>
              <a:srgbClr val="686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Табличка 7"/>
          <p:cNvSpPr/>
          <p:nvPr/>
        </p:nvSpPr>
        <p:spPr>
          <a:xfrm>
            <a:off x="5724360" y="3500280"/>
            <a:ext cx="1855800" cy="3357720"/>
          </a:xfrm>
          <a:custGeom>
            <a:avLst/>
            <a:gdLst>
              <a:gd name="textAreaLeft" fmla="*/ 575640 w 1855800"/>
              <a:gd name="textAreaRight" fmla="*/ 1280160 w 1855800"/>
              <a:gd name="textAreaTop" fmla="*/ 575640 h 3357720"/>
              <a:gd name="textAreaBottom" fmla="*/ 2782080 h 3357720"/>
            </a:gdLst>
            <a:ahLst/>
            <a:rect l="textAreaLeft" t="textAreaTop" r="textAreaRight" b="textAreaBottom"/>
            <a:pathLst>
              <a:path w="21600" h="39078">
                <a:moveTo>
                  <a:pt x="9477" y="0"/>
                </a:moveTo>
                <a:arcTo wR="9477" hR="9477" stAng="0" swAng="5400000"/>
                <a:lnTo>
                  <a:pt x="0" y="29601"/>
                </a:lnTo>
                <a:arcTo wR="9477" hR="9477" stAng="16200000" swAng="5400000"/>
                <a:lnTo>
                  <a:pt x="12123" y="39078"/>
                </a:lnTo>
                <a:arcTo wR="9477" hR="9477" stAng="10800000" swAng="5400000"/>
                <a:lnTo>
                  <a:pt x="21600" y="9477"/>
                </a:lnTo>
                <a:arcTo wR="9477" hR="9477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Табличка 8"/>
          <p:cNvSpPr/>
          <p:nvPr/>
        </p:nvSpPr>
        <p:spPr>
          <a:xfrm>
            <a:off x="1763640" y="3500280"/>
            <a:ext cx="2071800" cy="3357720"/>
          </a:xfrm>
          <a:custGeom>
            <a:avLst/>
            <a:gdLst>
              <a:gd name="textAreaLeft" fmla="*/ 660240 w 2071800"/>
              <a:gd name="textAreaRight" fmla="*/ 1411560 w 2071800"/>
              <a:gd name="textAreaTop" fmla="*/ 660240 h 3357720"/>
              <a:gd name="textAreaBottom" fmla="*/ 2697480 h 3357720"/>
            </a:gdLst>
            <a:ahLst/>
            <a:rect l="textAreaLeft" t="textAreaTop" r="textAreaRight" b="textAreaBottom"/>
            <a:pathLst>
              <a:path w="21600" h="35004">
                <a:moveTo>
                  <a:pt x="9738" y="0"/>
                </a:moveTo>
                <a:arcTo wR="9738" hR="9738" stAng="0" swAng="5400000"/>
                <a:lnTo>
                  <a:pt x="0" y="25266"/>
                </a:lnTo>
                <a:arcTo wR="9738" hR="9738" stAng="16200000" swAng="5400000"/>
                <a:lnTo>
                  <a:pt x="11862" y="35004"/>
                </a:lnTo>
                <a:arcTo wR="9738" hR="9738" stAng="10800000" swAng="5400000"/>
                <a:lnTo>
                  <a:pt x="21600" y="9738"/>
                </a:lnTo>
                <a:arcTo wR="9738" hR="9738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83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84" name="Прямоугольник с двумя скругленными противолежащими углами 6"/>
          <p:cNvSpPr/>
          <p:nvPr/>
        </p:nvSpPr>
        <p:spPr>
          <a:xfrm>
            <a:off x="3564000" y="3860640"/>
            <a:ext cx="2303280" cy="2521080"/>
          </a:xfrm>
          <a:custGeom>
            <a:avLst/>
            <a:gdLst/>
            <a:ahLst/>
            <a:rect l="l" t="t" r="r" b="b"/>
            <a:pathLst>
              <a:path w="2303462" h="2520950">
                <a:moveTo>
                  <a:pt x="383918" y="0"/>
                </a:moveTo>
                <a:lnTo>
                  <a:pt x="2303462" y="0"/>
                </a:lnTo>
                <a:lnTo>
                  <a:pt x="2303462" y="0"/>
                </a:lnTo>
                <a:lnTo>
                  <a:pt x="2303462" y="2137032"/>
                </a:lnTo>
                <a:cubicBezTo>
                  <a:pt x="2303462" y="2349064"/>
                  <a:pt x="2131576" y="2520950"/>
                  <a:pt x="1919544" y="2520950"/>
                </a:cubicBezTo>
                <a:lnTo>
                  <a:pt x="0" y="2520950"/>
                </a:lnTo>
                <a:lnTo>
                  <a:pt x="0" y="2520950"/>
                </a:lnTo>
                <a:lnTo>
                  <a:pt x="0" y="383918"/>
                </a:lnTo>
                <a:cubicBezTo>
                  <a:pt x="0" y="171886"/>
                  <a:pt x="171886" y="0"/>
                  <a:pt x="383918" y="0"/>
                </a:cubicBezTo>
                <a:close/>
              </a:path>
            </a:pathLst>
          </a:custGeom>
          <a:solidFill>
            <a:srgbClr val="909082">
              <a:alpha val="48000"/>
            </a:srgbClr>
          </a:solidFill>
          <a:ln w="25560">
            <a:solidFill>
              <a:srgbClr val="686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Табличка 7"/>
          <p:cNvSpPr/>
          <p:nvPr/>
        </p:nvSpPr>
        <p:spPr>
          <a:xfrm>
            <a:off x="5724360" y="3500280"/>
            <a:ext cx="1855800" cy="3357720"/>
          </a:xfrm>
          <a:custGeom>
            <a:avLst/>
            <a:gdLst>
              <a:gd name="textAreaLeft" fmla="*/ 575640 w 1855800"/>
              <a:gd name="textAreaRight" fmla="*/ 1280160 w 1855800"/>
              <a:gd name="textAreaTop" fmla="*/ 575640 h 3357720"/>
              <a:gd name="textAreaBottom" fmla="*/ 2782080 h 3357720"/>
            </a:gdLst>
            <a:ahLst/>
            <a:rect l="textAreaLeft" t="textAreaTop" r="textAreaRight" b="textAreaBottom"/>
            <a:pathLst>
              <a:path w="21600" h="39078">
                <a:moveTo>
                  <a:pt x="9477" y="0"/>
                </a:moveTo>
                <a:arcTo wR="9477" hR="9477" stAng="0" swAng="5400000"/>
                <a:lnTo>
                  <a:pt x="0" y="29601"/>
                </a:lnTo>
                <a:arcTo wR="9477" hR="9477" stAng="16200000" swAng="5400000"/>
                <a:lnTo>
                  <a:pt x="12123" y="39078"/>
                </a:lnTo>
                <a:arcTo wR="9477" hR="9477" stAng="10800000" swAng="5400000"/>
                <a:lnTo>
                  <a:pt x="21600" y="9477"/>
                </a:lnTo>
                <a:arcTo wR="9477" hR="9477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88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89" name="Прямоугольник с двумя скругленными противолежащими углами 6"/>
          <p:cNvSpPr/>
          <p:nvPr/>
        </p:nvSpPr>
        <p:spPr>
          <a:xfrm>
            <a:off x="3564000" y="3860640"/>
            <a:ext cx="2303280" cy="2521080"/>
          </a:xfrm>
          <a:custGeom>
            <a:avLst/>
            <a:gdLst/>
            <a:ahLst/>
            <a:rect l="l" t="t" r="r" b="b"/>
            <a:pathLst>
              <a:path w="2303462" h="2520950">
                <a:moveTo>
                  <a:pt x="383918" y="0"/>
                </a:moveTo>
                <a:lnTo>
                  <a:pt x="2303462" y="0"/>
                </a:lnTo>
                <a:lnTo>
                  <a:pt x="2303462" y="0"/>
                </a:lnTo>
                <a:lnTo>
                  <a:pt x="2303462" y="2137032"/>
                </a:lnTo>
                <a:cubicBezTo>
                  <a:pt x="2303462" y="2349064"/>
                  <a:pt x="2131576" y="2520950"/>
                  <a:pt x="1919544" y="2520950"/>
                </a:cubicBezTo>
                <a:lnTo>
                  <a:pt x="0" y="2520950"/>
                </a:lnTo>
                <a:lnTo>
                  <a:pt x="0" y="2520950"/>
                </a:lnTo>
                <a:lnTo>
                  <a:pt x="0" y="383918"/>
                </a:lnTo>
                <a:cubicBezTo>
                  <a:pt x="0" y="171886"/>
                  <a:pt x="171886" y="0"/>
                  <a:pt x="383918" y="0"/>
                </a:cubicBezTo>
                <a:close/>
              </a:path>
            </a:pathLst>
          </a:custGeom>
          <a:solidFill>
            <a:srgbClr val="909082">
              <a:alpha val="48000"/>
            </a:srgbClr>
          </a:solidFill>
          <a:ln w="25560">
            <a:solidFill>
              <a:srgbClr val="686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0" name="Табличка 8"/>
          <p:cNvSpPr/>
          <p:nvPr/>
        </p:nvSpPr>
        <p:spPr>
          <a:xfrm>
            <a:off x="1763640" y="3500280"/>
            <a:ext cx="2071800" cy="3357720"/>
          </a:xfrm>
          <a:custGeom>
            <a:avLst/>
            <a:gdLst>
              <a:gd name="textAreaLeft" fmla="*/ 660240 w 2071800"/>
              <a:gd name="textAreaRight" fmla="*/ 1411560 w 2071800"/>
              <a:gd name="textAreaTop" fmla="*/ 660240 h 3357720"/>
              <a:gd name="textAreaBottom" fmla="*/ 2697480 h 3357720"/>
            </a:gdLst>
            <a:ahLst/>
            <a:rect l="textAreaLeft" t="textAreaTop" r="textAreaRight" b="textAreaBottom"/>
            <a:pathLst>
              <a:path w="21600" h="35004">
                <a:moveTo>
                  <a:pt x="9738" y="0"/>
                </a:moveTo>
                <a:arcTo wR="9738" hR="9738" stAng="0" swAng="5400000"/>
                <a:lnTo>
                  <a:pt x="0" y="25266"/>
                </a:lnTo>
                <a:arcTo wR="9738" hR="9738" stAng="16200000" swAng="5400000"/>
                <a:lnTo>
                  <a:pt x="11862" y="35004"/>
                </a:lnTo>
                <a:arcTo wR="9738" hR="9738" stAng="10800000" swAng="5400000"/>
                <a:lnTo>
                  <a:pt x="21600" y="9738"/>
                </a:lnTo>
                <a:arcTo wR="9738" hR="9738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93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94" name="Табличка 7"/>
          <p:cNvSpPr/>
          <p:nvPr/>
        </p:nvSpPr>
        <p:spPr>
          <a:xfrm>
            <a:off x="5724360" y="3500280"/>
            <a:ext cx="1855800" cy="3357720"/>
          </a:xfrm>
          <a:custGeom>
            <a:avLst/>
            <a:gdLst>
              <a:gd name="textAreaLeft" fmla="*/ 575640 w 1855800"/>
              <a:gd name="textAreaRight" fmla="*/ 1280160 w 1855800"/>
              <a:gd name="textAreaTop" fmla="*/ 575640 h 3357720"/>
              <a:gd name="textAreaBottom" fmla="*/ 2782080 h 3357720"/>
            </a:gdLst>
            <a:ahLst/>
            <a:rect l="textAreaLeft" t="textAreaTop" r="textAreaRight" b="textAreaBottom"/>
            <a:pathLst>
              <a:path w="21600" h="39078">
                <a:moveTo>
                  <a:pt x="9477" y="0"/>
                </a:moveTo>
                <a:arcTo wR="9477" hR="9477" stAng="0" swAng="5400000"/>
                <a:lnTo>
                  <a:pt x="0" y="29601"/>
                </a:lnTo>
                <a:arcTo wR="9477" hR="9477" stAng="16200000" swAng="5400000"/>
                <a:lnTo>
                  <a:pt x="12123" y="39078"/>
                </a:lnTo>
                <a:arcTo wR="9477" hR="9477" stAng="10800000" swAng="5400000"/>
                <a:lnTo>
                  <a:pt x="21600" y="9477"/>
                </a:lnTo>
                <a:arcTo wR="9477" hR="9477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Табличка 8"/>
          <p:cNvSpPr/>
          <p:nvPr/>
        </p:nvSpPr>
        <p:spPr>
          <a:xfrm>
            <a:off x="1763640" y="3500280"/>
            <a:ext cx="2071800" cy="3357720"/>
          </a:xfrm>
          <a:custGeom>
            <a:avLst/>
            <a:gdLst>
              <a:gd name="textAreaLeft" fmla="*/ 660240 w 2071800"/>
              <a:gd name="textAreaRight" fmla="*/ 1411560 w 2071800"/>
              <a:gd name="textAreaTop" fmla="*/ 660240 h 3357720"/>
              <a:gd name="textAreaBottom" fmla="*/ 2697480 h 3357720"/>
            </a:gdLst>
            <a:ahLst/>
            <a:rect l="textAreaLeft" t="textAreaTop" r="textAreaRight" b="textAreaBottom"/>
            <a:pathLst>
              <a:path w="21600" h="35004">
                <a:moveTo>
                  <a:pt x="9738" y="0"/>
                </a:moveTo>
                <a:arcTo wR="9738" hR="9738" stAng="0" swAng="5400000"/>
                <a:lnTo>
                  <a:pt x="0" y="25266"/>
                </a:lnTo>
                <a:arcTo wR="9738" hR="9738" stAng="16200000" swAng="5400000"/>
                <a:lnTo>
                  <a:pt x="11862" y="35004"/>
                </a:lnTo>
                <a:arcTo wR="9738" hR="9738" stAng="10800000" swAng="5400000"/>
                <a:lnTo>
                  <a:pt x="21600" y="9738"/>
                </a:lnTo>
                <a:arcTo wR="9738" hR="9738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98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ИЧЕСКАЯ СКАЗ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ин из приемов обучения детей связному пересказу – работа с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огопедическими сказками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огопедическая сказка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то текст со сказочным содержанием, содержащий как можно большее количество одинаковых звуков (сказки В.Волиной, А.Цыферова и т.п.). К данному виду сказок относятся такие сказки, в тексте которых часто встречается автоматизируемый в связной речи звук или оппозиционные звуки, произношение которых требует дифференциации в самостоятельной речи детей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в работе таких сказок позволяет решать наряду с задачами овладения навыком последовательного и связного пересказа задачи автоматизации в связной речи поставленных звуков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логопедической сказкой проходит следующим образом: 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 читает сказку ребенку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выкладывает модель сказки (картинную или состоящую из символов-заместителей, выбирая их произвольно)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тем ребенок отвечает на вопросы по содержанию сказки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 моделирует фрагменты сказки, ребенок пересказывает текст, соответствующий данному фрагменту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пересказывает сказку по модели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01" name="Picture 7" descr="img4"/>
          <p:cNvPicPr/>
          <p:nvPr/>
        </p:nvPicPr>
        <p:blipFill>
          <a:blip r:embed="rId1"/>
          <a:stretch/>
        </p:blipFill>
        <p:spPr>
          <a:xfrm>
            <a:off x="5003640" y="5629320"/>
            <a:ext cx="3476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6b5d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ОЕ ОПИСАНИЕ ПРЕДМЕТОВ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звитии навыка составления описательных рассказов большую помощь оказывает предварительное составление модели описания. В процессе обучения связной описательной речи моделирование может служить средством и программой анализа и фиксации закономерных свойств и отношений объекта или явления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у описательного рассказа составляют конкретные представления, накапливаемые в процессе исследования объекта описания. Элементами модели описательного рассказа становятся символы-заместители качественных характеристик объекта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адлежность к родовидовому понятию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ичин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яющие детали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чество поверхности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, из которого изготовлен объект (для неживых предметов)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н используется (какую пользу приносит)?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что нравится (не нравится)?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04" name="Picture 6" descr="img5"/>
          <p:cNvPicPr/>
          <p:nvPr/>
        </p:nvPicPr>
        <p:blipFill>
          <a:blip r:embed="rId1"/>
          <a:stretch/>
        </p:blipFill>
        <p:spPr>
          <a:xfrm>
            <a:off x="3708360" y="3789360"/>
            <a:ext cx="33368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 РАССКАЗ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о наглядная модель служит средством преодоления страха ребенка перед построением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ворческих связных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ссказов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то умение противоположно навыку составления пересказов. Переходными упражнениями от моделирования пересказа к составлению творческих рассказов могут быть следующие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адывание эпизода по демонстрации действия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вание по демонстрации действия взрослым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довательность работы по формированию навыка составления связного творческого высказывания следующая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предлагается придумать ситуацию, которая могла бы произойти с конкретными персонажами в определенном месте, модель рассказа (сказки) задается логопедом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 предлагает конкретные персонажи рассказа, а пространственное оформление модели ребенок придумывает самостоятельно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ретные персонажи заменяются их силуэтными изображениями, что позволяет ребенку проявить творчество в характерологическом оформлении героев рассказ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предлагается составить рассказ или сказку по модели, элементами которой являются неопределенные заместители персонажей рассказа – геометрические фигуры, логопедом задается тема рассказа: например, “Весенняя сказка”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, наконец, ребенок самостоятельно выбирает тему и героев своего рассказа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АЯ СКАЗКА ПО  СИЛУЭТНЫМ ИЗОБРАЖЕНИЯМ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приемов развития навыка творческого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вания является обучение детей составлению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ок по силуэтным изображениям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честве элементов модели ребенку предъявляются силуэты животных, растений, людей или природных явлений (снег, дождь и т.п.) Логопед задает начало сказки и предлагает продолжить ее, опираясь на силуэтные изображения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ере овладения навыком моделирования дети используют вместо развернутой предметной модели обобщенную, содержащую только ключевые моменты. Происходит свертывание модели, переход ее в заместитель.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ми модели-заместителя являются схематичные зарисовки, сделанные детьми по ходу слушания рассказа. Количество элементов модели сначала определяется логопедом, а затем, по мере усвоения навыка, самим ребенком – осуществляется переход от подробного пересказа к краткому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ь-заместитель служит также планом при составлении творческого рассказа. В этом случае ребенок производит действия обратные, производимым при пересказе: 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слушание текста - составление модели - пересказ текста по модели; 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 рассказ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составление модели рассказа – рассказ по модели.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09" name="Picture 5" descr="img6"/>
          <p:cNvPicPr/>
          <p:nvPr/>
        </p:nvPicPr>
        <p:blipFill>
          <a:blip r:embed="rId1"/>
          <a:stretch/>
        </p:blipFill>
        <p:spPr>
          <a:xfrm>
            <a:off x="468360" y="836640"/>
            <a:ext cx="266364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ые приемы работы позволяют повысить эффективность коррекции речи дошкольников, страдающих ее недоразвитием, но могут быть использованы и в работе с детьми, не имеющими недостатков в развитии как средство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вышения интерес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 данному виду деятельности и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птимизации процесса развития навыка связной реч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ей дошкольного возраста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епенно овладевая всеми видами связного высказывания с помощью моделирования, дети учатся планировать свою речь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сти речевого развития детей дошкольного возраста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дошкольного возраста, а тем более, имеющие речевые нарушения, как правило, отличаются недостаточно сформированным навыком построения связного высказывания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статки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ные высказывания короткие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аются непоследовательностью, даже если ребенок передает содержание знакомого текст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т из отдельных фрагментов, логически не связанных между собой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информативности высказывания очень низкий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ме того, большинство детей активно делятся своими впечатлениями от пережитых событий, но с неохотой берутся за составление рассказов по заданной теме. В основном, это происходит не оттого, что знания ребенка по данному вопросу недостаточны, а потому что он не может оформить их в связные речевые высказывания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31640" y="501300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 ЗА ВНИМАНИЕ!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12" name="Picture 4" descr=" (600x447, 109Kb)"/>
          <p:cNvPicPr/>
          <p:nvPr/>
        </p:nvPicPr>
        <p:blipFill>
          <a:blip r:embed="rId1"/>
          <a:stretch/>
        </p:blipFill>
        <p:spPr>
          <a:xfrm>
            <a:off x="1187280" y="260280"/>
            <a:ext cx="7056720" cy="42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способов планирования связного высказывания может служить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НАГЛЯДНОГО МОДЕЛИРОВАНИЯ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аглядное моделирование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оспроизведение существенных свойств изучаемого объекта, создание его заместителя и работа с ним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глядная модель высказывания выступает в роли плана, обеспечивающего связность и последовательность рассказов ребенка</a:t>
            </a:r>
            <a:r>
              <a:rPr b="0" lang="ru-RU" sz="2800" spc="-1" strike="noStrike">
                <a:solidFill>
                  <a:srgbClr val="686b5d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ный приём  может быть использован в работе над всеми видами связного монологического высказыва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529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 по сюжетной   картине (серии)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ое описание предметов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исательный рассказ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 рассказ/ сказка по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уэтным изображениям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ическая сказк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йзажной картине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8" name="Рисунок 21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448160" cy="3227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-3132000" y="220500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использования приема наглядного моделирования дети знакомятся с графическим способом предоставления информации - моделью. В качестве условных заместителей (элементов модели) могут выступать символы разнообразного характера: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ометрические фигур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ые картинки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ические изображения предметов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словные обозначения, силуэты, контуры, пиктограммы)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ы и условные обозначения, используемые в них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астная рамка – прием фрагментарного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вания и многие другие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1" name="Picture 5" descr="img3"/>
          <p:cNvPicPr/>
          <p:nvPr/>
        </p:nvPicPr>
        <p:blipFill>
          <a:blip r:embed="rId1"/>
          <a:stretch/>
        </p:blipFill>
        <p:spPr>
          <a:xfrm>
            <a:off x="6516720" y="4653000"/>
            <a:ext cx="2003400" cy="191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myphoto" descr="http://cs620.vkontakte.ru/u2418059/67370306/x_2f55a522.jpg"/>
          <p:cNvPicPr/>
          <p:nvPr/>
        </p:nvPicPr>
        <p:blipFill>
          <a:blip r:embed="rId2"/>
          <a:srcRect l="0" t="10726" r="7226" b="74320"/>
          <a:stretch/>
        </p:blipFill>
        <p:spPr>
          <a:xfrm>
            <a:off x="684360" y="4869000"/>
            <a:ext cx="4895640" cy="101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img1"/>
          <p:cNvPicPr/>
          <p:nvPr/>
        </p:nvPicPr>
        <p:blipFill>
          <a:blip r:embed="rId3"/>
          <a:stretch/>
        </p:blipFill>
        <p:spPr>
          <a:xfrm>
            <a:off x="3419640" y="1413000"/>
            <a:ext cx="321444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5" descr="img6"/>
          <p:cNvPicPr/>
          <p:nvPr/>
        </p:nvPicPr>
        <p:blipFill>
          <a:blip r:embed="rId4"/>
          <a:stretch/>
        </p:blipFill>
        <p:spPr>
          <a:xfrm>
            <a:off x="6443640" y="2421000"/>
            <a:ext cx="2448000" cy="15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Рисунок 8" descr="imgh590945.png"/>
          <p:cNvPicPr/>
          <p:nvPr/>
        </p:nvPicPr>
        <p:blipFill>
          <a:blip r:embed="rId5"/>
          <a:stretch/>
        </p:blipFill>
        <p:spPr>
          <a:xfrm>
            <a:off x="684360" y="2781360"/>
            <a:ext cx="335736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честве символов-заместителей на начальном этапе работы используются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ометрическ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гуры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своей формой и цветом напоминающие замещаемый предмет. Например, зеленый треугольник – елочка, серый кружок – мышонок и т.п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оследующих этапах дети выбирают заместители, без учета внешних признаков объекта. В этом случае они ориентируются на качественные характеристики объекта (злой, добрый, трусливый и т. п.). В качестве модели связного высказывания может быть представлена полоска разноцветных кругов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Блок-схема: извлечение 3"/>
          <p:cNvSpPr/>
          <p:nvPr/>
        </p:nvSpPr>
        <p:spPr>
          <a:xfrm>
            <a:off x="900000" y="1628640"/>
            <a:ext cx="1143000" cy="1143000"/>
          </a:xfrm>
          <a:prstGeom prst="flowChartExtract">
            <a:avLst/>
          </a:prstGeom>
          <a:solidFill>
            <a:srgbClr val="00b050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8" name="Рисунок 6" descr="1325103599_295275732_1--140--.jpg"/>
          <p:cNvPicPr/>
          <p:nvPr/>
        </p:nvPicPr>
        <p:blipFill>
          <a:blip r:embed="rId1"/>
          <a:stretch/>
        </p:blipFill>
        <p:spPr>
          <a:xfrm>
            <a:off x="2268360" y="1557360"/>
            <a:ext cx="1000440" cy="1343160"/>
          </a:xfrm>
          <a:prstGeom prst="rect">
            <a:avLst/>
          </a:prstGeom>
          <a:ln w="0">
            <a:noFill/>
          </a:ln>
        </p:spPr>
      </p:pic>
      <p:sp>
        <p:nvSpPr>
          <p:cNvPr id="59" name="Овал 5"/>
          <p:cNvSpPr/>
          <p:nvPr/>
        </p:nvSpPr>
        <p:spPr>
          <a:xfrm>
            <a:off x="5148360" y="1773360"/>
            <a:ext cx="785880" cy="78552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100000">
                <a:srgbClr val="f1f1f1"/>
              </a:gs>
            </a:gsLst>
            <a:lin ang="16200000"/>
          </a:gradFill>
          <a:ln w="9360">
            <a:solidFill>
              <a:srgbClr val="74747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0" name="Рисунок 7" descr="preview.jpg"/>
          <p:cNvPicPr/>
          <p:nvPr/>
        </p:nvPicPr>
        <p:blipFill>
          <a:blip r:embed="rId2"/>
          <a:stretch/>
        </p:blipFill>
        <p:spPr>
          <a:xfrm>
            <a:off x="6443640" y="1773360"/>
            <a:ext cx="1143000" cy="1071360"/>
          </a:xfrm>
          <a:prstGeom prst="rect">
            <a:avLst/>
          </a:prstGeom>
          <a:ln w="0">
            <a:noFill/>
          </a:ln>
        </p:spPr>
      </p:pic>
      <p:sp>
        <p:nvSpPr>
          <p:cNvPr id="61" name="Овал 8"/>
          <p:cNvSpPr/>
          <p:nvPr/>
        </p:nvSpPr>
        <p:spPr>
          <a:xfrm>
            <a:off x="1187280" y="5013360"/>
            <a:ext cx="1143000" cy="928800"/>
          </a:xfrm>
          <a:prstGeom prst="ellipse">
            <a:avLst/>
          </a:prstGeom>
          <a:gradFill rotWithShape="0">
            <a:gsLst>
              <a:gs pos="0">
                <a:srgbClr val="c0dbe6"/>
              </a:gs>
              <a:gs pos="100000">
                <a:srgbClr val="edf5f8"/>
              </a:gs>
            </a:gsLst>
            <a:lin ang="16200000"/>
          </a:gradFill>
          <a:ln w="9360">
            <a:solidFill>
              <a:srgbClr val="7c9b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2" name="Рисунок 16" descr="0_515c8_991af0df_L.jpg"/>
          <p:cNvPicPr/>
          <p:nvPr/>
        </p:nvPicPr>
        <p:blipFill>
          <a:blip r:embed="rId3"/>
          <a:stretch/>
        </p:blipFill>
        <p:spPr>
          <a:xfrm>
            <a:off x="2411280" y="4581360"/>
            <a:ext cx="1428840" cy="1928880"/>
          </a:xfrm>
          <a:prstGeom prst="rect">
            <a:avLst/>
          </a:prstGeom>
          <a:ln w="0">
            <a:noFill/>
          </a:ln>
        </p:spPr>
      </p:pic>
      <p:sp>
        <p:nvSpPr>
          <p:cNvPr id="63" name="Овал 10"/>
          <p:cNvSpPr/>
          <p:nvPr/>
        </p:nvSpPr>
        <p:spPr>
          <a:xfrm>
            <a:off x="4788000" y="4941720"/>
            <a:ext cx="1143000" cy="928800"/>
          </a:xfrm>
          <a:prstGeom prst="ellipse">
            <a:avLst/>
          </a:prstGeom>
          <a:gradFill rotWithShape="0">
            <a:gsLst>
              <a:gs pos="0">
                <a:srgbClr val="565656"/>
              </a:gs>
              <a:gs pos="100000">
                <a:srgbClr val="747474"/>
              </a:gs>
            </a:gsLst>
            <a:lin ang="16200000"/>
          </a:gradFill>
          <a:ln w="9360">
            <a:solidFill>
              <a:srgbClr val="74747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4" name="Рисунок 14" descr="0_707e9_60b6b02d_XL.jpg"/>
          <p:cNvPicPr/>
          <p:nvPr/>
        </p:nvPicPr>
        <p:blipFill>
          <a:blip r:embed="rId4"/>
          <a:stretch/>
        </p:blipFill>
        <p:spPr>
          <a:xfrm>
            <a:off x="6588000" y="4581360"/>
            <a:ext cx="1522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</a:t>
            </a:r>
            <a:r>
              <a:rPr b="0" lang="ru-RU" sz="4000" spc="-1" strike="noStrike">
                <a:solidFill>
                  <a:srgbClr val="686b5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м простым из видов связного высказывания считается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сказ</a:t>
            </a:r>
            <a:r>
              <a:rPr b="0" i="1" lang="ru-RU" sz="1800" spc="-1" strike="noStrike" u="sng">
                <a:solidFill>
                  <a:srgbClr val="777777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предполагает умение выделить основные части услышанного текста, связать их между собой, а затем в соответствии с этой схемой составить рассказ. В качестве плана рассказа выступает наглядная модель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развитию навыка пересказа предполагает формирование следующих умений: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воение принципа замещения, то есть умения обозначать персонажи и основные атрибуты художественного произведения заместителями;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мения передавать события при помощи заместителей (предметное моделирование);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ача последовательности эпизодов в соответствие с расположением заместителей, и начинается с рассказывания знакомых коротких сказок, типа “Репка”, “Колобок” и т.п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того чтобы научить ребенка последовательно излагать сюжет сказки используются наглядные модели сказки. На первых порах дети учатся составлять модели, которые сопровождают чтение сказки логопедом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edu.cap.ru/home/3696/kartinki/post-176430-1260810510.jpg"/>
          <p:cNvPicPr/>
          <p:nvPr/>
        </p:nvPicPr>
        <p:blipFill>
          <a:blip r:embed="rId1"/>
          <a:stretch/>
        </p:blipFill>
        <p:spPr>
          <a:xfrm>
            <a:off x="4645080" y="263988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95280" y="333360"/>
            <a:ext cx="85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, логопед рассказывает детям сказку “Теремок”, а дети постепенно выставляют символы-заместители героев сказки. На данном этапе необходимо добиваться, чтобы манипулирование элементами модели соответствовало фрагменту сказки, который звучит в данный момент. Элементами модели могут стать картинки с изображением персонажей сказки, затем они заменяются символами-заместителями (силуэтные изображения или геометрические фигуры). Постепенно дети от простого манипулирования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ми модели переходят к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ю пространственной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чной модели, которая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редственно служит планом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а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 ПО СЮЖЕТНОЙ КАРТИНЕ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чительные трудности возникают у детей при составлении рассказов по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южетной картине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 по сюжетной картин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ребует от ребенка умения выделить основные действующие лица или объекты картины, проследить их взаимосвязь и взаимодействие, отметить особенности композиционного фона картины, а также умение додумать причины возникновения данной ситуации, то есть составить начало рассказа, и последствия ее – то есть конец рассказа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рактике “рассказы”, самостоятельно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ные детьми – это, в основном, простое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числение действующих лиц или объектов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ы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преодолению этих недостатков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ит из 3-х этапов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значимых для развития сюжета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ов картин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взаимосвязи между ними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динение фрагментов в единый сюжет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1" name="Picture 7" descr="img7"/>
          <p:cNvPicPr/>
          <p:nvPr/>
        </p:nvPicPr>
        <p:blipFill>
          <a:blip r:embed="rId1"/>
          <a:stretch/>
        </p:blipFill>
        <p:spPr>
          <a:xfrm>
            <a:off x="6156360" y="3301920"/>
            <a:ext cx="2535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-ОПИСАНИЕ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ым видом связного высказывания являются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ссказы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пис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 пейзажной картине. Этот вид рассказа особенно сложен для детей. Если при пересказе и составлении рассказа по сюжетной картине основными элементами наглядной модели являются персонажи – живые объекты, то на пейзажных картинах они отсутствуют или несут второстепенную смысловую нагрузку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анном случае в качестве элементов модели рассказа выступают объекты природы. Так как они, как правило, носят статичный характер, особое внимание уделяется описанию качеств данных объектов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таким картинам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ится в несколько этапов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значимых объектов картин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их и подробное описание внешнего вида и свойств каждого объект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взаимосвязи между отдельными объектами картин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динение мини-рассказов в единый сюжет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4" name="Picture 5" descr="img2"/>
          <p:cNvPicPr/>
          <p:nvPr/>
        </p:nvPicPr>
        <p:blipFill>
          <a:blip r:embed="rId1"/>
          <a:stretch/>
        </p:blipFill>
        <p:spPr>
          <a:xfrm>
            <a:off x="5580000" y="3429000"/>
            <a:ext cx="280836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5:46:36Z</dcterms:created>
  <dc:creator>Администратор</dc:creator>
  <dc:description/>
  <dc:language>en-US</dc:language>
  <cp:lastModifiedBy>Елена</cp:lastModifiedBy>
  <dcterms:modified xsi:type="dcterms:W3CDTF">2017-04-04T19:56:49Z</dcterms:modified>
  <cp:revision>99</cp:revision>
  <dc:subject/>
  <dc:title>Развитие связной речи у дошкольников методом наглядного моделирования. </dc:title>
</cp:coreProperties>
</file>