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CBF-D8C3-4D08-975E-430B7787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32C-190C-4D99-954A-D13522A6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40B-AF6B-4589-AC08-BE78ED7B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9F5-4C95-4783-A170-118CD52C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0C28-C72E-4840-B983-78C09E0D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79D3-53BF-42AC-9418-8963A065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386C-A223-4299-80C6-6ACF3128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2578-95EE-48A7-8328-63C0D26F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1CFE-9436-4D71-86C4-2CC0D4DD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C58E-0466-4589-8D48-13230A5D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4277-DD9A-48FD-B1EF-A82B726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634-E12D-4E28-8437-C401C71E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60E-8913-4DBF-8679-C55650F8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44EE-BDBF-4F84-A19C-8570B6F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0E3C-8D74-40E1-864E-5534F5C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72DD-45BF-4033-A484-20A5D933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B1C8-0CD7-4A0C-A36A-3DD25E50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5344-B01E-4C0F-A2B4-2EBD1C09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E0C3-8495-49A6-93AF-F71353F5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58411-6B4F-48C8-BB61-0220BBD7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BEEB-9FF7-4FB1-863F-C926828B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CB99-F7E3-4B80-9DA9-19C37F41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86F-7325-41EB-9AFE-B6A11A4A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67980-1C99-4D2F-BE12-4488C185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0783-448A-41D0-B085-86DB9FFF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AADD-A903-4D2B-8C8D-E4CA426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76CE-04C5-4586-8D3A-FFBF8990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A62E-D052-40F6-968B-84059B14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4FC4-63EF-44EF-910C-A29BF7AB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2C47-17B1-4730-8FBD-DBDF35F8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56510-AFE6-4D90-A6AF-8250399C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A9728-9D9E-4B9A-A02C-877D6425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2B228-BB3B-4B33-8180-5AB0ED4F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2F8-5CBC-4D96-BC48-DCD8F335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FFD64-8B0A-4552-A89B-DCA0C048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87230-7EB4-43CF-B781-09878F17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5076-E1C4-42D6-A038-64E52DFF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069EC-1DB8-4799-8C52-1FCA1259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ED657-04A7-4592-8C2D-44AB304F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74199-A806-4E55-BCA9-2A0BFACE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A16D-48FE-420F-BE7E-6229F11F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210A2-537E-46F0-B63B-EEE3BE10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6C585-F114-42E8-8A30-4F6F3139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F95-CCED-4AAC-B4E0-E25C9459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067-0C72-49C0-B48F-2E8BFAB2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13F-F5AE-46AD-8BAD-61AD0E30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559-791D-41E6-B9A0-084A8DA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EFB-2477-4436-803C-4FE7536C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1253-96C4-4B7C-A626-5478A27688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A1D8-A849-4D08-9068-D3D606EA635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587E-9F1F-488C-9FA4-DBC5605A725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1D81-1557-42B7-B602-1EF51070EEF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-189000"/>
            <a:ext cx="7967520" cy="2462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1" descr="C:\Documents and Settings\Лёха\Local Settings\Temporary Internet Files\Content.Word\CIMG5291.jpg"/>
          <p:cNvPicPr/>
          <p:nvPr/>
        </p:nvPicPr>
        <p:blipFill>
          <a:blip r:embed="rId3"/>
          <a:stretch/>
        </p:blipFill>
        <p:spPr>
          <a:xfrm>
            <a:off x="1357200" y="2214720"/>
            <a:ext cx="621504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Методы и при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3. «Составление кластера»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это стратегия, которая дает доступ к собственным знаниям, пониманию или представлению об определенной тем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Методы и при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4. «Пометки на полях»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» - информация мне известн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+» - узнал что-то ново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—» - противоречит тому, что знаю, не согласен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?» - хочу узнать подробне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Результаты:</a:t>
            </a:r>
            <a:br>
              <a:rPr sz="4500"/>
            </a:b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усвоение нового материала и его запоминани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852560"/>
            <a:ext cx="8242560" cy="4481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Результаты:</a:t>
            </a:r>
            <a:br>
              <a:rPr sz="45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повышение уровня понимания изучаемого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3" descr=""/>
          <p:cNvPicPr/>
          <p:nvPr/>
        </p:nvPicPr>
        <p:blipFill>
          <a:blip r:embed="rId2"/>
          <a:stretch/>
        </p:blipFill>
        <p:spPr>
          <a:xfrm>
            <a:off x="1779480" y="2206800"/>
            <a:ext cx="5943600" cy="4017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Результаты:</a:t>
            </a:r>
            <a:br>
              <a:rPr sz="45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вовлечение в работу учащихс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5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Результаты:</a:t>
            </a:r>
            <a:br>
              <a:rPr sz="45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улучшение мотивац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5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Результаты:</a:t>
            </a:r>
            <a:br>
              <a:rPr sz="45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улучшение психологического здоровь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3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Результа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Развитие компетентности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самоорганизации; (умение решать проблемы) 64%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коммуникативная  (умение общаться) 76 %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информационная (умение извлекать и анализировать информацию) 72%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Результаты внеурочной деятельност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11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014-2015 учебный год-34 чел. в 16 конкурс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015-2016 учебный год- 96 чел. в 18 конкурс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016-2017 учебный год-135 чел. в 24 конкурс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Перспективы деятельност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внедрение проектной деятельности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продолжить использование технологии критического мышления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использование ИКТ на урока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Будущее принадлежит тем, кт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критически анализирует информацию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и выстраивает свои собственные реа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Чарльз Темп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3" descr=""/>
          <p:cNvPicPr/>
          <p:nvPr/>
        </p:nvPicPr>
        <p:blipFill>
          <a:blip r:embed="rId2"/>
          <a:stretch/>
        </p:blipFill>
        <p:spPr>
          <a:xfrm>
            <a:off x="523800" y="-6480"/>
            <a:ext cx="7785000" cy="4724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Цель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развивать у учащихся критическое мышление, учить владеть критическим анализом, научить их нести ответственность за собственное учение, формировать собственные независимые мнения и проявлять уважение к мнению других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предоставить время и возможность для приобретения опыта критического мышл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давать возможность учащимся размышлят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принимать различные идеи и мн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способствовать активности учащихся в учебном процесс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убедить учащихся в том, что они не рискуют быть высмеянны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выражать веру в то, что каждый учащийся способен на критическое суждени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ценить проявление критического мышл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Стадии критического мышле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42960" y="2714760"/>
            <a:ext cx="3929040" cy="164304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вы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4714920" y="2714760"/>
            <a:ext cx="3714840" cy="164304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осмы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5"/>
          <p:cNvSpPr/>
          <p:nvPr/>
        </p:nvSpPr>
        <p:spPr>
          <a:xfrm>
            <a:off x="2071800" y="4357800"/>
            <a:ext cx="4572000" cy="155736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раз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3" name="Облако 3"/>
          <p:cNvGrpSpPr/>
          <p:nvPr/>
        </p:nvGrpSpPr>
        <p:grpSpPr>
          <a:xfrm>
            <a:off x="-79200" y="255600"/>
            <a:ext cx="4365360" cy="2225520"/>
            <a:chOff x="-79200" y="255600"/>
            <a:chExt cx="4365360" cy="2225520"/>
          </a:xfrm>
        </p:grpSpPr>
        <p:pic>
          <p:nvPicPr>
            <p:cNvPr id="214" name="Облако 3" descr=""/>
            <p:cNvPicPr/>
            <p:nvPr/>
          </p:nvPicPr>
          <p:blipFill>
            <a:blip r:embed="rId2"/>
            <a:stretch/>
          </p:blipFill>
          <p:spPr>
            <a:xfrm>
              <a:off x="-79200" y="255600"/>
              <a:ext cx="436536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81040" y="598320"/>
              <a:ext cx="2752560" cy="13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Развитие памя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Облако 4"/>
          <p:cNvGrpSpPr/>
          <p:nvPr/>
        </p:nvGrpSpPr>
        <p:grpSpPr>
          <a:xfrm>
            <a:off x="5205240" y="328680"/>
            <a:ext cx="4011840" cy="2292120"/>
            <a:chOff x="5205240" y="328680"/>
            <a:chExt cx="4011840" cy="2292120"/>
          </a:xfrm>
        </p:grpSpPr>
        <p:pic>
          <p:nvPicPr>
            <p:cNvPr id="217" name="Облако 4" descr=""/>
            <p:cNvPicPr/>
            <p:nvPr/>
          </p:nvPicPr>
          <p:blipFill>
            <a:blip r:embed="rId3"/>
            <a:stretch/>
          </p:blipFill>
          <p:spPr>
            <a:xfrm>
              <a:off x="5205240" y="328680"/>
              <a:ext cx="401184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818320" y="681120"/>
              <a:ext cx="251928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Развитие мышлен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Облако 5"/>
          <p:cNvGrpSpPr/>
          <p:nvPr/>
        </p:nvGrpSpPr>
        <p:grpSpPr>
          <a:xfrm>
            <a:off x="4853160" y="4827600"/>
            <a:ext cx="4363920" cy="2146320"/>
            <a:chOff x="4853160" y="4827600"/>
            <a:chExt cx="4363920" cy="2146320"/>
          </a:xfrm>
        </p:grpSpPr>
        <p:pic>
          <p:nvPicPr>
            <p:cNvPr id="220" name="Облако 5" descr=""/>
            <p:cNvPicPr/>
            <p:nvPr/>
          </p:nvPicPr>
          <p:blipFill>
            <a:blip r:embed="rId4"/>
            <a:stretch/>
          </p:blipFill>
          <p:spPr>
            <a:xfrm>
              <a:off x="4853160" y="4827600"/>
              <a:ext cx="436392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510160" y="5159520"/>
              <a:ext cx="275292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Формирование временных ориентац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Облако 6"/>
          <p:cNvGrpSpPr/>
          <p:nvPr/>
        </p:nvGrpSpPr>
        <p:grpSpPr>
          <a:xfrm>
            <a:off x="-79200" y="4754520"/>
            <a:ext cx="4511520" cy="2225880"/>
            <a:chOff x="-79200" y="4754520"/>
            <a:chExt cx="4511520" cy="2225880"/>
          </a:xfrm>
        </p:grpSpPr>
        <p:pic>
          <p:nvPicPr>
            <p:cNvPr id="223" name="Облако 6" descr=""/>
            <p:cNvPicPr/>
            <p:nvPr/>
          </p:nvPicPr>
          <p:blipFill>
            <a:blip r:embed="rId5"/>
            <a:stretch/>
          </p:blipFill>
          <p:spPr>
            <a:xfrm>
              <a:off x="-79200" y="4754520"/>
              <a:ext cx="451152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00120" y="5099040"/>
              <a:ext cx="28465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Формирование положительных эмоц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Солнце 8"/>
          <p:cNvGrpSpPr/>
          <p:nvPr/>
        </p:nvGrpSpPr>
        <p:grpSpPr>
          <a:xfrm>
            <a:off x="1352520" y="1036800"/>
            <a:ext cx="6724800" cy="4505040"/>
            <a:chOff x="1352520" y="1036800"/>
            <a:chExt cx="6724800" cy="4505040"/>
          </a:xfrm>
        </p:grpSpPr>
        <p:pic>
          <p:nvPicPr>
            <p:cNvPr id="226" name="Солнце 8" descr=""/>
            <p:cNvPicPr/>
            <p:nvPr/>
          </p:nvPicPr>
          <p:blipFill>
            <a:blip r:embed="rId6"/>
            <a:stretch/>
          </p:blipFill>
          <p:spPr>
            <a:xfrm>
              <a:off x="1352520" y="1036800"/>
              <a:ext cx="6724800" cy="45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552840" y="2479680"/>
              <a:ext cx="232416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Актуальность технолог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Методы и при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. система вопросов, стимулирующая К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формального уровн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на интерпретацию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на примене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на анализ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на синтез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на оцен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Методы и при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.  Чтение «со стопами»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ступле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бсужде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остановки», «Дерево предсказаний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05-13T09:33:21Z</dcterms:modified>
  <cp:revision>13</cp:revision>
  <dc:subject/>
  <dc:title>Развитие критического мышления через чтение и письмо</dc:title>
</cp:coreProperties>
</file>