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4CE-E7BF-4D51-BEC6-A08A4570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46B-75D1-40C8-A319-AF0AB84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86D-3DC8-4790-8F3A-8D86A749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CBD-C0D1-40A8-9E99-FE10FB91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17F0-6D5B-4C2F-9BB8-942F1087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CCA-079D-4C23-87DA-D08D9C5A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E95A-1B8D-4DA3-B75F-B4ED698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BDE3-048C-4E0C-A14E-D357FB0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6A8-2389-40BE-AFFF-DE3DFE8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9014-C015-4179-AD3F-A10BCC21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7BE6-DB0D-409F-ABBA-9C87E86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F84-3E7B-4667-9C08-22D6FFD4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A1EF-EDE8-4BEF-832F-943F8FE7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0473-09BA-4C0B-98B8-3A97C51D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ABAC-DDC8-4BFC-9C95-309BEBA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1065-02DE-4E20-96ED-FF59ECF0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FBD9-F936-4EAA-9988-07C7807A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80FC-01A2-488C-8FDE-1F8752EC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1F41-1935-4354-84A3-141DEB24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A2D9-842E-494F-966D-67F071F5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B343-8143-42D4-8B84-D32ABEA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C60E-914D-42F8-AB86-72E697C7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A50-581E-4082-A7C2-EEA66AED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B9AC-4D0F-4471-92C1-7AACADCF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B125-395A-4C41-8FCA-DF72D87D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73E2-B72F-42D9-8D19-4A130F2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921B-844A-45EA-8407-3A24727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1DA4-5468-41CD-B9C9-9920B701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E574-DB61-41E8-B587-A0614312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9C67-915A-40FA-83FA-86FF9A14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C4DA-4449-4950-98D0-75B2C2F9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E63D-6D33-4852-9EEB-2109F96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2D67-7714-47E2-BFCB-33B12C33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FDD-DECA-4490-B465-E45A412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C249-10D9-463D-90D6-F3FCCC71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6A43-D474-4665-8282-226CDA49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8338-ABC1-4C87-A635-41C12CBD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098A-DAE9-478E-8E99-E08A0D8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16A8-EA86-4A4B-812E-1315F3F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F4CF-02F3-4ABE-BA90-944DF850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2E80-0413-401A-AB19-D2D2C658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D8C2-199B-48CB-B095-E7DCFEBC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E2CC-420D-476C-9598-1A15672B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5D3-05BA-42A9-B4BA-D1CD75D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750-7EDD-4DFA-8309-BD1E5667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7A1-0132-43C6-B14A-8D9D4D7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93F-E91B-4BBE-8078-A0FF2E5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985-784F-4317-AAAE-731417F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2CDA-50D3-4B2C-8488-499CA4B291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6113-EBCC-49AB-A610-241A97D1322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B7BA-8DAC-4419-B305-BD5D028E37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E22-16AF-4D42-A9F3-4F338B5080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-189000"/>
            <a:ext cx="7967520" cy="246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1" descr="C:\Documents and Settings\Лёха\Local Settings\Temporary Internet Files\Content.Word\CIMG5291.jpg"/>
          <p:cNvPicPr/>
          <p:nvPr/>
        </p:nvPicPr>
        <p:blipFill>
          <a:blip r:embed="rId3"/>
          <a:stretch/>
        </p:blipFill>
        <p:spPr>
          <a:xfrm>
            <a:off x="1357200" y="2214720"/>
            <a:ext cx="621504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3. «Составление кластера»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это стратегия, которая дает доступ к собственным знаниям, пониманию или представлению об определенной тем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4. «Пометки на полях»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» - информация мне известн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+» - узнал что-то ново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—» - противоречит тому, что знаю, не согласен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?» - хочу узнать подробне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усвоение нового материала и его запоминани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852560"/>
            <a:ext cx="8242560" cy="448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овышение уровня понимания изучаемого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"/>
          <p:cNvPicPr/>
          <p:nvPr/>
        </p:nvPicPr>
        <p:blipFill>
          <a:blip r:embed="rId2"/>
          <a:stretch/>
        </p:blipFill>
        <p:spPr>
          <a:xfrm>
            <a:off x="1779480" y="2206800"/>
            <a:ext cx="5943600" cy="4017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вовлечение в работу учащихс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5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улучшение мотивац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5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br>
              <a:rPr sz="45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улучшение психологического здоровь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Результа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Развитие компетентности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самоорганизации; (умение решать проблемы) 64%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коммуникативная  (умение общаться) 76 %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информационная (умение извлекать и анализировать информацию) 72%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Результаты внеурочной деятельност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14-2015 учебный год-34 чел. в 16 конкурс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15-2016 учебный год- 96 чел. в 18 конкурс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16-2017 учебный год-135 чел. в 24 конкурс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Перспективы деятельнос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внедрение проектной деятельности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продолжить использование технологии критического мышления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использование ИКТ на урок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Будущее принадлежит тем, кт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критически анализирует информацию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и выстраивает свои собственные реа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Чарльз Темп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3" descr=""/>
          <p:cNvPicPr/>
          <p:nvPr/>
        </p:nvPicPr>
        <p:blipFill>
          <a:blip r:embed="rId2"/>
          <a:stretch/>
        </p:blipFill>
        <p:spPr>
          <a:xfrm>
            <a:off x="523800" y="-6480"/>
            <a:ext cx="7785000" cy="472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Цель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азвивать у учащихся критическое мышление, учить владеть критическим анализом, научить их нести ответственность за собственное учение, формировать собственные независимые мнения и проявлять уважение к мнению других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редоставить время и возможность для приобретения опыта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авать возможность учащимся размышля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ринимать различные идеи и мн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способствовать активности учащихся в учебном процесс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убедить учащихся в том, что они не рискуют быть высмеянны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выражать веру в то, что каждый учащийся способен на критическое сужд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ценить проявление критического мышл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Стадии критического мышле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42960" y="2714760"/>
            <a:ext cx="3929040" cy="164304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вы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4714920" y="2714760"/>
            <a:ext cx="3714840" cy="164304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осмы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5"/>
          <p:cNvSpPr/>
          <p:nvPr/>
        </p:nvSpPr>
        <p:spPr>
          <a:xfrm>
            <a:off x="2071800" y="4357800"/>
            <a:ext cx="4572000" cy="155736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аз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3" name="Облако 3"/>
          <p:cNvGrpSpPr/>
          <p:nvPr/>
        </p:nvGrpSpPr>
        <p:grpSpPr>
          <a:xfrm>
            <a:off x="-79200" y="255600"/>
            <a:ext cx="4365360" cy="2225520"/>
            <a:chOff x="-79200" y="255600"/>
            <a:chExt cx="4365360" cy="2225520"/>
          </a:xfrm>
        </p:grpSpPr>
        <p:pic>
          <p:nvPicPr>
            <p:cNvPr id="214" name="Облако 3" descr=""/>
            <p:cNvPicPr/>
            <p:nvPr/>
          </p:nvPicPr>
          <p:blipFill>
            <a:blip r:embed="rId2"/>
            <a:stretch/>
          </p:blipFill>
          <p:spPr>
            <a:xfrm>
              <a:off x="-79200" y="255600"/>
              <a:ext cx="436536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81040" y="598320"/>
              <a:ext cx="275256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Развитие памя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Облако 4"/>
          <p:cNvGrpSpPr/>
          <p:nvPr/>
        </p:nvGrpSpPr>
        <p:grpSpPr>
          <a:xfrm>
            <a:off x="5205240" y="328680"/>
            <a:ext cx="4011840" cy="2292120"/>
            <a:chOff x="5205240" y="328680"/>
            <a:chExt cx="4011840" cy="2292120"/>
          </a:xfrm>
        </p:grpSpPr>
        <p:pic>
          <p:nvPicPr>
            <p:cNvPr id="217" name="Облако 4" descr=""/>
            <p:cNvPicPr/>
            <p:nvPr/>
          </p:nvPicPr>
          <p:blipFill>
            <a:blip r:embed="rId3"/>
            <a:stretch/>
          </p:blipFill>
          <p:spPr>
            <a:xfrm>
              <a:off x="5205240" y="328680"/>
              <a:ext cx="401184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818320" y="681120"/>
              <a:ext cx="251928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Развитие мышле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Облако 5"/>
          <p:cNvGrpSpPr/>
          <p:nvPr/>
        </p:nvGrpSpPr>
        <p:grpSpPr>
          <a:xfrm>
            <a:off x="4853160" y="4827600"/>
            <a:ext cx="4363920" cy="2146320"/>
            <a:chOff x="4853160" y="4827600"/>
            <a:chExt cx="4363920" cy="2146320"/>
          </a:xfrm>
        </p:grpSpPr>
        <p:pic>
          <p:nvPicPr>
            <p:cNvPr id="220" name="Облако 5" descr=""/>
            <p:cNvPicPr/>
            <p:nvPr/>
          </p:nvPicPr>
          <p:blipFill>
            <a:blip r:embed="rId4"/>
            <a:stretch/>
          </p:blipFill>
          <p:spPr>
            <a:xfrm>
              <a:off x="4853160" y="4827600"/>
              <a:ext cx="436392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510160" y="5159520"/>
              <a:ext cx="275292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Формирование временных ориента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Облако 6"/>
          <p:cNvGrpSpPr/>
          <p:nvPr/>
        </p:nvGrpSpPr>
        <p:grpSpPr>
          <a:xfrm>
            <a:off x="-79200" y="4754520"/>
            <a:ext cx="4511520" cy="2225880"/>
            <a:chOff x="-79200" y="4754520"/>
            <a:chExt cx="4511520" cy="2225880"/>
          </a:xfrm>
        </p:grpSpPr>
        <p:pic>
          <p:nvPicPr>
            <p:cNvPr id="223" name="Облако 6" descr=""/>
            <p:cNvPicPr/>
            <p:nvPr/>
          </p:nvPicPr>
          <p:blipFill>
            <a:blip r:embed="rId5"/>
            <a:stretch/>
          </p:blipFill>
          <p:spPr>
            <a:xfrm>
              <a:off x="-79200" y="4754520"/>
              <a:ext cx="451152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00120" y="5099040"/>
              <a:ext cx="28465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Формирование положительных эмо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Солнце 8"/>
          <p:cNvGrpSpPr/>
          <p:nvPr/>
        </p:nvGrpSpPr>
        <p:grpSpPr>
          <a:xfrm>
            <a:off x="1352520" y="1036800"/>
            <a:ext cx="6724800" cy="4505040"/>
            <a:chOff x="1352520" y="1036800"/>
            <a:chExt cx="6724800" cy="4505040"/>
          </a:xfrm>
        </p:grpSpPr>
        <p:pic>
          <p:nvPicPr>
            <p:cNvPr id="226" name="Солнце 8" descr=""/>
            <p:cNvPicPr/>
            <p:nvPr/>
          </p:nvPicPr>
          <p:blipFill>
            <a:blip r:embed="rId6"/>
            <a:stretch/>
          </p:blipFill>
          <p:spPr>
            <a:xfrm>
              <a:off x="1352520" y="1036800"/>
              <a:ext cx="6724800" cy="45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552840" y="2479680"/>
              <a:ext cx="232416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Актуальность технолог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. система вопросов, стимулирующая К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формального уровн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интерпретаци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примен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анализ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синтез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опросы на оцен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.  Чтение «со стопами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ступл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сужд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остановки», «Дерево предсказани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5-13T09:33:21Z</dcterms:modified>
  <cp:revision>13</cp:revision>
  <dc:subject/>
  <dc:title>Развитие критического мышления через чтение и письмо</dc:title>
</cp:coreProperties>
</file>