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520-C244-4547-AD3B-7C79E0BF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037-3AE6-4EA6-AA49-2ECBD15B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D395B-0CED-4EFA-87A8-7FB29DEB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716A0-EE95-4058-A4A4-367FEFF4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4A411-2E7B-49EB-B3FE-0E07A0C7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195CA-4273-49CB-9F24-E1BEB37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D3489-E666-4D64-881C-12B49BB5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2359A-8EB0-4011-BCA1-6A433E78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89BE2-61DE-4569-AD86-393FB50E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7945D-D251-45CE-8853-F80CC076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0845B-40E8-47B0-8CA8-C4C4D24D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7BD30-6829-4514-B147-3EA481C3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4BE-8EEB-47B6-8F13-5D7EFCDA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94950-8599-4BB2-BFFB-A07D495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90E0B-B0C2-4AEE-BCD6-CF35C40C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0B84B-78A0-4F9F-9507-4F082D0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59E05-5967-4C41-9D70-713735A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2002D-630C-4AD5-91D0-6A8A3DC1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0C70F-BFBE-478E-A5F1-CEF9F98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400B2-F0EA-43AD-A678-29C36FB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B2247-FB19-442E-8223-06C89EC8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0DCF9-A46B-4FE5-B28E-48D171F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62D21-5358-4A3C-99B7-00F4A4B4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FC8-6EBD-41EC-B2FA-BB586C0E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69DBF-0C40-4354-8B98-CCE7CC2A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DC381-1DC0-4E0E-98D0-9846EC9C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9D79-1BAD-4ADF-8C11-201AC5E2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10601-AD91-46B5-991A-6DC3B0BE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3656E-39D2-42B2-950F-9E006C67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7A3E7-A433-4DA9-A105-62039BB2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0682A-0CD7-45FD-B081-128CCBF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41433-01CE-4CA1-8FA7-456F164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08A8F-3D4E-43A1-93D1-8A14B70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7BD7C-AD4D-4537-9800-9A91C389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43E8-29B1-4793-96D8-7A4BA268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3BF73-E377-46A8-A184-20938ABC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DBD1-9E07-4BA7-A8FE-E4FE5F67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46848-DCE6-4364-889C-4FF11137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6D5BB-22F0-4533-AAB2-83284DCB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ADB3C-7810-4FAF-A4A9-7B623766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2C4D5-A71C-48AB-88E2-752727DB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A455E-F3B0-4403-A6F9-A3C29935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1306B-D5B3-417D-A191-E025208B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94D72-767B-49FC-80B2-8CD0EC5C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08241-7894-4F0E-AB1E-6CCD62D8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661D-94F8-4EE1-A360-6E9A9B6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47B9B-A862-4373-9C9B-DD75ABBE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47903-22D2-4DD4-A9D5-373B309C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FA651-005E-4216-8222-6C02E06F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E3E0E-B916-45BE-9E7C-5FBB0B1F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4D826-A932-4134-98E7-E3C0D870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EC32-1183-4B4B-B2E7-32EBB722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6A40-2BF2-49F7-BE3C-F1399B80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6F78-BD4D-46C1-9ADB-6ABE276B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8026-9F8D-4AE0-ACA5-F1FD2308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6A82-DFDC-45B6-BA7C-A63ECFA8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714-6BBE-4160-A42E-C57C2020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F75E-2416-4C63-8E19-57F0DD6D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2A7B-553F-4670-B3C7-FC76D3FF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A830-4F49-4774-B73F-D93FCA00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C5A3-F89D-466B-8A78-48BF3373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DA90-E541-441B-B6EB-4AA50FE9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2BA0-2D29-4EE1-A4CE-0D333AF1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59BC-0919-487E-B701-D6260560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8AD3-0053-4C64-9C4D-D34AC96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B962-D2CA-4308-B89B-1DED6EBE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AD7F-A34D-451C-A8AC-AAC6CDA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4E3-A916-4346-9FDD-1D99B3C6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0EE3-FEFA-4987-9B6A-68C87ED4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BCC9-00A0-4B8C-BC0D-A504B9F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C2EB-5D31-4155-8952-DBBC3BB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AFF2-F2DC-4C6C-983B-DCBB77AD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CB2E-6B33-46DE-AF7A-1EF14418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8402-5399-4EB6-AE7C-69D20463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FD6F-D5EC-4FA0-A2DA-8446BB0B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DD86-CECB-47EA-B048-5503EB4A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784C-F193-4E41-BC65-7DAE4CB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74BE-B6DF-4CF1-9415-F6795EC1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B54-4E66-4553-8236-20E19E6F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CAFB-1D13-4322-8456-C3D2FC35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8E9F-B3ED-41BD-8933-191CBE44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6F7B3-C82A-4529-9620-ADBAE353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6D5A-6D5F-4D98-9DD1-9D71C82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DEB6-6E6C-4321-89E8-001BB4FA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DFCC-B6CC-42AF-84FE-E23E222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91D7-A1EE-4E02-9D79-543FCA64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5BC8-31CA-4CBC-9659-D1FA0231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A708-C5E2-4BB5-942F-526E8769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FA1B-1454-44FA-BE66-06313E50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D9A-4177-4326-B3F7-50956CC1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163D0-64B2-47FA-A5FB-E9208792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F7D8-1551-4C07-A426-73253835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E81C-D3D5-4E73-BF67-CCCA2D9D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278B4-0531-497B-88C4-C14452A5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B7B95-A0A6-473B-A495-54B1C232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D6325-9F23-4515-A578-31A2C3E5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8E08-9208-495E-9864-69C9E99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DC0CA-7F4D-4D17-8603-BE5285C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9D05-60EA-4547-A5DD-62CB3339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A06EB-D1C9-435F-A961-DF4F1B0C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8AE-889F-463E-AB6C-723F840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514A-829F-4C9D-AE06-6AC38682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75FEA-9D7B-4EE4-B9AA-CF5C8B76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9CA74-8121-4508-ACEC-B9995449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4DA57-097B-4DF5-8B8C-1AFE80B9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656CD-D536-4170-897B-FDFCA748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C20C1-0E97-40F9-ABD7-0C76A85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7A41F-98D3-46B1-B1D8-3129F418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ECDF7-3152-44A7-B19A-F1042D2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72C1-843A-4DBB-8251-22E71AC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343A-EEE3-4D0B-8C9B-387BE57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D67-A2D6-4C3E-9FD1-2099793C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DC9A-26F7-43AF-81B0-C14883EC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EE05D-D9A7-4903-8143-BB948D95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EB6FD-BFB4-48FC-BF35-C375175B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39D5-494D-451D-AE1A-3D34FA91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E1791-39C7-4B2C-BE86-B0FF70E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A282-F6CF-4BC1-80CF-4955C6F7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A30F-99CA-474F-8001-1230581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84251-3568-4B4A-A449-AD3498B2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77504-AF75-4640-A8D1-0E8B9787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9A79A-7DCA-4C76-AA61-E4F5FCFF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227-A404-40A2-8E89-4EFB838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F5C5B-200B-4024-A21F-54B4403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28FA7-0A17-4CAC-A985-946048C3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018A8-2BFA-4E28-ACD0-B112CE05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EFE1C-BC52-4ADE-9D72-EDF0FC6F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5481-AFB8-4EDF-A26C-EDA5A313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7E5A5-77AE-4CC5-B15A-F5701BDE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F341B-15F6-4F69-A239-C8874974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1DADA-5DA9-4EE2-A046-ADE4CB51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B2271-DA34-46CD-91DA-7C6A9FE0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14482-A7CF-4CDA-8E12-E6001A45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4F0-3831-4862-9025-40CA43E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4AE64-9437-4B8E-A4B5-E475E848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C668A-B32A-4702-B852-FAA081A5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8B51-0233-410D-8D92-79C382D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8DF74-B03F-419C-ADAD-19CB3A4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8CA6-EF45-4622-97FF-4ACBF3E7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65CD5-8527-4F69-9467-46435C14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D662D-0A81-4216-BA4D-F2E40235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37C99-3AC4-442D-8D44-4C809B50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52236-A533-4FB8-85D0-38B81377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8D177-9564-4983-BCE5-A27FC08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329B-2AC6-4359-8D5D-FE0942D51DD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85AC-AE26-4A00-ADDB-B768E0BBEE5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0D23-AF7B-4559-B88A-388BDC7CFC4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D573-8135-4277-A42D-C5386EDC85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73A8-CE80-4083-9F4D-CEB8211AF68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6A25-C23A-4050-A61C-1E209601B48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A33-BC49-471D-8F2E-4737E14A574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FC39-4D43-4346-AB61-1F0AEB6A9A0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44FA-4F9C-45AA-BCE6-A9D2CC93E09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2E92-C68B-4B42-A85B-9208BA12600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F54F-3B61-4FB6-8649-52BFE3F3F41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F721-6646-4556-91E8-7E18FBBB7F5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000240" y="4142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ВЫПОЛНИЛ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                               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РОМАНЮК О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7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“ </a:t>
            </a:r>
            <a:r>
              <a:rPr b="0" lang="ru-RU" sz="3100" spc="-1" strike="noStrike">
                <a:solidFill>
                  <a:srgbClr val="d16349"/>
                </a:solidFill>
                <a:latin typeface="Georgia"/>
              </a:rPr>
              <a:t>ПЕДАГОГИЧЕСКИЕ УСЛОВИЯ РАЗВИТИЯ ЭСТЕТИЧЕСКОГО ВОСПРИЯТИЯ ДЕТЕЙ СТАРШЕГО ДОШКОЛЬНОГО ВОЗРАСТА В ХУДОЖЕСТВЕННО-ТВОРЧЕСКОЙ ДЕЯТЕЛЬНОСТИ”</a:t>
            </a:r>
            <a:br>
              <a:rPr sz="4200"/>
            </a:br>
            <a:endParaRPr b="0" lang="en-US" sz="31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зобразительная деятельность - одна из самых интересных для детей дошкольного возраста: она глубоко волнует ребенка, вызывает положительные эмоции. В настоящее время существует множество средств развития детского творчества: аппликация, лепка, конструирование, рисование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е они оказывают большое влияние на личность ребенка, способствуют развитию воображения, памяти, речи, воспитывают нравственные качества ребен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3" descr="D:\2016-2017\Фото\группа 5\IMG_4154.JPG"/>
          <p:cNvPicPr/>
          <p:nvPr/>
        </p:nvPicPr>
        <p:blipFill>
          <a:blip r:embed="rId1"/>
          <a:stretch/>
        </p:blipFill>
        <p:spPr>
          <a:xfrm>
            <a:off x="539640" y="476280"/>
            <a:ext cx="2597400" cy="3462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D:\2016-2017\Фото\группа 5\IMG_3725.JPG"/>
          <p:cNvPicPr/>
          <p:nvPr/>
        </p:nvPicPr>
        <p:blipFill>
          <a:blip r:embed="rId2"/>
          <a:stretch/>
        </p:blipFill>
        <p:spPr>
          <a:xfrm>
            <a:off x="4067280" y="404640"/>
            <a:ext cx="3903480" cy="2927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" descr="D:\2016-2017\Фото\группа 5\IMG_4885.JPG"/>
          <p:cNvPicPr/>
          <p:nvPr/>
        </p:nvPicPr>
        <p:blipFill>
          <a:blip r:embed="rId3"/>
          <a:stretch/>
        </p:blipFill>
        <p:spPr>
          <a:xfrm>
            <a:off x="2411280" y="3645000"/>
            <a:ext cx="48722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громное значение для мотивации самостоятельной деятельности имеет предметно-развивающая среда. Предметно-развивающая среда в детском саду должна создавать условия для самостоятельной, осмысленной и полезной деятельности детей. Оборудование предметно-развивающей среды - это внешние условия педагогического процесса, позволяющие организовать самостоятельную деятельность детей. Необходимо создать такую развивающую предметно - пространственную среду, которая могла быть достаточно содержательной, легко трансформируемой, многофункциональной, доступной для детей и безопасно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2" descr="D:\2016-2017\Фото\группа 5\IMG_3757.JPG"/>
          <p:cNvPicPr/>
          <p:nvPr/>
        </p:nvPicPr>
        <p:blipFill>
          <a:blip r:embed="rId1"/>
          <a:stretch/>
        </p:blipFill>
        <p:spPr>
          <a:xfrm>
            <a:off x="755640" y="76500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D:\2016-2017\Фото\группа 5\IMG_3721.JPG"/>
          <p:cNvPicPr/>
          <p:nvPr/>
        </p:nvPicPr>
        <p:blipFill>
          <a:blip r:embed="rId2"/>
          <a:stretch/>
        </p:blipFill>
        <p:spPr>
          <a:xfrm rot="5842200">
            <a:off x="5545800" y="1235880"/>
            <a:ext cx="2787840" cy="20908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D:\2016-2017\Фото\группа 5\IMG_3759.JPG"/>
          <p:cNvPicPr/>
          <p:nvPr/>
        </p:nvPicPr>
        <p:blipFill>
          <a:blip r:embed="rId3"/>
          <a:stretch/>
        </p:blipFill>
        <p:spPr>
          <a:xfrm rot="4888200">
            <a:off x="3029760" y="347868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АСИБО ЗА ВНИМ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КТУАЛЬНОСТ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Формирование творческой личности - одна из важнейших задач педагогической теории и практики. Наиболее эффективным средством для развития творческого мышления и воображения детей является художественно - творческая деятельность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Художественно творческая деятельность выступает как ведущий способ эстетического воспитания и развития детей дошкольного возраста. В художественном развитии дошкольников центральным является способность к восприятию художественного произведения и самостоятельному созданию нового образа (в рисунке, лепке, аппликации, конструировании)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ЦЕЛ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еспечить развитие творческих способностей у детей дошкольного возраста, посредством проведения занимательных занятий по рисованию с использованием нетрадиционных техни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ЗАДАЧ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знакомить детей с различными нетрадиционными техниками рисова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Сформировать у детей технические навыки нетрадиционного рисова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Помочь детям создавать свой неповторимый образ, используя различные нетрадиционные техники в системе занимательных занятий по рисованию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 Способствовать формированию эстетического вкуса на занятиях по рисованию нетрадиционными техникам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ЪЕК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цесс эстетического воспитания детей дошкольного возраста, а предметом система нетрадиционных техник и методов рисова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D:\2016-2017\Фото\группа 5\IMG_5508.JPG"/>
          <p:cNvPicPr/>
          <p:nvPr/>
        </p:nvPicPr>
        <p:blipFill>
          <a:blip r:embed="rId1"/>
          <a:stretch/>
        </p:blipFill>
        <p:spPr>
          <a:xfrm>
            <a:off x="2987640" y="3429000"/>
            <a:ext cx="28274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стетическое воспитание - это целенаправленный процесс формирования у человека эстетического отношения к действительн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"Художественное воспитание есть процесс целенаправленного воздействия средствами искусства на личность, благодаря которому у воспитуемых формируются художественные чувства и вкус, любовь к искусству, умение понимать его, наслаждаться им и способность по возможности творить в искусстве"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стетическое воспитание имеет свои специальные задачи, которые делятся на две группы.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Первая группа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правленная на формирование эстетического отношения к окружающему миру. Предусматривается следующее: развивать умения видеть красоту в природе, поступках, искусстве, понимать прекрасное, воспитывать художественный вкус, потребность в познании прекрасного.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Вторая группа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задач направлена на формирование художественных умений в области разных искусств: обучение детей рисованию, лепке, конструированию; пению, движениям под музыку; развитие словесного творчеств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ля реализации задач эстетического воспитания детей дошкольного возраста необходимые следующие условия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кружающая среда (игрушки, одежда, помещение)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сыщенность быта произведениями искусств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амостоятельная активная деятельность дете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существления индивидуального подхода к ребёнк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0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авным условием развития художественных способностей детей в детском саду является предоставление всем равных возможностей для развития способностей в разных областях искусств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ы организации эстетического воспитания в художественной деятельности могут быть различными: на занятиях, в самостоятельной деятельности, художественном труде, во время праздников, развлечений, экскурсии, прогулки и т.д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9T14:34:10Z</dcterms:created>
  <dc:creator>неля</dc:creator>
  <dc:description/>
  <dc:language>en-US</dc:language>
  <cp:lastModifiedBy>Воспитатель</cp:lastModifiedBy>
  <dcterms:modified xsi:type="dcterms:W3CDTF">2017-05-13T11:25:30Z</dcterms:modified>
  <cp:revision>4</cp:revision>
  <dc:subject/>
  <dc:title>“ ПЕДАГОГИЧЕСКИЕ УСЛОВИЯ РАЗВИТИЯ ЭСТЕТИЧЕСКОГО ВОСПРИЯТИЯ ДЕТЕЙ СТАРШЕГО ДОШКОЛЬНОГО ВОЗРАСТА В ХУДОЖЕСТВЕННО-ТВОРЧЕСКОЙ ДЕЯТЕЛЬНОСТИ”</dc:title>
</cp:coreProperties>
</file>