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823-2009-4169-A90C-FEC90165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328-56E0-4D20-867C-C28527CF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9D4AF-A139-4E04-8333-AF942C44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2ACE4-8A11-48BA-8FDA-50F24E25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97A80-FF4A-40C9-8CCE-1974ADE3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0FCD5-5F4B-4986-AA63-6D571DE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41827-23F6-46AE-8352-8A9F9DA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D15CD-F202-41F4-A07B-1F7228F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69707-9EF2-4A6F-A0B5-59612F7D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86FFB-5028-4EE5-950D-008D7397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D3BF5-0588-45F3-AFBB-926A40DA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37071-FB99-4C19-888C-812D69CD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DE1-6253-449E-8B9F-0999228D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2AD3B-6A22-426F-B4AC-AC6D2AF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55E5A-56A3-4017-817E-F2F3AA6A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D5069-CC7C-43FE-B508-4E17025C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277EF-1ABE-428A-A60F-03CC97C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3F37E-7DB2-410F-BA73-A0BC3AD6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B3060-E448-4E95-9D23-724F1E5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55019-52A3-420B-BC21-49CDE199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30BEF-C835-4F5F-9B05-61822F2C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EEAD6-D6D2-46EB-9EC0-BD560D7F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87424-F8F1-4639-B8D0-C5D7B7D1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424-D583-4A4F-AD3C-D77477A8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40B84-F177-45BE-B8CE-74E457FD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E1FC4-1351-4E2E-9C0A-3D4D8332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3FC04-98ED-48D1-AE25-E59AE869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5B093-1505-4AB0-85C9-5F60D43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9049C-2D8C-4B03-BCEA-0CBBE3A4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B5ABB-5294-4ACB-BA4D-1AF53849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7BD2F-89D5-4B19-AABD-6F5855EA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04740-21C3-4D4C-A9D3-1BBD5181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1070B-3F89-4F8E-B2FE-A690F3F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0E04B-83E1-47CB-A815-9635FCD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AA25-EB2B-46A9-AA0D-300C507D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70E7B-D7E8-42DF-9966-9D16F7A4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6A960-4BC6-4D20-8DF9-6E1C71DD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5E646-5BFD-4A15-BF0F-C93A740C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A7E32-AC41-40AC-AE59-309F4824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097FF-D7F6-4997-8FBA-2EF28EA5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686DA-61D2-429A-8E37-78706389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8560D-3282-4EF2-AA3B-CB6EC1BC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42CF0-4717-4F3D-8FA2-1B36192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37A0B-78EB-4399-B343-72286812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4AB13-624A-45D7-BC4D-B38AF034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5A4B-2852-474B-B3D5-7DC06BA1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8CA24-50EC-4BFE-8447-27223E5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C3CE9-6BBE-49D4-B567-AE0F86B0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656A2-A70B-4EFD-A812-D685CF91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C9EAF-072E-4C1E-9495-74FDF2B6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C9905-4B4E-4592-B3FF-A81342D5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DC87-D096-4384-B808-393AEE75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E2E1-9812-46DD-A1CB-E6EE0B71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2645-CDED-49F5-A237-701D248F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B527-30B9-4E58-B01D-FECA4A59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947A-4795-480A-BA46-BA7F2F7D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636-9A4A-4535-888B-EB2EB9B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8501-C680-4F6D-B6BD-0CA6441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F63-A89D-4DD8-938E-DAC930F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C0B3-D87B-47D9-B982-5A09AFF5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D525-704C-424F-8268-62D46332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0CB-8CFC-4C9F-B2B1-42A95F2A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1724-6923-4CD7-98AB-3DB1CD3F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E1C3-1240-4243-8173-91CCBAE1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F852-980E-4DB9-9A8D-DB2F2500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FA84-0F2B-46F6-9A83-C8C4A323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EB3F-4D3A-4B2F-8505-7506DE11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BFC-5A70-44FF-8DBC-1ED4A145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7D96-310A-40D1-A89E-05EE2DA8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ED76-B343-4986-ACD1-E7BC24A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184D-411C-49F9-8988-267C0980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2711-18BA-4A8C-8844-AB06A02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0A16-E335-47F6-BB22-235DB2B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A8B7-FD52-4D75-B38A-16306E55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A20D-F296-4A13-A40E-1523A6BA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91E3-E7AD-4AA7-8A78-A5FBFE90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2982-A5CC-44F7-AFBC-A9036B6B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947D-C177-43AD-A8E7-7CD9C4AC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700-ACCE-42B4-BC02-23314838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EEE2-42CC-4EFE-AF63-FCF6E8FA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DD80-1BA6-4B84-9DE3-1FC6715F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2AE66-FCCD-4465-A223-C8C83716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6B3A-F2B0-43A4-8EEA-C810385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1178-FEDB-4FB6-864B-987CF0FD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3FA6-3C7F-472C-83B9-D2843556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FF83-BE54-4003-9ECE-0DBD444D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F60E-8738-4ABA-BBB4-6DFD9F5F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2763-87EE-4DF2-92EB-FDBE60B0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1E7B-28D3-450F-B2E7-B7572E45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1ED-7223-4FA0-A1D0-1A4625C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A9ED-160F-4917-802B-A89F43E0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5DFF3-3F93-4FCC-A699-FD042990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0CB6-6C17-455A-AC3D-E12965DC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A0B6-C0C9-4E35-A5D5-415CC62F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598A-E442-4CB4-A245-CB203BA0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B3DE-2F39-4480-9A3B-F99293A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BFED-DC01-43FD-89E6-7666A2D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5F20-F58F-4B61-8859-29F2859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4D3D-7801-4FE4-9901-3564F3A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749C6-3D87-4DD4-B487-80E4698C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17D-05C7-4C5B-AEF0-4D2F397D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8AB81-532D-423B-B627-C1A35537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1049A-2408-4823-AB0C-4D729893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0A49C-D4EC-4603-822D-F5ADDCA3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5E4A5-3C68-4BF3-ABDE-03D8590C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F918-BD56-4C1C-9555-5DFEDBDC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D916F-F25F-4480-9AA5-4A8C279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85BA-0AD0-4C16-A2BF-6CF3A90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E8318-44A8-4A46-8B1D-B5C5EBC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D622A-C0AC-45EC-9B24-4080D188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DC727-0A21-4BA3-A54C-A91504D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064-DBDA-4F24-97FC-3EDE144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1CD76-912A-4887-8BD8-1B446E2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5368-DDC6-4AFB-9B62-4F795C9A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4E7DF-4783-444C-95BD-64C890C5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E9C25-A2CB-488C-963C-DAF204A3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6005A-E5D2-40B2-A7C9-554AE932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ED638-E000-430D-9D2E-309610D1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EF39E-5603-47DE-8ED6-A9F95E57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2445A-120C-4505-AC1E-5CDCCE9E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6995E-27F5-44D6-B94D-BACD0A3B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522A-BC87-4BFB-B56B-947F1BD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ABF-7D99-4265-B5F0-3B9E063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5483-15BB-4453-8590-F60BF1F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24A8-0A0E-4194-BF38-B53A44F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5320C-5E6A-4038-94F8-F5B61CE1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EA4D-7053-4B61-AD1B-4A84E810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E56C-9D06-4D21-9F31-B45317F3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00A85-6037-4814-9526-C5DDBE24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E9C98-619F-4A7A-A795-E529E5F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66AD4-94E8-499E-828A-407F5488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059B0-610D-41D0-B011-1122CC29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AEDC-A628-4A74-8A72-46AF27A6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EED-D661-49EA-8EBD-7AAC1D9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2949D-32C8-4338-A6C1-C0862037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47D93-8F86-461F-833C-AFC2C323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B9AB3-EE8B-4D20-B03B-8713843A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1A3A1-D356-41EC-BC8A-5F554042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662E-3F43-4A06-BF04-709D931F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F8D5F-D881-445B-8603-BC476150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9A17-0BF8-43CC-B941-BD189544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5C9B4-9B73-48D2-9F8D-8D7F0003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3BBD5-8919-4CF0-B3BD-EC569C61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CF939-51D8-4243-B708-04A71D17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2783-3FAD-41B4-8510-9D444539F4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5CF3-8CDA-4692-AF8D-7741E4E52C7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A79D-B44F-47E4-A076-4E66686462A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1E38-938F-42FD-8DFA-E198E3C29AA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8878-3E19-4C7F-A107-D62226E5E48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97F0-9548-43FA-96BB-AD767DF73D6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F4B5-AC1C-4D2B-91EE-40AEC4683F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B5C-0990-4793-A335-E268C682C51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250-5BB7-42EF-BB41-C7B9A91320F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9838-AF16-4913-8EC3-4D01A2E3736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2EA-6C06-426E-98C8-EF67119763B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D067-B656-4559-A977-831F5B1DD73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000240" y="4142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ВЫПОЛНИЛ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                               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РОМАНЮК О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7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“ </a:t>
            </a:r>
            <a:r>
              <a:rPr b="0" lang="ru-RU" sz="3100" spc="-1" strike="noStrike">
                <a:solidFill>
                  <a:srgbClr val="d16349"/>
                </a:solidFill>
                <a:latin typeface="Georgia"/>
              </a:rPr>
              <a:t>ПЕДАГОГИЧЕСКИЕ УСЛОВИЯ РАЗВИТИЯ ЭСТЕТИЧЕСКОГО ВОСПРИЯТИЯ ДЕТЕЙ СТАРШЕГО ДОШКОЛЬНОГО ВОЗРАСТА В ХУДОЖЕСТВЕННО-ТВОРЧЕСКОЙ ДЕЯТЕЛЬНОСТИ”</a:t>
            </a:r>
            <a:br>
              <a:rPr sz="4200"/>
            </a:br>
            <a:endParaRPr b="0" lang="en-US" sz="31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зобразительная деятельность - одна из самых интересных для детей дошкольного возраста: она глубоко волнует ребенка, вызывает положительные эмоции. В настоящее время существует множество средств развития детского творчества: аппликация, лепка, конструирование, рисование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е они оказывают большое влияние на личность ребенка, способствуют развитию воображения, памяти, речи, воспитывают нравственные качества ребен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3" descr="D:\2016-2017\Фото\группа 5\IMG_4154.JPG"/>
          <p:cNvPicPr/>
          <p:nvPr/>
        </p:nvPicPr>
        <p:blipFill>
          <a:blip r:embed="rId1"/>
          <a:stretch/>
        </p:blipFill>
        <p:spPr>
          <a:xfrm>
            <a:off x="539640" y="476280"/>
            <a:ext cx="2597400" cy="3462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D:\2016-2017\Фото\группа 5\IMG_3725.JPG"/>
          <p:cNvPicPr/>
          <p:nvPr/>
        </p:nvPicPr>
        <p:blipFill>
          <a:blip r:embed="rId2"/>
          <a:stretch/>
        </p:blipFill>
        <p:spPr>
          <a:xfrm>
            <a:off x="4067280" y="404640"/>
            <a:ext cx="3903480" cy="2927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" descr="D:\2016-2017\Фото\группа 5\IMG_4885.JPG"/>
          <p:cNvPicPr/>
          <p:nvPr/>
        </p:nvPicPr>
        <p:blipFill>
          <a:blip r:embed="rId3"/>
          <a:stretch/>
        </p:blipFill>
        <p:spPr>
          <a:xfrm>
            <a:off x="2411280" y="3645000"/>
            <a:ext cx="48722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громное значение для мотивации самостоятельной деятельности имеет предметно-развивающая среда. Предметно-развивающая среда в детском саду должна создавать условия для самостоятельной, осмысленной и полезной деятельности детей. Оборудование предметно-развивающей среды - это внешние условия педагогического процесса, позволяющие организовать самостоятельную деятельность детей. Необходимо создать такую развивающую предметно - пространственную среду, которая могла быть достаточно содержательной, легко трансформируемой, многофункциональной, доступной для детей и безопасно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2" descr="D:\2016-2017\Фото\группа 5\IMG_3757.JPG"/>
          <p:cNvPicPr/>
          <p:nvPr/>
        </p:nvPicPr>
        <p:blipFill>
          <a:blip r:embed="rId1"/>
          <a:stretch/>
        </p:blipFill>
        <p:spPr>
          <a:xfrm>
            <a:off x="755640" y="76500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D:\2016-2017\Фото\группа 5\IMG_3721.JPG"/>
          <p:cNvPicPr/>
          <p:nvPr/>
        </p:nvPicPr>
        <p:blipFill>
          <a:blip r:embed="rId2"/>
          <a:stretch/>
        </p:blipFill>
        <p:spPr>
          <a:xfrm rot="5842200">
            <a:off x="5545800" y="1235880"/>
            <a:ext cx="2787840" cy="20908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D:\2016-2017\Фото\группа 5\IMG_3759.JPG"/>
          <p:cNvPicPr/>
          <p:nvPr/>
        </p:nvPicPr>
        <p:blipFill>
          <a:blip r:embed="rId3"/>
          <a:stretch/>
        </p:blipFill>
        <p:spPr>
          <a:xfrm rot="4888200">
            <a:off x="3029760" y="347868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АСИБО ЗА ВНИМ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КТУАЛЬНОСТ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Формирование творческой личности - одна из важнейших задач педагогической теории и практики. Наиболее эффективным средством для развития творческого мышления и воображения детей является художественно - творческая деятельность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Художественно творческая деятельность выступает как ведущий способ эстетического воспитания и развития детей дошкольного возраста. В художественном развитии дошкольников центральным является способность к восприятию художественного произведения и самостоятельному созданию нового образа (в рисунке, лепке, аппликации, конструировании)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ЦЕЛ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еспечить развитие творческих способностей у детей дошкольного возраста, посредством проведения занимательных занятий по рисованию с использованием нетрадиционных техни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ЗАДАЧ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знакомить детей с различными нетрадиционными техниками рисова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Сформировать у детей технические навыки нетрадиционного рисова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Помочь детям создавать свой неповторимый образ, используя различные нетрадиционные техники в системе занимательных занятий по рисованию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 Способствовать формированию эстетического вкуса на занятиях по рисованию нетрадиционными техникам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ЪЕК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цесс эстетического воспитания детей дошкольного возраста, а предметом система нетрадиционных техник и методов рисова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D:\2016-2017\Фото\группа 5\IMG_5508.JPG"/>
          <p:cNvPicPr/>
          <p:nvPr/>
        </p:nvPicPr>
        <p:blipFill>
          <a:blip r:embed="rId1"/>
          <a:stretch/>
        </p:blipFill>
        <p:spPr>
          <a:xfrm>
            <a:off x="2987640" y="3429000"/>
            <a:ext cx="28274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стетическое воспитание - это целенаправленный процесс формирования у человека эстетического отношения к действительн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"Художественное воспитание есть процесс целенаправленного воздействия средствами искусства на личность, благодаря которому у воспитуемых формируются художественные чувства и вкус, любовь к искусству, умение понимать его, наслаждаться им и способность по возможности творить в искусстве"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стетическое воспитание имеет свои специальные задачи, которые делятся на две группы.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Первая группа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правленная на формирование эстетического отношения к окружающему миру. Предусматривается следующее: развивать умения видеть красоту в природе, поступках, искусстве, понимать прекрасное, воспитывать художественный вкус, потребность в познании прекрасного.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Вторая группа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задач направлена на формирование художественных умений в области разных искусств: обучение детей рисованию, лепке, конструированию; пению, движениям под музыку; развитие словесного творчеств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ля реализации задач эстетического воспитания детей дошкольного возраста необходимые следующие условия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кружающая среда (игрушки, одежда, помещение)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сыщенность быта произведениями искусств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амостоятельная активная деятельность дете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существления индивидуального подхода к ребёнк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0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авным условием развития художественных способностей детей в детском саду является предоставление всем равных возможностей для развития способностей в разных областях искусств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ы организации эстетического воспитания в художественной деятельности могут быть различными: на занятиях, в самостоятельной деятельности, художественном труде, во время праздников, развлечений, экскурсии, прогулки и т.д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9T14:34:10Z</dcterms:created>
  <dc:creator>неля</dc:creator>
  <dc:description/>
  <dc:language>en-US</dc:language>
  <cp:lastModifiedBy>Воспитатель</cp:lastModifiedBy>
  <dcterms:modified xsi:type="dcterms:W3CDTF">2017-05-13T11:25:30Z</dcterms:modified>
  <cp:revision>4</cp:revision>
  <dc:subject/>
  <dc:title>“ ПЕДАГОГИЧЕСКИЕ УСЛОВИЯ РАЗВИТИЯ ЭСТЕТИЧЕСКОГО ВОСПРИЯТИЯ ДЕТЕЙ СТАРШЕГО ДОШКОЛЬНОГО ВОЗРАСТА В ХУДОЖЕСТВЕННО-ТВОРЧЕСКОЙ ДЕЯТЕЛЬНОСТИ”</dc:title>
</cp:coreProperties>
</file>