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A52-B357-4091-A89C-64DFE6BD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109-3C55-4D77-8631-B6C600C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A64-5B2D-4059-B4D1-CC585F63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388-ED80-4B99-BBAB-2F75D20D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6EA-291F-4890-8F99-13573DB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2DB-F981-45BB-9475-F500177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09A-41A6-4688-B0F4-2256CDFC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EBF-4C30-4DA9-87F7-3E648EA4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51A-CA60-44FA-9B18-EA103170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8C0-51A6-4BB9-BF31-757AC1D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E49-3ECA-4744-A303-9DED183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F6C-82E0-4625-B33F-E87D25C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F03-0169-4F47-AEE4-DCFE82082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260280"/>
            <a:ext cx="47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132000" y="609300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7" descr="sc001"/>
          <p:cNvPicPr/>
          <p:nvPr/>
        </p:nvPicPr>
        <p:blipFill>
          <a:blip r:embed="rId1"/>
          <a:stretch/>
        </p:blipFill>
        <p:spPr>
          <a:xfrm>
            <a:off x="684360" y="4076640"/>
            <a:ext cx="1188720" cy="27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003"/>
          <p:cNvPicPr/>
          <p:nvPr/>
        </p:nvPicPr>
        <p:blipFill>
          <a:blip r:embed="rId2"/>
          <a:stretch/>
        </p:blipFill>
        <p:spPr>
          <a:xfrm>
            <a:off x="6572160" y="3929040"/>
            <a:ext cx="162108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143000" y="185724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Предложение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http://radio-nasledie.ru/news/i/full1351722423.jpg"/>
          <p:cNvPicPr/>
          <p:nvPr/>
        </p:nvPicPr>
        <p:blipFill>
          <a:blip r:embed="rId1"/>
          <a:stretch/>
        </p:blipFill>
        <p:spPr>
          <a:xfrm>
            <a:off x="162000" y="82692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964960" y="465300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Д_ревн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3890160" y="4653000"/>
            <a:ext cx="372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"/>
              </a:rPr>
              <a:t>гор _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2498760"/>
            <a:ext cx="8236080" cy="1519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4175280"/>
            <a:ext cx="433404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Минус 3"/>
          <p:cNvSpPr/>
          <p:nvPr/>
        </p:nvSpPr>
        <p:spPr>
          <a:xfrm>
            <a:off x="685800" y="180828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"/>
          <p:cNvGrpSpPr/>
          <p:nvPr/>
        </p:nvGrpSpPr>
        <p:grpSpPr>
          <a:xfrm>
            <a:off x="2666880" y="1808280"/>
            <a:ext cx="2438640" cy="533160"/>
            <a:chOff x="2666880" y="1808280"/>
            <a:chExt cx="2438640" cy="533160"/>
          </a:xfrm>
        </p:grpSpPr>
        <p:sp>
          <p:nvSpPr>
            <p:cNvPr id="72" name="Минус 5"/>
            <p:cNvSpPr/>
            <p:nvPr/>
          </p:nvSpPr>
          <p:spPr>
            <a:xfrm>
              <a:off x="2666880" y="2036880"/>
              <a:ext cx="243864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Минус 6"/>
            <p:cNvSpPr/>
            <p:nvPr/>
          </p:nvSpPr>
          <p:spPr>
            <a:xfrm>
              <a:off x="2666880" y="1808280"/>
              <a:ext cx="243864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Минус 7"/>
          <p:cNvSpPr/>
          <p:nvPr/>
        </p:nvSpPr>
        <p:spPr>
          <a:xfrm>
            <a:off x="460440" y="3511440"/>
            <a:ext cx="3962160" cy="381240"/>
          </a:xfrm>
          <a:custGeom>
            <a:avLst/>
            <a:gdLst/>
            <a:ahLst/>
            <a:rect l="l" t="t" r="r" b="b"/>
            <a:pathLst>
              <a:path w="3962400" h="381000">
                <a:moveTo>
                  <a:pt x="525216" y="145694"/>
                </a:moveTo>
                <a:lnTo>
                  <a:pt x="3437184" y="145694"/>
                </a:lnTo>
                <a:lnTo>
                  <a:pt x="3437184" y="235306"/>
                </a:lnTo>
                <a:lnTo>
                  <a:pt x="525216" y="235306"/>
                </a:lnTo>
                <a:lnTo>
                  <a:pt x="525216" y="1456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инус 8"/>
          <p:cNvSpPr/>
          <p:nvPr/>
        </p:nvSpPr>
        <p:spPr>
          <a:xfrm>
            <a:off x="2503440" y="5191200"/>
            <a:ext cx="2438280" cy="30456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9"/>
          <p:cNvGrpSpPr/>
          <p:nvPr/>
        </p:nvGrpSpPr>
        <p:grpSpPr>
          <a:xfrm>
            <a:off x="674640" y="5114880"/>
            <a:ext cx="2438280" cy="533520"/>
            <a:chOff x="674640" y="5114880"/>
            <a:chExt cx="2438280" cy="533520"/>
          </a:xfrm>
        </p:grpSpPr>
        <p:sp>
          <p:nvSpPr>
            <p:cNvPr id="77" name="Минус 10"/>
            <p:cNvSpPr/>
            <p:nvPr/>
          </p:nvSpPr>
          <p:spPr>
            <a:xfrm>
              <a:off x="674640" y="534348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Минус 11"/>
            <p:cNvSpPr/>
            <p:nvPr/>
          </p:nvSpPr>
          <p:spPr>
            <a:xfrm>
              <a:off x="674640" y="511488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12"/>
          <p:cNvGrpSpPr/>
          <p:nvPr/>
        </p:nvGrpSpPr>
        <p:grpSpPr>
          <a:xfrm>
            <a:off x="3932280" y="3435480"/>
            <a:ext cx="2438280" cy="533160"/>
            <a:chOff x="3932280" y="3435480"/>
            <a:chExt cx="2438280" cy="533160"/>
          </a:xfrm>
        </p:grpSpPr>
        <p:sp>
          <p:nvSpPr>
            <p:cNvPr id="80" name="Минус 13"/>
            <p:cNvSpPr/>
            <p:nvPr/>
          </p:nvSpPr>
          <p:spPr>
            <a:xfrm>
              <a:off x="3932280" y="3664080"/>
              <a:ext cx="24382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Минус 14"/>
            <p:cNvSpPr/>
            <p:nvPr/>
          </p:nvSpPr>
          <p:spPr>
            <a:xfrm>
              <a:off x="3932280" y="3435480"/>
              <a:ext cx="24382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5"/>
          <p:cNvSpPr/>
          <p:nvPr/>
        </p:nvSpPr>
        <p:spPr>
          <a:xfrm>
            <a:off x="3175200" y="51264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915920" y="22161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2968200" y="397188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549680" y="213984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182600" y="38196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971640" y="12207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Катя    зашла к подруг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Дедушка ловит ры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Идет сне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Мама готовила ужин, а папа чинил  ст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инус 3"/>
          <p:cNvSpPr/>
          <p:nvPr/>
        </p:nvSpPr>
        <p:spPr>
          <a:xfrm>
            <a:off x="522360" y="1558800"/>
            <a:ext cx="2438280" cy="304920"/>
          </a:xfrm>
          <a:custGeom>
            <a:avLst/>
            <a:gdLst/>
            <a:ahLst/>
            <a:rect l="l" t="t" r="r" b="b"/>
            <a:pathLst>
              <a:path w="2438400" h="304800">
                <a:moveTo>
                  <a:pt x="323210" y="116556"/>
                </a:moveTo>
                <a:lnTo>
                  <a:pt x="2115190" y="116556"/>
                </a:lnTo>
                <a:lnTo>
                  <a:pt x="2115190" y="188244"/>
                </a:lnTo>
                <a:lnTo>
                  <a:pt x="323210" y="188244"/>
                </a:lnTo>
                <a:lnTo>
                  <a:pt x="323210" y="11655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4"/>
          <p:cNvGrpSpPr/>
          <p:nvPr/>
        </p:nvGrpSpPr>
        <p:grpSpPr>
          <a:xfrm>
            <a:off x="3451320" y="1521000"/>
            <a:ext cx="1901880" cy="533160"/>
            <a:chOff x="3451320" y="1521000"/>
            <a:chExt cx="1901880" cy="533160"/>
          </a:xfrm>
        </p:grpSpPr>
        <p:sp>
          <p:nvSpPr>
            <p:cNvPr id="92" name="Минус 5"/>
            <p:cNvSpPr/>
            <p:nvPr/>
          </p:nvSpPr>
          <p:spPr>
            <a:xfrm>
              <a:off x="3451320" y="1749600"/>
              <a:ext cx="19018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Минус 6"/>
            <p:cNvSpPr/>
            <p:nvPr/>
          </p:nvSpPr>
          <p:spPr>
            <a:xfrm>
              <a:off x="3451320" y="1521000"/>
              <a:ext cx="1901880" cy="30456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инус 7"/>
          <p:cNvSpPr/>
          <p:nvPr/>
        </p:nvSpPr>
        <p:spPr>
          <a:xfrm>
            <a:off x="1963800" y="3251160"/>
            <a:ext cx="186984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8"/>
          <p:cNvGrpSpPr/>
          <p:nvPr/>
        </p:nvGrpSpPr>
        <p:grpSpPr>
          <a:xfrm>
            <a:off x="76320" y="3213000"/>
            <a:ext cx="2438280" cy="533520"/>
            <a:chOff x="76320" y="3213000"/>
            <a:chExt cx="2438280" cy="533520"/>
          </a:xfrm>
        </p:grpSpPr>
        <p:sp>
          <p:nvSpPr>
            <p:cNvPr id="96" name="Минус 9"/>
            <p:cNvSpPr/>
            <p:nvPr/>
          </p:nvSpPr>
          <p:spPr>
            <a:xfrm>
              <a:off x="76320" y="344160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Минус 10"/>
            <p:cNvSpPr/>
            <p:nvPr/>
          </p:nvSpPr>
          <p:spPr>
            <a:xfrm>
              <a:off x="76320" y="3213000"/>
              <a:ext cx="2438280" cy="3049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1"/>
          <p:cNvGrpSpPr/>
          <p:nvPr/>
        </p:nvGrpSpPr>
        <p:grpSpPr>
          <a:xfrm>
            <a:off x="2165400" y="5684760"/>
            <a:ext cx="2097000" cy="673200"/>
            <a:chOff x="2165400" y="5684760"/>
            <a:chExt cx="2097000" cy="673200"/>
          </a:xfrm>
        </p:grpSpPr>
        <p:sp>
          <p:nvSpPr>
            <p:cNvPr id="99" name="Минус 12"/>
            <p:cNvSpPr/>
            <p:nvPr/>
          </p:nvSpPr>
          <p:spPr>
            <a:xfrm flipV="1">
              <a:off x="2165400" y="5684400"/>
              <a:ext cx="2097000" cy="38484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Минус 13"/>
            <p:cNvSpPr/>
            <p:nvPr/>
          </p:nvSpPr>
          <p:spPr>
            <a:xfrm flipV="1">
              <a:off x="2165400" y="5972760"/>
              <a:ext cx="2097000" cy="38484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18"/>
          <p:cNvGrpSpPr/>
          <p:nvPr/>
        </p:nvGrpSpPr>
        <p:grpSpPr>
          <a:xfrm>
            <a:off x="2165400" y="4986000"/>
            <a:ext cx="3187800" cy="555480"/>
            <a:chOff x="2165400" y="4986000"/>
            <a:chExt cx="3187800" cy="555480"/>
          </a:xfrm>
        </p:grpSpPr>
        <p:sp>
          <p:nvSpPr>
            <p:cNvPr id="102" name="Минус 19"/>
            <p:cNvSpPr/>
            <p:nvPr/>
          </p:nvSpPr>
          <p:spPr>
            <a:xfrm flipV="1">
              <a:off x="2165400" y="4986000"/>
              <a:ext cx="3187800" cy="3175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Минус 20"/>
            <p:cNvSpPr/>
            <p:nvPr/>
          </p:nvSpPr>
          <p:spPr>
            <a:xfrm flipV="1">
              <a:off x="2165400" y="5223960"/>
              <a:ext cx="3187800" cy="317520"/>
            </a:xfrm>
            <a:custGeom>
              <a:avLst/>
              <a:gdLst/>
              <a:ahLst/>
              <a:rect l="l" t="t" r="r" b="b"/>
              <a:pathLst>
                <a:path w="2438400" h="304800">
                  <a:moveTo>
                    <a:pt x="323210" y="116556"/>
                  </a:moveTo>
                  <a:lnTo>
                    <a:pt x="2115190" y="116556"/>
                  </a:lnTo>
                  <a:lnTo>
                    <a:pt x="2115190" y="188244"/>
                  </a:lnTo>
                  <a:lnTo>
                    <a:pt x="323210" y="188244"/>
                  </a:lnTo>
                  <a:lnTo>
                    <a:pt x="323210" y="116556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Минус 21"/>
          <p:cNvSpPr/>
          <p:nvPr/>
        </p:nvSpPr>
        <p:spPr>
          <a:xfrm>
            <a:off x="522360" y="4986360"/>
            <a:ext cx="186984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22"/>
          <p:cNvSpPr/>
          <p:nvPr/>
        </p:nvSpPr>
        <p:spPr>
          <a:xfrm>
            <a:off x="361800" y="5840280"/>
            <a:ext cx="1870200" cy="266760"/>
          </a:xfrm>
          <a:custGeom>
            <a:avLst/>
            <a:gdLst/>
            <a:ahLst/>
            <a:rect l="l" t="t" r="r" b="b"/>
            <a:pathLst>
              <a:path w="1870359" h="266699">
                <a:moveTo>
                  <a:pt x="247916" y="101986"/>
                </a:moveTo>
                <a:lnTo>
                  <a:pt x="1622443" y="101986"/>
                </a:lnTo>
                <a:lnTo>
                  <a:pt x="1622443" y="164713"/>
                </a:lnTo>
                <a:lnTo>
                  <a:pt x="247916" y="164713"/>
                </a:lnTo>
                <a:lnTo>
                  <a:pt x="247916" y="1019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85840" y="928800"/>
            <a:ext cx="528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85840" y="2357280"/>
            <a:ext cx="52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92880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85840" y="235728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50920" y="189000"/>
            <a:ext cx="87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тумане падают лист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коро осень проснется и заплачет спросон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Дождик сразу перестал, в клетке чиж защебе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есной по утрам тонкий лед еще  покрывает лужицы, а воздух пахнет мороз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900000" y="620640"/>
            <a:ext cx="72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и и подчерк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00000" y="692280"/>
            <a:ext cx="77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ие ос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основ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ят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YGagarin.jpg"/>
          <p:cNvPicPr/>
          <p:nvPr/>
        </p:nvPicPr>
        <p:blipFill>
          <a:blip r:embed="rId1"/>
          <a:stretch/>
        </p:blipFill>
        <p:spPr>
          <a:xfrm>
            <a:off x="4992840" y="689040"/>
            <a:ext cx="3481200" cy="3243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80840" y="3789360"/>
            <a:ext cx="5380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к_см_на_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_см_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11280" y="404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мане падают листь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и яркие весенние деньки и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еет сильне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птицы и наполнили своим пением ле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янул ветерок и белая туча заволокла горизон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611280" y="404640"/>
            <a:ext cx="7993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и яркие весенние деньки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лнце греет сильне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янул ветерок</a:t>
            </a: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лая туча заволокла горизон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птицы и наполнили своим пением ле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95280" y="1557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й грамматической 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65624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вумя или более грамматическими осн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= - 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еют осины, цветы доцве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12840" y="2057400"/>
            <a:ext cx="503280" cy="990720"/>
          </a:xfrm>
          <a:prstGeom prst="downArrow">
            <a:avLst>
              <a:gd name="adj1" fmla="val 50000"/>
              <a:gd name="adj2" fmla="val 25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6424560" y="1962000"/>
            <a:ext cx="503280" cy="959040"/>
          </a:xfrm>
          <a:prstGeom prst="downArrow">
            <a:avLst>
              <a:gd name="adj1" fmla="val 50000"/>
              <a:gd name="adj2" fmla="val 25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260280"/>
            <a:ext cx="82296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Между простыми предложениями в составе сложного ставится запят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184464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ятая – как пограничн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а охраняет границы прост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Елена\Рабочий стол\пограничник.jpg"/>
          <p:cNvPicPr/>
          <p:nvPr/>
        </p:nvPicPr>
        <p:blipFill>
          <a:blip r:embed="rId1"/>
          <a:stretch/>
        </p:blipFill>
        <p:spPr>
          <a:xfrm>
            <a:off x="3276720" y="356544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C:\Documents and Settings\Марина\Local Settings\Temporary Internet Files\Content.Word\Изображение 080.jp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39640" y="62064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ушке леса стоял огромный дуб 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бирали гри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вете поднялся вет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ветвях сновали пт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C:\Documents and Settings\Марина\Local Settings\Temporary Internet Files\Content.Word\Изображение 076.jpg"/>
          <p:cNvPicPr/>
          <p:nvPr/>
        </p:nvPicPr>
        <p:blipFill>
          <a:blip r:embed="rId1"/>
          <a:stretch/>
        </p:blipFill>
        <p:spPr>
          <a:xfrm>
            <a:off x="320760" y="189000"/>
            <a:ext cx="8427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http://www.playcast.ru/uploads/2016/02/16/17353175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611280" y="189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1840" y="1071720"/>
            <a:ext cx="891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мы узнали  сегодня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чем бы вам хотелось рассказать родителя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какими затруднениями столкнулись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147"/>
          <p:cNvPicPr/>
          <p:nvPr/>
        </p:nvPicPr>
        <p:blipFill>
          <a:blip r:embed="rId1"/>
          <a:stretch/>
        </p:blipFill>
        <p:spPr>
          <a:xfrm>
            <a:off x="3071880" y="3789360"/>
            <a:ext cx="3087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г_рой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143000" y="1143000"/>
            <a:ext cx="485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хема 30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424720" cy="593100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32"/>
          <p:cNvCxnSpPr/>
          <p:nvPr/>
        </p:nvCxnSpPr>
        <p:spPr>
          <a:xfrm>
            <a:off x="5857920" y="214308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4" name="Прямая со стрелкой 35"/>
          <p:cNvCxnSpPr/>
          <p:nvPr/>
        </p:nvCxnSpPr>
        <p:spPr>
          <a:xfrm flipH="1">
            <a:off x="1641240" y="3644640"/>
            <a:ext cx="2160" cy="143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5" name="Прямая со стрелкой 37"/>
          <p:cNvCxnSpPr/>
          <p:nvPr/>
        </p:nvCxnSpPr>
        <p:spPr>
          <a:xfrm flipH="1">
            <a:off x="1285560" y="4786200"/>
            <a:ext cx="286560" cy="64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6" name="Стрелка вниз 41"/>
          <p:cNvSpPr/>
          <p:nvPr/>
        </p:nvSpPr>
        <p:spPr>
          <a:xfrm flipH="1">
            <a:off x="1000080" y="3929040"/>
            <a:ext cx="46080" cy="50004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42"/>
          <p:cNvSpPr/>
          <p:nvPr/>
        </p:nvSpPr>
        <p:spPr>
          <a:xfrm rot="19824000">
            <a:off x="2355480" y="3827160"/>
            <a:ext cx="46080" cy="64296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43"/>
          <p:cNvSpPr/>
          <p:nvPr/>
        </p:nvSpPr>
        <p:spPr>
          <a:xfrm>
            <a:off x="1143000" y="264312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44"/>
          <p:cNvSpPr/>
          <p:nvPr/>
        </p:nvSpPr>
        <p:spPr>
          <a:xfrm rot="18357600">
            <a:off x="2975400" y="2269440"/>
            <a:ext cx="46080" cy="155232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45"/>
          <p:cNvGrpSpPr/>
          <p:nvPr/>
        </p:nvGrpSpPr>
        <p:grpSpPr>
          <a:xfrm>
            <a:off x="3500280" y="3286080"/>
            <a:ext cx="3000600" cy="1214640"/>
            <a:chOff x="3500280" y="3286080"/>
            <a:chExt cx="3000600" cy="1214640"/>
          </a:xfrm>
        </p:grpSpPr>
        <p:sp>
          <p:nvSpPr>
            <p:cNvPr id="141" name="Скругленный прямоугольник 46"/>
            <p:cNvSpPr/>
            <p:nvPr/>
          </p:nvSpPr>
          <p:spPr>
            <a:xfrm>
              <a:off x="3657240" y="3286080"/>
              <a:ext cx="2186280" cy="1041840"/>
            </a:xfrm>
            <a:prstGeom prst="roundRect">
              <a:avLst>
                <a:gd name="adj" fmla="val 10000"/>
              </a:avLst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Скругленный прямоугольник 4"/>
            <p:cNvSpPr/>
            <p:nvPr/>
          </p:nvSpPr>
          <p:spPr>
            <a:xfrm>
              <a:off x="3500280" y="3286080"/>
              <a:ext cx="30006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налич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однород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член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Прямоугольник 48"/>
          <p:cNvSpPr/>
          <p:nvPr/>
        </p:nvSpPr>
        <p:spPr>
          <a:xfrm>
            <a:off x="2071800" y="285840"/>
            <a:ext cx="171432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9"/>
          <p:cNvSpPr/>
          <p:nvPr/>
        </p:nvSpPr>
        <p:spPr>
          <a:xfrm>
            <a:off x="142920" y="285840"/>
            <a:ext cx="171432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верх 50"/>
          <p:cNvSpPr/>
          <p:nvPr/>
        </p:nvSpPr>
        <p:spPr>
          <a:xfrm rot="2266200">
            <a:off x="2452320" y="981000"/>
            <a:ext cx="46080" cy="58752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верх 51"/>
          <p:cNvSpPr/>
          <p:nvPr/>
        </p:nvSpPr>
        <p:spPr>
          <a:xfrm rot="20782200">
            <a:off x="754200" y="1093320"/>
            <a:ext cx="63360" cy="347760"/>
          </a:xfrm>
          <a:prstGeom prst="upArrow">
            <a:avLst>
              <a:gd name="adj1" fmla="val 50000"/>
              <a:gd name="adj2" fmla="val 501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53"/>
          <p:cNvSpPr/>
          <p:nvPr/>
        </p:nvSpPr>
        <p:spPr>
          <a:xfrm flipH="1" rot="17967000">
            <a:off x="6417360" y="2472480"/>
            <a:ext cx="46080" cy="217224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4"/>
          <p:cNvSpPr/>
          <p:nvPr/>
        </p:nvSpPr>
        <p:spPr>
          <a:xfrm>
            <a:off x="5715000" y="4857840"/>
            <a:ext cx="25002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5"/>
          <p:cNvSpPr/>
          <p:nvPr/>
        </p:nvSpPr>
        <p:spPr>
          <a:xfrm>
            <a:off x="6786720" y="3929040"/>
            <a:ext cx="221436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низ 56"/>
          <p:cNvSpPr/>
          <p:nvPr/>
        </p:nvSpPr>
        <p:spPr>
          <a:xfrm flipH="1" rot="19288800">
            <a:off x="6201000" y="2768040"/>
            <a:ext cx="46080" cy="2373480"/>
          </a:xfrm>
          <a:prstGeom prst="downArrow">
            <a:avLst>
              <a:gd name="adj1" fmla="val 50000"/>
              <a:gd name="adj2" fmla="val 498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низ 57"/>
          <p:cNvSpPr/>
          <p:nvPr/>
        </p:nvSpPr>
        <p:spPr>
          <a:xfrm flipH="1" rot="18706200">
            <a:off x="5931720" y="1401840"/>
            <a:ext cx="45720" cy="1116360"/>
          </a:xfrm>
          <a:prstGeom prst="downArrow">
            <a:avLst>
              <a:gd name="adj1" fmla="val 50000"/>
              <a:gd name="adj2" fmla="val 504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189000"/>
            <a:ext cx="8280360" cy="2016000"/>
          </a:xfrm>
          <a:prstGeom prst="rect">
            <a:avLst/>
          </a:prstGeom>
          <a:solidFill>
            <a:srgbClr val="ff0000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для меня прошёл с польз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 научился и могу помочь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95280" y="4653000"/>
            <a:ext cx="828036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не было трудно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95280" y="2421000"/>
            <a:ext cx="8280360" cy="2016000"/>
          </a:xfrm>
          <a:prstGeom prst="rect">
            <a:avLst/>
          </a:prstGeom>
          <a:solidFill>
            <a:srgbClr val="99ff3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лся находить слож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лож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 мне ещё нужна помощ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р_кета</a:t>
            </a: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учит_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к_р_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783080" y="4691160"/>
            <a:ext cx="487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Arial"/>
                <a:ea typeface="Arial"/>
              </a:rPr>
              <a:t>_ 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_</a:t>
            </a:r>
            <a:r>
              <a:rPr b="0" lang="ru-RU" sz="9600" spc="-1" strike="noStrike">
                <a:solidFill>
                  <a:srgbClr val="8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90400" y="4508640"/>
            <a:ext cx="399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"/>
              </a:rPr>
              <a:t>М_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5:22:18Z</dcterms:created>
  <dc:creator>Синецкая Г.Г.</dc:creator>
  <dc:description/>
  <dc:language>en-US</dc:language>
  <cp:lastModifiedBy>611-285</cp:lastModifiedBy>
  <dcterms:modified xsi:type="dcterms:W3CDTF">2017-04-05T18:03:38Z</dcterms:modified>
  <cp:revision>48</cp:revision>
  <dc:subject>Сочетания ЖИ-ШИ, ЧА-ЩА, ЧУ-ЩУ</dc:subject>
  <dc:title>Русский язык. 3 класс</dc:title>
</cp:coreProperties>
</file>