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3C40-D9D8-42D6-90DF-D6F19FAC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1A6A-FAF1-4FC8-BFC7-50175884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0963-C4F1-42D5-BBFC-04631F09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0741-CF2D-4616-AE62-A3E6A165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3333-7E5D-463C-B6E0-D349EE2E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9815-F876-4CC9-8ECF-AEAC96FE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1406-5890-4F61-B87B-E718A77A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C3BA-F32C-44E3-A426-66D9727D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D369-E6F6-48CB-9E83-126B8816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F968-CF85-4A33-90A5-84DB24C3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5220-6084-45CD-9547-619D921E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4772-B4E8-4817-A3DC-CF69B865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098F-1F53-49C5-906B-AAB459BB17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24000" y="260280"/>
            <a:ext cx="475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усский язы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250920" y="1557360"/>
            <a:ext cx="864216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cc"/>
                </a:solid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cc"/>
              </a:solid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3132000" y="6093000"/>
            <a:ext cx="23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класс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4" name="Picture 7" descr="sc001"/>
          <p:cNvPicPr/>
          <p:nvPr/>
        </p:nvPicPr>
        <p:blipFill>
          <a:blip r:embed="rId1"/>
          <a:stretch/>
        </p:blipFill>
        <p:spPr>
          <a:xfrm>
            <a:off x="684360" y="4076640"/>
            <a:ext cx="1188720" cy="2781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sc003"/>
          <p:cNvPicPr/>
          <p:nvPr/>
        </p:nvPicPr>
        <p:blipFill>
          <a:blip r:embed="rId2"/>
          <a:stretch/>
        </p:blipFill>
        <p:spPr>
          <a:xfrm>
            <a:off x="6572160" y="3929040"/>
            <a:ext cx="1621080" cy="2781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1143000" y="1857240"/>
            <a:ext cx="700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Monotype Corsiva"/>
              </a:rPr>
              <a:t>Предложение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1" descr="http://radio-nasledie.ru/news/i/full1351722423.jpg"/>
          <p:cNvPicPr/>
          <p:nvPr/>
        </p:nvPicPr>
        <p:blipFill>
          <a:blip r:embed="rId1"/>
          <a:stretch/>
        </p:blipFill>
        <p:spPr>
          <a:xfrm>
            <a:off x="162000" y="826920"/>
            <a:ext cx="4419360" cy="33148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2964960" y="4653000"/>
            <a:ext cx="502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800000"/>
                </a:solidFill>
                <a:latin typeface="Arial"/>
              </a:rPr>
              <a:t>Д_ревн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1" descr="http://kolyan.net/uploads/posts/2012-01/thumbs/1327925688_815.jpg"/>
          <p:cNvPicPr/>
          <p:nvPr/>
        </p:nvPicPr>
        <p:blipFill>
          <a:blip r:embed="rId1"/>
          <a:stretch/>
        </p:blipFill>
        <p:spPr>
          <a:xfrm>
            <a:off x="468360" y="836640"/>
            <a:ext cx="4395600" cy="32972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3890160" y="4653000"/>
            <a:ext cx="372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Arial"/>
              </a:rPr>
              <a:t>гор _ 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Прямоугольник 3" descr=""/>
          <p:cNvPicPr/>
          <p:nvPr/>
        </p:nvPicPr>
        <p:blipFill>
          <a:blip r:embed="rId1"/>
          <a:stretch/>
        </p:blipFill>
        <p:spPr>
          <a:xfrm>
            <a:off x="480960" y="2498760"/>
            <a:ext cx="8236080" cy="151920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4" descr=""/>
          <p:cNvPicPr/>
          <p:nvPr/>
        </p:nvPicPr>
        <p:blipFill>
          <a:blip r:embed="rId2"/>
          <a:stretch/>
        </p:blipFill>
        <p:spPr>
          <a:xfrm>
            <a:off x="633240" y="4175280"/>
            <a:ext cx="4334040" cy="1519200"/>
          </a:xfrm>
          <a:prstGeom prst="rect">
            <a:avLst/>
          </a:prstGeom>
          <a:ln w="0">
            <a:noFill/>
          </a:ln>
        </p:spPr>
      </p:pic>
      <p:sp>
        <p:nvSpPr>
          <p:cNvPr id="70" name="Минус 3"/>
          <p:cNvSpPr/>
          <p:nvPr/>
        </p:nvSpPr>
        <p:spPr>
          <a:xfrm>
            <a:off x="685800" y="1808280"/>
            <a:ext cx="2438280" cy="304560"/>
          </a:xfrm>
          <a:custGeom>
            <a:avLst/>
            <a:gdLst/>
            <a:ahLst/>
            <a:rect l="l" t="t" r="r" b="b"/>
            <a:pathLst>
              <a:path w="2438400" h="304800">
                <a:moveTo>
                  <a:pt x="323210" y="116556"/>
                </a:moveTo>
                <a:lnTo>
                  <a:pt x="2115190" y="116556"/>
                </a:lnTo>
                <a:lnTo>
                  <a:pt x="2115190" y="188244"/>
                </a:lnTo>
                <a:lnTo>
                  <a:pt x="323210" y="188244"/>
                </a:lnTo>
                <a:lnTo>
                  <a:pt x="323210" y="11655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Группа 4"/>
          <p:cNvGrpSpPr/>
          <p:nvPr/>
        </p:nvGrpSpPr>
        <p:grpSpPr>
          <a:xfrm>
            <a:off x="2666880" y="1808280"/>
            <a:ext cx="2438640" cy="533160"/>
            <a:chOff x="2666880" y="1808280"/>
            <a:chExt cx="2438640" cy="533160"/>
          </a:xfrm>
        </p:grpSpPr>
        <p:sp>
          <p:nvSpPr>
            <p:cNvPr id="72" name="Минус 5"/>
            <p:cNvSpPr/>
            <p:nvPr/>
          </p:nvSpPr>
          <p:spPr>
            <a:xfrm>
              <a:off x="2666880" y="2036880"/>
              <a:ext cx="2438640" cy="304560"/>
            </a:xfrm>
            <a:custGeom>
              <a:avLst/>
              <a:gdLst/>
              <a:ahLst/>
              <a:rect l="l" t="t" r="r" b="b"/>
              <a:pathLst>
                <a:path w="2438400" h="304800">
                  <a:moveTo>
                    <a:pt x="323210" y="116556"/>
                  </a:moveTo>
                  <a:lnTo>
                    <a:pt x="2115190" y="116556"/>
                  </a:lnTo>
                  <a:lnTo>
                    <a:pt x="2115190" y="188244"/>
                  </a:lnTo>
                  <a:lnTo>
                    <a:pt x="323210" y="188244"/>
                  </a:lnTo>
                  <a:lnTo>
                    <a:pt x="323210" y="116556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Минус 6"/>
            <p:cNvSpPr/>
            <p:nvPr/>
          </p:nvSpPr>
          <p:spPr>
            <a:xfrm>
              <a:off x="2666880" y="1808280"/>
              <a:ext cx="2438640" cy="304560"/>
            </a:xfrm>
            <a:custGeom>
              <a:avLst/>
              <a:gdLst/>
              <a:ahLst/>
              <a:rect l="l" t="t" r="r" b="b"/>
              <a:pathLst>
                <a:path w="2438400" h="304800">
                  <a:moveTo>
                    <a:pt x="323210" y="116556"/>
                  </a:moveTo>
                  <a:lnTo>
                    <a:pt x="2115190" y="116556"/>
                  </a:lnTo>
                  <a:lnTo>
                    <a:pt x="2115190" y="188244"/>
                  </a:lnTo>
                  <a:lnTo>
                    <a:pt x="323210" y="188244"/>
                  </a:lnTo>
                  <a:lnTo>
                    <a:pt x="323210" y="116556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Минус 7"/>
          <p:cNvSpPr/>
          <p:nvPr/>
        </p:nvSpPr>
        <p:spPr>
          <a:xfrm>
            <a:off x="460440" y="3511440"/>
            <a:ext cx="3962160" cy="381240"/>
          </a:xfrm>
          <a:custGeom>
            <a:avLst/>
            <a:gdLst/>
            <a:ahLst/>
            <a:rect l="l" t="t" r="r" b="b"/>
            <a:pathLst>
              <a:path w="3962400" h="381000">
                <a:moveTo>
                  <a:pt x="525216" y="145694"/>
                </a:moveTo>
                <a:lnTo>
                  <a:pt x="3437184" y="145694"/>
                </a:lnTo>
                <a:lnTo>
                  <a:pt x="3437184" y="235306"/>
                </a:lnTo>
                <a:lnTo>
                  <a:pt x="525216" y="235306"/>
                </a:lnTo>
                <a:lnTo>
                  <a:pt x="525216" y="14569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инус 8"/>
          <p:cNvSpPr/>
          <p:nvPr/>
        </p:nvSpPr>
        <p:spPr>
          <a:xfrm>
            <a:off x="2503440" y="5191200"/>
            <a:ext cx="2438280" cy="304560"/>
          </a:xfrm>
          <a:custGeom>
            <a:avLst/>
            <a:gdLst/>
            <a:ahLst/>
            <a:rect l="l" t="t" r="r" b="b"/>
            <a:pathLst>
              <a:path w="2438400" h="304800">
                <a:moveTo>
                  <a:pt x="323210" y="116556"/>
                </a:moveTo>
                <a:lnTo>
                  <a:pt x="2115190" y="116556"/>
                </a:lnTo>
                <a:lnTo>
                  <a:pt x="2115190" y="188244"/>
                </a:lnTo>
                <a:lnTo>
                  <a:pt x="323210" y="188244"/>
                </a:lnTo>
                <a:lnTo>
                  <a:pt x="323210" y="11655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Группа 9"/>
          <p:cNvGrpSpPr/>
          <p:nvPr/>
        </p:nvGrpSpPr>
        <p:grpSpPr>
          <a:xfrm>
            <a:off x="674640" y="5114880"/>
            <a:ext cx="2438280" cy="533520"/>
            <a:chOff x="674640" y="5114880"/>
            <a:chExt cx="2438280" cy="533520"/>
          </a:xfrm>
        </p:grpSpPr>
        <p:sp>
          <p:nvSpPr>
            <p:cNvPr id="77" name="Минус 10"/>
            <p:cNvSpPr/>
            <p:nvPr/>
          </p:nvSpPr>
          <p:spPr>
            <a:xfrm>
              <a:off x="674640" y="5343480"/>
              <a:ext cx="2438280" cy="304920"/>
            </a:xfrm>
            <a:custGeom>
              <a:avLst/>
              <a:gdLst/>
              <a:ahLst/>
              <a:rect l="l" t="t" r="r" b="b"/>
              <a:pathLst>
                <a:path w="2438400" h="304800">
                  <a:moveTo>
                    <a:pt x="323210" y="116556"/>
                  </a:moveTo>
                  <a:lnTo>
                    <a:pt x="2115190" y="116556"/>
                  </a:lnTo>
                  <a:lnTo>
                    <a:pt x="2115190" y="188244"/>
                  </a:lnTo>
                  <a:lnTo>
                    <a:pt x="323210" y="188244"/>
                  </a:lnTo>
                  <a:lnTo>
                    <a:pt x="323210" y="116556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Минус 11"/>
            <p:cNvSpPr/>
            <p:nvPr/>
          </p:nvSpPr>
          <p:spPr>
            <a:xfrm>
              <a:off x="674640" y="5114880"/>
              <a:ext cx="2438280" cy="304920"/>
            </a:xfrm>
            <a:custGeom>
              <a:avLst/>
              <a:gdLst/>
              <a:ahLst/>
              <a:rect l="l" t="t" r="r" b="b"/>
              <a:pathLst>
                <a:path w="2438400" h="304800">
                  <a:moveTo>
                    <a:pt x="323210" y="116556"/>
                  </a:moveTo>
                  <a:lnTo>
                    <a:pt x="2115190" y="116556"/>
                  </a:lnTo>
                  <a:lnTo>
                    <a:pt x="2115190" y="188244"/>
                  </a:lnTo>
                  <a:lnTo>
                    <a:pt x="323210" y="188244"/>
                  </a:lnTo>
                  <a:lnTo>
                    <a:pt x="323210" y="116556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Группа 12"/>
          <p:cNvGrpSpPr/>
          <p:nvPr/>
        </p:nvGrpSpPr>
        <p:grpSpPr>
          <a:xfrm>
            <a:off x="3932280" y="3435480"/>
            <a:ext cx="2438280" cy="533160"/>
            <a:chOff x="3932280" y="3435480"/>
            <a:chExt cx="2438280" cy="533160"/>
          </a:xfrm>
        </p:grpSpPr>
        <p:sp>
          <p:nvSpPr>
            <p:cNvPr id="80" name="Минус 13"/>
            <p:cNvSpPr/>
            <p:nvPr/>
          </p:nvSpPr>
          <p:spPr>
            <a:xfrm>
              <a:off x="3932280" y="3664080"/>
              <a:ext cx="2438280" cy="304560"/>
            </a:xfrm>
            <a:custGeom>
              <a:avLst/>
              <a:gdLst/>
              <a:ahLst/>
              <a:rect l="l" t="t" r="r" b="b"/>
              <a:pathLst>
                <a:path w="2438400" h="304800">
                  <a:moveTo>
                    <a:pt x="323210" y="116556"/>
                  </a:moveTo>
                  <a:lnTo>
                    <a:pt x="2115190" y="116556"/>
                  </a:lnTo>
                  <a:lnTo>
                    <a:pt x="2115190" y="188244"/>
                  </a:lnTo>
                  <a:lnTo>
                    <a:pt x="323210" y="188244"/>
                  </a:lnTo>
                  <a:lnTo>
                    <a:pt x="323210" y="116556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Минус 14"/>
            <p:cNvSpPr/>
            <p:nvPr/>
          </p:nvSpPr>
          <p:spPr>
            <a:xfrm>
              <a:off x="3932280" y="3435480"/>
              <a:ext cx="2438280" cy="304560"/>
            </a:xfrm>
            <a:custGeom>
              <a:avLst/>
              <a:gdLst/>
              <a:ahLst/>
              <a:rect l="l" t="t" r="r" b="b"/>
              <a:pathLst>
                <a:path w="2438400" h="304800">
                  <a:moveTo>
                    <a:pt x="323210" y="116556"/>
                  </a:moveTo>
                  <a:lnTo>
                    <a:pt x="2115190" y="116556"/>
                  </a:lnTo>
                  <a:lnTo>
                    <a:pt x="2115190" y="188244"/>
                  </a:lnTo>
                  <a:lnTo>
                    <a:pt x="323210" y="188244"/>
                  </a:lnTo>
                  <a:lnTo>
                    <a:pt x="323210" y="116556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Box 15"/>
          <p:cNvSpPr/>
          <p:nvPr/>
        </p:nvSpPr>
        <p:spPr>
          <a:xfrm>
            <a:off x="3175200" y="512640"/>
            <a:ext cx="135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гла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1915920" y="2216160"/>
            <a:ext cx="13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сущ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2968200" y="3971880"/>
            <a:ext cx="13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сущ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4549680" y="2139840"/>
            <a:ext cx="135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гла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9"/>
          <p:cNvSpPr/>
          <p:nvPr/>
        </p:nvSpPr>
        <p:spPr>
          <a:xfrm>
            <a:off x="1182600" y="3819600"/>
            <a:ext cx="135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гла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971640" y="122076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Arial"/>
              </a:rPr>
              <a:t>Катя    зашла к подруг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Arial"/>
              </a:rPr>
              <a:t>Дедушка ловит рыб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Arial"/>
              </a:rPr>
              <a:t>Идет сне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Arial"/>
              </a:rPr>
              <a:t>Мама готовила ужин, а папа чинил  сту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инус 3"/>
          <p:cNvSpPr/>
          <p:nvPr/>
        </p:nvSpPr>
        <p:spPr>
          <a:xfrm>
            <a:off x="522360" y="1558800"/>
            <a:ext cx="2438280" cy="304920"/>
          </a:xfrm>
          <a:custGeom>
            <a:avLst/>
            <a:gdLst/>
            <a:ahLst/>
            <a:rect l="l" t="t" r="r" b="b"/>
            <a:pathLst>
              <a:path w="2438400" h="304800">
                <a:moveTo>
                  <a:pt x="323210" y="116556"/>
                </a:moveTo>
                <a:lnTo>
                  <a:pt x="2115190" y="116556"/>
                </a:lnTo>
                <a:lnTo>
                  <a:pt x="2115190" y="188244"/>
                </a:lnTo>
                <a:lnTo>
                  <a:pt x="323210" y="188244"/>
                </a:lnTo>
                <a:lnTo>
                  <a:pt x="323210" y="11655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Группа 4"/>
          <p:cNvGrpSpPr/>
          <p:nvPr/>
        </p:nvGrpSpPr>
        <p:grpSpPr>
          <a:xfrm>
            <a:off x="3451320" y="1521000"/>
            <a:ext cx="1901880" cy="533160"/>
            <a:chOff x="3451320" y="1521000"/>
            <a:chExt cx="1901880" cy="533160"/>
          </a:xfrm>
        </p:grpSpPr>
        <p:sp>
          <p:nvSpPr>
            <p:cNvPr id="92" name="Минус 5"/>
            <p:cNvSpPr/>
            <p:nvPr/>
          </p:nvSpPr>
          <p:spPr>
            <a:xfrm>
              <a:off x="3451320" y="1749600"/>
              <a:ext cx="1901880" cy="304560"/>
            </a:xfrm>
            <a:custGeom>
              <a:avLst/>
              <a:gdLst/>
              <a:ahLst/>
              <a:rect l="l" t="t" r="r" b="b"/>
              <a:pathLst>
                <a:path w="2438400" h="304800">
                  <a:moveTo>
                    <a:pt x="323210" y="116556"/>
                  </a:moveTo>
                  <a:lnTo>
                    <a:pt x="2115190" y="116556"/>
                  </a:lnTo>
                  <a:lnTo>
                    <a:pt x="2115190" y="188244"/>
                  </a:lnTo>
                  <a:lnTo>
                    <a:pt x="323210" y="188244"/>
                  </a:lnTo>
                  <a:lnTo>
                    <a:pt x="323210" y="116556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Минус 6"/>
            <p:cNvSpPr/>
            <p:nvPr/>
          </p:nvSpPr>
          <p:spPr>
            <a:xfrm>
              <a:off x="3451320" y="1521000"/>
              <a:ext cx="1901880" cy="304560"/>
            </a:xfrm>
            <a:custGeom>
              <a:avLst/>
              <a:gdLst/>
              <a:ahLst/>
              <a:rect l="l" t="t" r="r" b="b"/>
              <a:pathLst>
                <a:path w="2438400" h="304800">
                  <a:moveTo>
                    <a:pt x="323210" y="116556"/>
                  </a:moveTo>
                  <a:lnTo>
                    <a:pt x="2115190" y="116556"/>
                  </a:lnTo>
                  <a:lnTo>
                    <a:pt x="2115190" y="188244"/>
                  </a:lnTo>
                  <a:lnTo>
                    <a:pt x="323210" y="188244"/>
                  </a:lnTo>
                  <a:lnTo>
                    <a:pt x="323210" y="116556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Минус 7"/>
          <p:cNvSpPr/>
          <p:nvPr/>
        </p:nvSpPr>
        <p:spPr>
          <a:xfrm>
            <a:off x="1963800" y="3251160"/>
            <a:ext cx="1869840" cy="266760"/>
          </a:xfrm>
          <a:custGeom>
            <a:avLst/>
            <a:gdLst/>
            <a:ahLst/>
            <a:rect l="l" t="t" r="r" b="b"/>
            <a:pathLst>
              <a:path w="1870359" h="266699">
                <a:moveTo>
                  <a:pt x="247916" y="101986"/>
                </a:moveTo>
                <a:lnTo>
                  <a:pt x="1622443" y="101986"/>
                </a:lnTo>
                <a:lnTo>
                  <a:pt x="1622443" y="164713"/>
                </a:lnTo>
                <a:lnTo>
                  <a:pt x="247916" y="164713"/>
                </a:lnTo>
                <a:lnTo>
                  <a:pt x="247916" y="10198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Группа 8"/>
          <p:cNvGrpSpPr/>
          <p:nvPr/>
        </p:nvGrpSpPr>
        <p:grpSpPr>
          <a:xfrm>
            <a:off x="76320" y="3213000"/>
            <a:ext cx="2438280" cy="533520"/>
            <a:chOff x="76320" y="3213000"/>
            <a:chExt cx="2438280" cy="533520"/>
          </a:xfrm>
        </p:grpSpPr>
        <p:sp>
          <p:nvSpPr>
            <p:cNvPr id="96" name="Минус 9"/>
            <p:cNvSpPr/>
            <p:nvPr/>
          </p:nvSpPr>
          <p:spPr>
            <a:xfrm>
              <a:off x="76320" y="3441600"/>
              <a:ext cx="2438280" cy="304920"/>
            </a:xfrm>
            <a:custGeom>
              <a:avLst/>
              <a:gdLst/>
              <a:ahLst/>
              <a:rect l="l" t="t" r="r" b="b"/>
              <a:pathLst>
                <a:path w="2438400" h="304800">
                  <a:moveTo>
                    <a:pt x="323210" y="116556"/>
                  </a:moveTo>
                  <a:lnTo>
                    <a:pt x="2115190" y="116556"/>
                  </a:lnTo>
                  <a:lnTo>
                    <a:pt x="2115190" y="188244"/>
                  </a:lnTo>
                  <a:lnTo>
                    <a:pt x="323210" y="188244"/>
                  </a:lnTo>
                  <a:lnTo>
                    <a:pt x="323210" y="116556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Минус 10"/>
            <p:cNvSpPr/>
            <p:nvPr/>
          </p:nvSpPr>
          <p:spPr>
            <a:xfrm>
              <a:off x="76320" y="3213000"/>
              <a:ext cx="2438280" cy="304920"/>
            </a:xfrm>
            <a:custGeom>
              <a:avLst/>
              <a:gdLst/>
              <a:ahLst/>
              <a:rect l="l" t="t" r="r" b="b"/>
              <a:pathLst>
                <a:path w="2438400" h="304800">
                  <a:moveTo>
                    <a:pt x="323210" y="116556"/>
                  </a:moveTo>
                  <a:lnTo>
                    <a:pt x="2115190" y="116556"/>
                  </a:lnTo>
                  <a:lnTo>
                    <a:pt x="2115190" y="188244"/>
                  </a:lnTo>
                  <a:lnTo>
                    <a:pt x="323210" y="188244"/>
                  </a:lnTo>
                  <a:lnTo>
                    <a:pt x="323210" y="116556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Группа 11"/>
          <p:cNvGrpSpPr/>
          <p:nvPr/>
        </p:nvGrpSpPr>
        <p:grpSpPr>
          <a:xfrm>
            <a:off x="2165400" y="5684760"/>
            <a:ext cx="2097000" cy="673200"/>
            <a:chOff x="2165400" y="5684760"/>
            <a:chExt cx="2097000" cy="673200"/>
          </a:xfrm>
        </p:grpSpPr>
        <p:sp>
          <p:nvSpPr>
            <p:cNvPr id="99" name="Минус 12"/>
            <p:cNvSpPr/>
            <p:nvPr/>
          </p:nvSpPr>
          <p:spPr>
            <a:xfrm flipV="1">
              <a:off x="2165400" y="5684400"/>
              <a:ext cx="2097000" cy="384840"/>
            </a:xfrm>
            <a:custGeom>
              <a:avLst/>
              <a:gdLst/>
              <a:ahLst/>
              <a:rect l="l" t="t" r="r" b="b"/>
              <a:pathLst>
                <a:path w="2438400" h="304800">
                  <a:moveTo>
                    <a:pt x="323210" y="116556"/>
                  </a:moveTo>
                  <a:lnTo>
                    <a:pt x="2115190" y="116556"/>
                  </a:lnTo>
                  <a:lnTo>
                    <a:pt x="2115190" y="188244"/>
                  </a:lnTo>
                  <a:lnTo>
                    <a:pt x="323210" y="188244"/>
                  </a:lnTo>
                  <a:lnTo>
                    <a:pt x="323210" y="116556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Минус 13"/>
            <p:cNvSpPr/>
            <p:nvPr/>
          </p:nvSpPr>
          <p:spPr>
            <a:xfrm flipV="1">
              <a:off x="2165400" y="5972760"/>
              <a:ext cx="2097000" cy="384840"/>
            </a:xfrm>
            <a:custGeom>
              <a:avLst/>
              <a:gdLst/>
              <a:ahLst/>
              <a:rect l="l" t="t" r="r" b="b"/>
              <a:pathLst>
                <a:path w="2438400" h="304800">
                  <a:moveTo>
                    <a:pt x="323210" y="116556"/>
                  </a:moveTo>
                  <a:lnTo>
                    <a:pt x="2115190" y="116556"/>
                  </a:lnTo>
                  <a:lnTo>
                    <a:pt x="2115190" y="188244"/>
                  </a:lnTo>
                  <a:lnTo>
                    <a:pt x="323210" y="188244"/>
                  </a:lnTo>
                  <a:lnTo>
                    <a:pt x="323210" y="116556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Группа 18"/>
          <p:cNvGrpSpPr/>
          <p:nvPr/>
        </p:nvGrpSpPr>
        <p:grpSpPr>
          <a:xfrm>
            <a:off x="2165400" y="4986000"/>
            <a:ext cx="3187800" cy="555480"/>
            <a:chOff x="2165400" y="4986000"/>
            <a:chExt cx="3187800" cy="555480"/>
          </a:xfrm>
        </p:grpSpPr>
        <p:sp>
          <p:nvSpPr>
            <p:cNvPr id="102" name="Минус 19"/>
            <p:cNvSpPr/>
            <p:nvPr/>
          </p:nvSpPr>
          <p:spPr>
            <a:xfrm flipV="1">
              <a:off x="2165400" y="4986000"/>
              <a:ext cx="3187800" cy="317520"/>
            </a:xfrm>
            <a:custGeom>
              <a:avLst/>
              <a:gdLst/>
              <a:ahLst/>
              <a:rect l="l" t="t" r="r" b="b"/>
              <a:pathLst>
                <a:path w="2438400" h="304800">
                  <a:moveTo>
                    <a:pt x="323210" y="116556"/>
                  </a:moveTo>
                  <a:lnTo>
                    <a:pt x="2115190" y="116556"/>
                  </a:lnTo>
                  <a:lnTo>
                    <a:pt x="2115190" y="188244"/>
                  </a:lnTo>
                  <a:lnTo>
                    <a:pt x="323210" y="188244"/>
                  </a:lnTo>
                  <a:lnTo>
                    <a:pt x="323210" y="116556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Минус 20"/>
            <p:cNvSpPr/>
            <p:nvPr/>
          </p:nvSpPr>
          <p:spPr>
            <a:xfrm flipV="1">
              <a:off x="2165400" y="5223960"/>
              <a:ext cx="3187800" cy="317520"/>
            </a:xfrm>
            <a:custGeom>
              <a:avLst/>
              <a:gdLst/>
              <a:ahLst/>
              <a:rect l="l" t="t" r="r" b="b"/>
              <a:pathLst>
                <a:path w="2438400" h="304800">
                  <a:moveTo>
                    <a:pt x="323210" y="116556"/>
                  </a:moveTo>
                  <a:lnTo>
                    <a:pt x="2115190" y="116556"/>
                  </a:lnTo>
                  <a:lnTo>
                    <a:pt x="2115190" y="188244"/>
                  </a:lnTo>
                  <a:lnTo>
                    <a:pt x="323210" y="188244"/>
                  </a:lnTo>
                  <a:lnTo>
                    <a:pt x="323210" y="116556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Минус 21"/>
          <p:cNvSpPr/>
          <p:nvPr/>
        </p:nvSpPr>
        <p:spPr>
          <a:xfrm>
            <a:off x="522360" y="4986360"/>
            <a:ext cx="1869840" cy="266760"/>
          </a:xfrm>
          <a:custGeom>
            <a:avLst/>
            <a:gdLst/>
            <a:ahLst/>
            <a:rect l="l" t="t" r="r" b="b"/>
            <a:pathLst>
              <a:path w="1870359" h="266699">
                <a:moveTo>
                  <a:pt x="247916" y="101986"/>
                </a:moveTo>
                <a:lnTo>
                  <a:pt x="1622443" y="101986"/>
                </a:lnTo>
                <a:lnTo>
                  <a:pt x="1622443" y="164713"/>
                </a:lnTo>
                <a:lnTo>
                  <a:pt x="247916" y="164713"/>
                </a:lnTo>
                <a:lnTo>
                  <a:pt x="247916" y="10198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инус 22"/>
          <p:cNvSpPr/>
          <p:nvPr/>
        </p:nvSpPr>
        <p:spPr>
          <a:xfrm>
            <a:off x="361800" y="5840280"/>
            <a:ext cx="1870200" cy="266760"/>
          </a:xfrm>
          <a:custGeom>
            <a:avLst/>
            <a:gdLst/>
            <a:ahLst/>
            <a:rect l="l" t="t" r="r" b="b"/>
            <a:pathLst>
              <a:path w="1870359" h="266699">
                <a:moveTo>
                  <a:pt x="247916" y="101986"/>
                </a:moveTo>
                <a:lnTo>
                  <a:pt x="1622443" y="101986"/>
                </a:lnTo>
                <a:lnTo>
                  <a:pt x="1622443" y="164713"/>
                </a:lnTo>
                <a:lnTo>
                  <a:pt x="247916" y="164713"/>
                </a:lnTo>
                <a:lnTo>
                  <a:pt x="247916" y="10198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285840" y="928800"/>
            <a:ext cx="5286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Monotype Corsiva"/>
              </a:rPr>
              <a:t>1. Сложными бываю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285840" y="2357280"/>
            <a:ext cx="526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Monotype Corsiva"/>
              </a:rPr>
              <a:t>2. Сложными бываю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285840" y="928800"/>
            <a:ext cx="83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Monotype Corsiva"/>
              </a:rPr>
              <a:t>1. Сложными бывают  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сл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285840" y="2357280"/>
            <a:ext cx="83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Monotype Corsiva"/>
              </a:rPr>
              <a:t>2. Сложными бывают 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предл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250920" y="189000"/>
            <a:ext cx="8713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 тумане падают листь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коро осень проснется и заплачет спросонь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Дождик сразу перестал, в клетке чиж защебет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Весной по утрам тонкий лед еще  покрывает лужицы, а воздух пахнет мороз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900000" y="620640"/>
            <a:ext cx="7201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йди и подчеркни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считай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основ две или больше, то это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йди границы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ставь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900000" y="692280"/>
            <a:ext cx="7775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и подчеркн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мматические осн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считай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лько основ в предлож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основ две или больше, то эт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ж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йди границы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стых пред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ставь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ят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YGagarin.jpg"/>
          <p:cNvPicPr/>
          <p:nvPr/>
        </p:nvPicPr>
        <p:blipFill>
          <a:blip r:embed="rId1"/>
          <a:stretch/>
        </p:blipFill>
        <p:spPr>
          <a:xfrm>
            <a:off x="4992840" y="689040"/>
            <a:ext cx="3481200" cy="32432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780840" y="3789360"/>
            <a:ext cx="53805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  <a:ea typeface="Arial"/>
              </a:rPr>
              <a:t>к_см_на_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_см_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611280" y="404640"/>
            <a:ext cx="7993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умане падают листь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и яркие весенние деньки и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еет сильне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етели птицы и наполнили своим пением лес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янул ветерок и белая туча заволокла горизон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611280" y="404640"/>
            <a:ext cx="799308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и яркие весенние деньки</a:t>
            </a:r>
            <a:r>
              <a:rPr b="0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олнце греет сильне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янул ветерок</a:t>
            </a:r>
            <a:r>
              <a:rPr b="0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белая туча заволокла горизон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етели птицы и наполнили своим пением лес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95280" y="155736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одной грамматической осн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 - = 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ловлю в пруду ры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65624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двумя или более грамматическими осно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= - ]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 - = 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неют осины, цветы доцвет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2112840" y="2057400"/>
            <a:ext cx="503280" cy="990720"/>
          </a:xfrm>
          <a:prstGeom prst="downArrow">
            <a:avLst>
              <a:gd name="adj1" fmla="val 50000"/>
              <a:gd name="adj2" fmla="val 250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6424560" y="1962000"/>
            <a:ext cx="503280" cy="959040"/>
          </a:xfrm>
          <a:prstGeom prst="downArrow">
            <a:avLst>
              <a:gd name="adj1" fmla="val 50000"/>
              <a:gd name="adj2" fmla="val 25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611280" y="260280"/>
            <a:ext cx="822960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Между простыми предложениями в составе сложного ставится запята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57200" y="184464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пятая – как погранични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на охраняет границы прост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лож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[    ]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,           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[    ]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C:\Documents and Settings\Елена\Рабочий стол\пограничник.jpg"/>
          <p:cNvPicPr/>
          <p:nvPr/>
        </p:nvPicPr>
        <p:blipFill>
          <a:blip r:embed="rId1"/>
          <a:stretch/>
        </p:blipFill>
        <p:spPr>
          <a:xfrm>
            <a:off x="3276720" y="3565440"/>
            <a:ext cx="2819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C:\Documents and Settings\Марина\Local Settings\Temporary Internet Files\Content.Word\Изображение 080.jpg"/>
          <p:cNvPicPr/>
          <p:nvPr/>
        </p:nvPicPr>
        <p:blipFill>
          <a:blip r:embed="rId1"/>
          <a:stretch/>
        </p:blipFill>
        <p:spPr>
          <a:xfrm>
            <a:off x="324000" y="333360"/>
            <a:ext cx="8640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539640" y="620640"/>
            <a:ext cx="7993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пушке леса стоял огромный дуб ,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обирали гриб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ссвете поднялся вете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его ветвях сновали птиц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" descr="C:\Documents and Settings\Марина\Local Settings\Temporary Internet Files\Content.Word\Изображение 076.jpg"/>
          <p:cNvPicPr/>
          <p:nvPr/>
        </p:nvPicPr>
        <p:blipFill>
          <a:blip r:embed="rId1"/>
          <a:stretch/>
        </p:blipFill>
        <p:spPr>
          <a:xfrm>
            <a:off x="320760" y="189000"/>
            <a:ext cx="84279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http://www.playcast.ru/uploads/2016/02/16/17353175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611280" y="189000"/>
            <a:ext cx="784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cc"/>
                </a:solid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Итог уро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cc"/>
              </a:solid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31840" y="1071720"/>
            <a:ext cx="891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Что мы узнали  сегодня на уро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чем бы вам хотелось рассказать родителя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 какими затруднениями столкнулись на уро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1147"/>
          <p:cNvPicPr/>
          <p:nvPr/>
        </p:nvPicPr>
        <p:blipFill>
          <a:blip r:embed="rId1"/>
          <a:stretch/>
        </p:blipFill>
        <p:spPr>
          <a:xfrm>
            <a:off x="3071880" y="3789360"/>
            <a:ext cx="3087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55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http://files.kvvmku.ru/forum/files/chern-01_138.jpg"/>
          <p:cNvPicPr/>
          <p:nvPr/>
        </p:nvPicPr>
        <p:blipFill>
          <a:blip r:embed="rId1"/>
          <a:stretch/>
        </p:blipFill>
        <p:spPr>
          <a:xfrm>
            <a:off x="5715000" y="685800"/>
            <a:ext cx="3041640" cy="39067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1116000" y="4616280"/>
            <a:ext cx="3643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  <a:ea typeface="Arial"/>
              </a:rPr>
              <a:t>г_рой</a:t>
            </a:r>
            <a:r>
              <a:rPr b="1" lang="ru-RU" sz="80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1143000" y="1143000"/>
            <a:ext cx="4857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Схема 30" descr=""/>
          <p:cNvPicPr/>
          <p:nvPr/>
        </p:nvPicPr>
        <p:blipFill>
          <a:blip r:embed="rId1"/>
          <a:stretch/>
        </p:blipFill>
        <p:spPr>
          <a:xfrm>
            <a:off x="304920" y="500040"/>
            <a:ext cx="8424720" cy="5931000"/>
          </a:xfrm>
          <a:prstGeom prst="rect">
            <a:avLst/>
          </a:prstGeom>
          <a:ln w="0">
            <a:noFill/>
          </a:ln>
        </p:spPr>
      </p:pic>
      <p:cxnSp>
        <p:nvCxnSpPr>
          <p:cNvPr id="133" name="Прямая со стрелкой 32"/>
          <p:cNvCxnSpPr/>
          <p:nvPr/>
        </p:nvCxnSpPr>
        <p:spPr>
          <a:xfrm>
            <a:off x="5857920" y="2143080"/>
            <a:ext cx="714960" cy="1286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4" name="Прямая со стрелкой 35"/>
          <p:cNvCxnSpPr/>
          <p:nvPr/>
        </p:nvCxnSpPr>
        <p:spPr>
          <a:xfrm flipH="1">
            <a:off x="1641240" y="3644640"/>
            <a:ext cx="2160" cy="143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5" name="Прямая со стрелкой 37"/>
          <p:cNvCxnSpPr/>
          <p:nvPr/>
        </p:nvCxnSpPr>
        <p:spPr>
          <a:xfrm flipH="1">
            <a:off x="1285560" y="4786200"/>
            <a:ext cx="286560" cy="64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36" name="Стрелка вниз 41"/>
          <p:cNvSpPr/>
          <p:nvPr/>
        </p:nvSpPr>
        <p:spPr>
          <a:xfrm flipH="1">
            <a:off x="1000080" y="3929040"/>
            <a:ext cx="46080" cy="500040"/>
          </a:xfrm>
          <a:prstGeom prst="downArrow">
            <a:avLst>
              <a:gd name="adj1" fmla="val 50000"/>
              <a:gd name="adj2" fmla="val 4993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низ 42"/>
          <p:cNvSpPr/>
          <p:nvPr/>
        </p:nvSpPr>
        <p:spPr>
          <a:xfrm rot="19824000">
            <a:off x="2355480" y="3827160"/>
            <a:ext cx="46080" cy="642960"/>
          </a:xfrm>
          <a:prstGeom prst="downArrow">
            <a:avLst>
              <a:gd name="adj1" fmla="val 50000"/>
              <a:gd name="adj2" fmla="val 4993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трелка вниз 43"/>
          <p:cNvSpPr/>
          <p:nvPr/>
        </p:nvSpPr>
        <p:spPr>
          <a:xfrm>
            <a:off x="1143000" y="2643120"/>
            <a:ext cx="46080" cy="28584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трелка вниз 44"/>
          <p:cNvSpPr/>
          <p:nvPr/>
        </p:nvSpPr>
        <p:spPr>
          <a:xfrm rot="18357600">
            <a:off x="2975400" y="2269440"/>
            <a:ext cx="46080" cy="1552320"/>
          </a:xfrm>
          <a:prstGeom prst="downArrow">
            <a:avLst>
              <a:gd name="adj1" fmla="val 50000"/>
              <a:gd name="adj2" fmla="val 4990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Группа 45"/>
          <p:cNvGrpSpPr/>
          <p:nvPr/>
        </p:nvGrpSpPr>
        <p:grpSpPr>
          <a:xfrm>
            <a:off x="3500280" y="3286080"/>
            <a:ext cx="3000600" cy="1214640"/>
            <a:chOff x="3500280" y="3286080"/>
            <a:chExt cx="3000600" cy="1214640"/>
          </a:xfrm>
        </p:grpSpPr>
        <p:sp>
          <p:nvSpPr>
            <p:cNvPr id="141" name="Скругленный прямоугольник 46"/>
            <p:cNvSpPr/>
            <p:nvPr/>
          </p:nvSpPr>
          <p:spPr>
            <a:xfrm>
              <a:off x="3657240" y="3286080"/>
              <a:ext cx="2186280" cy="1041840"/>
            </a:xfrm>
            <a:prstGeom prst="roundRect">
              <a:avLst>
                <a:gd name="adj" fmla="val 10000"/>
              </a:avLst>
            </a:prstGeom>
            <a:solidFill>
              <a:srgbClr val="bbe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Скругленный прямоугольник 4"/>
            <p:cNvSpPr/>
            <p:nvPr/>
          </p:nvSpPr>
          <p:spPr>
            <a:xfrm>
              <a:off x="3500280" y="3286080"/>
              <a:ext cx="30006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ru-RU" sz="20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налич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ru-RU" sz="20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однородны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ru-RU" sz="20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членов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Прямоугольник 48"/>
          <p:cNvSpPr/>
          <p:nvPr/>
        </p:nvSpPr>
        <p:spPr>
          <a:xfrm>
            <a:off x="2071800" y="285840"/>
            <a:ext cx="171432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ст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49"/>
          <p:cNvSpPr/>
          <p:nvPr/>
        </p:nvSpPr>
        <p:spPr>
          <a:xfrm>
            <a:off x="142920" y="285840"/>
            <a:ext cx="171432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ж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трелка вверх 50"/>
          <p:cNvSpPr/>
          <p:nvPr/>
        </p:nvSpPr>
        <p:spPr>
          <a:xfrm rot="2266200">
            <a:off x="2452320" y="981000"/>
            <a:ext cx="46080" cy="587520"/>
          </a:xfrm>
          <a:prstGeom prst="upArrow">
            <a:avLst>
              <a:gd name="adj1" fmla="val 50000"/>
              <a:gd name="adj2" fmla="val 4993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верх 51"/>
          <p:cNvSpPr/>
          <p:nvPr/>
        </p:nvSpPr>
        <p:spPr>
          <a:xfrm rot="20782200">
            <a:off x="754200" y="1093320"/>
            <a:ext cx="63360" cy="347760"/>
          </a:xfrm>
          <a:prstGeom prst="upArrow">
            <a:avLst>
              <a:gd name="adj1" fmla="val 50000"/>
              <a:gd name="adj2" fmla="val 5013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трелка вниз 53"/>
          <p:cNvSpPr/>
          <p:nvPr/>
        </p:nvSpPr>
        <p:spPr>
          <a:xfrm flipH="1" rot="17967000">
            <a:off x="6417360" y="2472480"/>
            <a:ext cx="46080" cy="217224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54"/>
          <p:cNvSpPr/>
          <p:nvPr/>
        </p:nvSpPr>
        <p:spPr>
          <a:xfrm>
            <a:off x="5715000" y="4857840"/>
            <a:ext cx="2500200" cy="500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восклиц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55"/>
          <p:cNvSpPr/>
          <p:nvPr/>
        </p:nvSpPr>
        <p:spPr>
          <a:xfrm>
            <a:off x="6786720" y="3929040"/>
            <a:ext cx="2214360" cy="642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склиц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низ 56"/>
          <p:cNvSpPr/>
          <p:nvPr/>
        </p:nvSpPr>
        <p:spPr>
          <a:xfrm flipH="1" rot="19288800">
            <a:off x="6201000" y="2768040"/>
            <a:ext cx="46080" cy="2373480"/>
          </a:xfrm>
          <a:prstGeom prst="downArrow">
            <a:avLst>
              <a:gd name="adj1" fmla="val 50000"/>
              <a:gd name="adj2" fmla="val 4983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трелка вниз 57"/>
          <p:cNvSpPr/>
          <p:nvPr/>
        </p:nvSpPr>
        <p:spPr>
          <a:xfrm flipH="1" rot="18706200">
            <a:off x="5931720" y="1401840"/>
            <a:ext cx="45720" cy="1116360"/>
          </a:xfrm>
          <a:prstGeom prst="downArrow">
            <a:avLst>
              <a:gd name="adj1" fmla="val 50000"/>
              <a:gd name="adj2" fmla="val 5041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95280" y="189000"/>
            <a:ext cx="8280360" cy="2016000"/>
          </a:xfrm>
          <a:prstGeom prst="rect">
            <a:avLst/>
          </a:prstGeom>
          <a:solidFill>
            <a:srgbClr val="ff0000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рок для меня прошёл с пользо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Я научился и могу помочь друг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95280" y="4653000"/>
            <a:ext cx="8280360" cy="2016000"/>
          </a:xfrm>
          <a:prstGeom prst="rect">
            <a:avLst/>
          </a:prstGeom>
          <a:solidFill>
            <a:srgbClr val="33ccff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не было трудно на уро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395280" y="2421000"/>
            <a:ext cx="8280360" cy="2016000"/>
          </a:xfrm>
          <a:prstGeom prst="rect">
            <a:avLst/>
          </a:prstGeom>
          <a:solidFill>
            <a:srgbClr val="99ff3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учился находить слож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едложени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о мне ещё нужна помощ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vostok.jpg"/>
          <p:cNvPicPr/>
          <p:nvPr/>
        </p:nvPicPr>
        <p:blipFill>
          <a:blip r:embed="rId1"/>
          <a:stretch/>
        </p:blipFill>
        <p:spPr>
          <a:xfrm>
            <a:off x="395280" y="971640"/>
            <a:ext cx="2408400" cy="38527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4151520" y="3716280"/>
            <a:ext cx="383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800000"/>
                </a:solidFill>
                <a:latin typeface="Arial"/>
                <a:ea typeface="Arial"/>
              </a:rPr>
              <a:t>р_кета</a:t>
            </a:r>
            <a:r>
              <a:rPr b="1" lang="ru-RU" sz="88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http://www.72box.ru/uploads/image/statyi/march2011/1-OCH0025D.jpg"/>
          <p:cNvPicPr/>
          <p:nvPr/>
        </p:nvPicPr>
        <p:blipFill>
          <a:blip r:embed="rId1"/>
          <a:stretch/>
        </p:blipFill>
        <p:spPr>
          <a:xfrm>
            <a:off x="539640" y="685800"/>
            <a:ext cx="348156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4035960" y="3244680"/>
            <a:ext cx="470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800000"/>
                </a:solidFill>
                <a:latin typeface="Arial"/>
                <a:ea typeface="Arial"/>
              </a:rPr>
              <a:t>учит_л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http://s019.radikal.ru/i631/1205/d7/de5b40bb3a8d.jpg"/>
          <p:cNvPicPr/>
          <p:nvPr/>
        </p:nvPicPr>
        <p:blipFill>
          <a:blip r:embed="rId1"/>
          <a:stretch/>
        </p:blipFill>
        <p:spPr>
          <a:xfrm>
            <a:off x="3157560" y="-712800"/>
            <a:ext cx="5553000" cy="64612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1434600" y="4302000"/>
            <a:ext cx="591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800000"/>
                </a:solidFill>
                <a:latin typeface="Arial"/>
                <a:ea typeface="Arial"/>
              </a:rPr>
              <a:t>к_р_ндаш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http://www.ekomissionka.dp.ua/content/2012/20120211/u56836/images/201202/f20120211141844-remont-odezhdy.jpg"/>
          <p:cNvPicPr/>
          <p:nvPr/>
        </p:nvPicPr>
        <p:blipFill>
          <a:blip r:embed="rId1"/>
          <a:stretch/>
        </p:blipFill>
        <p:spPr>
          <a:xfrm>
            <a:off x="4038480" y="685800"/>
            <a:ext cx="4788000" cy="3591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1783080" y="4691160"/>
            <a:ext cx="487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800000"/>
                </a:solidFill>
                <a:latin typeface="Arial"/>
                <a:ea typeface="Arial"/>
              </a:rPr>
              <a:t>_ дежда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1" descr="http://www.oreninform.ru/upload/iblock/22d/19.10%20zgwoarotkdcpthuikt%202%20+.jpg"/>
          <p:cNvPicPr/>
          <p:nvPr/>
        </p:nvPicPr>
        <p:blipFill>
          <a:blip r:embed="rId1"/>
          <a:stretch/>
        </p:blipFill>
        <p:spPr>
          <a:xfrm>
            <a:off x="3429000" y="533520"/>
            <a:ext cx="5372280" cy="31766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727200" y="4365720"/>
            <a:ext cx="538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8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_</a:t>
            </a:r>
            <a:r>
              <a:rPr b="0" lang="ru-RU" sz="9600" spc="-1" strike="noStrike">
                <a:solidFill>
                  <a:srgbClr val="800000"/>
                </a:solidFill>
                <a:latin typeface="Arial"/>
              </a:rPr>
              <a:t>сси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1" descr="http://img.ashkimsin.ru/forums/monthly_09_2010/user3670/post70758_img1.jpg"/>
          <p:cNvPicPr/>
          <p:nvPr/>
        </p:nvPicPr>
        <p:blipFill>
          <a:blip r:embed="rId1"/>
          <a:stretch/>
        </p:blipFill>
        <p:spPr>
          <a:xfrm>
            <a:off x="38160" y="333360"/>
            <a:ext cx="5041800" cy="33526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3290400" y="4508640"/>
            <a:ext cx="399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Arial"/>
              </a:rPr>
              <a:t>М_скв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15:22:18Z</dcterms:created>
  <dc:creator>Синецкая Г.Г.</dc:creator>
  <dc:description/>
  <dc:language>en-US</dc:language>
  <cp:lastModifiedBy>611-285</cp:lastModifiedBy>
  <dcterms:modified xsi:type="dcterms:W3CDTF">2017-04-05T18:03:38Z</dcterms:modified>
  <cp:revision>48</cp:revision>
  <dc:subject>Сочетания ЖИ-ШИ, ЧА-ЩА, ЧУ-ЩУ</dc:subject>
  <dc:title>Русский язык. 3 класс</dc:title>
</cp:coreProperties>
</file>