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C919-B46C-4BAA-9922-C8C898599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B173-81C1-44CF-828D-20C9AAB9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7337-9651-4186-A5C8-44E4125AB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7D1C-F285-43F3-AD6D-05106B5C0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2138-CF6C-4798-9FCE-AF0ECD18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8D76-B38F-4F39-9CB0-3543D418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0DF7-332D-4C3B-96ED-D27328BA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D2AF-8C28-4CDB-BDD5-8C6129F4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2524-0C93-44D0-A782-7D4F32B3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D0D7-7D6E-4833-B257-5D9F990D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1B6D-FF19-4002-8D64-E93959D3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12FA-1ECD-4485-88F0-11042EAF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295F-5EFC-48C3-9B3E-32E7B1F597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40384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Если ты оказался в заложниках у террорист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00"/>
                </a:solidFill>
                <a:latin typeface="Arial"/>
              </a:rPr>
              <a:t>Как правильно вести себя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Рисунок11"/>
          <p:cNvPicPr/>
          <p:nvPr/>
        </p:nvPicPr>
        <p:blipFill>
          <a:blip r:embed="rId1"/>
          <a:stretch/>
        </p:blipFill>
        <p:spPr>
          <a:xfrm>
            <a:off x="3352680" y="1523880"/>
            <a:ext cx="2819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Статья 206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Захват заложника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Захват или удержание лица в качестве заложника, совершенные в целях понуждения государства, организации или гражданина совершить какое-либо действие или воздержаться от совершения какого-либо действия как условия освобождения заложника,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наказываются лишением свободы на срок от пяти до десяти л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 же деяния, совершенны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) группой лиц по предварительному сговору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) неоднократно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) с применением насилия, опасного для жизни или здоровь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) с применением оружия или предметов, используемых. в качестве оруж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) в отношении заведомо несовершеннолетнего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) в отношении женщины, заведомо для виновного находящейся в состоянии беременност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) в отношении двух или более лиц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) из корыстных побуждений или по найму,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наказываются лишением свободы на срок от шести до пятнадцати л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яния, предусмотренные частями первой или второй настоящей статьи, если они совершены организованной группой либо повлекли по неосторожности смерть человека или иные тяжкие последствия, 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наказываются лишением свободы на срок от восьми до двадцати л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279~1"/>
          <p:cNvPicPr/>
          <p:nvPr/>
        </p:nvPicPr>
        <p:blipFill>
          <a:blip r:embed="rId1"/>
          <a:stretch/>
        </p:blipFill>
        <p:spPr>
          <a:xfrm>
            <a:off x="6934320" y="2057400"/>
            <a:ext cx="2209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еступления против общественной безопасност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Статья 205.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ррориз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Статья 206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Захват заложн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тья 208. Организация незаконного вооруженного формирования или участие в н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тья 210. Организация преступного сообщества (преступной организации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туацию захвата заложников можно разделить на три этап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ам момент захва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длительный период удержания залож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разрешение кризиса (либо террористы сами отказываются от своих замыслов, либо, скорее всего, будет штур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огда ошибочно считается, что в момент захвата заложники могут «обезвредить» террористов — это, к сожалению, не так. В большинстве случаев террористы — хорошо подготовленные и обученные люди. Кроме того, в начале «операции» они собраны и напряжены: это если кризис затянется, они могут устать и вымотаться. Их цель — сразу подавить волю заложн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Активные действия при захват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раз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чреваты тем, что вы окажетесь одной из первых жер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до ли оказывать сопротивле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Шансы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ычного человека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на успешное сопротивлен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бученным террористам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фактически равны нулю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Захват заложников как правило производится хорошо организованной и подготовленной группой — и в прямом противостоянии с ними у вас нет шанс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 конечном итоге вас освободят. Ваша задача — 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быть как можно менее заметным: не привлекать внимание, не сопротивляться,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о возможности вообще 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не двигатьс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арайтесь успокоиться и собраться с силами, чтобы продержаться до момента освобо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вести себя с террористам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е главное правило —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как можно меньше привлекать внимание террорист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На то время, пока вы в заложниках, ваша жизнь находится полностью в их руках. Так как в такой ситуации террористы очень возбуждены и нервы их так же, как и ваши, на пределе, то и реакция их на ваши действия и слова может быть совершенно неадекватной. Запомните: </a:t>
            </a: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никогда не проявляйте никаких инициатив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аша инициатива, даже самая разумная, к сожалению, может только ухудшить ваше положение.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Полное повиновение, и ничего больш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едует избегать каких-либо контактов. Террористы, скорее всего, будут настроены резко враждебно, и ваши разговоры вряд ли смогут изменить их отношение к вам. Психологи советуют </a:t>
            </a: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избегать даже контакта глазам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Не пытайтесь договориться с террористами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Это абсолютно бесполезно. Тем более не следует говорить о своем, допустим, высоком статусе или больших связях. Во-первых, такие слова могут восприниматься как угроза, и это только обозлит террористов. Во-вторых, вы опять же выделите себя из общей группы заложников, что вам будет абсолютно не на руку. В-третьих, информацию о том, кем вы на самом деле являетесь, террористы могут использовать против вас же. Это повысит вашу ценность, что может, например, затруднить ваш обмен, если таковой планируется. Даже если вы действительно какой-нибудь министр, говорить нужно совершенно обратное. </a:t>
            </a: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Если уж вас и спрашивают о том, кто вы, расскажите лучше, что вы из простой семьи, денег у вас нет, связей тоже, что вы никому не нуж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передать весточку на волю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есть такая возможность — пытайтесь связаться с внешним миром. Хотя, как правило, такой возможности н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у вас не отобрали 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мобильный телефо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 вы успеете им воспользоваться — 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пользуйтес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лько 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аккурат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Телефон старайтесь выключать: его заряд не бесконечен, а сколько продлится захват, предсказать невозмож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е попытаться написать 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записк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 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заверну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е 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в  яркий предмет одеж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о прежде чем выбросить его, постарайтесь реально оценить степень риска для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ывайте, что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террористы могут стать очень агрессив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 отношению к вам,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если увидя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поймут, что вы хотите связаться с внешним мир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Перед тем как пытаться передать весточку, подумайте, стоит ли так рисков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SO00629_"/>
          <p:cNvPicPr/>
          <p:nvPr/>
        </p:nvPicPr>
        <p:blipFill>
          <a:blip r:embed="rId1"/>
          <a:stretch/>
        </p:blipFill>
        <p:spPr>
          <a:xfrm rot="18382800">
            <a:off x="-103320" y="4294080"/>
            <a:ext cx="968400" cy="762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J0237860"/>
          <p:cNvPicPr/>
          <p:nvPr/>
        </p:nvPicPr>
        <p:blipFill>
          <a:blip r:embed="rId2"/>
          <a:stretch/>
        </p:blipFill>
        <p:spPr>
          <a:xfrm rot="15997200">
            <a:off x="7746840" y="1701360"/>
            <a:ext cx="131292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до ли пытаться бежа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4495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 одной стороны, известны случаи, когда заложникам удалось убежать. С другой стороны,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ероятность погибнуть при побеге очень велика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пециалисты по безопасности считают, что реальная возможность скрыться есть только первые несколько дней, пока заложники не истощены и у них еще есть си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 момент захвата террористы наиболее напряжены и больше всего нервничаю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Поэтому любые ваши попытки сбежать или оказать сопротивление могут закончиться фатально —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ас могут ранить или уб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066320"/>
            <a:ext cx="44956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, тем не менее, вы решили бежать, запомните следующие прав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умайте, как вы будете бежать. Представьте себе мысленно здание.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 Ждите, пока внимание террористов ослабнет, двигайтесь быстро, тихо, сохраняйте молч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вы слышите приказ террориста остановиться, замрите, поднимите руки, не двигайтесь, говорите: «Да, о'кей, хорошо»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81240" y="228600"/>
            <a:ext cx="9753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вести себя при начавшемся штурм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Лягте на пол лицом вниз, голову закройте руками  и не двигайтес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пока вас не выведут сотрудники спецслужб. Не проявляйте никаких инициатив — только так вы сохраните себе жизнь. Если вы поняли, что начался штурм, 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не пытайтесь бежа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арайтесь принять такое положение, при котором вы окажетесь в стороне от дверей, окон и проходов к ним (при обстреле осколки стекла и строительных конструкций могут причинить дополнительные травмы). Держитесь 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подальше от террористо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потому что при штурме 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по ним будут стрелять снайпер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 в коем случае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не хватайте оружие — вас могут перепутать с террористам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Ни в коем случае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не бегите навстречу сотрудникам спецслужб или от них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так как они могут принять вас за террориста, и, скорее всего, вы погибне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вы поняли, что штурм закончился, тихонечко, голосом, дайте знать о себе. 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Если на вас повесили бомбу, нужно без паник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осом или жестами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 дать зна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 этом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 сотрудникам спецслужб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 впадайте в истерику или отчаяние, постарайтесь не потерять контроль над соб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320"/>
                            </p:stCondLst>
                            <p:childTnLst>
                              <p:par>
                                <p:cTn id="2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820"/>
                            </p:stCondLst>
                            <p:childTnLst>
                              <p:par>
                                <p:cTn id="2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вести себя после освобожде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ычно люди после освобождения находятся в шоке. И это нормаль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Не отказывайтесь от медицинской и психологической помощи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е бегите сломя голову домой — это естественная реакция человека, вам будет гораздо лучше, если вы вовремя получите квалифицированную помощь. Кроме того, чем скорее вы отметитесь в штабе по освобождению заложников, тем быстрее ваши родственники узнают о том, что вы выж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обходимо будет как можно скорее ответить на все вопросы сотрудников, причем четко, логично и аргументировано.Постарайтесь упоминать все мелочи, которые видели: возможно, эти сведения окажутся бесценным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J0239037"/>
          <p:cNvPicPr/>
          <p:nvPr/>
        </p:nvPicPr>
        <p:blipFill>
          <a:blip r:embed="rId1"/>
          <a:stretch/>
        </p:blipFill>
        <p:spPr>
          <a:xfrm>
            <a:off x="4038480" y="5878440"/>
            <a:ext cx="1820880" cy="979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Рисунок79"/>
          <p:cNvPicPr/>
          <p:nvPr/>
        </p:nvPicPr>
        <p:blipFill>
          <a:blip r:embed="rId2"/>
          <a:stretch/>
        </p:blipFill>
        <p:spPr>
          <a:xfrm>
            <a:off x="0" y="0"/>
            <a:ext cx="1752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</dc:creator>
  <dc:description/>
  <dc:language>en-US</dc:language>
  <cp:lastModifiedBy>Елена</cp:lastModifiedBy>
  <dcterms:modified xsi:type="dcterms:W3CDTF">2017-04-06T07:49:0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