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121-2625-4860-BBCE-71223E85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BFC-07AF-4827-BF5D-8FA409C2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E9C-845C-492D-81E0-FA1E20A1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46F-7732-428A-916B-1FC1FC20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8C2-9E71-4490-A38C-1924F09F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429-CFD1-4E85-8B87-BC72A928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C9E-CB05-412D-98BF-2455B5F3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0F1-5CAD-40EC-B57A-139DFD9F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455-B8CB-4AEF-888A-9D4F5B47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53A-D7C9-4A0E-AB41-51235E9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10D-37CC-4FDD-8145-8AD17DB7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E67-3BB9-402E-ABC2-83DC10B8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785F-6DAC-42A7-BECE-065FDBCF0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40384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Если ты оказался в заложниках у террорис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Как правильно вести себ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Рисунок11"/>
          <p:cNvPicPr/>
          <p:nvPr/>
        </p:nvPicPr>
        <p:blipFill>
          <a:blip r:embed="rId1"/>
          <a:stretch/>
        </p:blipFill>
        <p:spPr>
          <a:xfrm>
            <a:off x="3352680" y="1523880"/>
            <a:ext cx="2819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татья 206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Захват заложн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Захват или удержание лица в качестве заложника, совершенные в целях понуждения государства, организации или гражданина совершить какое-либо действие или воздержаться от совершения какого-либо действия как условия освобождения заложника,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казываются лишением свободы на срок от пяти до десяти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 же деяния, совершенн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группой лиц по предварительному сговор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неоднократн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с применением насилия, опасного для жизни или здоровь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с применением оружия или предметов, используемых. в качестве оруж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) в отношении заведомо несовершеннолетнег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) в отношении женщины, заведомо для виновного находящейся в состоянии беременно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) в отношении двух или более лиц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) из корыстных побуждений или по найму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казываются лишением свободы на срок от шести до пятнадцати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яния, предусмотренные частями первой или второй настоящей статьи, если они совершены организованной группой либо повлекли по неосторожности смерть человека или иные тяжкие последствия, 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казываются лишением свободы на срок от восьми до двадцати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279~1"/>
          <p:cNvPicPr/>
          <p:nvPr/>
        </p:nvPicPr>
        <p:blipFill>
          <a:blip r:embed="rId1"/>
          <a:stretch/>
        </p:blipFill>
        <p:spPr>
          <a:xfrm>
            <a:off x="6934320" y="2057400"/>
            <a:ext cx="2209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ступления против общественной безопасност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татья 205.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ррориз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татья 206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Захват залож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ья 208. Организация незаконного вооруженного формирования или участие в н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ья 210. Организация преступного сообщества (преступной организаци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уацию захвата заложников можно разделить на три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ам момент захв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длительный период удержания залож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зрешение кризиса (либо террористы сами отказываются от своих замыслов, либо, скорее всего, будет штур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огда ошибочно считается, что в момент захвата заложники могут «обезвредить» террористов — это, к сожалению, не так. В большинстве случаев террористы — хорошо подготовленные и обученные люди. Кроме того, в начале «операции» они собраны и напряжены: это если кризис затянется, они могут устать и вымотаться. Их цель — сразу подавить волю залож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ктивные действия при захва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раз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чреваты тем, что вы окажетесь одной из первых жер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о ли оказывать сопротивл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Шанс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чного человек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а успешное сопротив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ученным террористам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актически равны нул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хват заложников как правило производится хорошо организованной и подготовленной группой — и в прямом противостоянии с ними у вас нет шан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 конечном итоге вас освободят. Ваша задача —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быть как можно менее заметным: не привлекать внимание, не сопротивляться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 возможности вообще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не двигатьс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арайтесь успокоиться и собраться с силами, чтобы продержаться до момента освоб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вести себя с террорист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е главное правило —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как можно меньше привлекать внимание террорист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 то время, пока вы в заложниках, ваша жизнь находится полностью в их руках. Так как в такой ситуации террористы очень возбуждены и нервы их так же, как и ваши, на пределе, то и реакция их на ваши действия и слова может быть совершенно неадекватной. Запомните: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никогда не проявляйте никаких инициати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аша инициатива, даже самая разумная, к сожалению, может только ухудшить ваше положение.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лное повиновение, и ничего б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ует избегать каких-либо контактов. Террористы, скорее всего, будут настроены резко враждебно, и ваши разговоры вряд ли смогут изменить их отношение к вам. Психологи советуют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избегать даже контакта глазам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Не пытайтесь договориться с террориста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о абсолютно бесполезно. Тем более не следует говорить о своем, допустим, высоком статусе или больших связях. Во-первых, такие слова могут восприниматься как угроза, и это только обозлит террористов. Во-вторых, вы опять же выделите себя из общей группы заложников, что вам будет абсолютно не на руку. В-третьих, информацию о том, кем вы на самом деле являетесь, террористы могут использовать против вас же. Это повысит вашу ценность, что может, например, затруднить ваш обмен, если таковой планируется. Даже если вы действительно какой-нибудь министр, говорить нужно совершенно обратное.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Если уж вас и спрашивают о том, кто вы, расскажите лучше, что вы из простой семьи, денег у вас нет, связей тоже, что вы никому не ну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ередать весточку на вол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есть такая возможность — пытайтесь связаться с внешним миром. Хотя, как правило, такой возможности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 вас не отобрали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мобильный телеф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 вы успеете им воспользоваться —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ользуйте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лько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акку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елефон старайтесь выключать: его заряд не бесконечен, а сколько продлится захват, предсказать невозмож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е попытаться написать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записк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 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заверну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 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в  яркий предмет одеж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 прежде чем выбросить его, постарайтесь реально оценить степень риска для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йте, что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террористы могут стать очень агрессив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 отношению к вам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если увидя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поймут, что вы хотите связаться с внешним ми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Перед тем как пытаться передать весточку, подумайте, стоит ли так риско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O00629_"/>
          <p:cNvPicPr/>
          <p:nvPr/>
        </p:nvPicPr>
        <p:blipFill>
          <a:blip r:embed="rId1"/>
          <a:stretch/>
        </p:blipFill>
        <p:spPr>
          <a:xfrm rot="18382800">
            <a:off x="-103320" y="4294080"/>
            <a:ext cx="96840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J0237860"/>
          <p:cNvPicPr/>
          <p:nvPr/>
        </p:nvPicPr>
        <p:blipFill>
          <a:blip r:embed="rId2"/>
          <a:stretch/>
        </p:blipFill>
        <p:spPr>
          <a:xfrm rot="15997200">
            <a:off x="7746840" y="1701360"/>
            <a:ext cx="1312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о ли пытаться беж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 одной стороны, известны случаи, когда заложникам удалось убежать. С другой стороны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ероятность погибнуть при побеге очень велик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пециалисты по безопасности считают, что реальная возможность скрыться есть только первые несколько дней, пока заложники не истощены и у них еще есть с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 момент захвата террористы наиболее напряжены и больше всего нервничаю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оэтому любые ваши попытки сбежать или оказать сопротивление могут закончиться фатально —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ас могут ранить или уб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, тем не менее, вы решили бежать, запомните следующие пр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майте, как вы будете бежать. Представьте себе мысленно здание.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Ждите, пока внимание террористов ослабнет, двигайтесь быстро, тихо, сохраняйте молч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вы слышите приказ террориста остановиться, замрите, поднимите руки, не двигайтесь, говорите: «Да, о'кей, хорошо»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81240" y="228600"/>
            <a:ext cx="9753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вести себя при начавшемся штурм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Лягте на пол лицом вниз, голову закройте руками  и не двигайте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ка вас не выведут сотрудники спецслужб. Не проявляйте никаких инициатив — только так вы сохраните себе жизнь. Если вы поняли, что начался штурм,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не пытайтесь бежа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райтесь принять такое положение, при котором вы окажетесь в стороне от дверей, окон и проходов к ним (при обстреле осколки стекла и строительных конструкций могут причинить дополнительные травмы). Держитесь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подальше от террорис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тому что при штурме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по ним будут стрелять снайп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 в коем случае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е хватайте оружие — вас могут перепутать с террорист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Ни в коем случае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е бегите навстречу сотрудникам спецслужб или от них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ак как они могут принять вас за террориста, и, скорее всего, вы погибн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ы поняли, что штурм закончился, тихонечко, голосом, дайте знать о себе.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Если на вас повесили бомбу, нужно без пани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сом или жестами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дать зн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 этом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сотрудникам спецслуж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 впадайте в истерику или отчаяние, постарайтесь не потерять контроль над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вести себя после освобожд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но люди после освобождения находятся в шоке. И это норма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 отказывайтесь от медицинской и психологической помощ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 бегите сломя голову домой — это естественная реакция человека, вам будет гораздо лучше, если вы вовремя получите квалифицированную помощь. Кроме того, чем скорее вы отметитесь в штабе по освобождению заложников, тем быстрее ваши родственники узнают о том, что вы выж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ходимо будет как можно скорее ответить на все вопросы сотрудников, причем четко, логично и аргументировано.Постарайтесь упоминать все мелочи, которые видели: возможно, эти сведения окажутся бесценн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J0239037"/>
          <p:cNvPicPr/>
          <p:nvPr/>
        </p:nvPicPr>
        <p:blipFill>
          <a:blip r:embed="rId1"/>
          <a:stretch/>
        </p:blipFill>
        <p:spPr>
          <a:xfrm>
            <a:off x="4038480" y="5878440"/>
            <a:ext cx="1820880" cy="979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Рисунок79"/>
          <p:cNvPicPr/>
          <p:nvPr/>
        </p:nvPicPr>
        <p:blipFill>
          <a:blip r:embed="rId2"/>
          <a:stretch/>
        </p:blipFill>
        <p:spPr>
          <a:xfrm>
            <a:off x="0" y="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7-04-06T07:49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