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D2F-FC6B-49BE-B24F-7EED4651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6BD-4669-48DB-9614-A6422F9F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9D8-56AF-4590-8085-39B475B7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E83-66E7-4754-98B2-B95ADA89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452-1615-404A-9FE2-BC22C256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969-17DF-4CF1-82EF-C5FB0AB2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C5E-06E8-4639-B6AC-D91C69A8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179-F17C-4D98-8CCE-F702289F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957-6880-44C1-B235-21A5AD04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864-1353-4A23-9F3C-500FADD9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954-DAA1-4309-BFB7-AA59573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8A0-D82C-474A-9A9C-A5BF279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0B6CC-95FB-45E3-95E7-1C82CB857E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879280" y="2626920"/>
            <a:ext cx="6481800" cy="381636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2700000"/>
          </a:gradFill>
          <a:ln w="9360">
            <a:solidFill>
              <a:srgbClr val="3333cc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ы пришли сюда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е лениться, а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лько тот, кто много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 жизни что-то достиг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rt_3_5_clip_image045"/>
          <p:cNvPicPr/>
          <p:nvPr/>
        </p:nvPicPr>
        <p:blipFill>
          <a:blip r:embed="rId1"/>
          <a:stretch/>
        </p:blipFill>
        <p:spPr>
          <a:xfrm>
            <a:off x="719280" y="1619280"/>
            <a:ext cx="2560320" cy="3816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384720" y="971640"/>
            <a:ext cx="554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Georgia"/>
              </a:rPr>
              <a:t>Устный сч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олько нужно вычесть из числа 348 чтобы получить 3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увеличить число 467 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десятка , то получитс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 6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 4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 4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02920" y="1474560"/>
            <a:ext cx="90694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уменьшить число 583 на 3 сотни, то получитс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5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 5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2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11280"/>
            <a:ext cx="856944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08000" y="1979280"/>
            <a:ext cx="7561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увеличить число 443 на 5 единиц, то получи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4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94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49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олько надо прибавить к числу 800, чтобы получилось 870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 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7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700 увеличить на 250, то получится:                                                                                                 А) 750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725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9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умма чисел 450 и 400 рав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8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4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ность чисел 990 и 40 рав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5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9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9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792000" y="1835280"/>
            <a:ext cx="87123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520 увеличить на 400, то получится: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920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560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5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7:38:58Z</dcterms:created>
  <dc:creator>611-285</dc:creator>
  <dc:description/>
  <dc:language>en-US</dc:language>
  <cp:lastModifiedBy>611-285</cp:lastModifiedBy>
  <dcterms:modified xsi:type="dcterms:W3CDTF">2015-10-18T14:49:58Z</dcterms:modified>
  <cp:revision>14</cp:revision>
  <dc:subject/>
  <dc:title>Слайд 1</dc:title>
</cp:coreProperties>
</file>