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5D8-4E0F-458C-A0EB-8D331B5B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3D9-D923-441F-9F04-B983B9A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1D4-A313-432E-8E32-C74BBBF5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9AA-7F15-482F-AE4E-A76C1688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044-883F-47FC-B103-44D7DDD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544-B8CA-43A9-9AB6-857F6128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C34-038C-4C09-9C88-6762E5A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EC0-2564-42D8-861D-4C9F5EE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9BD-7802-440F-86BD-A5D1494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A54-3B13-4A1F-9675-356B228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92C-7BF2-41B9-BE25-C116146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EA7-B949-442D-A73A-144EE78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F551-3B7F-46C1-9B9E-B62F6BF5A3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79280" y="2626920"/>
            <a:ext cx="6481800" cy="381636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2700000"/>
          </a:gradFill>
          <a:ln w="9360">
            <a:solidFill>
              <a:srgbClr val="3333cc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ы пришли сюда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е лениться, а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лько тот, кто много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 жизни что-то достиг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rt_3_5_clip_image045"/>
          <p:cNvPicPr/>
          <p:nvPr/>
        </p:nvPicPr>
        <p:blipFill>
          <a:blip r:embed="rId1"/>
          <a:stretch/>
        </p:blipFill>
        <p:spPr>
          <a:xfrm>
            <a:off x="719280" y="1619280"/>
            <a:ext cx="256032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384720" y="971640"/>
            <a:ext cx="554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Georgia"/>
              </a:rPr>
              <a:t>Устный сч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нужно вычесть из числа 348 чтобы получить 3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величить число 467 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десятка , то получи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 6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4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 4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2920" y="1474560"/>
            <a:ext cx="90694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меньшить число 583 на 3 сотни, то получи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5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5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2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11280"/>
            <a:ext cx="85694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08000" y="1979280"/>
            <a:ext cx="7561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увеличить число 443 на 5 единиц, то получи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94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9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надо прибавить к числу 800, чтобы получилось 870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 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700 увеличить на 250, то получится:                                                                                                 А) 750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725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9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умма чисел 450 и 400 рав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8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4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ность чисел 990 и 40 рав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5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9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9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792000" y="1835280"/>
            <a:ext cx="87123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сли 520 увеличить на 400, то получится: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920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560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5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>611-285</dc:creator>
  <dc:description/>
  <dc:language>en-US</dc:language>
  <cp:lastModifiedBy>611-285</cp:lastModifiedBy>
  <dcterms:modified xsi:type="dcterms:W3CDTF">2015-10-18T14:49:58Z</dcterms:modified>
  <cp:revision>14</cp:revision>
  <dc:subject/>
  <dc:title>Слайд 1</dc:title>
</cp:coreProperties>
</file>