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8FE-A6EA-4D8F-8300-3050C524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40A-B4B6-4C46-AA0D-A676C356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99E-E63C-4FD6-B8F6-435648C5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30A-FA50-4CD1-BBB6-D96837CB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AC2-5E67-4DB3-9446-3DB5D393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5D3-478A-4066-B3F9-B8BA573B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35D-A9A4-4FEF-BE0E-87071502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506-7DE6-4DF8-B651-98D309A2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B90-9B3E-4C71-B397-DB37CB1A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3DE-46B9-487D-80F0-A09C2219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339-4CB7-43BE-A65E-A1B5704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6CE-A46E-4CF9-A4C2-7885FEA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1CFC-0A84-4BF0-879F-474D1653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692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549360"/>
            <a:ext cx="845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ин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физической культур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692280"/>
            <a:ext cx="73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. Он защищает голову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 па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ш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м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504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9280" y="3598920"/>
            <a:ext cx="66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125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 Ею отбивают воланы и мя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клю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 п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 рак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45370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7640" y="3203640"/>
            <a:ext cx="66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1125360"/>
            <a:ext cx="574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 Мягкие матрасы, на которые падают спортсмены после  выполнения прыжка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ков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па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424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834480"/>
            <a:ext cx="7272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1. Для чего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физкультминутк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Снять утомление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. Чтобы проснутьс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. Чтобы быть здоровым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560520"/>
            <a:ext cx="727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альчиковая гимнастика «Пау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аучок ходил по вет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 за ним ходили д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Одна из рук - "веточка", её вытягиваем вперед. пальцы растопы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Другая рука - "паучок", который гуляет по "ветке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ождик с неба вдруг пол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выполняем стряхивающее движение кистями р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аучков на землю см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хлопаем ладонями по колен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олнце стало пригревать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руки поднимаем вверх, перекрещиваем, растопыриваем паль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аучок ползет опят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 за ним ползут все д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Чтобы погулять на ве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9636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262560" y="4292640"/>
            <a:ext cx="2881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4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5640" y="765000"/>
            <a:ext cx="71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ак называется начало и окончание дистанции в бег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«Марш» - «Ст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«Старт» - «Фини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«Старт» - «Ст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6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16000" y="3213000"/>
            <a:ext cx="34560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560520"/>
            <a:ext cx="7488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  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 соревнованиях по бегу Маша прибежала раньше Васи, но позже Димы. Кто прибежал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59280" y="2637000"/>
            <a:ext cx="4535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2920" y="836640"/>
            <a:ext cx="59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4. Подвижные игры помогут тебе ст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Ум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Си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. Ловким, метким, быстрым, вынос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5688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32000" y="10335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. В какой игре используется клюшка и шай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Хоккей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Футбол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Тенн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4464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63640" y="90792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. В этом виде спорта игроки ловки и высоки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Любят в мяч они играть и в кольцо его кидать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Мячик звонко бьют об пол, значит это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46800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631440"/>
            <a:ext cx="74898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имнастика для г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ТРЕ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от какая стрекоза — как горошины глаза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пальцами делают очки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лево- вправо, назад- вперед-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глазами смотрят вправо- влево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у, совсем как вертолет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круговые движения глаз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высо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верх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низ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низ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дале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перед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ы летаем близко.</a:t>
            </a:r>
            <a:br>
              <a:rPr sz="1800"/>
            </a:b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смотрят вн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2997360"/>
            <a:ext cx="3240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6920" y="92304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7. В какой спортивной игре самый маленький мяч?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759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7423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    Закончи пословиц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27720"/>
            <a:ext cx="86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лнце, воздух и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да —  наши лучшие 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47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781560"/>
            <a:ext cx="72007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Физические качества человека –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ежливость, терпение, жадно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 Сила, быстр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ыносливость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гибкость, ловко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Грамотность, ле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мудрость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702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11210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. Что надо делать, чтобы быть сильнее и не болеть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.сп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2.делать 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.делать заряд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5041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836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. Какая обувь должна быть на ур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физической культуры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.кросс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2.боти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.туф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4894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4360" y="270036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 Виды построений на уроке физической куль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Шеренга, круг, коло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356000" y="-1108080"/>
            <a:ext cx="4788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7153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 Что вредит здоровью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физкуль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закали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табакоку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плавание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35280" y="2022480"/>
            <a:ext cx="46818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333360"/>
            <a:ext cx="7848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руч, мяч, гантели, скакалка-это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Предметы для игры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Школьные принадлежности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 Спортивный инвент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168720" cy="289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311004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24360" y="3645000"/>
            <a:ext cx="3097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16:27:17Z</dcterms:created>
  <dc:creator>User</dc:creator>
  <dc:description/>
  <dc:language>en-US</dc:language>
  <cp:lastModifiedBy>User</cp:lastModifiedBy>
  <dcterms:modified xsi:type="dcterms:W3CDTF">2017-05-13T04:11:04Z</dcterms:modified>
  <cp:revision>23</cp:revision>
  <dc:subject/>
  <dc:title>Слайд 1</dc:title>
</cp:coreProperties>
</file>