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65C-80D3-4F35-951E-FA73904C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C71-45C8-4EF4-A965-33965C16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78A-2FA6-4491-A19B-30D131B2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61E-BB04-4334-B593-06841969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B2D-67F3-4325-8A2A-022E7AC0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548-4316-495C-9CE6-6926406C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8F6-DA8F-4E97-863D-9DDB0135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EAD-6B0E-451A-A557-C95BAFF6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39B-615D-474E-8A44-452130B4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D56-AF42-4586-A421-A04C78B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D26-8C16-4230-A456-ED242CFB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E9D-6155-480C-B93E-2A7E1CE8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D7A4-784C-41DF-B4AF-54F1F84CE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692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549360"/>
            <a:ext cx="8459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ин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физической культур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692280"/>
            <a:ext cx="73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. Он защищает голову спортс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 па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ш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 м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93372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504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9280" y="3598920"/>
            <a:ext cx="66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125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 Ею отбивают воланы и мя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 клю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 п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 рак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453708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7640" y="3203640"/>
            <a:ext cx="66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1125360"/>
            <a:ext cx="574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 Мягкие матрасы, на которые падают спортсмены после  выполнения прыжка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ков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пал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360" y="2060640"/>
            <a:ext cx="424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834480"/>
            <a:ext cx="7272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1. Для чего ну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физкультминутк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Снять утомление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. Чтобы проснутьс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. Чтобы быть здоровым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5640" y="560520"/>
            <a:ext cx="727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альчиковая гимнастика «Пау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аучок ходил по вет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 за ним ходили д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Одна из рук - "веточка", её вытягиваем вперед. пальцы растопы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Другая рука - "паучок", который гуляет по "ветке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ождик с неба вдруг пол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выполняем стряхивающее движение кистями ру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аучков на землю см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хлопаем ладонями по коленя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олнце стало пригревать,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руки поднимаем вверх, перекрещиваем, растопыриваем паль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аучок ползет опять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 за ним ползут все де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Чтобы погулять на вет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9636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262560" y="4292640"/>
            <a:ext cx="2881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84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5640" y="765000"/>
            <a:ext cx="712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ак называется начало и окончание дистанции в бег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«Марш» - «Сто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«Старт» - «Фини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«Старт» - «Сто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671640" cy="266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16000" y="3213000"/>
            <a:ext cx="34560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71640" y="560520"/>
            <a:ext cx="7488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.  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 соревнованиях по бегу Маша прибежала раньше Васи, но позже Димы. Кто прибежал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59280" y="2637000"/>
            <a:ext cx="4535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42920" y="836640"/>
            <a:ext cx="59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4. Подвижные игры помогут тебе ст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 Ум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. Си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. Ловким, метким, быстрым, вынос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124000" y="2349360"/>
            <a:ext cx="5688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32000" y="10335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. В какой игре используется клюшка и шайб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Хоккей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 Футбол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Тенн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4464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63640" y="90792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. В этом виде спорта игроки ловки и высоки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Любят в мяч они играть и в кольцо его кидать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Мячик звонко бьют об пол, значит это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46800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32000" y="631440"/>
            <a:ext cx="74898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имнастика для г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ТРЕК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от какая стрекоза — как горошины глаза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пальцами делают очки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лево- вправо, назад- вперед-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глазами смотрят вправо- влево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у, совсем как вертолет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круговые движения глаз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ы летаем высоко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смотрят вверх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ы летаем низко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смотрят вниз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ы летаем далеко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смотрят вперед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ы летаем близко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смотрят вн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2997360"/>
            <a:ext cx="32400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26920" y="92304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7. В какой спортивной игре самый маленький мяч?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7596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1640" y="7423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    Закончи пословиц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27720"/>
            <a:ext cx="867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лнце, воздух и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да —  наши лучшие 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47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781560"/>
            <a:ext cx="72007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Физические качества человека –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ежливость, терпение, жадност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 Сила, быстр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ыносливость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гибкость, ловкост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 Грамотность, ле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мудрость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4702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112104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. Что надо делать, чтобы быть сильнее и не болеть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.сп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2.делать 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.делать заряд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5041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6000" y="83664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. Какая обувь должна быть на ур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физической культуры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.кросс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2.боти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.туф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4894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4360" y="270036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 Виды построений на уроке физической куль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.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.Шеренга, круг, коло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356000" y="-1108080"/>
            <a:ext cx="4788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71532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 Что вредит здоровью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физкульт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закали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табакоку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.плавание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35280" y="2022480"/>
            <a:ext cx="46818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333360"/>
            <a:ext cx="7848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бруч, мяч, гантели, скакалка-это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 Предметы для игры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. Школьные принадлежности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 Спортивный инвент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168720" cy="289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311004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924360" y="3645000"/>
            <a:ext cx="3097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16:27:17Z</dcterms:created>
  <dc:creator>User</dc:creator>
  <dc:description/>
  <dc:language>en-US</dc:language>
  <cp:lastModifiedBy>User</cp:lastModifiedBy>
  <dcterms:modified xsi:type="dcterms:W3CDTF">2017-05-13T04:11:04Z</dcterms:modified>
  <cp:revision>23</cp:revision>
  <dc:subject/>
  <dc:title>Слайд 1</dc:title>
</cp:coreProperties>
</file>