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7B4-48F6-43A4-896E-D14B48C04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EDAE-1F7D-4FC5-B127-9F2FEF73E4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481-48A0-4157-8ACE-C55308D83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F0C-EBC5-44DA-9F48-6101F63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654-2BC8-4932-B2BB-424A790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638-023C-4764-B9B5-48D2EC9F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DD7-FAB0-4B82-AE16-3076CC5D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104-085E-4BC4-8378-42BC425E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289-6A90-4E78-A38B-9F46095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675-301B-4FE9-87DD-4A33030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68E-14A6-4415-B012-1601559E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1B7-A5D3-492C-A520-F0D8498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FB6-2C08-47C6-8383-3FA680C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AB5-5D81-4BC2-ABF4-89D1DB3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F8F-C603-481A-843F-985EB26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E81-50D9-4826-B218-B28715439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ston"/>
              </a:rPr>
              <a:t>Здравствуй, Пушкин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5760" y="5572080"/>
            <a:ext cx="5357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рок реализации: 3 меся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изображений  А.С.Пушкин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А. Тропинин(1827г.)                       О.А.Кипренский (1827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shkin.niv.ru/images/pushkin/pushkin_06.jpg"/>
          <p:cNvPicPr/>
          <p:nvPr/>
        </p:nvPicPr>
        <p:blipFill>
          <a:blip r:embed="rId1"/>
          <a:stretch/>
        </p:blipFill>
        <p:spPr>
          <a:xfrm>
            <a:off x="155520" y="1857240"/>
            <a:ext cx="3987720" cy="471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pushkin.niv.ru/images/pushkin/pushkin_0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портреты А.С.Пушк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(1824г.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(1829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ushkin.niv.ru/images/pushkin/pushkin_27.jpg"/>
          <p:cNvPicPr/>
          <p:nvPr/>
        </p:nvPicPr>
        <p:blipFill>
          <a:blip r:embed="rId1"/>
          <a:stretch/>
        </p:blipFill>
        <p:spPr>
          <a:xfrm>
            <a:off x="357120" y="1698480"/>
            <a:ext cx="4071960" cy="465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pushkin.niv.ru/images/pushkin/pushkin_10.jpg"/>
          <p:cNvPicPr/>
          <p:nvPr/>
        </p:nvPicPr>
        <p:blipFill>
          <a:blip r:embed="rId2"/>
          <a:stretch/>
        </p:blipFill>
        <p:spPr>
          <a:xfrm>
            <a:off x="5000760" y="1714680"/>
            <a:ext cx="385740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комство с памятниками А.С.Пушкин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3643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юст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Смоленск,                          ул. Дзержин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0.05.1976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Бюст Пушкину"/>
          <p:cNvPicPr/>
          <p:nvPr/>
        </p:nvPicPr>
        <p:blipFill>
          <a:blip r:embed="rId1"/>
          <a:stretch/>
        </p:blipFill>
        <p:spPr>
          <a:xfrm>
            <a:off x="4143240" y="857160"/>
            <a:ext cx="4500720" cy="5643720"/>
          </a:xfrm>
          <a:prstGeom prst="rect">
            <a:avLst/>
          </a:prstGeom>
          <a:ln w="0">
            <a:noFill/>
          </a:ln>
        </p:spPr>
      </p:pic>
    </p:spTree>
  </p:cSld>
  <p:transition advTm="0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5720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юст Пушкин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оленск, ул.Николаева, 49-а (школа №26  им. А.С.Пуш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pomni-smolensk.ru/images/monum/33.jpg"/>
          <p:cNvPicPr/>
          <p:nvPr/>
        </p:nvPicPr>
        <p:blipFill>
          <a:blip r:embed="rId1"/>
          <a:stretch/>
        </p:blipFill>
        <p:spPr>
          <a:xfrm>
            <a:off x="504720" y="1571760"/>
            <a:ext cx="3996000" cy="48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pomni-smolensk.ru/images/monum/33a.jpg"/>
          <p:cNvPicPr/>
          <p:nvPr/>
        </p:nvPicPr>
        <p:blipFill>
          <a:blip r:embed="rId2"/>
          <a:stretch/>
        </p:blipFill>
        <p:spPr>
          <a:xfrm>
            <a:off x="4857840" y="1571760"/>
            <a:ext cx="3929040" cy="48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http://literatura548.narod2.ru/biografii/pushkin/monument_pushkin_carskoeselo_.jpg"/>
          <p:cNvPicPr/>
          <p:nvPr/>
        </p:nvPicPr>
        <p:blipFill>
          <a:blip r:embed="rId1"/>
          <a:stretch/>
        </p:blipFill>
        <p:spPr>
          <a:xfrm>
            <a:off x="3143160" y="1785960"/>
            <a:ext cx="2757600" cy="38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literatura548.narod2.ru/biografii/pushkin/monument_pushkin.jpg.jpg"/>
          <p:cNvPicPr/>
          <p:nvPr/>
        </p:nvPicPr>
        <p:blipFill>
          <a:blip r:embed="rId2"/>
          <a:stretch/>
        </p:blipFill>
        <p:spPr>
          <a:xfrm>
            <a:off x="154080" y="1285920"/>
            <a:ext cx="2631960" cy="39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literatura548.narod2.ru/biografii/pushkin/monument_pushkin_spb.jpg"/>
          <p:cNvPicPr/>
          <p:nvPr/>
        </p:nvPicPr>
        <p:blipFill>
          <a:blip r:embed="rId3"/>
          <a:stretch/>
        </p:blipFill>
        <p:spPr>
          <a:xfrm>
            <a:off x="6143760" y="2214720"/>
            <a:ext cx="2814480" cy="4214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6440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Москве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в Царском Селе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в Санкт-Петербур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иллюстраций к сказкам .С.Пушки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«Сказка о рыбаке и рыбке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festival.1september.ru/articles/532688/6.jpg"/>
          <p:cNvPicPr/>
          <p:nvPr/>
        </p:nvPicPr>
        <p:blipFill>
          <a:blip r:embed="rId1"/>
          <a:stretch/>
        </p:blipFill>
        <p:spPr>
          <a:xfrm>
            <a:off x="4714920" y="1500120"/>
            <a:ext cx="4230720" cy="507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estival.1september.ru/articles/532688/1.jpg"/>
          <p:cNvPicPr/>
          <p:nvPr/>
        </p:nvPicPr>
        <p:blipFill>
          <a:blip r:embed="rId2"/>
          <a:stretch/>
        </p:blipFill>
        <p:spPr>
          <a:xfrm>
            <a:off x="101520" y="1500120"/>
            <a:ext cx="418464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золотом петуш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2.gstatic.com/images?q=tbn:ANd9GcTX3szgsmZywG-T5v7slDCdS4RuzO6Y8NTb-JiCCPUL2KCNZuSXmw"/>
          <p:cNvPicPr/>
          <p:nvPr/>
        </p:nvPicPr>
        <p:blipFill>
          <a:blip r:embed="rId1"/>
          <a:stretch/>
        </p:blipFill>
        <p:spPr>
          <a:xfrm>
            <a:off x="285840" y="928800"/>
            <a:ext cx="4119480" cy="564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зка о золотом петушке"/>
          <p:cNvPicPr/>
          <p:nvPr/>
        </p:nvPicPr>
        <p:blipFill>
          <a:blip r:embed="rId2"/>
          <a:stretch/>
        </p:blipFill>
        <p:spPr>
          <a:xfrm>
            <a:off x="4786200" y="928800"/>
            <a:ext cx="4071960" cy="564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царе Салта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estival.1september.ru/articles/532688/2.jpg"/>
          <p:cNvPicPr/>
          <p:nvPr/>
        </p:nvPicPr>
        <p:blipFill>
          <a:blip r:embed="rId1"/>
          <a:stretch/>
        </p:blipFill>
        <p:spPr>
          <a:xfrm>
            <a:off x="285840" y="1041480"/>
            <a:ext cx="4143240" cy="52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festival.1september.ru/articles/532688/7.jpg"/>
          <p:cNvPicPr/>
          <p:nvPr/>
        </p:nvPicPr>
        <p:blipFill>
          <a:blip r:embed="rId2"/>
          <a:stretch/>
        </p:blipFill>
        <p:spPr>
          <a:xfrm>
            <a:off x="4714920" y="1050840"/>
            <a:ext cx="4143240" cy="5197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мертвой царевне и семи богатыр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festival.1september.ru/articles/532688/4.jpg"/>
          <p:cNvPicPr/>
          <p:nvPr/>
        </p:nvPicPr>
        <p:blipFill>
          <a:blip r:embed="rId1"/>
          <a:stretch/>
        </p:blipFill>
        <p:spPr>
          <a:xfrm>
            <a:off x="304920" y="968400"/>
            <a:ext cx="4052880" cy="57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festival.1september.ru/articles/532688/9.jpg"/>
          <p:cNvPicPr/>
          <p:nvPr/>
        </p:nvPicPr>
        <p:blipFill>
          <a:blip r:embed="rId2"/>
          <a:stretch/>
        </p:blipFill>
        <p:spPr>
          <a:xfrm>
            <a:off x="4702320" y="1000080"/>
            <a:ext cx="40845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сти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.Бесе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Рассказ об А.С.Пушкине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утешествие по сказкам Пушкина: русский дом – изба, терем, палат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ре в поэзии А.С.Пушкин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и любимые сказки Пушкин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. Викторин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казкам А.С.Пушки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856880"/>
            <a:ext cx="8929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те детям Пушкина. Пушкина нельзя перешагнуть. Там есть все – самый красивый русский язык, история, природа, человеческие привычки и отнош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57440" y="35676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Шмель», «Скажи наоборот», «Семейка сл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синем море-океане», «Кто скорее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пография», «Библиотека», «Книжный магази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428760"/>
            <a:ext cx="3786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евые подвижны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выст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делок из природного материала по сказкам А.С.Пушкин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рисунков по сказкам Пушкин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тематических поделок из пластилина «Белочка»,«Золотой петушок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Кот ученый»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смотр мультфильмов по сказкам А.С.Пушкина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ушание аудиосказ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каз кукольного театра «Сказка о рыбаке и рыбке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560" y="713880"/>
            <a:ext cx="511164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ворчество А.С.Пушкин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конкурс семейных работ по сказкам Пушкина из природн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материал для папки-раскладушки «А.С.Пушкин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Текст 3" descr=""/>
          <p:cNvPicPr/>
          <p:nvPr/>
        </p:nvPicPr>
        <p:blipFill>
          <a:blip r:embed="rId1"/>
          <a:stretch/>
        </p:blipFill>
        <p:spPr>
          <a:xfrm>
            <a:off x="208080" y="-1444680"/>
            <a:ext cx="2913120" cy="8302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жидаемый результат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детей с творчеством А.С.Пушкина, расширение кругоз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гащение лексики детей по данной т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азвивающ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е участие родителей в жизни групп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общение детей к культурным общечеловеческим ценностям и богатству родного языка через сказки А.С.Пушк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 детей с творчеством А.С.Пушкина, его сказкам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ть любовь и уважение к русским писателя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гащать и активизировать словарный запа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ить бережно относиться к книгам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работы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этап – подготов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цель и задач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план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родителей и детей для проведения данн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ить иллюстративный, дидактический матери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родителей «Творчество А.С.Пушкина»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этап – осно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сказками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словарик трудных слов из сказок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развивающую сред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этап – заключ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сти итог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овать полученные результ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еализация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Сказки Пушкина. Обложка книги &quot;Сказка о царе Салтане&quot;.  Куркин"/>
          <p:cNvPicPr/>
          <p:nvPr/>
        </p:nvPicPr>
        <p:blipFill>
          <a:blip r:embed="rId1"/>
          <a:stretch/>
        </p:blipFill>
        <p:spPr>
          <a:xfrm>
            <a:off x="357120" y="1357200"/>
            <a:ext cx="3794040" cy="502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Сказка о рыбаке и рыбке"/>
          <p:cNvPicPr/>
          <p:nvPr/>
        </p:nvPicPr>
        <p:blipFill>
          <a:blip r:embed="rId2"/>
          <a:stretch/>
        </p:blipFill>
        <p:spPr>
          <a:xfrm>
            <a:off x="4857840" y="1357200"/>
            <a:ext cx="40003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http://img1.labirint.ru/books/176175/big.jpg"/>
          <p:cNvPicPr/>
          <p:nvPr/>
        </p:nvPicPr>
        <p:blipFill>
          <a:blip r:embed="rId1"/>
          <a:stretch/>
        </p:blipFill>
        <p:spPr>
          <a:xfrm>
            <a:off x="285840" y="642960"/>
            <a:ext cx="414324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bookgrafik.jino.ru/images/stories/my_images/books/mavrina/06.jpg"/>
          <p:cNvPicPr/>
          <p:nvPr/>
        </p:nvPicPr>
        <p:blipFill>
          <a:blip r:embed="rId2"/>
          <a:stretch/>
        </p:blipFill>
        <p:spPr>
          <a:xfrm>
            <a:off x="4786200" y="642960"/>
            <a:ext cx="40467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2:20Z</dcterms:created>
  <dc:creator>Admin</dc:creator>
  <dc:description/>
  <dc:language>en-US</dc:language>
  <cp:lastModifiedBy>Ymka</cp:lastModifiedBy>
  <dcterms:modified xsi:type="dcterms:W3CDTF">2017-05-13T19:42:56Z</dcterms:modified>
  <cp:revision>69</cp:revision>
  <dc:subject/>
  <dc:title>Лукоморье</dc:title>
</cp:coreProperties>
</file>