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5F2E-D3C4-47F4-AE04-0D5349BBAD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D241-18FF-439F-89BD-A861C3660B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EE87-E867-44B5-AED9-7A6294A2CB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0FA-7D50-4608-92CA-382E4299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9D5-FA9C-432D-9D5E-1985B73F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39C-362F-429D-85B1-72E2BD04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EAF-A6DC-4C36-82AF-CC872A13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28B-3142-4D15-A489-8963BBA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C7F-C3FF-4063-9442-5536571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3F1-501A-44C7-B467-8D8AF93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881-AE38-4A15-84D0-3886B97B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FB0-2835-4D19-8032-600C1BAA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F82-1DD4-4498-8BE2-8D391020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9F9-A651-4EFD-AE68-9F36D1C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AF0-91BC-4263-AA7F-0DD5FF0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E347-15D2-4C3D-B9F1-B8875EEAF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85010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ston"/>
              </a:rPr>
              <a:t>Здравствуй, Пушкин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85760" y="5572080"/>
            <a:ext cx="53578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рок реализации: 3 меся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атривание изображений  А.С.Пушкин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А. Тропинин(1827г.)                       О.А.Кипренский (1827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pushkin.niv.ru/images/pushkin/pushkin_06.jpg"/>
          <p:cNvPicPr/>
          <p:nvPr/>
        </p:nvPicPr>
        <p:blipFill>
          <a:blip r:embed="rId1"/>
          <a:stretch/>
        </p:blipFill>
        <p:spPr>
          <a:xfrm>
            <a:off x="155520" y="1857240"/>
            <a:ext cx="3987720" cy="471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pushkin.niv.ru/images/pushkin/pushkin_03.jpg"/>
          <p:cNvPicPr/>
          <p:nvPr/>
        </p:nvPicPr>
        <p:blipFill>
          <a:blip r:embed="rId2"/>
          <a:stretch/>
        </p:blipFill>
        <p:spPr>
          <a:xfrm>
            <a:off x="4857840" y="1857240"/>
            <a:ext cx="4071960" cy="464364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портреты А.С.Пушки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(1824г.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(1829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pushkin.niv.ru/images/pushkin/pushkin_27.jpg"/>
          <p:cNvPicPr/>
          <p:nvPr/>
        </p:nvPicPr>
        <p:blipFill>
          <a:blip r:embed="rId1"/>
          <a:stretch/>
        </p:blipFill>
        <p:spPr>
          <a:xfrm>
            <a:off x="357120" y="1698480"/>
            <a:ext cx="4071960" cy="465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pushkin.niv.ru/images/pushkin/pushkin_10.jpg"/>
          <p:cNvPicPr/>
          <p:nvPr/>
        </p:nvPicPr>
        <p:blipFill>
          <a:blip r:embed="rId2"/>
          <a:stretch/>
        </p:blipFill>
        <p:spPr>
          <a:xfrm>
            <a:off x="5000760" y="1714680"/>
            <a:ext cx="3857400" cy="46432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29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накомство с памятниками А.С.Пушкин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3643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юст А.С.Пуш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Смоленск,                          ул. Дзержин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30.05.1976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Бюст Пушкину"/>
          <p:cNvPicPr/>
          <p:nvPr/>
        </p:nvPicPr>
        <p:blipFill>
          <a:blip r:embed="rId1"/>
          <a:stretch/>
        </p:blipFill>
        <p:spPr>
          <a:xfrm>
            <a:off x="4143240" y="857160"/>
            <a:ext cx="4500720" cy="5643720"/>
          </a:xfrm>
          <a:prstGeom prst="rect">
            <a:avLst/>
          </a:prstGeom>
          <a:ln w="0">
            <a:noFill/>
          </a:ln>
        </p:spPr>
      </p:pic>
    </p:spTree>
  </p:cSld>
  <p:transition advTm="0"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5720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юст Пушкина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оленск, ул.Николаева, 49-а (школа №26  им. А.С.Пушк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pomni-smolensk.ru/images/monum/33.jpg"/>
          <p:cNvPicPr/>
          <p:nvPr/>
        </p:nvPicPr>
        <p:blipFill>
          <a:blip r:embed="rId1"/>
          <a:stretch/>
        </p:blipFill>
        <p:spPr>
          <a:xfrm>
            <a:off x="504720" y="1571760"/>
            <a:ext cx="3996000" cy="48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pomni-smolensk.ru/images/monum/33a.jpg"/>
          <p:cNvPicPr/>
          <p:nvPr/>
        </p:nvPicPr>
        <p:blipFill>
          <a:blip r:embed="rId2"/>
          <a:stretch/>
        </p:blipFill>
        <p:spPr>
          <a:xfrm>
            <a:off x="4857840" y="1571760"/>
            <a:ext cx="3929040" cy="4857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http://literatura548.narod2.ru/biografii/pushkin/monument_pushkin_carskoeselo_.jpg"/>
          <p:cNvPicPr/>
          <p:nvPr/>
        </p:nvPicPr>
        <p:blipFill>
          <a:blip r:embed="rId1"/>
          <a:stretch/>
        </p:blipFill>
        <p:spPr>
          <a:xfrm>
            <a:off x="3143160" y="1785960"/>
            <a:ext cx="2757600" cy="38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literatura548.narod2.ru/biografii/pushkin/monument_pushkin.jpg.jpg"/>
          <p:cNvPicPr/>
          <p:nvPr/>
        </p:nvPicPr>
        <p:blipFill>
          <a:blip r:embed="rId2"/>
          <a:stretch/>
        </p:blipFill>
        <p:spPr>
          <a:xfrm>
            <a:off x="154080" y="1285920"/>
            <a:ext cx="2631960" cy="394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literatura548.narod2.ru/biografii/pushkin/monument_pushkin_spb.jpg"/>
          <p:cNvPicPr/>
          <p:nvPr/>
        </p:nvPicPr>
        <p:blipFill>
          <a:blip r:embed="rId3"/>
          <a:stretch/>
        </p:blipFill>
        <p:spPr>
          <a:xfrm>
            <a:off x="6143760" y="2214720"/>
            <a:ext cx="2814480" cy="4214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214560"/>
            <a:ext cx="964404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Москве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в Царском Селе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в Санкт-Петербур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wipe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атривание иллюстраций к сказкам .С.Пушкин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«Сказка о рыбаке и рыбке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festival.1september.ru/articles/532688/6.jpg"/>
          <p:cNvPicPr/>
          <p:nvPr/>
        </p:nvPicPr>
        <p:blipFill>
          <a:blip r:embed="rId1"/>
          <a:stretch/>
        </p:blipFill>
        <p:spPr>
          <a:xfrm>
            <a:off x="4714920" y="1500120"/>
            <a:ext cx="4230720" cy="507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festival.1september.ru/articles/532688/1.jpg"/>
          <p:cNvPicPr/>
          <p:nvPr/>
        </p:nvPicPr>
        <p:blipFill>
          <a:blip r:embed="rId2"/>
          <a:stretch/>
        </p:blipFill>
        <p:spPr>
          <a:xfrm>
            <a:off x="101520" y="1500120"/>
            <a:ext cx="4184640" cy="5143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золотом петушк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http://t2.gstatic.com/images?q=tbn:ANd9GcTX3szgsmZywG-T5v7slDCdS4RuzO6Y8NTb-JiCCPUL2KCNZuSXmw"/>
          <p:cNvPicPr/>
          <p:nvPr/>
        </p:nvPicPr>
        <p:blipFill>
          <a:blip r:embed="rId1"/>
          <a:stretch/>
        </p:blipFill>
        <p:spPr>
          <a:xfrm>
            <a:off x="285840" y="928800"/>
            <a:ext cx="4119480" cy="564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казка о золотом петушке"/>
          <p:cNvPicPr/>
          <p:nvPr/>
        </p:nvPicPr>
        <p:blipFill>
          <a:blip r:embed="rId2"/>
          <a:stretch/>
        </p:blipFill>
        <p:spPr>
          <a:xfrm>
            <a:off x="4786200" y="928800"/>
            <a:ext cx="4071960" cy="5643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царе Салта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festival.1september.ru/articles/532688/2.jpg"/>
          <p:cNvPicPr/>
          <p:nvPr/>
        </p:nvPicPr>
        <p:blipFill>
          <a:blip r:embed="rId1"/>
          <a:stretch/>
        </p:blipFill>
        <p:spPr>
          <a:xfrm>
            <a:off x="285840" y="1041480"/>
            <a:ext cx="4143240" cy="526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festival.1september.ru/articles/532688/7.jpg"/>
          <p:cNvPicPr/>
          <p:nvPr/>
        </p:nvPicPr>
        <p:blipFill>
          <a:blip r:embed="rId2"/>
          <a:stretch/>
        </p:blipFill>
        <p:spPr>
          <a:xfrm>
            <a:off x="4714920" y="1050840"/>
            <a:ext cx="4143240" cy="5197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мертвой царевне и семи богатыря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festival.1september.ru/articles/532688/4.jpg"/>
          <p:cNvPicPr/>
          <p:nvPr/>
        </p:nvPicPr>
        <p:blipFill>
          <a:blip r:embed="rId1"/>
          <a:stretch/>
        </p:blipFill>
        <p:spPr>
          <a:xfrm>
            <a:off x="304920" y="968400"/>
            <a:ext cx="4052880" cy="57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festival.1september.ru/articles/532688/9.jpg"/>
          <p:cNvPicPr/>
          <p:nvPr/>
        </p:nvPicPr>
        <p:blipFill>
          <a:blip r:embed="rId2"/>
          <a:stretch/>
        </p:blipFill>
        <p:spPr>
          <a:xfrm>
            <a:off x="4702320" y="1000080"/>
            <a:ext cx="408456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сти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1.Бесе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Рассказ об А.С.Пушкине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утешествие по сказкам Пушкина: русский дом – изба, терем, палата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оре в поэзии А.С.Пушкина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ои любимые сказки Пушкин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2. Викторину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сказкам А.С.Пушки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856880"/>
            <a:ext cx="89298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те детям Пушкина. Пушкина нельзя перешагнуть. Там есть все – самый красивый русский язык, история, природа, человеческие привычки и отнош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57440" y="35676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Шмель», «Скажи наоборот», «Семейка сл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 синем море-океане», «Кто скорее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пография», «Библиотека», «Книжный магазин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6760" y="428760"/>
            <a:ext cx="37861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чевые подвижные игр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идактические игр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южетно-ролевые иг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285840"/>
            <a:ext cx="8429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здание выставок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поделок из природного материала по сказкам А.С.Пушкина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рисунков по сказкам Пушкин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тематических поделок из пластилина «Белочка»,«Золотой петушок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Кот ученый».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смотр мультфильмов по сказкам А.С.Пушкина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лушание аудиосказ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показ кукольного театра «Сказка о рыбаке и рыбке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560" y="713880"/>
            <a:ext cx="511164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анкет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ворчество А.С.Пушкин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конкурс семейных работ по сказкам Пушкина из природного материа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материал для папки-раскладушки «А.С.Пушкин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Текст 3" descr=""/>
          <p:cNvPicPr/>
          <p:nvPr/>
        </p:nvPicPr>
        <p:blipFill>
          <a:blip r:embed="rId1"/>
          <a:stretch/>
        </p:blipFill>
        <p:spPr>
          <a:xfrm>
            <a:off x="208080" y="-1444680"/>
            <a:ext cx="2913120" cy="8302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жидаемый результат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детей с творчеством А.С.Пушкина, расширение кругозо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гащение лексики детей по данной тем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развивающей сре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ое участие родителей в жизни групп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общение детей к культурным общечеловеческим ценностям и богатству родного языка через сказки А.С.Пушк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знакомить детей с творчеством А.С.Пушкина, его сказкам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итать любовь и уважение к русским писателя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огащать и активизировать словарный запас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ить бережно относиться к книгам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работы по проек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1071360"/>
            <a:ext cx="864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этап – подготов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ь цель и задачи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план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родителей и детей для проведения данного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ить иллюстративный, дидактический матери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анкетирование родителей «Творчество А.С.Пушкина».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этап – осно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детей со сказками А.С.Пуш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словарик трудных слов из сказок А.С.Пуш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развивающую среду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этап – заключ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сти итоги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овать полученные результа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Реализация</a:t>
            </a: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Сказки Пушкина. Обложка книги &quot;Сказка о царе Салтане&quot;.  Куркин"/>
          <p:cNvPicPr/>
          <p:nvPr/>
        </p:nvPicPr>
        <p:blipFill>
          <a:blip r:embed="rId1"/>
          <a:stretch/>
        </p:blipFill>
        <p:spPr>
          <a:xfrm>
            <a:off x="357120" y="1357200"/>
            <a:ext cx="3794040" cy="502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Сказка о рыбаке и рыбке"/>
          <p:cNvPicPr/>
          <p:nvPr/>
        </p:nvPicPr>
        <p:blipFill>
          <a:blip r:embed="rId2"/>
          <a:stretch/>
        </p:blipFill>
        <p:spPr>
          <a:xfrm>
            <a:off x="4857840" y="1357200"/>
            <a:ext cx="40003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http://img1.labirint.ru/books/176175/big.jpg"/>
          <p:cNvPicPr/>
          <p:nvPr/>
        </p:nvPicPr>
        <p:blipFill>
          <a:blip r:embed="rId1"/>
          <a:stretch/>
        </p:blipFill>
        <p:spPr>
          <a:xfrm>
            <a:off x="285840" y="642960"/>
            <a:ext cx="4143240" cy="557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www.bookgrafik.jino.ru/images/stories/my_images/books/mavrina/06.jpg"/>
          <p:cNvPicPr/>
          <p:nvPr/>
        </p:nvPicPr>
        <p:blipFill>
          <a:blip r:embed="rId2"/>
          <a:stretch/>
        </p:blipFill>
        <p:spPr>
          <a:xfrm>
            <a:off x="4786200" y="642960"/>
            <a:ext cx="404676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3:32:20Z</dcterms:created>
  <dc:creator>Admin</dc:creator>
  <dc:description/>
  <dc:language>en-US</dc:language>
  <cp:lastModifiedBy>Ymka</cp:lastModifiedBy>
  <dcterms:modified xsi:type="dcterms:W3CDTF">2017-05-13T19:42:56Z</dcterms:modified>
  <cp:revision>69</cp:revision>
  <dc:subject/>
  <dc:title>Лукоморье</dc:title>
</cp:coreProperties>
</file>