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230CA-5D46-42B2-AFDD-082CBB7D439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7EA3B-091F-4297-BF46-C5B1FDFF60D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15CA7-A9E0-413B-8858-2273125B2F1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CCDB-E46B-4A46-81A6-CEFF47937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7974-D3F3-4DFB-9690-3E2DFA7E5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0C9A-D6A7-412C-8352-60675AAC4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2703-AEB9-4605-B848-ED2625E59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FC0A-D0B8-4DCA-8E86-4C6BF1B6E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B09E-337D-495E-956C-5858B2D56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6ED6-FA01-43D0-948B-F4BC5EC46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3FD0-E01B-4D70-9C6B-B5417ACCC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3D06-70A7-4B56-87DD-29D34F3B8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B1AC-AC8E-4B59-A29A-5CFAA9A5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8E1F-F278-414F-973A-C40048C5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44ED-0794-4056-9383-E04C38CF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E1CBF-6ED5-422A-8FBA-F08404E774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5840" y="856800"/>
            <a:ext cx="8501040" cy="400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ston"/>
              </a:rPr>
              <a:t>Здравствуй, Пушкин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785760" y="5572080"/>
            <a:ext cx="535788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Срок реализации: 3 меся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57120" y="428760"/>
            <a:ext cx="850104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сматривание изображений  А.С.Пушкина: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.А. Тропинин(1827г.)                       О.А.Кипренский (1827г.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http://pushkin.niv.ru/images/pushkin/pushkin_06.jpg"/>
          <p:cNvPicPr/>
          <p:nvPr/>
        </p:nvPicPr>
        <p:blipFill>
          <a:blip r:embed="rId1"/>
          <a:stretch/>
        </p:blipFill>
        <p:spPr>
          <a:xfrm>
            <a:off x="155520" y="1857240"/>
            <a:ext cx="3987720" cy="4714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http://pushkin.niv.ru/images/pushkin/pushkin_03.jpg"/>
          <p:cNvPicPr/>
          <p:nvPr/>
        </p:nvPicPr>
        <p:blipFill>
          <a:blip r:embed="rId2"/>
          <a:stretch/>
        </p:blipFill>
        <p:spPr>
          <a:xfrm>
            <a:off x="4857840" y="1857240"/>
            <a:ext cx="4071960" cy="4643640"/>
          </a:xfrm>
          <a:prstGeom prst="rect">
            <a:avLst/>
          </a:prstGeom>
          <a:ln w="0">
            <a:noFill/>
          </a:ln>
        </p:spPr>
      </p:pic>
    </p:spTree>
  </p:cSld>
  <p:transition spd="slow" advTm="0">
    <p:wipe dir="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8584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втопортреты А.С.Пушкина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(1824г.)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                                 (1829г.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pushkin.niv.ru/images/pushkin/pushkin_27.jpg"/>
          <p:cNvPicPr/>
          <p:nvPr/>
        </p:nvPicPr>
        <p:blipFill>
          <a:blip r:embed="rId1"/>
          <a:stretch/>
        </p:blipFill>
        <p:spPr>
          <a:xfrm>
            <a:off x="357120" y="1698480"/>
            <a:ext cx="4071960" cy="4659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http://pushkin.niv.ru/images/pushkin/pushkin_10.jpg"/>
          <p:cNvPicPr/>
          <p:nvPr/>
        </p:nvPicPr>
        <p:blipFill>
          <a:blip r:embed="rId2"/>
          <a:stretch/>
        </p:blipFill>
        <p:spPr>
          <a:xfrm>
            <a:off x="5000760" y="1714680"/>
            <a:ext cx="3857400" cy="4643280"/>
          </a:xfrm>
          <a:prstGeom prst="rect">
            <a:avLst/>
          </a:prstGeom>
          <a:ln w="0">
            <a:noFill/>
          </a:ln>
        </p:spPr>
      </p:pic>
    </p:spTree>
  </p:cSld>
  <p:transition spd="slow" advTm="0">
    <p:wipe dir="u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32968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накомство с памятниками А.С.Пушкину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928440"/>
            <a:ext cx="3643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юст А.С.Пушк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. Смоленск,                          ул. Дзержинског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30.05.1976г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Бюст Пушкину"/>
          <p:cNvPicPr/>
          <p:nvPr/>
        </p:nvPicPr>
        <p:blipFill>
          <a:blip r:embed="rId1"/>
          <a:stretch/>
        </p:blipFill>
        <p:spPr>
          <a:xfrm>
            <a:off x="4143240" y="857160"/>
            <a:ext cx="4500720" cy="5643720"/>
          </a:xfrm>
          <a:prstGeom prst="rect">
            <a:avLst/>
          </a:prstGeom>
          <a:ln w="0">
            <a:noFill/>
          </a:ln>
        </p:spPr>
      </p:pic>
    </p:spTree>
  </p:cSld>
  <p:transition advTm="0">
    <p:wipe dir="u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572040"/>
            <a:ext cx="914400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Бюст Пушкина</a:t>
            </a:r>
            <a:br>
              <a:rPr sz="36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моленск, ул.Николаева, 49-а (школа №26  им. А.С.Пушкин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www.pomni-smolensk.ru/images/monum/33.jpg"/>
          <p:cNvPicPr/>
          <p:nvPr/>
        </p:nvPicPr>
        <p:blipFill>
          <a:blip r:embed="rId1"/>
          <a:stretch/>
        </p:blipFill>
        <p:spPr>
          <a:xfrm>
            <a:off x="504720" y="1571760"/>
            <a:ext cx="3996000" cy="4895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http://www.pomni-smolensk.ru/images/monum/33a.jpg"/>
          <p:cNvPicPr/>
          <p:nvPr/>
        </p:nvPicPr>
        <p:blipFill>
          <a:blip r:embed="rId2"/>
          <a:stretch/>
        </p:blipFill>
        <p:spPr>
          <a:xfrm>
            <a:off x="4857840" y="1571760"/>
            <a:ext cx="3929040" cy="4857480"/>
          </a:xfrm>
          <a:prstGeom prst="rect">
            <a:avLst/>
          </a:prstGeom>
          <a:ln w="0">
            <a:noFill/>
          </a:ln>
        </p:spPr>
      </p:pic>
    </p:spTree>
  </p:cSld>
  <p:transition spd="slow" advTm="0">
    <p:wipe dir="u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http://literatura548.narod2.ru/biografii/pushkin/monument_pushkin_carskoeselo_.jpg"/>
          <p:cNvPicPr/>
          <p:nvPr/>
        </p:nvPicPr>
        <p:blipFill>
          <a:blip r:embed="rId1"/>
          <a:stretch/>
        </p:blipFill>
        <p:spPr>
          <a:xfrm>
            <a:off x="3143160" y="1785960"/>
            <a:ext cx="2757600" cy="3871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http://literatura548.narod2.ru/biografii/pushkin/monument_pushkin.jpg.jpg"/>
          <p:cNvPicPr/>
          <p:nvPr/>
        </p:nvPicPr>
        <p:blipFill>
          <a:blip r:embed="rId2"/>
          <a:stretch/>
        </p:blipFill>
        <p:spPr>
          <a:xfrm>
            <a:off x="154080" y="1285920"/>
            <a:ext cx="2631960" cy="3948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http://literatura548.narod2.ru/biografii/pushkin/monument_pushkin_spb.jpg"/>
          <p:cNvPicPr/>
          <p:nvPr/>
        </p:nvPicPr>
        <p:blipFill>
          <a:blip r:embed="rId3"/>
          <a:stretch/>
        </p:blipFill>
        <p:spPr>
          <a:xfrm>
            <a:off x="6143760" y="2214720"/>
            <a:ext cx="2814480" cy="42145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-214560"/>
            <a:ext cx="964404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Москве                        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в Царском Селе  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в Санкт-Петербург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0">
    <p:wipe dir="u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сматривание иллюстраций к сказкам .С.Пушкина: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«Сказка о рыбаке и рыбке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http://festival.1september.ru/articles/532688/6.jpg"/>
          <p:cNvPicPr/>
          <p:nvPr/>
        </p:nvPicPr>
        <p:blipFill>
          <a:blip r:embed="rId1"/>
          <a:stretch/>
        </p:blipFill>
        <p:spPr>
          <a:xfrm>
            <a:off x="4714920" y="1500120"/>
            <a:ext cx="4230720" cy="5075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http://festival.1september.ru/articles/532688/1.jpg"/>
          <p:cNvPicPr/>
          <p:nvPr/>
        </p:nvPicPr>
        <p:blipFill>
          <a:blip r:embed="rId2"/>
          <a:stretch/>
        </p:blipFill>
        <p:spPr>
          <a:xfrm>
            <a:off x="101520" y="1500120"/>
            <a:ext cx="4184640" cy="5143680"/>
          </a:xfrm>
          <a:prstGeom prst="rect">
            <a:avLst/>
          </a:prstGeom>
          <a:ln w="0">
            <a:noFill/>
          </a:ln>
        </p:spPr>
      </p:pic>
    </p:spTree>
  </p:cSld>
  <p:transition spd="slow" advTm="0">
    <p:wipe dir="u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Сказка о золотом петушк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http://t2.gstatic.com/images?q=tbn:ANd9GcTX3szgsmZywG-T5v7slDCdS4RuzO6Y8NTb-JiCCPUL2KCNZuSXmw"/>
          <p:cNvPicPr/>
          <p:nvPr/>
        </p:nvPicPr>
        <p:blipFill>
          <a:blip r:embed="rId1"/>
          <a:stretch/>
        </p:blipFill>
        <p:spPr>
          <a:xfrm>
            <a:off x="285840" y="928800"/>
            <a:ext cx="4119480" cy="5643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Сказка о золотом петушке"/>
          <p:cNvPicPr/>
          <p:nvPr/>
        </p:nvPicPr>
        <p:blipFill>
          <a:blip r:embed="rId2"/>
          <a:stretch/>
        </p:blipFill>
        <p:spPr>
          <a:xfrm>
            <a:off x="4786200" y="928800"/>
            <a:ext cx="4071960" cy="5643360"/>
          </a:xfrm>
          <a:prstGeom prst="rect">
            <a:avLst/>
          </a:prstGeom>
          <a:ln w="0">
            <a:noFill/>
          </a:ln>
        </p:spPr>
      </p:pic>
    </p:spTree>
  </p:cSld>
  <p:transition spd="slow" advTm="0">
    <p:wipe dir="u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Сказка о царе Салтан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http://festival.1september.ru/articles/532688/2.jpg"/>
          <p:cNvPicPr/>
          <p:nvPr/>
        </p:nvPicPr>
        <p:blipFill>
          <a:blip r:embed="rId1"/>
          <a:stretch/>
        </p:blipFill>
        <p:spPr>
          <a:xfrm>
            <a:off x="285840" y="1041480"/>
            <a:ext cx="4143240" cy="5262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http://festival.1september.ru/articles/532688/7.jpg"/>
          <p:cNvPicPr/>
          <p:nvPr/>
        </p:nvPicPr>
        <p:blipFill>
          <a:blip r:embed="rId2"/>
          <a:stretch/>
        </p:blipFill>
        <p:spPr>
          <a:xfrm>
            <a:off x="4714920" y="1050840"/>
            <a:ext cx="4143240" cy="5197680"/>
          </a:xfrm>
          <a:prstGeom prst="rect">
            <a:avLst/>
          </a:prstGeom>
          <a:ln w="0">
            <a:noFill/>
          </a:ln>
        </p:spPr>
      </p:pic>
    </p:spTree>
  </p:cSld>
  <p:transition spd="slow" advTm="0">
    <p:wipe dir="u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Сказка о мертвой царевне и семи богатырях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http://festival.1september.ru/articles/532688/4.jpg"/>
          <p:cNvPicPr/>
          <p:nvPr/>
        </p:nvPicPr>
        <p:blipFill>
          <a:blip r:embed="rId1"/>
          <a:stretch/>
        </p:blipFill>
        <p:spPr>
          <a:xfrm>
            <a:off x="304920" y="968400"/>
            <a:ext cx="4052880" cy="5746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http://festival.1september.ru/articles/532688/9.jpg"/>
          <p:cNvPicPr/>
          <p:nvPr/>
        </p:nvPicPr>
        <p:blipFill>
          <a:blip r:embed="rId2"/>
          <a:stretch/>
        </p:blipFill>
        <p:spPr>
          <a:xfrm>
            <a:off x="4702320" y="1000080"/>
            <a:ext cx="4084560" cy="5688000"/>
          </a:xfrm>
          <a:prstGeom prst="rect">
            <a:avLst/>
          </a:prstGeom>
          <a:ln w="0">
            <a:noFill/>
          </a:ln>
        </p:spPr>
      </p:pic>
    </p:spTree>
  </p:cSld>
  <p:transition spd="slow" advTm="0">
    <p:wipe dir="u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вести: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1.Беседы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Рассказ об А.С.Пушкине»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Путешествие по сказкам Пушкина: русский дом – изба, терем, палата»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Море в поэзии А.С.Пушкина»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Мои любимые сказки Пушкина»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2. Викторину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 сказкам А.С.Пушкин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Актуальност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-360" y="1856880"/>
            <a:ext cx="892980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итайте детям Пушкина. Пушкина нельзя перешагнуть. Там есть все – самый красивый русский язык, история, природа, человеческие привычки и отношен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357440" y="356760"/>
            <a:ext cx="4786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Шмель», «Скажи наоборот», «Семейка слов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В синем море-океане», «Кто скорее?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Типография», «Библиотека», «Книжный магазин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56760" y="428760"/>
            <a:ext cx="378612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ечевые подвижные игры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идактические игры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южетно-ролевые игры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57120" y="285840"/>
            <a:ext cx="842976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Создание выставок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поделок из природного материала по сказкам А.С.Пушкина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рисунков по сказкам Пушкина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тематических поделок из пластилина «Белочка»,«Золотой петушок»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«Кот ученый».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Просмотр мультфильмов по сказкам А.С.Пушкина.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Слушание аудиосказок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Театрализованная деятельность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показ кукольного театра «Сказка о рыбаке и рыбке»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571560" y="713880"/>
            <a:ext cx="5111640" cy="544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ести анкетирован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Творчество А.С.Пушкина»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ганизовать конкурс семейных работ по сказкам Пушкина из природного материал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готовить материал для папки-раскладушки «А.С.Пушкин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Текст 3" descr=""/>
          <p:cNvPicPr/>
          <p:nvPr/>
        </p:nvPicPr>
        <p:blipFill>
          <a:blip r:embed="rId1"/>
          <a:stretch/>
        </p:blipFill>
        <p:spPr>
          <a:xfrm>
            <a:off x="208080" y="-1444680"/>
            <a:ext cx="2913120" cy="83026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жидаемый результат проек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1426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комство детей с творчеством А.С.Пушкина, расширение кругозор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огащение лексики детей по данной тем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здание развивающей сред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ктивное участие родителей в жизни группы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Цель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00040" y="1903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общение детей к культурным общечеловеческим ценностям и богатству родного языка через сказки А.С.Пушкин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знакомить детей с творчеством А.С.Пушкина, его сказками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оспитать любовь и уважение к русским писателям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богащать и активизировать словарный запас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чить бережно относиться к книгам.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Этапы работы по проект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13840" y="1071360"/>
            <a:ext cx="864396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 этап – подготовительны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ределить цель и задачи проек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ставить план проек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ганизовать родителей и детей для проведения данного проек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готовить иллюстративный, дидактический материал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данной тем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ести анкетирование родителей «Творчество А.С.Пушкина».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14200" y="213840"/>
            <a:ext cx="8715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2 этап – основно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знакомить детей со сказками А.С.Пушки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ставить словарик трудных слов из сказок А.С.Пушки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здать развивающую среду по данной тем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3 этап – заключительны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вести итоги проек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анализировать полученные результат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004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Реализация</a:t>
            </a:r>
            <a:br>
              <a:rPr sz="9600"/>
            </a:b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проекта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Чтение художественной литературы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Сказки Пушкина. Обложка книги &quot;Сказка о царе Салтане&quot;.  Куркин"/>
          <p:cNvPicPr/>
          <p:nvPr/>
        </p:nvPicPr>
        <p:blipFill>
          <a:blip r:embed="rId1"/>
          <a:stretch/>
        </p:blipFill>
        <p:spPr>
          <a:xfrm>
            <a:off x="357120" y="1357200"/>
            <a:ext cx="3794040" cy="5024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Сказка о рыбаке и рыбке"/>
          <p:cNvPicPr/>
          <p:nvPr/>
        </p:nvPicPr>
        <p:blipFill>
          <a:blip r:embed="rId2"/>
          <a:stretch/>
        </p:blipFill>
        <p:spPr>
          <a:xfrm>
            <a:off x="4857840" y="1357200"/>
            <a:ext cx="4000320" cy="5029200"/>
          </a:xfrm>
          <a:prstGeom prst="rect">
            <a:avLst/>
          </a:prstGeom>
          <a:ln w="0">
            <a:noFill/>
          </a:ln>
        </p:spPr>
      </p:pic>
    </p:spTree>
  </p:cSld>
  <p:transition spd="slow" advTm="0"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2" descr="http://img1.labirint.ru/books/176175/big.jpg"/>
          <p:cNvPicPr/>
          <p:nvPr/>
        </p:nvPicPr>
        <p:blipFill>
          <a:blip r:embed="rId1"/>
          <a:stretch/>
        </p:blipFill>
        <p:spPr>
          <a:xfrm>
            <a:off x="285840" y="642960"/>
            <a:ext cx="4143240" cy="5572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8" descr="http://www.bookgrafik.jino.ru/images/stories/my_images/books/mavrina/06.jpg"/>
          <p:cNvPicPr/>
          <p:nvPr/>
        </p:nvPicPr>
        <p:blipFill>
          <a:blip r:embed="rId2"/>
          <a:stretch/>
        </p:blipFill>
        <p:spPr>
          <a:xfrm>
            <a:off x="4786200" y="642960"/>
            <a:ext cx="4046760" cy="5572080"/>
          </a:xfrm>
          <a:prstGeom prst="rect">
            <a:avLst/>
          </a:prstGeom>
          <a:ln w="0">
            <a:noFill/>
          </a:ln>
        </p:spPr>
      </p:pic>
    </p:spTree>
  </p:cSld>
  <p:transition spd="slow" advTm="0">
    <p:wipe dir="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9T13:32:20Z</dcterms:created>
  <dc:creator>Admin</dc:creator>
  <dc:description/>
  <dc:language>en-US</dc:language>
  <cp:lastModifiedBy>Ymka</cp:lastModifiedBy>
  <dcterms:modified xsi:type="dcterms:W3CDTF">2017-05-13T19:42:56Z</dcterms:modified>
  <cp:revision>69</cp:revision>
  <dc:subject/>
  <dc:title>Лукоморье</dc:title>
</cp:coreProperties>
</file>