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439C-2205-42C3-BB31-590789F328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D3C6-6AA6-468B-BE28-28FE810B6C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4599-B283-4A63-99BB-EE6AB66A8C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5061-2682-4026-8070-A374E4C9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874C-0848-42C0-ACC0-F8048FC0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EB65-EA7C-4C8C-8C58-BCDDB0B8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7841-73EC-48D9-A745-458461EC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6B47-67F7-4738-A387-5170A574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5CCE-E4FE-4623-96A8-45BCA562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5131-12CB-480D-BB26-DD5D44AF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C7E-C2F5-4EF3-85B7-F92E9A3F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8E95-9885-4004-A5E9-C025F7E8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6EBF-3896-4258-9AB5-2D8B6C67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6748-2077-443F-B8FA-7749109F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ED09-ED08-4F27-814F-2A4C1087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7BF5-4D5A-435B-AB14-25B1EF9568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856800"/>
            <a:ext cx="850104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ston"/>
              </a:rPr>
              <a:t>Здравствуй, Пушкин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785760" y="5572080"/>
            <a:ext cx="535788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Срок реализации: 3 меся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50104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матривание изображений  А.С.Пушкина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.А. Тропинин(1827г.)                       О.А.Кипренский (1827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pushkin.niv.ru/images/pushkin/pushkin_06.jpg"/>
          <p:cNvPicPr/>
          <p:nvPr/>
        </p:nvPicPr>
        <p:blipFill>
          <a:blip r:embed="rId1"/>
          <a:stretch/>
        </p:blipFill>
        <p:spPr>
          <a:xfrm>
            <a:off x="155520" y="1857240"/>
            <a:ext cx="3987720" cy="4714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pushkin.niv.ru/images/pushkin/pushkin_03.jpg"/>
          <p:cNvPicPr/>
          <p:nvPr/>
        </p:nvPicPr>
        <p:blipFill>
          <a:blip r:embed="rId2"/>
          <a:stretch/>
        </p:blipFill>
        <p:spPr>
          <a:xfrm>
            <a:off x="4857840" y="1857240"/>
            <a:ext cx="4071960" cy="464364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портреты А.С.Пушкин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(1824г.)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(1829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pushkin.niv.ru/images/pushkin/pushkin_27.jpg"/>
          <p:cNvPicPr/>
          <p:nvPr/>
        </p:nvPicPr>
        <p:blipFill>
          <a:blip r:embed="rId1"/>
          <a:stretch/>
        </p:blipFill>
        <p:spPr>
          <a:xfrm>
            <a:off x="357120" y="1698480"/>
            <a:ext cx="4071960" cy="4659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pushkin.niv.ru/images/pushkin/pushkin_10.jpg"/>
          <p:cNvPicPr/>
          <p:nvPr/>
        </p:nvPicPr>
        <p:blipFill>
          <a:blip r:embed="rId2"/>
          <a:stretch/>
        </p:blipFill>
        <p:spPr>
          <a:xfrm>
            <a:off x="5000760" y="1714680"/>
            <a:ext cx="3857400" cy="464328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3296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накомство с памятниками А.С.Пушкин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928440"/>
            <a:ext cx="3643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юст А.С.Пушк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. Смоленск,                          ул. Дзержинск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30.05.1976г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Бюст Пушкину"/>
          <p:cNvPicPr/>
          <p:nvPr/>
        </p:nvPicPr>
        <p:blipFill>
          <a:blip r:embed="rId1"/>
          <a:stretch/>
        </p:blipFill>
        <p:spPr>
          <a:xfrm>
            <a:off x="4143240" y="857160"/>
            <a:ext cx="4500720" cy="5643720"/>
          </a:xfrm>
          <a:prstGeom prst="rect">
            <a:avLst/>
          </a:prstGeom>
          <a:ln w="0">
            <a:noFill/>
          </a:ln>
        </p:spPr>
      </p:pic>
    </p:spTree>
  </p:cSld>
  <p:transition advTm="0">
    <p:wipe dir="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572040"/>
            <a:ext cx="91440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юст Пушкина</a:t>
            </a: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моленск, ул.Николаева, 49-а (школа №26  им. А.С.Пушкин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www.pomni-smolensk.ru/images/monum/33.jpg"/>
          <p:cNvPicPr/>
          <p:nvPr/>
        </p:nvPicPr>
        <p:blipFill>
          <a:blip r:embed="rId1"/>
          <a:stretch/>
        </p:blipFill>
        <p:spPr>
          <a:xfrm>
            <a:off x="504720" y="1571760"/>
            <a:ext cx="3996000" cy="4895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www.pomni-smolensk.ru/images/monum/33a.jpg"/>
          <p:cNvPicPr/>
          <p:nvPr/>
        </p:nvPicPr>
        <p:blipFill>
          <a:blip r:embed="rId2"/>
          <a:stretch/>
        </p:blipFill>
        <p:spPr>
          <a:xfrm>
            <a:off x="4857840" y="1571760"/>
            <a:ext cx="3929040" cy="485748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http://literatura548.narod2.ru/biografii/pushkin/monument_pushkin_carskoeselo_.jpg"/>
          <p:cNvPicPr/>
          <p:nvPr/>
        </p:nvPicPr>
        <p:blipFill>
          <a:blip r:embed="rId1"/>
          <a:stretch/>
        </p:blipFill>
        <p:spPr>
          <a:xfrm>
            <a:off x="3143160" y="1785960"/>
            <a:ext cx="2757600" cy="3871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http://literatura548.narod2.ru/biografii/pushkin/monument_pushkin.jpg.jpg"/>
          <p:cNvPicPr/>
          <p:nvPr/>
        </p:nvPicPr>
        <p:blipFill>
          <a:blip r:embed="rId2"/>
          <a:stretch/>
        </p:blipFill>
        <p:spPr>
          <a:xfrm>
            <a:off x="154080" y="1285920"/>
            <a:ext cx="2631960" cy="3948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http://literatura548.narod2.ru/biografii/pushkin/monument_pushkin_spb.jpg"/>
          <p:cNvPicPr/>
          <p:nvPr/>
        </p:nvPicPr>
        <p:blipFill>
          <a:blip r:embed="rId3"/>
          <a:stretch/>
        </p:blipFill>
        <p:spPr>
          <a:xfrm>
            <a:off x="6143760" y="2214720"/>
            <a:ext cx="2814480" cy="42145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-214560"/>
            <a:ext cx="964404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Москве                      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в Царском Селе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в Санкт-Петербург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wipe dir="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атривание иллюстраций к сказкам .С.Пушкина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«Сказка о рыбаке и рыбке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festival.1september.ru/articles/532688/6.jpg"/>
          <p:cNvPicPr/>
          <p:nvPr/>
        </p:nvPicPr>
        <p:blipFill>
          <a:blip r:embed="rId1"/>
          <a:stretch/>
        </p:blipFill>
        <p:spPr>
          <a:xfrm>
            <a:off x="4714920" y="1500120"/>
            <a:ext cx="4230720" cy="507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festival.1september.ru/articles/532688/1.jpg"/>
          <p:cNvPicPr/>
          <p:nvPr/>
        </p:nvPicPr>
        <p:blipFill>
          <a:blip r:embed="rId2"/>
          <a:stretch/>
        </p:blipFill>
        <p:spPr>
          <a:xfrm>
            <a:off x="101520" y="1500120"/>
            <a:ext cx="4184640" cy="514368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Сказка о золотом петушк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http://t2.gstatic.com/images?q=tbn:ANd9GcTX3szgsmZywG-T5v7slDCdS4RuzO6Y8NTb-JiCCPUL2KCNZuSXmw"/>
          <p:cNvPicPr/>
          <p:nvPr/>
        </p:nvPicPr>
        <p:blipFill>
          <a:blip r:embed="rId1"/>
          <a:stretch/>
        </p:blipFill>
        <p:spPr>
          <a:xfrm>
            <a:off x="285840" y="928800"/>
            <a:ext cx="4119480" cy="5643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Сказка о золотом петушке"/>
          <p:cNvPicPr/>
          <p:nvPr/>
        </p:nvPicPr>
        <p:blipFill>
          <a:blip r:embed="rId2"/>
          <a:stretch/>
        </p:blipFill>
        <p:spPr>
          <a:xfrm>
            <a:off x="4786200" y="928800"/>
            <a:ext cx="4071960" cy="564336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Сказка о царе Салтан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festival.1september.ru/articles/532688/2.jpg"/>
          <p:cNvPicPr/>
          <p:nvPr/>
        </p:nvPicPr>
        <p:blipFill>
          <a:blip r:embed="rId1"/>
          <a:stretch/>
        </p:blipFill>
        <p:spPr>
          <a:xfrm>
            <a:off x="285840" y="1041480"/>
            <a:ext cx="4143240" cy="526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festival.1september.ru/articles/532688/7.jpg"/>
          <p:cNvPicPr/>
          <p:nvPr/>
        </p:nvPicPr>
        <p:blipFill>
          <a:blip r:embed="rId2"/>
          <a:stretch/>
        </p:blipFill>
        <p:spPr>
          <a:xfrm>
            <a:off x="4714920" y="1050840"/>
            <a:ext cx="4143240" cy="519768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Сказка о мертвой царевне и семи богатырях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http://festival.1september.ru/articles/532688/4.jpg"/>
          <p:cNvPicPr/>
          <p:nvPr/>
        </p:nvPicPr>
        <p:blipFill>
          <a:blip r:embed="rId1"/>
          <a:stretch/>
        </p:blipFill>
        <p:spPr>
          <a:xfrm>
            <a:off x="304920" y="968400"/>
            <a:ext cx="4052880" cy="5746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festival.1september.ru/articles/532688/9.jpg"/>
          <p:cNvPicPr/>
          <p:nvPr/>
        </p:nvPicPr>
        <p:blipFill>
          <a:blip r:embed="rId2"/>
          <a:stretch/>
        </p:blipFill>
        <p:spPr>
          <a:xfrm>
            <a:off x="4702320" y="1000080"/>
            <a:ext cx="4084560" cy="5688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вести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1.Бесед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Рассказ об А.С.Пушкине»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Путешествие по сказкам Пушкина: русский дом – изба, терем, палата»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Море в поэзии А.С.Пушкина»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Мои любимые сказки Пушкина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2. Викторину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 сказкам А.С.Пушкин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1856880"/>
            <a:ext cx="89298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итайте детям Пушкина. Пушкина нельзя перешагнуть. Там есть все – самый красивый русский язык, история, природа, человеческие привычки и отнош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57440" y="356760"/>
            <a:ext cx="4786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Шмель», «Скажи наоборот», «Семейка слов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В синем море-океане», «Кто скорее?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ипография», «Библиотека», «Книжный магазин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6760" y="428760"/>
            <a:ext cx="378612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чевые подвижные игры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идактические игры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южетно-ролевые игр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57120" y="285840"/>
            <a:ext cx="84297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оздание выставок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поделок из природного материала по сказкам А.С.Пушкина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рисунков по сказкам Пушкин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тематических поделок из пластилина «Белочка»,«Золотой петушок»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Кот ученый».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осмотр мультфильмов по сказкам А.С.Пушкина.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лушание аудиосказо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Театрализованная деятельность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показ кукольного театра «Сказка о рыбаке и рыбке»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571560" y="713880"/>
            <a:ext cx="5111640" cy="54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сти анкетиров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ворчество А.С.Пушкина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овать конкурс семейных работ по сказкам Пушкина из природного материал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ить материал для папки-раскладушки «А.С.Пушкин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Текст 3" descr=""/>
          <p:cNvPicPr/>
          <p:nvPr/>
        </p:nvPicPr>
        <p:blipFill>
          <a:blip r:embed="rId1"/>
          <a:stretch/>
        </p:blipFill>
        <p:spPr>
          <a:xfrm>
            <a:off x="208080" y="-1444680"/>
            <a:ext cx="2913120" cy="8302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жидаемый результат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комство детей с творчеством А.С.Пушкина, расширение кругозо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гащение лексики детей по данной тем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развивающей сред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тивное участие родителей в жизни группы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0040" y="1903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общение детей к культурным общечеловеческим ценностям и богатству родного языка через сказки А.С.Пушкин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знакомить детей с творчеством А.С.Пушкина, его сказкам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спитать любовь и уважение к русским писателям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огащать и активизировать словарный запас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чить бережно относиться к книгам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тапы работы по проек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3840" y="1071360"/>
            <a:ext cx="864396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 этап – подготовительны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ить цель и задачи про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ить план про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овать родителей и детей для проведения данного про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готовить иллюстративный, дидактический материа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данной те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сти анкетирование родителей «Творчество А.С.Пушкина».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14200" y="21384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 этап – основно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комить детей со сказками А.С.Пушк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ить словарик трудных слов из сказок А.С.Пушк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ть развивающую среду по данной те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 этап – заключительны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вести итоги про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анализировать полученные результат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Реализация</a:t>
            </a:r>
            <a:br>
              <a:rPr sz="9600"/>
            </a:b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проект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ение художественной литератур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Сказки Пушкина. Обложка книги &quot;Сказка о царе Салтане&quot;.  Куркин"/>
          <p:cNvPicPr/>
          <p:nvPr/>
        </p:nvPicPr>
        <p:blipFill>
          <a:blip r:embed="rId1"/>
          <a:stretch/>
        </p:blipFill>
        <p:spPr>
          <a:xfrm>
            <a:off x="357120" y="1357200"/>
            <a:ext cx="3794040" cy="5024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Сказка о рыбаке и рыбке"/>
          <p:cNvPicPr/>
          <p:nvPr/>
        </p:nvPicPr>
        <p:blipFill>
          <a:blip r:embed="rId2"/>
          <a:stretch/>
        </p:blipFill>
        <p:spPr>
          <a:xfrm>
            <a:off x="4857840" y="1357200"/>
            <a:ext cx="4000320" cy="50292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2" descr="http://img1.labirint.ru/books/176175/big.jpg"/>
          <p:cNvPicPr/>
          <p:nvPr/>
        </p:nvPicPr>
        <p:blipFill>
          <a:blip r:embed="rId1"/>
          <a:stretch/>
        </p:blipFill>
        <p:spPr>
          <a:xfrm>
            <a:off x="285840" y="642960"/>
            <a:ext cx="4143240" cy="5572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http://www.bookgrafik.jino.ru/images/stories/my_images/books/mavrina/06.jpg"/>
          <p:cNvPicPr/>
          <p:nvPr/>
        </p:nvPicPr>
        <p:blipFill>
          <a:blip r:embed="rId2"/>
          <a:stretch/>
        </p:blipFill>
        <p:spPr>
          <a:xfrm>
            <a:off x="4786200" y="642960"/>
            <a:ext cx="4046760" cy="5572080"/>
          </a:xfrm>
          <a:prstGeom prst="rect">
            <a:avLst/>
          </a:prstGeom>
          <a:ln w="0">
            <a:noFill/>
          </a:ln>
        </p:spPr>
      </p:pic>
    </p:spTree>
  </p:cSld>
  <p:transition spd="slow" advTm="0"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13:32:20Z</dcterms:created>
  <dc:creator>Admin</dc:creator>
  <dc:description/>
  <dc:language>en-US</dc:language>
  <cp:lastModifiedBy>Ymka</cp:lastModifiedBy>
  <dcterms:modified xsi:type="dcterms:W3CDTF">2017-05-13T19:42:56Z</dcterms:modified>
  <cp:revision>69</cp:revision>
  <dc:subject/>
  <dc:title>Лукоморье</dc:title>
</cp:coreProperties>
</file>