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DFFD-4111-44C9-9AA2-4EF7DE27A6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3C6C-C71B-4CC4-AB94-C5036878B0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0A9-0402-459D-9EC0-B07808F6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C81-0BE2-433E-8738-3811FE2D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9CB7F-B448-4230-984B-BE70F77B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7AEB3-0A56-4659-951C-5F351B50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06240-48E4-48AD-A418-5B9BAD1A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C4E55-8867-421B-9A3D-B53C90D5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EB636-A248-44ED-B37E-EFE37B2D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51A4D-A22E-43C8-B154-5E3DC9F4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E40CE-D614-404D-B106-00D2DA2E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7530D-23F7-4D77-B614-D2FABFFB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17FC6-54A2-47CD-8213-BB188D45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510-7C1D-4B1E-8DD8-7C791D5B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8C9-B3C4-412A-8BD4-72C4DE65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1EA0-E560-41B3-90BB-73E844BD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9EB5-6C6F-440A-9AC7-DAB34B60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AD7B-49D4-4585-AA81-B2410D44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AFA6-5081-4134-8234-8375F41B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404E-1B2B-4795-AE45-45703384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B111-FF68-4133-BC12-6E41CFD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254C-3F3D-42E1-857D-E1BD77BE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099-E275-4DBA-BE0B-721A4348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D189-A3D0-42E9-97D0-2F676933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4A0A-96DA-4745-B8B3-A7D0D8EA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D321-67C3-405C-82A2-03C47A4D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B774-4AD9-4C6B-BA26-C382F6D3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CA42-D26F-495F-86C5-D5D427B1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8F2F-21C6-4837-A76D-09BE328D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4ECC-47E5-40CD-911F-AA499DED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C6ED-4AFD-4638-99D3-44078D64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B3F9-343E-490A-B446-53C03F92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98D1-60D5-42AA-89B3-64AB443D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EC1-F87F-490D-A4B6-029864A0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E3E2-9826-454D-AEA1-EA543DD9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A67C-E5A4-410F-9A1C-D0D78C78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EE07-7213-4C62-959D-D386F948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D54B-FB9C-45FF-B932-E8D6C2A2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229B-2219-4634-9F98-6A932975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8880-3BC4-4A0C-B926-92D73560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30B7-C7F9-431A-B529-CCF5A9E7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CF07-30BE-4CDC-82C0-9C0F4DC9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B8FD0-3776-492E-AC1A-55918FA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EBA75-FDE8-43CC-AFA8-9A27884E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937-FB64-479D-A273-ECFC99E8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10BE6-B4FB-474D-93FA-B8DCFC73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23ECF-6609-40AB-A295-73121AA1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35CE-F97A-4A6E-995D-7A9608B1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BBA3-FC08-4791-ADF1-54A18E39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7E81-DCB5-4CC3-B9DB-6B1ED19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C0B9-3DF7-44B6-AF40-BB0EBD0C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3DBAB-50AF-4842-9603-B7980B13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375A-F8F1-4925-BAE7-B5EE7462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260E-5BF8-47C5-803A-11620911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05F76-3BFC-482E-8D07-3BA4AEC7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27E-6D24-4330-B368-C5EB9360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A0F62-150A-4DDA-9685-98D0A927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87A2B-6792-44A0-A47E-68816D90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F12CE-93A6-4CBD-A4E1-287BC4B4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5105-915F-40F5-B690-E7708A96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37E0E-0C49-40DD-A6E0-8D234D6A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E67C4-D4F1-4686-9444-817947CF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A4D14-7F0A-4D05-A1DE-D633BDA8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46367-ADC9-44B5-AE14-4A4EB0BA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17550-F876-404F-A897-A662746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B4866-E56E-4BA5-ADC3-5A5B5D6C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474-5D2D-49DF-97D3-5C737C64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4D8BF-157A-4744-A7B3-AE85820C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C5D90-8622-46EF-A15D-5FDD1973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C5107-3088-4F17-834D-8DF0D3B8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0E03E-FE80-47C4-B2AF-6FF9C737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63E44-6012-4475-BF57-4A8B6402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F3FAF-A41D-4620-B1FD-54F7ECF7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B2437-77B8-4E40-B72A-5C1D4A7E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080A6-9946-4FF0-A234-C95606E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E3327-9244-4C84-A1C3-AC6DF860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43ADF-B40B-4611-9C5E-F8D921B4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C45-1920-48FB-82E3-98F5C30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1E654-F388-40A7-BD7D-811CDCAC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8CDBE-DDBA-4BDA-AFA9-C2C7661E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3718C-5ABF-49B8-ACCF-8C638EDF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72AD6-5DB1-4BD5-A515-F14D830F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7AEFF-82C1-436E-8E77-FCA4829E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BD374-BB5D-419C-9DFB-E692D9D1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F01B8-D415-43C1-994F-9377D2F0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43BAB-449D-43FF-89B5-F9E7070F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7B428-9DA5-4ABC-A155-23599562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EE0E8-A789-42DA-97F4-D19AB944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3EE-E7BB-4347-BF6F-0A80C146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03B89-E6A2-4CE6-9705-78547FD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1E2CF-CD90-4670-9A49-012735EE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A2E3C-913D-4FCD-83A2-F717F48D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8A6A3-A2C2-4C29-A4BB-D0C3C364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C6048-0049-4C4B-A897-04C50A04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5C4E2-EF06-4A95-A374-24D3AF6C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185AD-BFEA-4B0A-9E80-920EEE11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986C-F202-4F99-A01D-AB4DCB98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8C640-9007-4370-B9B1-64A01E59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AF06F-6B54-4A0C-BE69-F2C24919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E12-AF20-46C8-A931-5A3EC83A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99FC1-32B4-4F3B-841E-30879225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B7A32-AF61-4E4B-A954-8BAD2E0B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4C19B-E0A2-4CC6-90E9-940473EA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9F09F-D3C6-4C2A-AE1B-FF201D91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92254-2E11-43C1-B061-9EEBD07F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E10F4-96EC-4BE6-A51A-D77DB728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5F779-F09D-4CC7-9E22-A1C563F1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66FD6-9DFE-4D73-8F5F-57B1E140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4D6AD-FFF6-4C97-8A26-2437264B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9559A-5AE9-41FF-82B0-647D6536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4BA1-39D6-439E-9A33-9AB81AAC7C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974B-84D4-4788-83A9-73AB629FDA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1040-EB24-4710-B87A-4B58627055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ADC9-FEDF-4B67-832E-74C5F2A44A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620A-7FF7-40D0-B8F5-ADD64CD2AA7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97F8-2465-4B2C-96AD-E4C105A28C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1C31-121A-456D-8393-E22EDA4D9D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45E4-6F73-40B1-B94A-165AED1745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1A14-4D8E-4832-A310-F348DAD1AA2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571680" y="892080"/>
            <a:ext cx="814356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Monotype Corsiva"/>
              </a:rPr>
              <a:t>Презентац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Monotype Corsiva"/>
              </a:rPr>
              <a:t>для детей младшего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</a:rPr>
              <a:t>«Звуки лесных обитателей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Подготовила  воспитатель Ильичёва А.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929720" y="54864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4933800" y="1596960"/>
            <a:ext cx="38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это голос могучего л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Говорят, что лось тру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Правда похоже, что неумел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музыкант дует в трубу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4" descr="D:\1\ЭНЦИКЛОПЕДИИ\ФОТО\Безымянный.bmp"/>
          <p:cNvPicPr/>
          <p:nvPr/>
        </p:nvPicPr>
        <p:blipFill>
          <a:blip r:embed="rId2"/>
          <a:stretch/>
        </p:blipFill>
        <p:spPr>
          <a:xfrm>
            <a:off x="482760" y="623880"/>
            <a:ext cx="3875040" cy="577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3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7215120" y="4357800"/>
            <a:ext cx="12985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7384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D:\1\ЭНЦИКЛОПЕДИИ\ФОТО\олень.jpg"/>
          <p:cNvPicPr/>
          <p:nvPr/>
        </p:nvPicPr>
        <p:blipFill>
          <a:blip r:embed="rId1"/>
          <a:stretch/>
        </p:blipFill>
        <p:spPr>
          <a:xfrm>
            <a:off x="642960" y="449280"/>
            <a:ext cx="3357720" cy="25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5" name="Text Box 3"/>
          <p:cNvSpPr/>
          <p:nvPr/>
        </p:nvSpPr>
        <p:spPr>
          <a:xfrm>
            <a:off x="928800" y="600696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  <a:ea typeface="Verdana"/>
              </a:rPr>
              <a:t>  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  <a:ea typeface="Verdana"/>
              </a:rPr>
              <a:t>А еще в лесу живет красавец-олень, колючий ёжик, рыжая белочка и пушистый зайч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2" descr="D:\1\ЭНЦИКЛОПЕДИИ\ФОТО\6_6_b.jpg"/>
          <p:cNvPicPr/>
          <p:nvPr/>
        </p:nvPicPr>
        <p:blipFill>
          <a:blip r:embed="rId2"/>
          <a:stretch/>
        </p:blipFill>
        <p:spPr>
          <a:xfrm>
            <a:off x="4857840" y="525600"/>
            <a:ext cx="3143160" cy="247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7" name="Picture 2" descr="D:\1\ЭНЦИКЛОПЕДИИ\ФОТО\елка.jpg"/>
          <p:cNvPicPr/>
          <p:nvPr/>
        </p:nvPicPr>
        <p:blipFill>
          <a:blip r:embed="rId3"/>
          <a:stretch/>
        </p:blipFill>
        <p:spPr>
          <a:xfrm>
            <a:off x="714240" y="3429000"/>
            <a:ext cx="314352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8" name="Picture 2" descr="D:\1\ЭНЦИКЛОПЕДИИ\ФОТО\заяц.jpg"/>
          <p:cNvPicPr/>
          <p:nvPr/>
        </p:nvPicPr>
        <p:blipFill>
          <a:blip r:embed="rId4"/>
          <a:stretch/>
        </p:blipFill>
        <p:spPr>
          <a:xfrm>
            <a:off x="4786200" y="3429000"/>
            <a:ext cx="328608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7" descr="D:\Pictures\Для презентаций\4015988_orig.jpg"/>
          <p:cNvPicPr/>
          <p:nvPr/>
        </p:nvPicPr>
        <p:blipFill>
          <a:blip r:embed="rId1"/>
          <a:stretch/>
        </p:blipFill>
        <p:spPr>
          <a:xfrm>
            <a:off x="500040" y="500040"/>
            <a:ext cx="8215200" cy="58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0" name="Picture 6" descr="D:\Pictures\Для презентаций\Лесовичок 2.png"/>
          <p:cNvPicPr/>
          <p:nvPr/>
        </p:nvPicPr>
        <p:blipFill>
          <a:blip r:embed="rId2"/>
          <a:stretch/>
        </p:blipFill>
        <p:spPr>
          <a:xfrm>
            <a:off x="571680" y="2500200"/>
            <a:ext cx="2571480" cy="3754440"/>
          </a:xfrm>
          <a:prstGeom prst="rect">
            <a:avLst/>
          </a:prstGeom>
          <a:ln w="0">
            <a:noFill/>
          </a:ln>
        </p:spPr>
      </p:pic>
      <p:sp>
        <p:nvSpPr>
          <p:cNvPr id="451" name="TextBox 7"/>
          <p:cNvSpPr/>
          <p:nvPr/>
        </p:nvSpPr>
        <p:spPr>
          <a:xfrm>
            <a:off x="3143160" y="250020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  <a:ea typeface="Verdana"/>
              </a:rPr>
              <a:t>Ребята, Лесовичок прощается с вами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  <a:ea typeface="Verdana"/>
              </a:rPr>
              <a:t>Обязательно придем к нему в гости, прав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  <a:ea typeface="Verdana"/>
              </a:rPr>
              <a:t>До свидани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D:\1\ЭНЦИКЛОПЕДИИ\ФОТО\sosni.jpg"/>
          <p:cNvPicPr/>
          <p:nvPr/>
        </p:nvPicPr>
        <p:blipFill>
          <a:blip r:embed="rId1"/>
          <a:stretch/>
        </p:blipFill>
        <p:spPr>
          <a:xfrm>
            <a:off x="1357200" y="725400"/>
            <a:ext cx="6357960" cy="476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4"/>
          <p:cNvSpPr/>
          <p:nvPr/>
        </p:nvSpPr>
        <p:spPr>
          <a:xfrm>
            <a:off x="714240" y="564372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  <a:ea typeface="Verdana"/>
              </a:rPr>
              <a:t>Ребята, сегодня Лесовичок приглашает нас на прогулку в лес. Узнаем, какие пт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  <a:ea typeface="Verdana"/>
              </a:rPr>
              <a:t>и животные здесь живут и послушаем их голос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1727280" y="3429000"/>
            <a:ext cx="1344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816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"/>
          <p:cNvSpPr/>
          <p:nvPr/>
        </p:nvSpPr>
        <p:spPr>
          <a:xfrm>
            <a:off x="1143000" y="5643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Прислушаемся... Чей это голос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? 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Так кукует лесная птица 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4" descr="D:\1\ЭНЦИКЛОПЕДИИ\ФОТО\image008.jpg"/>
          <p:cNvPicPr/>
          <p:nvPr/>
        </p:nvPicPr>
        <p:blipFill>
          <a:blip r:embed="rId2"/>
          <a:stretch/>
        </p:blipFill>
        <p:spPr>
          <a:xfrm>
            <a:off x="1338120" y="928800"/>
            <a:ext cx="6377040" cy="423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4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142920" y="4714920"/>
            <a:ext cx="1344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94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814392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3"/>
          <p:cNvSpPr/>
          <p:nvPr/>
        </p:nvSpPr>
        <p:spPr>
          <a:xfrm>
            <a:off x="5334120" y="192888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это что за треск стоит в лесу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?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 Так стучит своим  крепким клювом дят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Он достает из-под коры насекомых себе на обед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4" descr="D:\1\ЭНЦИКЛОПЕДИИ\ФОТО\daitel.jpg"/>
          <p:cNvPicPr/>
          <p:nvPr/>
        </p:nvPicPr>
        <p:blipFill>
          <a:blip r:embed="rId2"/>
          <a:stretch/>
        </p:blipFill>
        <p:spPr>
          <a:xfrm>
            <a:off x="635040" y="419040"/>
            <a:ext cx="4365720" cy="57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8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7429680" y="4538520"/>
            <a:ext cx="13572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944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857160" y="57150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3"/>
          <p:cNvSpPr/>
          <p:nvPr/>
        </p:nvSpPr>
        <p:spPr>
          <a:xfrm>
            <a:off x="1071720" y="592920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это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“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звенит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”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 синичка, радуется солнышку и теп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4" descr="D:\ЭНЦИКЛОПЕДИИ\Новая папка\102HP720\sinica.jpg"/>
          <p:cNvPicPr/>
          <p:nvPr/>
        </p:nvPicPr>
        <p:blipFill>
          <a:blip r:embed="rId2"/>
          <a:stretch/>
        </p:blipFill>
        <p:spPr>
          <a:xfrm>
            <a:off x="1357200" y="806400"/>
            <a:ext cx="6215040" cy="466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2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285840" y="4572000"/>
            <a:ext cx="1344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337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7143840" y="1552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D:\1\ЭНЦИКЛОПЕДИИ\ФОТО\270px-CRW_2987.jpg"/>
          <p:cNvPicPr/>
          <p:nvPr/>
        </p:nvPicPr>
        <p:blipFill>
          <a:blip r:embed="rId2"/>
          <a:stretch/>
        </p:blipFill>
        <p:spPr>
          <a:xfrm>
            <a:off x="785880" y="642960"/>
            <a:ext cx="4143240" cy="575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5" name="Text Box 4"/>
          <p:cNvSpPr/>
          <p:nvPr/>
        </p:nvSpPr>
        <p:spPr>
          <a:xfrm>
            <a:off x="5429160" y="3214800"/>
            <a:ext cx="30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так ухает гроза мыш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лесная хищница - с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6500880" y="681120"/>
            <a:ext cx="12859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866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28560" y="521496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3"/>
          <p:cNvSpPr/>
          <p:nvPr/>
        </p:nvSpPr>
        <p:spPr>
          <a:xfrm>
            <a:off x="857160" y="525780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В лесу живут не только птицы, но и разные животные, большие и маленьк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Давайте послушаем, как рыч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косолапый бурый ми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4" descr="D:\1\ЭНЦИКЛОПЕДИИ\ФОТО\2200.jpg"/>
          <p:cNvPicPr/>
          <p:nvPr/>
        </p:nvPicPr>
        <p:blipFill>
          <a:blip r:embed="rId2"/>
          <a:stretch/>
        </p:blipFill>
        <p:spPr>
          <a:xfrm>
            <a:off x="1752480" y="304920"/>
            <a:ext cx="5715000" cy="483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0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214200" y="4000680"/>
            <a:ext cx="1344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876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1371600" y="5742000"/>
            <a:ext cx="64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так воет серый волк. А еще он умеет лаять, ведь он родственник соб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304920" y="578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571680" y="578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D:\1\ЭНЦИКЛОПЕДИИ\ФОТО\волк.jpg"/>
          <p:cNvPicPr/>
          <p:nvPr/>
        </p:nvPicPr>
        <p:blipFill>
          <a:blip r:embed="rId3"/>
          <a:stretch/>
        </p:blipFill>
        <p:spPr>
          <a:xfrm>
            <a:off x="1327320" y="714240"/>
            <a:ext cx="6387840" cy="479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5" name="Picture 5" descr="D:\Pictures\Для презентаций\Лесовичок 2.png"/>
          <p:cNvPicPr/>
          <p:nvPr/>
        </p:nvPicPr>
        <p:blipFill>
          <a:blip r:embed="rId4"/>
          <a:stretch/>
        </p:blipFill>
        <p:spPr>
          <a:xfrm>
            <a:off x="0" y="4572000"/>
            <a:ext cx="1344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46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46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027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8072280" y="5929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"/>
          <p:cNvSpPr/>
          <p:nvPr/>
        </p:nvSpPr>
        <p:spPr>
          <a:xfrm>
            <a:off x="3333600" y="603900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так лают лис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4" descr="D:\1\ЭНЦИКЛОПЕДИИ\ФОТО\ис.jpg"/>
          <p:cNvPicPr/>
          <p:nvPr/>
        </p:nvPicPr>
        <p:blipFill>
          <a:blip r:embed="rId2"/>
          <a:stretch/>
        </p:blipFill>
        <p:spPr>
          <a:xfrm>
            <a:off x="1214280" y="928800"/>
            <a:ext cx="6363000" cy="47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9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7358040" y="4714920"/>
            <a:ext cx="14414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46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8:01:42Z</dcterms:created>
  <dc:creator>Юлия Каспарова</dc:creator>
  <dc:description/>
  <dc:language>en-US</dc:language>
  <cp:lastModifiedBy>Дом</cp:lastModifiedBy>
  <dcterms:modified xsi:type="dcterms:W3CDTF">2017-05-13T09:32:06Z</dcterms:modified>
  <cp:revision>19</cp:revision>
  <dc:subject/>
  <dc:title>Лес и его голоса</dc:title>
</cp:coreProperties>
</file>