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5AE2-8313-4EA9-9F3F-32E789CB4D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F253-F6CA-4782-B5D9-86919C260B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7AC-D3B3-4B1B-AE76-F8E3C968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D84-2E0B-4D45-B34E-EAF1FFE2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F0DD2-E310-4A8F-8630-C09B93B0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01B85-3BDD-43A8-BC34-D4CD3671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69C66-8373-43F1-B223-524524AF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E18FE-24DE-4361-9410-754691F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C6F6D-5FDD-4FCC-899C-FF49BFC1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19941-A634-420B-868F-B267EA4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C12FD-ADB0-43E4-9768-4636F3A4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CEF82-3344-4B37-B95E-8D4CCADE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C7AC-501C-4C32-BF11-5550AAF5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F8E-372A-4B09-A475-05F99E7D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EE4-9B1F-456E-AEF6-85AB485A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FC94-60D7-45B2-BD09-CAFB3FF9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B7AF-D5A9-4E45-AB77-C305198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8DF-978D-4CC6-9B6A-52291063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801F-D925-44F0-B767-76D28044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EF47-4EA5-4FCB-804F-70B9F65B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A4B5-BA7D-4F4B-B1A6-48901D20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D938-502E-4499-8277-9A3D2496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231-B3A1-470D-BA61-A4122492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57DB-7587-458B-9DE1-EEB1CA12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A1A-320B-467E-AE65-6C99022D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6982-B115-43D3-92F4-97F9F6BF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AB4E-4DCC-4104-BD6E-5F04C33A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9460-8999-4FEC-AB1F-4BC23FA9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2EA9-4849-4331-A3A4-04BADC6B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47D2-A81A-4F35-B196-E0E85C6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A356-8EA7-43AD-815D-0BE7805B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D562-BA55-4CA2-B388-6EFE0D02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D545-F73B-4619-BE3B-C8A65FAF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664-A7FD-4E28-A607-03DA7119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B4DC-A38F-4551-B4E7-ABB09EEC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5CC6-CD97-466E-A015-D8FDB8D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93BF-D453-49C0-BAFC-1E5B591B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F30F-6CAA-4BA5-ADE6-4F3CCE7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D0A8-53FF-43AC-982C-71CE0456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D7D1-F7D5-49B7-8DB9-2907B3C8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5C80-DB34-4F41-8E2D-3AE9EB02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3CBA-CF34-48D8-8B62-AB42C996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A41D-67F0-4EF6-9F99-0AC14715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0749-E39F-4479-8D2A-EF03AAF1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B5F-34B5-4446-961F-14B5304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BF57-775B-4768-8A3C-8F0F425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D3A9F-23D3-43F9-A94F-0FFC80A9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1A4D-75FF-4D6F-ADF2-48DA453D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2A31-A563-4AFC-BACF-E8B6F8F8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668F-97AB-40E1-A4F5-F2AD2D4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D7F4-C6A5-460F-A970-2E47BFDA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D3ABF-DC0D-4215-9D6F-DDA90C6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935A-9D31-4287-B417-BE3DD571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7114-118E-4E6F-9615-0CDEC431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3B730-9EAA-4E9A-BC94-D8DBA52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DCE-E3BF-4335-A5A7-764E1D2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8EB89-8299-4A53-B688-D889C13A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DC588-1D02-4754-BF04-FA682A1A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4D65-ABC1-47D0-BB76-CB670F3D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EF0D-9DC8-4F82-B900-4990A7DA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C4F0B-A5CF-4EEA-8360-1A6CF3D1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E5268-7FD6-4468-88CC-FFA50C10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6DB8B-97BE-4DB6-AB58-DCB25F6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1F5B-487D-475B-B96E-9DBE0F7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E2874-4ECE-403A-801B-6C35312F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24F1B-6F3F-4260-8A58-A7C113FB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B62-C9F4-43EB-9F07-49966A8C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C400-0DAA-4010-B9A4-EB6C0450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DC387-92D2-422D-8A8C-77F4D232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136BB-4AF2-419B-B5C0-E89F455F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672A-5D85-4833-AADB-A300454C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99B0-70A2-4C69-863C-3BA991F4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9805B-07C4-42AE-9AC6-7F84872E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41026-BD94-4A57-AC86-2DB7CB3A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79571-EC8B-46D5-9EBC-F5A6AAC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FC984-4E36-424A-93DE-FDB8E23C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F36B-617E-43C4-A2BD-85099337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EF9-533B-4A87-8A11-02C00149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AC0D-73F2-458D-BDAE-6DD43488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526F2-F065-48E2-95EB-350E201E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4420-4F4C-4D08-86A1-10FABF90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85A8-C89F-460F-AFFB-A99340E0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03E7-C38C-4BCD-BA2D-FA63710F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633C-1DDC-49E2-A63E-9F488810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127FC-CDF9-4C1E-B52C-386A11EF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AA8AF-FC4D-41D5-BFF9-443E4EF1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D94F4-AB6C-4926-9D22-37E6BDAD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5C831-5382-4C64-A66B-10121A3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092-C8DD-44CF-A6EB-53BB42D7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8EA10-5445-4999-BD8C-CC1C7CB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5C00-503E-43C7-B541-0E34D0DD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B8689-1D40-4A2F-9020-B472F237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38246-AAC3-4E80-984B-4B13D8B6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0A6B-655A-45FF-80BB-6801E245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0082F-5623-4F77-8A6C-C4894B4C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92C52-32EC-405B-B23B-C4E82A9E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3868-3FA7-48E7-B091-EF453153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F49A6-CFFA-4DEF-AAAB-D821477E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2FCD6-7D2E-405E-815B-9C7E304B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314-C408-4494-9D46-F1CC7A8A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854FC-017F-458A-B5CA-0B316840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A67DD-725C-4B84-AC32-EDA3891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6ADD-A444-4A9A-89A2-B69BD7AE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281A0-B455-4249-829C-4C3578FC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768BE-96B9-4AD7-8D32-13AF8E63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C6CFD-51FB-44B8-94CD-A54F81A3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26736-1EA8-487C-87BA-99C92C5F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F1C34-F80D-471E-A686-6D13733A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F5B5D-4E09-4890-9640-EEDA3CB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9BFC3-B9A1-441F-8835-214CB10D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D32C-5B24-4E4E-A6D7-323A6B0D08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AA32-6D5A-40FE-9E5F-96C438D07F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E2A3-6618-4576-B86C-0FFF1544FF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C7C5-D0FF-4BF7-B613-718BB9A7F1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6F39-91CB-458F-A2BB-33D807F956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A6D3-4B0D-4250-A168-8B96A4DFAA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E28E-E216-4696-8AC3-B031463CF5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2E32-BA96-404D-969F-7B80537C83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FBF8-04C1-4E2B-A73C-1139735A85D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571680" y="892080"/>
            <a:ext cx="814356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Monotype Corsiva"/>
              </a:rPr>
              <a:t>Презентац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Monotype Corsiva"/>
              </a:rPr>
              <a:t>для детей младшего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</a:rPr>
              <a:t>«Звуки лесных обитателей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Подготовила  воспитатель Ильичёва А.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929720" y="54864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4933800" y="1596960"/>
            <a:ext cx="38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это голос могучего л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Говорят, что лось тру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Правда похоже, что неумел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музыкант дует в трубу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4" descr="D:\1\ЭНЦИКЛОПЕДИИ\ФОТО\Безымянный.bmp"/>
          <p:cNvPicPr/>
          <p:nvPr/>
        </p:nvPicPr>
        <p:blipFill>
          <a:blip r:embed="rId2"/>
          <a:stretch/>
        </p:blipFill>
        <p:spPr>
          <a:xfrm>
            <a:off x="482760" y="623880"/>
            <a:ext cx="3875040" cy="577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3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7215120" y="4357800"/>
            <a:ext cx="12985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7384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D:\1\ЭНЦИКЛОПЕДИИ\ФОТО\олень.jpg"/>
          <p:cNvPicPr/>
          <p:nvPr/>
        </p:nvPicPr>
        <p:blipFill>
          <a:blip r:embed="rId1"/>
          <a:stretch/>
        </p:blipFill>
        <p:spPr>
          <a:xfrm>
            <a:off x="642960" y="449280"/>
            <a:ext cx="3357720" cy="25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5" name="Text Box 3"/>
          <p:cNvSpPr/>
          <p:nvPr/>
        </p:nvSpPr>
        <p:spPr>
          <a:xfrm>
            <a:off x="928800" y="600696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  <a:ea typeface="Verdana"/>
              </a:rPr>
              <a:t>  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  <a:ea typeface="Verdana"/>
              </a:rPr>
              <a:t>А еще в лесу живет красавец-олень, колючий ёжик, рыжая белочка и пушистый зайч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2" descr="D:\1\ЭНЦИКЛОПЕДИИ\ФОТО\6_6_b.jpg"/>
          <p:cNvPicPr/>
          <p:nvPr/>
        </p:nvPicPr>
        <p:blipFill>
          <a:blip r:embed="rId2"/>
          <a:stretch/>
        </p:blipFill>
        <p:spPr>
          <a:xfrm>
            <a:off x="4857840" y="525600"/>
            <a:ext cx="3143160" cy="247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7" name="Picture 2" descr="D:\1\ЭНЦИКЛОПЕДИИ\ФОТО\елка.jpg"/>
          <p:cNvPicPr/>
          <p:nvPr/>
        </p:nvPicPr>
        <p:blipFill>
          <a:blip r:embed="rId3"/>
          <a:stretch/>
        </p:blipFill>
        <p:spPr>
          <a:xfrm>
            <a:off x="714240" y="3429000"/>
            <a:ext cx="314352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8" name="Picture 2" descr="D:\1\ЭНЦИКЛОПЕДИИ\ФОТО\заяц.jpg"/>
          <p:cNvPicPr/>
          <p:nvPr/>
        </p:nvPicPr>
        <p:blipFill>
          <a:blip r:embed="rId4"/>
          <a:stretch/>
        </p:blipFill>
        <p:spPr>
          <a:xfrm>
            <a:off x="4786200" y="3429000"/>
            <a:ext cx="328608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7" descr="D:\Pictures\Для презентаций\4015988_orig.jpg"/>
          <p:cNvPicPr/>
          <p:nvPr/>
        </p:nvPicPr>
        <p:blipFill>
          <a:blip r:embed="rId1"/>
          <a:stretch/>
        </p:blipFill>
        <p:spPr>
          <a:xfrm>
            <a:off x="500040" y="500040"/>
            <a:ext cx="8215200" cy="58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0" name="Picture 6" descr="D:\Pictures\Для презентаций\Лесовичок 2.png"/>
          <p:cNvPicPr/>
          <p:nvPr/>
        </p:nvPicPr>
        <p:blipFill>
          <a:blip r:embed="rId2"/>
          <a:stretch/>
        </p:blipFill>
        <p:spPr>
          <a:xfrm>
            <a:off x="571680" y="2500200"/>
            <a:ext cx="2571480" cy="37544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7"/>
          <p:cNvSpPr/>
          <p:nvPr/>
        </p:nvSpPr>
        <p:spPr>
          <a:xfrm>
            <a:off x="3143160" y="250020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  <a:ea typeface="Verdana"/>
              </a:rPr>
              <a:t>Ребята, Лесовичок прощается с вами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  <a:ea typeface="Verdana"/>
              </a:rPr>
              <a:t>Обязательно придем к нему в гости, прав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  <a:ea typeface="Verdana"/>
              </a:rPr>
              <a:t>До свидани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D:\1\ЭНЦИКЛОПЕДИИ\ФОТО\sosni.jpg"/>
          <p:cNvPicPr/>
          <p:nvPr/>
        </p:nvPicPr>
        <p:blipFill>
          <a:blip r:embed="rId1"/>
          <a:stretch/>
        </p:blipFill>
        <p:spPr>
          <a:xfrm>
            <a:off x="1357200" y="725400"/>
            <a:ext cx="6357960" cy="476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4"/>
          <p:cNvSpPr/>
          <p:nvPr/>
        </p:nvSpPr>
        <p:spPr>
          <a:xfrm>
            <a:off x="714240" y="564372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  <a:ea typeface="Verdana"/>
              </a:rPr>
              <a:t>Ребята, сегодня Лесовичок приглашает нас на прогулку в лес. Узнаем, какие пт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  <a:ea typeface="Verdana"/>
              </a:rPr>
              <a:t>и животные здесь живут и послушаем их голос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1727280" y="342900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16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1143000" y="564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Прислушаемся... Чей это голос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? 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Так кукует лесная птица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D:\1\ЭНЦИКЛОПЕДИИ\ФОТО\image008.jpg"/>
          <p:cNvPicPr/>
          <p:nvPr/>
        </p:nvPicPr>
        <p:blipFill>
          <a:blip r:embed="rId2"/>
          <a:stretch/>
        </p:blipFill>
        <p:spPr>
          <a:xfrm>
            <a:off x="1338120" y="928800"/>
            <a:ext cx="6377040" cy="423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4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142920" y="471492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94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814392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3"/>
          <p:cNvSpPr/>
          <p:nvPr/>
        </p:nvSpPr>
        <p:spPr>
          <a:xfrm>
            <a:off x="5334120" y="19288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это что за треск стоит в лесу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?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 Так стучит своим  крепким клювом дят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Он достает из-под коры насекомых себе на обед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4" descr="D:\1\ЭНЦИКЛОПЕДИИ\ФОТО\daitel.jpg"/>
          <p:cNvPicPr/>
          <p:nvPr/>
        </p:nvPicPr>
        <p:blipFill>
          <a:blip r:embed="rId2"/>
          <a:stretch/>
        </p:blipFill>
        <p:spPr>
          <a:xfrm>
            <a:off x="635040" y="419040"/>
            <a:ext cx="4365720" cy="57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7429680" y="4538520"/>
            <a:ext cx="13572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44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857160" y="5715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3"/>
          <p:cNvSpPr/>
          <p:nvPr/>
        </p:nvSpPr>
        <p:spPr>
          <a:xfrm>
            <a:off x="1071720" y="592920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это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“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звенит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Verdana"/>
              </a:rPr>
              <a:t>”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 синичка, радуется солнышку и теп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4" descr="D:\ЭНЦИКЛОПЕДИИ\Новая папка\102HP720\sinica.jpg"/>
          <p:cNvPicPr/>
          <p:nvPr/>
        </p:nvPicPr>
        <p:blipFill>
          <a:blip r:embed="rId2"/>
          <a:stretch/>
        </p:blipFill>
        <p:spPr>
          <a:xfrm>
            <a:off x="1357200" y="806400"/>
            <a:ext cx="6215040" cy="466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2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285840" y="457200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337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7143840" y="1552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D:\1\ЭНЦИКЛОПЕДИИ\ФОТО\270px-CRW_2987.jpg"/>
          <p:cNvPicPr/>
          <p:nvPr/>
        </p:nvPicPr>
        <p:blipFill>
          <a:blip r:embed="rId2"/>
          <a:stretch/>
        </p:blipFill>
        <p:spPr>
          <a:xfrm>
            <a:off x="785880" y="642960"/>
            <a:ext cx="4143240" cy="575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5" name="Text Box 4"/>
          <p:cNvSpPr/>
          <p:nvPr/>
        </p:nvSpPr>
        <p:spPr>
          <a:xfrm>
            <a:off x="5429160" y="321480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так ухает гроза мыш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лесная хищница - 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6500880" y="681120"/>
            <a:ext cx="12859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866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28560" y="521496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3"/>
          <p:cNvSpPr/>
          <p:nvPr/>
        </p:nvSpPr>
        <p:spPr>
          <a:xfrm>
            <a:off x="857160" y="525780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В лесу живут не только птицы, но и разные животные, большие и маленьк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Давайте послушаем, как рыч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косолапый бурый ми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4" descr="D:\1\ЭНЦИКЛОПЕДИИ\ФОТО\2200.jpg"/>
          <p:cNvPicPr/>
          <p:nvPr/>
        </p:nvPicPr>
        <p:blipFill>
          <a:blip r:embed="rId2"/>
          <a:stretch/>
        </p:blipFill>
        <p:spPr>
          <a:xfrm>
            <a:off x="1752480" y="304920"/>
            <a:ext cx="5715000" cy="483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0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214200" y="400068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876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371600" y="5742000"/>
            <a:ext cx="64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так воет серый волк. А еще он умеет лаять, ведь он родственник соб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304920" y="578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571680" y="578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D:\1\ЭНЦИКЛОПЕДИИ\ФОТО\волк.jpg"/>
          <p:cNvPicPr/>
          <p:nvPr/>
        </p:nvPicPr>
        <p:blipFill>
          <a:blip r:embed="rId3"/>
          <a:stretch/>
        </p:blipFill>
        <p:spPr>
          <a:xfrm>
            <a:off x="1327320" y="714240"/>
            <a:ext cx="6387840" cy="479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5" name="Picture 5" descr="D:\Pictures\Для презентаций\Лесовичок 2.png"/>
          <p:cNvPicPr/>
          <p:nvPr/>
        </p:nvPicPr>
        <p:blipFill>
          <a:blip r:embed="rId4"/>
          <a:stretch/>
        </p:blipFill>
        <p:spPr>
          <a:xfrm>
            <a:off x="0" y="4572000"/>
            <a:ext cx="1344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46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46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027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8072280" y="5929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3333600" y="60390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  <a:ea typeface="Verdana"/>
              </a:rPr>
              <a:t>А так лают лис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4" descr="D:\1\ЭНЦИКЛОПЕДИИ\ФОТО\ис.jpg"/>
          <p:cNvPicPr/>
          <p:nvPr/>
        </p:nvPicPr>
        <p:blipFill>
          <a:blip r:embed="rId2"/>
          <a:stretch/>
        </p:blipFill>
        <p:spPr>
          <a:xfrm>
            <a:off x="1214280" y="928800"/>
            <a:ext cx="6363000" cy="47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9" name="Picture 5" descr="D:\Pictures\Для презентаций\Лесовичок 2.png"/>
          <p:cNvPicPr/>
          <p:nvPr/>
        </p:nvPicPr>
        <p:blipFill>
          <a:blip r:embed="rId3"/>
          <a:stretch/>
        </p:blipFill>
        <p:spPr>
          <a:xfrm>
            <a:off x="7358040" y="4714920"/>
            <a:ext cx="14414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46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Дом</cp:lastModifiedBy>
  <dcterms:modified xsi:type="dcterms:W3CDTF">2017-05-13T09:32:06Z</dcterms:modified>
  <cp:revision>19</cp:revision>
  <dc:subject/>
  <dc:title>Лес и его голоса</dc:title>
</cp:coreProperties>
</file>