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5C7-51D9-48AD-B90B-C19F639C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0C6-9ACD-4D22-87FB-1A6A367F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B29-FD98-4944-A96A-3762036B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984-5741-49AB-A88D-F26586DE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4C0E-7071-4168-96D0-22A648C0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A1B0-1E82-49E3-8553-1D759D31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A9A6-6F9E-43A4-9B76-663422FC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98A7-EB1B-4978-A5B0-27933E4B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EFC9-BF8C-46C1-A6B9-1D1406EF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DBD6-30B5-4B52-8BBB-04EFC92C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1128-5F3A-4BEF-AC84-47CAC625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714-903B-4A9C-BA4A-E7504CF3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4250-23F4-45EE-9810-E6C9EA0D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3F05-6435-4A58-B4C7-111F4373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33AC-C662-4E8C-9CF0-74E064DD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7360-C3C5-45E5-84C6-ABC03709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E0BD-C585-4026-B64A-7CE9630A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349-FC0F-440E-B0F9-267B7FB5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958-78C9-452C-BFD8-5AD0F849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47A-AACC-4D2E-A57E-E19AC872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498-5038-4D87-BD3B-A74409A1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4A5-BD4E-47A8-9BEE-76154197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A20-3D19-4D09-A03D-F5D638AD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B64-C631-4B8C-BCC1-70421CC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EEA9-7A27-4EC2-A50F-DE3A380317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DF8F-8C58-421E-8111-D2625A17DB8D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втоматизация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л]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в конце  слов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ahoma"/>
              </a:rPr>
              <a:t>Логопед   Фисенко К.И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олок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785960" y="1981080"/>
            <a:ext cx="55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марша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9973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оте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805120" y="1981080"/>
            <a:ext cx="353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973160" y="1981080"/>
            <a:ext cx="519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т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чех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309680" y="1981080"/>
            <a:ext cx="652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щег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футбо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593720" y="1981080"/>
            <a:ext cx="595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ту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970360" y="1981080"/>
            <a:ext cx="320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муску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930320" y="1981080"/>
            <a:ext cx="528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6:43:56Z</dcterms:created>
  <dc:creator>Алексей</dc:creator>
  <dc:description/>
  <dc:language>en-US</dc:language>
  <cp:lastModifiedBy>Пользователь Windows</cp:lastModifiedBy>
  <dcterms:modified xsi:type="dcterms:W3CDTF">2017-05-14T07:50:54Z</dcterms:modified>
  <cp:revision>3</cp:revision>
  <dc:subject/>
  <dc:title>Автоматизация [л]  в конце слова</dc:title>
</cp:coreProperties>
</file>