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F7C-F5E2-4C02-96EB-7081929B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FA4-DD99-440E-961D-0D43DE50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2BE-1EED-406A-BA83-CA94520F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913-C73E-49D5-9585-68E9F97B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B56-6D33-443B-AB1D-EB907C6B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FE88-7D6A-4AB2-9EBF-379979D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A343-A8E5-4A02-8979-6DA868F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C482-EB0F-412B-AD9F-F658DA4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8885-4674-4EAE-AB40-FB503ABC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B29-C8D6-4AEA-8C24-6B66AD9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7E24-F040-485E-BA9C-6C5966F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36A-739D-4F77-965F-09443648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C3B-7862-4D3A-A72E-8103BFC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12F2-C328-4B8B-B4CC-5CFDD620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9934-4FDE-4344-99D9-DC780A77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B09C-FF4C-49BB-8687-0EE881F4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252-01D5-4D67-B370-95950DB9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ED2-D527-4C77-919E-1E194229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9A1-6D10-4347-9E6E-EE06771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FA1-029B-4F9A-A625-BCC611B6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3E7-3FE5-41B6-B218-A4D28B8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A59-1B81-47BA-9EFD-A30B88D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7F5-7CC5-44EE-989E-96CEEB1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F14-83FA-497D-BBB5-BAB8562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8964-6AC3-426F-ACF1-35FA234D51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1BD-CDD4-4F37-A114-0ADD748E650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в конце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Логопед   Фисенко К.И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олок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85960" y="1981080"/>
            <a:ext cx="55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марша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9973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оте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805120" y="1981080"/>
            <a:ext cx="353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973160" y="1981080"/>
            <a:ext cx="519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т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ех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309680" y="1981080"/>
            <a:ext cx="652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щег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футб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593720" y="1981080"/>
            <a:ext cx="595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ту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97036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муску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930320" y="1981080"/>
            <a:ext cx="528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6:43:56Z</dcterms:created>
  <dc:creator>Алексей</dc:creator>
  <dc:description/>
  <dc:language>en-US</dc:language>
  <cp:lastModifiedBy>Пользователь Windows</cp:lastModifiedBy>
  <dcterms:modified xsi:type="dcterms:W3CDTF">2017-05-14T07:50:54Z</dcterms:modified>
  <cp:revision>3</cp:revision>
  <dc:subject/>
  <dc:title>Автоматизация [л]  в конце слова</dc:title>
</cp:coreProperties>
</file>