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037-8732-42F4-8B00-ABFAB09D9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4FB2-7520-48C6-B55F-71EF919E18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039C-CEFB-4636-876F-D979D87BB4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7D6-CEDF-461A-9218-CE78DA2B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FD6-BC15-4CC3-8DD5-020DB17D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B1B-6CA6-4FB2-8714-ECF4360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D9C-71E9-4C9B-BD8D-5D8D35BD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41BC-EA24-4528-8B36-9527E0CC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B1B4-5664-4FB1-AE9C-F8202264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C3F-3CE4-41DE-9C8C-EFD28FFB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FBC9-E138-49B1-B054-58AE15DC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7C5F-AB9D-4382-A4BF-71B0EF8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E417-E285-4443-B013-05C8DF0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2BD-3C5E-4453-9BA4-AF21799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DA4-A09B-4604-85F3-85582887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04F-E0F8-4CB9-ACF2-9288858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7FD-769C-4427-AA67-E4E0EF7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568-0C8D-46D0-9265-86DF7FA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3EE-205B-4904-BCE3-4C98E872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4505-F822-4C0E-8E40-5C44E7AB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F19-7CBD-496B-A9D2-133D263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17F-4A05-4249-982E-E2E3E8E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2D6-20F0-4DDD-AB35-B5F55D21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C9B-29E2-49F0-AEAD-A568DE19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EDB-4442-468F-93D7-989DC9CB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1BA-A8FA-4E69-ABC3-CF12A9A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A91-6B96-443C-8535-4C2408D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D53-E1AF-4981-8086-FFC970B48A9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62C-B819-4532-A3B5-3F18BC42F6B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851280" y="4365720"/>
            <a:ext cx="49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afd6"/>
                </a:solidFill>
                <a:latin typeface="Arial"/>
              </a:rPr>
              <a:t>Преподаватель физики ГБПОУ ВО «Бутурлиновский механико- технологический колледж» Ковалева Е. 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250920" y="1900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Основные закономерности фотоэффек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250920" y="1628640"/>
            <a:ext cx="8640720" cy="4587480"/>
            <a:chOff x="250920" y="1628640"/>
            <a:chExt cx="8640720" cy="4587480"/>
          </a:xfrm>
        </p:grpSpPr>
        <p:sp>
          <p:nvSpPr>
            <p:cNvPr id="135" name="Text Box 6"/>
            <p:cNvSpPr/>
            <p:nvPr/>
          </p:nvSpPr>
          <p:spPr>
            <a:xfrm>
              <a:off x="250920" y="1628640"/>
              <a:ext cx="8640720" cy="45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Максимальная кинетическая энергия фотоэлектронов линейно возрастает с увеличением частоты света ν и не зависит от его интенсивности (закон Эйнштейна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53d75"/>
                  </a:solidFill>
                  <a:latin typeface="Arial"/>
                </a:rPr>
                <a:t>Наибольшая кинетическая энергия, которую может иметь вылетевший из катода фотоэлектрон: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Для каждого вещества существует так называемая красная граница фотоэффекта, т. е. наименьшая частота ν</a:t>
              </a:r>
              <a:r>
                <a:rPr b="0" lang="ru-RU" sz="1800" spc="-1" strike="noStrike" baseline="-25000">
                  <a:solidFill>
                    <a:srgbClr val="253d75"/>
                  </a:solidFill>
                  <a:latin typeface="Arial"/>
                </a:rPr>
                <a:t>min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, при которой еще возможен внешний фотоэффект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Число фотоэлектронов, вырываемых светом из катода за 1 с, прямо пропорционально интенсивности све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Фотоэффект практически безынерционен, фототок возникает мгновенно после начала освещения катода при условии, что частота света ν &gt; ν</a:t>
              </a:r>
              <a:r>
                <a:rPr b="0" lang="ru-RU" sz="1800" spc="-1" strike="noStrike" baseline="-25000">
                  <a:solidFill>
                    <a:srgbClr val="253d75"/>
                  </a:solidFill>
                  <a:latin typeface="Arial"/>
                </a:rPr>
                <a:t>min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9"/>
                <p:cNvSpPr txBox="1"/>
                <p:nvPr/>
              </p:nvSpPr>
              <p:spPr>
                <a:xfrm>
                  <a:off x="1908000" y="2924280"/>
                  <a:ext cx="208764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hv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34000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тоэлектронные приб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419280" y="54936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1. фотоэлем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95280" y="3860640"/>
            <a:ext cx="3816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вывод ан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вывод фотокат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вывод металлического охранного кольц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устанавливается для исключения попадания токов утечки на нагрузку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24000" y="3284640"/>
            <a:ext cx="40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ипичные конструкции вакуумных фотоэлеме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681800" cy="212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08360" cy="2347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8"/>
          <p:cNvSpPr/>
          <p:nvPr/>
        </p:nvSpPr>
        <p:spPr>
          <a:xfrm>
            <a:off x="4788000" y="3213000"/>
            <a:ext cx="4356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хема включения фотоэлемента с внешним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фото­эффект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фотокатод;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ан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Ф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световой поток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источник постоянного тока, служащий для создания в пространстве между катодом и анодом электрического поля, ускоряющего фотоэлектрон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ru-RU" sz="1400" spc="-1" strike="noStrike" baseline="-25000">
                <a:solidFill>
                  <a:srgbClr val="008000"/>
                </a:solidFill>
                <a:latin typeface="Arial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— нагруз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348000" y="18900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2. фотоумнож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0" y="4840200"/>
            <a:ext cx="774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иальная схема ФЭУ с делителем напряжен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ФК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кат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фокусирующий электрод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 - диафрагм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. 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Э5 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инод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- ан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сопротивление делителя напряж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нагрузочное сопротивление в цепи ан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емкость ан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71640" y="944640"/>
            <a:ext cx="6696000" cy="2160360"/>
          </a:xfrm>
          <a:prstGeom prst="rect">
            <a:avLst/>
          </a:prstGeom>
          <a:solidFill>
            <a:srgbClr val="0000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7236000" y="1844640"/>
            <a:ext cx="158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8101080" y="184464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1258920" y="3860640"/>
            <a:ext cx="75610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>
            <a:off x="2050920" y="2924280"/>
            <a:ext cx="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2700360" y="2924280"/>
            <a:ext cx="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7"/>
          <p:cNvSpPr/>
          <p:nvPr/>
        </p:nvSpPr>
        <p:spPr>
          <a:xfrm>
            <a:off x="356400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8"/>
          <p:cNvSpPr/>
          <p:nvPr/>
        </p:nvSpPr>
        <p:spPr>
          <a:xfrm>
            <a:off x="4356000" y="1700280"/>
            <a:ext cx="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9"/>
          <p:cNvSpPr/>
          <p:nvPr/>
        </p:nvSpPr>
        <p:spPr>
          <a:xfrm>
            <a:off x="493236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5724360" y="1700280"/>
            <a:ext cx="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>
            <a:off x="637236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2195640" y="3789360"/>
            <a:ext cx="360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291636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370836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4427640" y="3789360"/>
            <a:ext cx="43164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7"/>
          <p:cNvSpPr/>
          <p:nvPr/>
        </p:nvSpPr>
        <p:spPr>
          <a:xfrm>
            <a:off x="507672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5796000" y="3789360"/>
            <a:ext cx="43164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9"/>
          <p:cNvSpPr/>
          <p:nvPr/>
        </p:nvSpPr>
        <p:spPr>
          <a:xfrm>
            <a:off x="6659640" y="3789360"/>
            <a:ext cx="5047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130"/>
          <p:cNvGrpSpPr/>
          <p:nvPr/>
        </p:nvGrpSpPr>
        <p:grpSpPr>
          <a:xfrm>
            <a:off x="8675640" y="2637000"/>
            <a:ext cx="290520" cy="1584000"/>
            <a:chOff x="8675640" y="2637000"/>
            <a:chExt cx="290520" cy="1584000"/>
          </a:xfrm>
        </p:grpSpPr>
        <p:sp>
          <p:nvSpPr>
            <p:cNvPr id="165" name="Line 26"/>
            <p:cNvSpPr/>
            <p:nvPr/>
          </p:nvSpPr>
          <p:spPr>
            <a:xfrm>
              <a:off x="8675640" y="263700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Group 55"/>
            <p:cNvGrpSpPr/>
            <p:nvPr/>
          </p:nvGrpSpPr>
          <p:grpSpPr>
            <a:xfrm>
              <a:off x="8675640" y="2637000"/>
              <a:ext cx="290520" cy="1584000"/>
              <a:chOff x="8675640" y="2637000"/>
              <a:chExt cx="290520" cy="1584000"/>
            </a:xfrm>
          </p:grpSpPr>
          <p:sp>
            <p:nvSpPr>
              <p:cNvPr id="167" name="Line 29"/>
              <p:cNvSpPr/>
              <p:nvPr/>
            </p:nvSpPr>
            <p:spPr>
              <a:xfrm>
                <a:off x="8820000" y="2637000"/>
                <a:ext cx="0" cy="151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52"/>
              <p:cNvSpPr/>
              <p:nvPr/>
            </p:nvSpPr>
            <p:spPr>
              <a:xfrm>
                <a:off x="8675640" y="4149720"/>
                <a:ext cx="290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53"/>
              <p:cNvSpPr/>
              <p:nvPr/>
            </p:nvSpPr>
            <p:spPr>
              <a:xfrm>
                <a:off x="8748720" y="4221000"/>
                <a:ext cx="14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73"/>
          <p:cNvGrpSpPr/>
          <p:nvPr/>
        </p:nvGrpSpPr>
        <p:grpSpPr>
          <a:xfrm>
            <a:off x="7740720" y="3068640"/>
            <a:ext cx="431280" cy="1297080"/>
            <a:chOff x="7740720" y="3068640"/>
            <a:chExt cx="431280" cy="1297080"/>
          </a:xfrm>
        </p:grpSpPr>
        <p:grpSp>
          <p:nvGrpSpPr>
            <p:cNvPr id="171" name="Group 56"/>
            <p:cNvGrpSpPr/>
            <p:nvPr/>
          </p:nvGrpSpPr>
          <p:grpSpPr>
            <a:xfrm>
              <a:off x="8027640" y="3068640"/>
              <a:ext cx="144360" cy="1297080"/>
              <a:chOff x="8027640" y="3068640"/>
              <a:chExt cx="144360" cy="129708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8101080" y="3068640"/>
                <a:ext cx="0" cy="1152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0"/>
              <p:cNvSpPr/>
              <p:nvPr/>
            </p:nvSpPr>
            <p:spPr>
              <a:xfrm>
                <a:off x="8028000" y="4149720"/>
                <a:ext cx="142920" cy="1429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51"/>
              <p:cNvSpPr/>
              <p:nvPr/>
            </p:nvSpPr>
            <p:spPr>
              <a:xfrm flipH="1">
                <a:off x="8027640" y="4076640"/>
                <a:ext cx="144360" cy="289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2"/>
            <p:cNvGrpSpPr/>
            <p:nvPr/>
          </p:nvGrpSpPr>
          <p:grpSpPr>
            <a:xfrm>
              <a:off x="7740720" y="4149720"/>
              <a:ext cx="144360" cy="142920"/>
              <a:chOff x="7740720" y="4149720"/>
              <a:chExt cx="144360" cy="142920"/>
            </a:xfrm>
          </p:grpSpPr>
          <p:sp>
            <p:nvSpPr>
              <p:cNvPr id="176" name="Line 69"/>
              <p:cNvSpPr/>
              <p:nvPr/>
            </p:nvSpPr>
            <p:spPr>
              <a:xfrm>
                <a:off x="7812000" y="4149720"/>
                <a:ext cx="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71"/>
              <p:cNvSpPr/>
              <p:nvPr/>
            </p:nvSpPr>
            <p:spPr>
              <a:xfrm>
                <a:off x="7740720" y="4221000"/>
                <a:ext cx="144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Line 74"/>
          <p:cNvSpPr/>
          <p:nvPr/>
        </p:nvSpPr>
        <p:spPr>
          <a:xfrm>
            <a:off x="324000" y="112536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75"/>
          <p:cNvSpPr/>
          <p:nvPr/>
        </p:nvSpPr>
        <p:spPr>
          <a:xfrm>
            <a:off x="324000" y="1413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76"/>
          <p:cNvSpPr/>
          <p:nvPr/>
        </p:nvSpPr>
        <p:spPr>
          <a:xfrm>
            <a:off x="324000" y="170028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78"/>
          <p:cNvSpPr/>
          <p:nvPr/>
        </p:nvSpPr>
        <p:spPr>
          <a:xfrm>
            <a:off x="324000" y="1989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79"/>
          <p:cNvSpPr/>
          <p:nvPr/>
        </p:nvSpPr>
        <p:spPr>
          <a:xfrm>
            <a:off x="324000" y="227664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80"/>
          <p:cNvSpPr/>
          <p:nvPr/>
        </p:nvSpPr>
        <p:spPr>
          <a:xfrm>
            <a:off x="324000" y="249228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324000" y="278136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83"/>
          <p:cNvSpPr/>
          <p:nvPr/>
        </p:nvSpPr>
        <p:spPr>
          <a:xfrm flipV="1">
            <a:off x="3564000" y="1699920"/>
            <a:ext cx="576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4"/>
          <p:cNvSpPr/>
          <p:nvPr/>
        </p:nvSpPr>
        <p:spPr>
          <a:xfrm flipV="1">
            <a:off x="3564000" y="1699920"/>
            <a:ext cx="720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85"/>
          <p:cNvSpPr/>
          <p:nvPr/>
        </p:nvSpPr>
        <p:spPr>
          <a:xfrm flipV="1">
            <a:off x="3564000" y="1699920"/>
            <a:ext cx="863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86"/>
          <p:cNvSpPr/>
          <p:nvPr/>
        </p:nvSpPr>
        <p:spPr>
          <a:xfrm flipV="1">
            <a:off x="3564000" y="1699920"/>
            <a:ext cx="1008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7"/>
          <p:cNvSpPr/>
          <p:nvPr/>
        </p:nvSpPr>
        <p:spPr>
          <a:xfrm>
            <a:off x="4140360" y="1700280"/>
            <a:ext cx="792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8"/>
          <p:cNvSpPr/>
          <p:nvPr/>
        </p:nvSpPr>
        <p:spPr>
          <a:xfrm>
            <a:off x="4284720" y="1700280"/>
            <a:ext cx="647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89"/>
          <p:cNvSpPr/>
          <p:nvPr/>
        </p:nvSpPr>
        <p:spPr>
          <a:xfrm>
            <a:off x="4427640" y="1700280"/>
            <a:ext cx="504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90"/>
          <p:cNvSpPr/>
          <p:nvPr/>
        </p:nvSpPr>
        <p:spPr>
          <a:xfrm>
            <a:off x="4572000" y="1700280"/>
            <a:ext cx="360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1"/>
          <p:cNvSpPr/>
          <p:nvPr/>
        </p:nvSpPr>
        <p:spPr>
          <a:xfrm flipV="1">
            <a:off x="4932360" y="1699920"/>
            <a:ext cx="5032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2"/>
          <p:cNvSpPr/>
          <p:nvPr/>
        </p:nvSpPr>
        <p:spPr>
          <a:xfrm flipV="1">
            <a:off x="4932360" y="1699920"/>
            <a:ext cx="647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93"/>
          <p:cNvSpPr/>
          <p:nvPr/>
        </p:nvSpPr>
        <p:spPr>
          <a:xfrm flipV="1">
            <a:off x="4932360" y="1699920"/>
            <a:ext cx="792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94"/>
          <p:cNvSpPr/>
          <p:nvPr/>
        </p:nvSpPr>
        <p:spPr>
          <a:xfrm flipV="1">
            <a:off x="4932360" y="1699920"/>
            <a:ext cx="9349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95"/>
          <p:cNvSpPr/>
          <p:nvPr/>
        </p:nvSpPr>
        <p:spPr>
          <a:xfrm>
            <a:off x="5435640" y="1700280"/>
            <a:ext cx="8650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6"/>
          <p:cNvSpPr/>
          <p:nvPr/>
        </p:nvSpPr>
        <p:spPr>
          <a:xfrm>
            <a:off x="5580000" y="1700280"/>
            <a:ext cx="720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7"/>
          <p:cNvSpPr/>
          <p:nvPr/>
        </p:nvSpPr>
        <p:spPr>
          <a:xfrm>
            <a:off x="5724360" y="1700280"/>
            <a:ext cx="576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8"/>
          <p:cNvSpPr/>
          <p:nvPr/>
        </p:nvSpPr>
        <p:spPr>
          <a:xfrm>
            <a:off x="5867280" y="1700280"/>
            <a:ext cx="4334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9"/>
          <p:cNvSpPr/>
          <p:nvPr/>
        </p:nvSpPr>
        <p:spPr>
          <a:xfrm flipV="1">
            <a:off x="6300720" y="1699920"/>
            <a:ext cx="9352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0"/>
          <p:cNvSpPr/>
          <p:nvPr/>
        </p:nvSpPr>
        <p:spPr>
          <a:xfrm flipV="1">
            <a:off x="6300720" y="1773360"/>
            <a:ext cx="935280" cy="5032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1"/>
          <p:cNvSpPr/>
          <p:nvPr/>
        </p:nvSpPr>
        <p:spPr>
          <a:xfrm flipV="1">
            <a:off x="6300720" y="1844640"/>
            <a:ext cx="935280" cy="432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02"/>
          <p:cNvSpPr/>
          <p:nvPr/>
        </p:nvSpPr>
        <p:spPr>
          <a:xfrm flipV="1">
            <a:off x="6300720" y="1988640"/>
            <a:ext cx="935280" cy="287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03"/>
          <p:cNvSpPr/>
          <p:nvPr/>
        </p:nvSpPr>
        <p:spPr>
          <a:xfrm flipV="1">
            <a:off x="6300720" y="1915920"/>
            <a:ext cx="935280" cy="360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27"/>
          <p:cNvGrpSpPr/>
          <p:nvPr/>
        </p:nvGrpSpPr>
        <p:grpSpPr>
          <a:xfrm>
            <a:off x="1403280" y="3357720"/>
            <a:ext cx="574920" cy="576000"/>
            <a:chOff x="1403280" y="3357720"/>
            <a:chExt cx="574920" cy="576000"/>
          </a:xfrm>
        </p:grpSpPr>
        <p:sp>
          <p:nvSpPr>
            <p:cNvPr id="207" name="Rectangle 42"/>
            <p:cNvSpPr/>
            <p:nvPr/>
          </p:nvSpPr>
          <p:spPr>
            <a:xfrm>
              <a:off x="1403280" y="3789360"/>
              <a:ext cx="504720" cy="14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104"/>
            <p:cNvSpPr/>
            <p:nvPr/>
          </p:nvSpPr>
          <p:spPr>
            <a:xfrm>
              <a:off x="1403280" y="33577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Group 107"/>
          <p:cNvGrpSpPr/>
          <p:nvPr/>
        </p:nvGrpSpPr>
        <p:grpSpPr>
          <a:xfrm>
            <a:off x="1115640" y="1052640"/>
            <a:ext cx="576720" cy="1871640"/>
            <a:chOff x="1115640" y="1052640"/>
            <a:chExt cx="576720" cy="1871640"/>
          </a:xfrm>
        </p:grpSpPr>
        <p:grpSp>
          <p:nvGrpSpPr>
            <p:cNvPr id="210" name="Group 105"/>
            <p:cNvGrpSpPr/>
            <p:nvPr/>
          </p:nvGrpSpPr>
          <p:grpSpPr>
            <a:xfrm>
              <a:off x="1115640" y="1052640"/>
              <a:ext cx="576720" cy="1871640"/>
              <a:chOff x="1115640" y="1052640"/>
              <a:chExt cx="576720" cy="1871640"/>
            </a:xfrm>
          </p:grpSpPr>
          <p:sp>
            <p:nvSpPr>
              <p:cNvPr id="211" name="Line 11"/>
              <p:cNvSpPr/>
              <p:nvPr/>
            </p:nvSpPr>
            <p:spPr>
              <a:xfrm>
                <a:off x="1116000" y="1052640"/>
                <a:ext cx="0" cy="1871640"/>
              </a:xfrm>
              <a:prstGeom prst="line">
                <a:avLst/>
              </a:prstGeom>
              <a:ln w="2844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12"/>
              <p:cNvSpPr/>
              <p:nvPr/>
            </p:nvSpPr>
            <p:spPr>
              <a:xfrm>
                <a:off x="1116000" y="1052640"/>
                <a:ext cx="5763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1692360" y="1052640"/>
                <a:ext cx="0" cy="187164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 flipH="1">
                <a:off x="1115640" y="2924280"/>
                <a:ext cx="5763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Text Box 106"/>
            <p:cNvSpPr/>
            <p:nvPr/>
          </p:nvSpPr>
          <p:spPr>
            <a:xfrm>
              <a:off x="1116000" y="24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Ф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109"/>
          <p:cNvGrpSpPr/>
          <p:nvPr/>
        </p:nvGrpSpPr>
        <p:grpSpPr>
          <a:xfrm>
            <a:off x="1908000" y="1052640"/>
            <a:ext cx="287640" cy="1871640"/>
            <a:chOff x="1908000" y="1052640"/>
            <a:chExt cx="287640" cy="1871640"/>
          </a:xfrm>
        </p:grpSpPr>
        <p:sp>
          <p:nvSpPr>
            <p:cNvPr id="217" name="Rectangle 15"/>
            <p:cNvSpPr/>
            <p:nvPr/>
          </p:nvSpPr>
          <p:spPr>
            <a:xfrm>
              <a:off x="1908000" y="1052640"/>
              <a:ext cx="287640" cy="18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08"/>
            <p:cNvSpPr/>
            <p:nvPr/>
          </p:nvSpPr>
          <p:spPr>
            <a:xfrm>
              <a:off x="190800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111"/>
          <p:cNvGrpSpPr/>
          <p:nvPr/>
        </p:nvGrpSpPr>
        <p:grpSpPr>
          <a:xfrm>
            <a:off x="2627280" y="981000"/>
            <a:ext cx="576360" cy="1943280"/>
            <a:chOff x="2627280" y="981000"/>
            <a:chExt cx="576360" cy="1943280"/>
          </a:xfrm>
        </p:grpSpPr>
        <p:sp>
          <p:nvSpPr>
            <p:cNvPr id="220" name="Rectangle 16"/>
            <p:cNvSpPr/>
            <p:nvPr/>
          </p:nvSpPr>
          <p:spPr>
            <a:xfrm>
              <a:off x="2627280" y="1052640"/>
              <a:ext cx="144360" cy="187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10"/>
            <p:cNvSpPr/>
            <p:nvPr/>
          </p:nvSpPr>
          <p:spPr>
            <a:xfrm>
              <a:off x="2843280" y="98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Freeform 82"/>
          <p:cNvSpPr/>
          <p:nvPr/>
        </p:nvSpPr>
        <p:spPr>
          <a:xfrm>
            <a:off x="971640" y="1065240"/>
            <a:ext cx="2604960" cy="121140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1211400"/>
              <a:gd name="textAreaBottom" fmla="*/ 1211760 h 1211400"/>
            </a:gdLst>
            <a:ahLst/>
            <a:rect l="textAreaLeft" t="textAreaTop" r="textAreaRight" b="textAreaBottom"/>
            <a:pathLst>
              <a:path w="1641" h="763">
                <a:moveTo>
                  <a:pt x="0" y="38"/>
                </a:moveTo>
                <a:cubicBezTo>
                  <a:pt x="30" y="19"/>
                  <a:pt x="61" y="0"/>
                  <a:pt x="91" y="38"/>
                </a:cubicBezTo>
                <a:cubicBezTo>
                  <a:pt x="121" y="76"/>
                  <a:pt x="68" y="189"/>
                  <a:pt x="181" y="264"/>
                </a:cubicBezTo>
                <a:cubicBezTo>
                  <a:pt x="294" y="339"/>
                  <a:pt x="552" y="431"/>
                  <a:pt x="771" y="491"/>
                </a:cubicBezTo>
                <a:cubicBezTo>
                  <a:pt x="990" y="551"/>
                  <a:pt x="1353" y="582"/>
                  <a:pt x="1497" y="627"/>
                </a:cubicBezTo>
                <a:cubicBezTo>
                  <a:pt x="1641" y="672"/>
                  <a:pt x="1618" y="740"/>
                  <a:pt x="1633" y="763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121"/>
          <p:cNvGrpSpPr/>
          <p:nvPr/>
        </p:nvGrpSpPr>
        <p:grpSpPr>
          <a:xfrm>
            <a:off x="3276720" y="2276640"/>
            <a:ext cx="920520" cy="550080"/>
            <a:chOff x="3276720" y="2276640"/>
            <a:chExt cx="920520" cy="550080"/>
          </a:xfrm>
        </p:grpSpPr>
        <p:sp>
          <p:nvSpPr>
            <p:cNvPr id="224" name="Rectangle 17"/>
            <p:cNvSpPr/>
            <p:nvPr/>
          </p:nvSpPr>
          <p:spPr>
            <a:xfrm>
              <a:off x="3276720" y="2276640"/>
              <a:ext cx="6476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12"/>
            <p:cNvSpPr/>
            <p:nvPr/>
          </p:nvSpPr>
          <p:spPr>
            <a:xfrm>
              <a:off x="363528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122"/>
          <p:cNvGrpSpPr/>
          <p:nvPr/>
        </p:nvGrpSpPr>
        <p:grpSpPr>
          <a:xfrm>
            <a:off x="3995640" y="1268280"/>
            <a:ext cx="922320" cy="432000"/>
            <a:chOff x="3995640" y="1268280"/>
            <a:chExt cx="922320" cy="432000"/>
          </a:xfrm>
        </p:grpSpPr>
        <p:sp>
          <p:nvSpPr>
            <p:cNvPr id="227" name="Rectangle 18"/>
            <p:cNvSpPr/>
            <p:nvPr/>
          </p:nvSpPr>
          <p:spPr>
            <a:xfrm>
              <a:off x="3995640" y="1628640"/>
              <a:ext cx="647640" cy="71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13"/>
            <p:cNvSpPr/>
            <p:nvPr/>
          </p:nvSpPr>
          <p:spPr>
            <a:xfrm>
              <a:off x="4356000" y="12682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23"/>
          <p:cNvGrpSpPr/>
          <p:nvPr/>
        </p:nvGrpSpPr>
        <p:grpSpPr>
          <a:xfrm>
            <a:off x="4643280" y="2276640"/>
            <a:ext cx="922320" cy="550080"/>
            <a:chOff x="4643280" y="2276640"/>
            <a:chExt cx="922320" cy="550080"/>
          </a:xfrm>
        </p:grpSpPr>
        <p:sp>
          <p:nvSpPr>
            <p:cNvPr id="230" name="Rectangle 19"/>
            <p:cNvSpPr/>
            <p:nvPr/>
          </p:nvSpPr>
          <p:spPr>
            <a:xfrm>
              <a:off x="4643280" y="2276640"/>
              <a:ext cx="6494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14"/>
            <p:cNvSpPr/>
            <p:nvPr/>
          </p:nvSpPr>
          <p:spPr>
            <a:xfrm>
              <a:off x="500364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124"/>
          <p:cNvGrpSpPr/>
          <p:nvPr/>
        </p:nvGrpSpPr>
        <p:grpSpPr>
          <a:xfrm>
            <a:off x="5364000" y="1341360"/>
            <a:ext cx="1138320" cy="405720"/>
            <a:chOff x="5364000" y="1341360"/>
            <a:chExt cx="1138320" cy="405720"/>
          </a:xfrm>
        </p:grpSpPr>
        <p:sp>
          <p:nvSpPr>
            <p:cNvPr id="233" name="Rectangle 20"/>
            <p:cNvSpPr/>
            <p:nvPr/>
          </p:nvSpPr>
          <p:spPr>
            <a:xfrm>
              <a:off x="5364000" y="1628640"/>
              <a:ext cx="648000" cy="71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6"/>
            <p:cNvSpPr/>
            <p:nvPr/>
          </p:nvSpPr>
          <p:spPr>
            <a:xfrm>
              <a:off x="5940360" y="134136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125"/>
          <p:cNvGrpSpPr/>
          <p:nvPr/>
        </p:nvGrpSpPr>
        <p:grpSpPr>
          <a:xfrm>
            <a:off x="6012000" y="2276640"/>
            <a:ext cx="1066680" cy="550080"/>
            <a:chOff x="6012000" y="2276640"/>
            <a:chExt cx="1066680" cy="550080"/>
          </a:xfrm>
        </p:grpSpPr>
        <p:sp>
          <p:nvSpPr>
            <p:cNvPr id="236" name="Rectangle 21"/>
            <p:cNvSpPr/>
            <p:nvPr/>
          </p:nvSpPr>
          <p:spPr>
            <a:xfrm>
              <a:off x="6012000" y="2276640"/>
              <a:ext cx="6476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117"/>
            <p:cNvSpPr/>
            <p:nvPr/>
          </p:nvSpPr>
          <p:spPr>
            <a:xfrm>
              <a:off x="651672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126"/>
          <p:cNvGrpSpPr/>
          <p:nvPr/>
        </p:nvGrpSpPr>
        <p:grpSpPr>
          <a:xfrm>
            <a:off x="6877080" y="1197000"/>
            <a:ext cx="523800" cy="968400"/>
            <a:chOff x="6877080" y="1197000"/>
            <a:chExt cx="523800" cy="968400"/>
          </a:xfrm>
        </p:grpSpPr>
        <p:sp>
          <p:nvSpPr>
            <p:cNvPr id="239" name="Freeform 22"/>
            <p:cNvSpPr/>
            <p:nvPr/>
          </p:nvSpPr>
          <p:spPr>
            <a:xfrm>
              <a:off x="6877080" y="1628640"/>
              <a:ext cx="361800" cy="5367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228" h="338">
                  <a:moveTo>
                    <a:pt x="228" y="0"/>
                  </a:moveTo>
                  <a:cubicBezTo>
                    <a:pt x="228" y="113"/>
                    <a:pt x="228" y="225"/>
                    <a:pt x="228" y="338"/>
                  </a:cubicBezTo>
                  <a:cubicBezTo>
                    <a:pt x="152" y="338"/>
                    <a:pt x="76" y="338"/>
                    <a:pt x="0" y="338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18"/>
            <p:cNvSpPr/>
            <p:nvPr/>
          </p:nvSpPr>
          <p:spPr>
            <a:xfrm>
              <a:off x="7093080" y="119700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120"/>
          <p:cNvGrpSpPr/>
          <p:nvPr/>
        </p:nvGrpSpPr>
        <p:grpSpPr>
          <a:xfrm>
            <a:off x="8028000" y="2492280"/>
            <a:ext cx="647640" cy="576360"/>
            <a:chOff x="8028000" y="2492280"/>
            <a:chExt cx="647640" cy="576360"/>
          </a:xfrm>
        </p:grpSpPr>
        <p:sp>
          <p:nvSpPr>
            <p:cNvPr id="242" name="Rectangle 24"/>
            <p:cNvSpPr/>
            <p:nvPr/>
          </p:nvSpPr>
          <p:spPr>
            <a:xfrm>
              <a:off x="8028000" y="2492280"/>
              <a:ext cx="216000" cy="57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19"/>
            <p:cNvSpPr/>
            <p:nvPr/>
          </p:nvSpPr>
          <p:spPr>
            <a:xfrm>
              <a:off x="8172360" y="26370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131"/>
          <p:cNvGrpSpPr/>
          <p:nvPr/>
        </p:nvGrpSpPr>
        <p:grpSpPr>
          <a:xfrm>
            <a:off x="8317080" y="1844640"/>
            <a:ext cx="647640" cy="694800"/>
            <a:chOff x="8317080" y="1844640"/>
            <a:chExt cx="647640" cy="694800"/>
          </a:xfrm>
        </p:grpSpPr>
        <p:grpSp>
          <p:nvGrpSpPr>
            <p:cNvPr id="245" name="Group 129"/>
            <p:cNvGrpSpPr/>
            <p:nvPr/>
          </p:nvGrpSpPr>
          <p:grpSpPr>
            <a:xfrm>
              <a:off x="8675640" y="1844640"/>
              <a:ext cx="289080" cy="647640"/>
              <a:chOff x="8675640" y="1844640"/>
              <a:chExt cx="289080" cy="647640"/>
            </a:xfrm>
          </p:grpSpPr>
          <p:sp>
            <p:nvSpPr>
              <p:cNvPr id="246" name="Line 25"/>
              <p:cNvSpPr/>
              <p:nvPr/>
            </p:nvSpPr>
            <p:spPr>
              <a:xfrm>
                <a:off x="8675640" y="2492280"/>
                <a:ext cx="289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28"/>
              <p:cNvSpPr/>
              <p:nvPr/>
            </p:nvSpPr>
            <p:spPr>
              <a:xfrm>
                <a:off x="8820000" y="1844640"/>
                <a:ext cx="0" cy="647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Text Box 128"/>
            <p:cNvSpPr/>
            <p:nvPr/>
          </p:nvSpPr>
          <p:spPr>
            <a:xfrm>
              <a:off x="8317080" y="2133720"/>
              <a:ext cx="50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133"/>
          <p:cNvGrpSpPr/>
          <p:nvPr/>
        </p:nvGrpSpPr>
        <p:grpSpPr>
          <a:xfrm>
            <a:off x="971640" y="2924280"/>
            <a:ext cx="359640" cy="1368000"/>
            <a:chOff x="971640" y="2924280"/>
            <a:chExt cx="359640" cy="1368000"/>
          </a:xfrm>
        </p:grpSpPr>
        <p:grpSp>
          <p:nvGrpSpPr>
            <p:cNvPr id="250" name="Group 65"/>
            <p:cNvGrpSpPr/>
            <p:nvPr/>
          </p:nvGrpSpPr>
          <p:grpSpPr>
            <a:xfrm>
              <a:off x="1186920" y="2924280"/>
              <a:ext cx="144360" cy="1368000"/>
              <a:chOff x="1186920" y="2924280"/>
              <a:chExt cx="144360" cy="1368000"/>
            </a:xfrm>
          </p:grpSpPr>
          <p:sp>
            <p:nvSpPr>
              <p:cNvPr id="251" name="Line 66"/>
              <p:cNvSpPr/>
              <p:nvPr/>
            </p:nvSpPr>
            <p:spPr>
              <a:xfrm>
                <a:off x="1260360" y="2924280"/>
                <a:ext cx="0" cy="121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67"/>
              <p:cNvSpPr/>
              <p:nvPr/>
            </p:nvSpPr>
            <p:spPr>
              <a:xfrm>
                <a:off x="1187280" y="4064400"/>
                <a:ext cx="142920" cy="1504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68"/>
              <p:cNvSpPr/>
              <p:nvPr/>
            </p:nvSpPr>
            <p:spPr>
              <a:xfrm flipH="1">
                <a:off x="1186920" y="3987360"/>
                <a:ext cx="144360" cy="30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Line 132"/>
            <p:cNvSpPr/>
            <p:nvPr/>
          </p:nvSpPr>
          <p:spPr>
            <a:xfrm>
              <a:off x="971640" y="4076640"/>
              <a:ext cx="1443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124000" y="33336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3. полупроводнико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168720" cy="2873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3995640" y="2781360"/>
            <a:ext cx="48974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хема фотоэлемента с внутренним фотоэффектом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области полупроводника с дырочной и электронной проводимост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нктирной линией обозначен р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ерех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887640" y="119700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упроводниковый прибор с выпрямляющим  полупроводниковым перех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-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переходом) – фотоэлемент, действие которого основано на внутреннем фотоэффек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50920" y="4653000"/>
            <a:ext cx="8893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честве материалов для полупроводникового фотоэлемента использу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e, GaAs, CdS, G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</a:t>
            </a:r>
            <a:r>
              <a:rPr b="1" lang="en-US" sz="1800" spc="-1" strike="noStrike">
                <a:solidFill>
                  <a:srgbClr val="9329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5373720"/>
            <a:ext cx="756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ники оптического излучения, для прямого преобразования энергии солнечного излучения в электрическую энергию в солнечных батаре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ивная фотометрия, различного рода световые, цветовые, спектральные измерения (спектроскопия и спектрофотомерия), а также измерение весьма слабых излучений (в астрофизике, в биологии и других областях научного исследования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Фотоэлектрический контроль и управление производственными процессами, автоматика, транспорт, бытовая тех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Электронные счетные, запоминающие и записывающие устрой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Регистрация и измерение инфракрасного излучения, сигнализация и локация в видимых и инфракрасных лучах, техника ночного ви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Системы оптической связи на лазе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Преобразование энергии солнечного излучения непосредственно в электрическую энергию (солнечные батареи, широко применяющиеся для питания аппаратуры искусственных спутников Земли и других устройст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Оптоэлектро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09600" y="187920"/>
            <a:ext cx="88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сновные области применения фотоэлектронных приб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49200" y="1483920"/>
            <a:ext cx="8794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Определение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тоэфф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9280" y="907920"/>
            <a:ext cx="87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76400" indent="-1976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Фотоэффек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любые изменения, которые происходят с веществом при поглощении им электромагнитного из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95280" y="2133720"/>
            <a:ext cx="8496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10082"/>
                </a:solidFill>
                <a:uFillTx/>
                <a:latin typeface="Arial"/>
              </a:rPr>
              <a:t>Это могут быть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я строения и свойств молекул и кристаллов (фотохимический эффект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е скорости химических реакций (фотокаталитический эффект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характеристик движения носителей электрического заряда в веществе (фотоэлектрический эффект)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475080"/>
            <a:ext cx="3827160" cy="188280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4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483000" cy="2592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4427640" y="3479760"/>
            <a:ext cx="4572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хема эксперимента по исследованию фотоэффекта. Из света берется узкий диапазон частот и направляется на катод внутри вакуумного прибора. Напряжением между катодом и анодом устанавливается энергетический порог между ними. По току судят о достижении электронами ан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59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3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улировка 1-го закона фотоэффекта: Сила фототока прямо пропорциональна плотности светового пот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2-му закону фотоэффекта, максимальная кинетическая энергия вырываемых светом электронов линейно возрастает с частотой света и не зависит от его интенсив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-й закон фотоэффекта: для каждого вещества существует красная граница фотоэффекта, то есть минимальная частота света \nu_0 (или максимальная длина волны λ0), при которой ещё возможен фотоэффект, и если \nu &lt; \nu_0, то фотоэффект уже не происходи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h</a:t>
            </a:r>
            <a:r>
              <a:rPr b="0" i="1" lang="el-GR" sz="5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0" lang="el-GR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Aout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+</a:t>
            </a: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mv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22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987640" y="1890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ФОТОЭФФ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2771280" y="76500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867280" y="765000"/>
            <a:ext cx="360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0" y="1557360"/>
            <a:ext cx="3600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фотоэлектронная эмисс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пускание освещенным телом свободных электронов в вакуу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1258920" y="907920"/>
            <a:ext cx="1368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еш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907920"/>
            <a:ext cx="1800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утрен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50920" y="4365720"/>
            <a:ext cx="3384360" cy="20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куумные и газонаполн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элементы с внешни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эффект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олее сложные вакуум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оры, в которых фотоэмитт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 источник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ых электр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5184720" y="1557360"/>
            <a:ext cx="39592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ереход электронов в объеме освещенного полупроводника в возбужденное состояние (т. е. на более высокие энергетические уровни) без изменения нейтральности твердого тела, т. е. без выхода электронов за его предел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364000" y="4292640"/>
            <a:ext cx="3529080" cy="1657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класс полупроводников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мников излуч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резистор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диод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5398920" y="2852640"/>
            <a:ext cx="37450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проявляется, например, в виде изменения концентрации электронов проводимости в полупроводнике при его освещении, т. е. в изменении связанных с этим электрических свойств полупроводников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95280" y="285264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свободные электроны могут собираться на анод, фокусироваться или ускоряться электрическим пол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60360" y="174600"/>
            <a:ext cx="822960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2971"/>
                </a:solidFill>
                <a:latin typeface="Arial"/>
              </a:rPr>
              <a:t>Основными законами внешнего фотоэффекта (справедливыми для любого материала фотоэмиттера) являются следующие экспериментально установленные соотнош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еличина фототока в режиме насыщения прямо пропорцио­нальна интенсивности падающего света, если спектральный состав излучения неизменен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закон Столетова)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Для каждого вещества существует длинноволнова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крас­ная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ца спектра излучения λо, за которой (при λ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λо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эмиссии не происходит. Эту наибольшую длину волны λо (или наи­меньшую энергию кван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νо ) излучения, еще вызывающего фото­эффект, называют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инноволновым порогом фотоэффекта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 соответствующую ей наименьшую частоту νо= λо /с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рогавой частото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– скорость све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Максимальная начальная кинетическая энергия фотоэлект­ронов линейно возрастает с частотой падающего света и не зави­сит от его интенсивност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закон Эйнштей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9280" y="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История развития учения о фотоэлектричестве и создании фотоэлектронных приборов насчитывает более 150 л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39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Беккерел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первые обнаружил образование фотоЭДС на контактах разнородных материал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3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ервые сообщения о зависимости сопротивления селена от освещ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5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остроение первого селенового фотоэлемента, использующего это свойств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6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ервый селеновый фотоэлемент с запирающим слое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7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открытие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 Герце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нешнего фотоэффекта, который установил, что электрический разряд между двумя проводниками происходит значительно сильнее, когда металлические электроды освещаются светом, богатым ультрафиолетом (например, светом от искры другого разрядника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8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итальянский уч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угусто Ри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наружил, что проводящая пластинка, освещенная пучком ультрафиолетовых лучей, заряжается положительно; ввел термин фотоэлектрические явл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8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Г. Столетовы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ыполнены фундаментальные работы по исследованию фотоэмиссии и сформулированы основные законы внешнего фотоэфф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9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. Ленар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Дж. Дж. Томсо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доказали, что при фотоэффекте испускаются электрон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9 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льстер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Гейтел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остроили первый вакуумный фотоэлемент с фотокатодом из сплава натрия и кал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905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Эйнштей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ъяснил основные закономерности фотоэффекта на основе гипотезы о квантовании энергии электромагнитного поля, проявляющемся в процессах испускания и поглощения света. 1921 г. – Нобелевская прем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26920" y="1197000"/>
            <a:ext cx="5115240" cy="3914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V="1">
            <a:off x="2050920" y="836640"/>
            <a:ext cx="0" cy="424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03640" y="51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11280" y="51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-U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50920" y="5084640"/>
            <a:ext cx="496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1979280" y="2421000"/>
            <a:ext cx="1655640" cy="0"/>
          </a:xfrm>
          <a:prstGeom prst="line">
            <a:avLst/>
          </a:prstGeom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1979640" y="134136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14836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547640" y="220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ru-RU" sz="1800" spc="-1" strike="noStrike" baseline="-25000">
                <a:solidFill>
                  <a:srgbClr val="008000"/>
                </a:solidFill>
                <a:latin typeface="Arial"/>
              </a:rPr>
              <a:t>н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1547640" y="112536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ru-RU" sz="1800" spc="-1" strike="noStrike" baseline="-25000">
                <a:solidFill>
                  <a:srgbClr val="008000"/>
                </a:solidFill>
                <a:latin typeface="Arial"/>
              </a:rPr>
              <a:t>н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763640" y="62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0" y="5488560"/>
            <a:ext cx="644364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Arial"/>
              </a:rPr>
              <a:t>Зависимость силы фототока от приложенного напряжен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Кривая 2 соответствует большей интенсивности светового поток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н1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и I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н2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– токи насыщени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з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– запирающий потенциал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156360" y="141120"/>
            <a:ext cx="2987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При достаточно больших положительных напряжениях на аноде A фототок достигает насыщения, так как все электроны, вырванные светом из катода</a:t>
            </a:r>
            <a:r>
              <a:rPr b="0" lang="en-US" sz="1500" spc="-1" strike="noStrike">
                <a:solidFill>
                  <a:srgbClr val="6600cc"/>
                </a:solidFill>
                <a:latin typeface="Arial"/>
              </a:rPr>
              <a:t> (</a:t>
            </a: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, достигают 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156360" y="1916280"/>
            <a:ext cx="2808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00"/>
                </a:solidFill>
                <a:latin typeface="Arial"/>
              </a:rPr>
              <a:t>Ток насыщения Iн прямо пропорционален интенсивности падающего свет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156360" y="3213000"/>
            <a:ext cx="298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Когда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U&lt;0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на А, электрическое поле между К и А тормозит электроны. Анода могут достичь только те электроны, у которых Е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кин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|eU|. Если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анода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&lt;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–U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-&gt; 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фототок прекращает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6191280" y="494172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Измеряя Uз, можно определить максимальную кинетическую энергию фотоэлектрон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6" descr="63135289367520-1"/>
          <p:cNvPicPr/>
          <p:nvPr/>
        </p:nvPicPr>
        <p:blipFill>
          <a:blip r:embed="rId2"/>
          <a:stretch/>
        </p:blipFill>
        <p:spPr>
          <a:xfrm>
            <a:off x="6516720" y="5734080"/>
            <a:ext cx="17272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6:18:00Z</dcterms:created>
  <dc:creator>КАТЮША</dc:creator>
  <dc:description/>
  <dc:language>en-US</dc:language>
  <cp:lastModifiedBy>Вадим Ковалёв</cp:lastModifiedBy>
  <dcterms:modified xsi:type="dcterms:W3CDTF">2017-05-14T08:13:39Z</dcterms:modified>
  <cp:revision>23</cp:revision>
  <dc:subject/>
  <dc:title>Фотоэффект</dc:title>
</cp:coreProperties>
</file>