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jpeg" ContentType="image/jpeg"/>
  <Override PartName="/ppt/media/image56.gif" ContentType="image/gif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50.png" ContentType="image/png"/>
  <Override PartName="/ppt/media/image4.png" ContentType="image/png"/>
  <Override PartName="/ppt/media/image12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4C5-6C0C-4FE0-80BD-D91F32D2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D00-C0C6-478C-B780-50044BEE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DB0-E2C3-4367-AE72-CF2FBC72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625-312B-4847-8A5D-753A09ED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B66-9818-4A73-9229-EFED702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B50-542C-4D73-A53A-6E91D8F5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278-28B9-48BA-B7ED-C38D8A2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1F5-50F5-49D8-AF39-C6380050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B67-24F8-4264-828D-4CEDC0D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3BE-F009-4F51-AFF5-32DE523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0CE-49D6-4AE1-841F-19BD3434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495-CB62-4018-8F29-6569B8A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2F93-3699-489F-9528-1343D38A66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BBA-4508-4AB8-9101-0832DDA62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9960" y="3860640"/>
            <a:ext cx="8286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Источники электрического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дготовил: Преподаватель физики ГБПОУ ВО «Бутурлиновский механико- технологический колледж» Ковалева Е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Batteries.jpg"/>
          <p:cNvPicPr/>
          <p:nvPr/>
        </p:nvPicPr>
        <p:blipFill>
          <a:blip r:embed="rId1"/>
          <a:stretch/>
        </p:blipFill>
        <p:spPr>
          <a:xfrm>
            <a:off x="2214720" y="785880"/>
            <a:ext cx="4357440" cy="29289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ris4.jpg"/>
          <p:cNvPicPr/>
          <p:nvPr/>
        </p:nvPicPr>
        <p:blipFill>
          <a:blip r:embed="rId2"/>
          <a:stretch/>
        </p:blipFill>
        <p:spPr>
          <a:xfrm>
            <a:off x="500040" y="78588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il3c.jpg"/>
          <p:cNvPicPr/>
          <p:nvPr/>
        </p:nvPicPr>
        <p:blipFill>
          <a:blip r:embed="rId3"/>
          <a:stretch/>
        </p:blipFill>
        <p:spPr>
          <a:xfrm>
            <a:off x="6572160" y="785880"/>
            <a:ext cx="1776600" cy="2928960"/>
          </a:xfrm>
          <a:prstGeom prst="rect">
            <a:avLst/>
          </a:prstGeom>
          <a:ln w="0">
            <a:noFill/>
          </a:ln>
        </p:spPr>
      </p:pic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E165-0909-4C33-81D8-422EE2F00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bateryinside.gif"/>
          <p:cNvPicPr/>
          <p:nvPr/>
        </p:nvPicPr>
        <p:blipFill>
          <a:blip r:embed="rId2"/>
          <a:stretch/>
        </p:blipFill>
        <p:spPr>
          <a:xfrm>
            <a:off x="4643280" y="107172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A114-8C34-4F65-A4B1-FF3C1D737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8299-9D54-4827-93F1-28C78AC9A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5E34-44E5-4674-878A-F9BA2FE91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C9D-3497-4E1A-B870-EF94BAB65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 Заряды в них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075120" y="35712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5E09-7503-41C8-904A-49D2D7ECB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FAA-C490-4F54-A334-51313F1ED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2343240" y="404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ак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A53-48F3-4928-96AD-F7496B605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468360" y="5157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B66-EAA2-41B7-8232-CFA80D199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28760" y="1214280"/>
          <a:ext cx="8143920" cy="547560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ектрической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4B8-1B0B-4407-8ED3-75BB3B249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0CC0-D8FD-4826-8DBB-3845130EE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34F-DA44-4DE1-AB7D-7EF95AB88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507320" y="3286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2150280" y="578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4722120" y="5929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79200" y="4005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5658840" y="3357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622224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800-4277-40DF-A58E-A94FB3381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1071720" y="2802600"/>
            <a:ext cx="7215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Сегодня на уроке я узнал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Теперь я мог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Знания, полученные сегодня на уроке,  пригодя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3084840" y="714240"/>
            <a:ext cx="281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должите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5" descr="Lolly1.gif"/>
          <p:cNvPicPr/>
          <p:nvPr/>
        </p:nvPicPr>
        <p:blipFill>
          <a:blip r:embed="rId1"/>
          <a:stretch/>
        </p:blipFill>
        <p:spPr>
          <a:xfrm>
            <a:off x="1071720" y="50004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2FC3-A6FB-4F5A-B784-12C50B26A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5500800" y="264312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7"/>
          <p:cNvSpPr/>
          <p:nvPr/>
        </p:nvSpPr>
        <p:spPr>
          <a:xfrm>
            <a:off x="357120" y="714240"/>
            <a:ext cx="8358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опыта тебе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бумажное полотенце, пищевая фольга, ножницы, медные монеты, поваренная соль, вода, два изолированных медных провода, маленькая лампочка (1,5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0920" y="1844640"/>
            <a:ext cx="540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стру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в воде немного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жь аккуратно бумажное полотенце и фольгу на квадратики чуть крупнее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очи бумажные квадратики в солён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 друг на друга стопкой: медную монету, кусочек фольги, снова монету, и так далее несколько раз. Сверху стопки должна быть бумага, внизу – мо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ённый конец одного провода подсунь под стопку, второй конец присоедини к лампочке. Один конец второго провода положи на стопку сверху, второй тоже присоедини к лампочке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71"/>
          <p:cNvSpPr/>
          <p:nvPr/>
        </p:nvSpPr>
        <p:spPr>
          <a:xfrm>
            <a:off x="1143000" y="3571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ий проект «Сделай батарей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66" descr="Рисунок1.png"/>
          <p:cNvPicPr/>
          <p:nvPr/>
        </p:nvPicPr>
        <p:blipFill>
          <a:blip r:embed="rId2"/>
          <a:stretch/>
        </p:blipFill>
        <p:spPr>
          <a:xfrm>
            <a:off x="5580000" y="263700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E81B-1155-4410-914D-3F94EB5A1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оказанн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044-52CB-43EE-A9F2-491457B71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357280" y="329724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–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030E-8906-4679-A571-9AD4BC09F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http://school.ort.spb.ru/library/physics/8class/tema_2/lesson_1/electrof_3_s.jpg"/>
          <p:cNvPicPr/>
          <p:nvPr/>
        </p:nvPicPr>
        <p:blipFill>
          <a:blip r:embed="rId1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; в результате трения щеток о диски на кондукторах машины накапливаются заряды противоположного зн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BAFA-CFD7-4B24-AF75-F286BB286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– внутрення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http://school.ort.spb.ru/library/physics/8class/tema_2/lesson_1/term_para_s.jpg"/>
          <p:cNvPicPr/>
          <p:nvPr/>
        </p:nvPicPr>
        <p:blipFill>
          <a:blip r:embed="rId1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роволоки из разных металлов спаять с одного края, а затем нагреть место спая, то в них возникает ток – заряды при нагревании спая разделяютс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319200" y="45576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40F-4A53-4A1B-8F4D-3DFF9CC21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http://school.ort.spb.ru/library/physics/8class/tema_2/lesson_1/solar_s.jpg"/>
          <p:cNvPicPr/>
          <p:nvPr/>
        </p:nvPicPr>
        <p:blipFill>
          <a:blip r:embed="rId1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, в них появляется ток – световая энергия превраща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 Фотоэлементы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443700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E4A5-BD39-4278-8911-2D2CA9028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AB5-3464-4E3F-A2D6-4DB89898F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43560" y="59500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315920" y="26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002840" y="26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71680" y="31431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E0E-ADF1-4F26-AD2D-B41877366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 Ковалёв</cp:lastModifiedBy>
  <dcterms:modified xsi:type="dcterms:W3CDTF">2017-05-14T08:00:38Z</dcterms:modified>
  <cp:revision>54</cp:revision>
  <dc:subject/>
  <dc:title>Слайд 1</dc:title>
</cp:coreProperties>
</file>