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7.gif" ContentType="image/gif"/>
  <Override PartName="/ppt/media/image52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3.jpeg" ContentType="image/jpeg"/>
  <Override PartName="/ppt/media/image56.gif" ContentType="image/gif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2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50.png" ContentType="image/png"/>
  <Override PartName="/ppt/media/image4.png" ContentType="image/png"/>
  <Override PartName="/ppt/media/image12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5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8.gif" ContentType="image/gif"/>
  <Override PartName="/ppt/media/image1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D70-8AA9-496C-9076-90ED6428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AEE-E809-4766-9F14-CAA10D85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75B-7825-42F3-882B-E1A6D0F4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1AD-457E-49A5-A2CC-D2673AE7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1BB-C6A0-48B2-BAA6-920305BB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BB9-3F2C-48F9-97A7-CC113408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F04-3020-4E30-B85D-1E864E01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75F-F7B7-4773-9F2A-9C057B63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43F-4329-4C19-96F2-643505E7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2B2-8815-4D51-A10E-ED0FD505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59C-1B9B-4E4F-818A-965BA7D8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EAA-149E-4839-9911-D1DB0223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604B-9FDB-4A2D-BF2C-790A079FA0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92D9-F9EE-43B8-835B-BA0CF4618F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99960" y="3860640"/>
            <a:ext cx="8286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Источники электрического 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одготовил: Преподаватель физики ГБПОУ ВО «Бутурлиновский механико- технологический колледж» Ковалева Е.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Batteries.jpg"/>
          <p:cNvPicPr/>
          <p:nvPr/>
        </p:nvPicPr>
        <p:blipFill>
          <a:blip r:embed="rId1"/>
          <a:stretch/>
        </p:blipFill>
        <p:spPr>
          <a:xfrm>
            <a:off x="2214720" y="785880"/>
            <a:ext cx="4357440" cy="29289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ris4.jpg"/>
          <p:cNvPicPr/>
          <p:nvPr/>
        </p:nvPicPr>
        <p:blipFill>
          <a:blip r:embed="rId2"/>
          <a:stretch/>
        </p:blipFill>
        <p:spPr>
          <a:xfrm>
            <a:off x="500040" y="78588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0" descr="il3c.jpg"/>
          <p:cNvPicPr/>
          <p:nvPr/>
        </p:nvPicPr>
        <p:blipFill>
          <a:blip r:embed="rId3"/>
          <a:stretch/>
        </p:blipFill>
        <p:spPr>
          <a:xfrm>
            <a:off x="6572160" y="785880"/>
            <a:ext cx="1776600" cy="2928960"/>
          </a:xfrm>
          <a:prstGeom prst="rect">
            <a:avLst/>
          </a:prstGeom>
          <a:ln w="0">
            <a:noFill/>
          </a:ln>
        </p:spPr>
      </p:pic>
      <p:sp>
        <p:nvSpPr>
          <p:cNvPr id="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622A-5592-4A7C-BA8A-840B92CED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batraz.jpg"/>
          <p:cNvPicPr/>
          <p:nvPr/>
        </p:nvPicPr>
        <p:blipFill>
          <a:blip r:embed="rId1"/>
          <a:stretch/>
        </p:blipFill>
        <p:spPr>
          <a:xfrm>
            <a:off x="928800" y="1285920"/>
            <a:ext cx="3382920" cy="3000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bateryinside.gif"/>
          <p:cNvPicPr/>
          <p:nvPr/>
        </p:nvPicPr>
        <p:blipFill>
          <a:blip r:embed="rId2"/>
          <a:stretch/>
        </p:blipFill>
        <p:spPr>
          <a:xfrm>
            <a:off x="4643280" y="107172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1441800" y="42876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гальванического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357120" y="457776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ванический элемен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й источник тока, в котором электрическая энергия вырабатывается в результате прямого преобразования химической энергии окислительно-восстановительной реа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2D35-FBDB-4610-897E-2F7252C1B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batt_mal_b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4429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" descr="bat_big_b.jpg"/>
          <p:cNvPicPr/>
          <p:nvPr/>
        </p:nvPicPr>
        <p:blipFill>
          <a:blip r:embed="rId2"/>
          <a:stretch/>
        </p:blipFill>
        <p:spPr>
          <a:xfrm>
            <a:off x="5929200" y="1428840"/>
            <a:ext cx="1743120" cy="1768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1727640" y="500040"/>
            <a:ext cx="57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ток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шлого века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011E-E68B-49E3-BCAB-10EECF344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http://class-fizika.narod.ru/8_class/8_urok/8_el/8.jpg"/>
          <p:cNvPicPr/>
          <p:nvPr/>
        </p:nvPicPr>
        <p:blipFill>
          <a:blip r:embed="rId1"/>
          <a:stretch/>
        </p:blipFill>
        <p:spPr>
          <a:xfrm>
            <a:off x="642960" y="171468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90000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скольких гальванических элементов можно составить </a:t>
            </a:r>
            <a:r>
              <a:rPr b="1" i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батар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show_image_in_imgtag.jpg"/>
          <p:cNvPicPr/>
          <p:nvPr/>
        </p:nvPicPr>
        <p:blipFill>
          <a:blip r:embed="rId2"/>
          <a:stretch/>
        </p:blipFill>
        <p:spPr>
          <a:xfrm rot="2485800">
            <a:off x="2338560" y="4230360"/>
            <a:ext cx="1357200" cy="17510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24.jpg"/>
          <p:cNvPicPr/>
          <p:nvPr/>
        </p:nvPicPr>
        <p:blipFill>
          <a:blip r:embed="rId3"/>
          <a:stretch/>
        </p:blipFill>
        <p:spPr>
          <a:xfrm>
            <a:off x="6215040" y="3643200"/>
            <a:ext cx="2454120" cy="2238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Копия 1042103308.jpg"/>
          <p:cNvPicPr/>
          <p:nvPr/>
        </p:nvPicPr>
        <p:blipFill>
          <a:blip r:embed="rId4"/>
          <a:stretch/>
        </p:blipFill>
        <p:spPr>
          <a:xfrm>
            <a:off x="4143240" y="17859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il5.jpg"/>
          <p:cNvPicPr/>
          <p:nvPr/>
        </p:nvPicPr>
        <p:blipFill>
          <a:blip r:embed="rId5"/>
          <a:stretch/>
        </p:blipFill>
        <p:spPr>
          <a:xfrm>
            <a:off x="4214880" y="4214880"/>
            <a:ext cx="1785960" cy="1407960"/>
          </a:xfrm>
          <a:prstGeom prst="rect">
            <a:avLst/>
          </a:prstGeom>
          <a:ln w="0">
            <a:noFill/>
          </a:ln>
        </p:spPr>
      </p:pic>
      <p:sp>
        <p:nvSpPr>
          <p:cNvPr id="11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EB1A-B25B-4130-BC37-87B28C659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9294.jpg"/>
          <p:cNvPicPr/>
          <p:nvPr/>
        </p:nvPicPr>
        <p:blipFill>
          <a:blip r:embed="rId1"/>
          <a:stretch/>
        </p:blipFill>
        <p:spPr>
          <a:xfrm>
            <a:off x="1285920" y="2643120"/>
            <a:ext cx="2825640" cy="2421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il3a.jpg"/>
          <p:cNvPicPr/>
          <p:nvPr/>
        </p:nvPicPr>
        <p:blipFill>
          <a:blip r:embed="rId2"/>
          <a:stretch/>
        </p:blipFill>
        <p:spPr>
          <a:xfrm>
            <a:off x="1357200" y="4929120"/>
            <a:ext cx="281160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1"/>
          <p:cNvSpPr/>
          <p:nvPr/>
        </p:nvSpPr>
        <p:spPr>
          <a:xfrm>
            <a:off x="500040" y="435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я (элемент питания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иходное название источника электричества для автономного питания портативного устройства. Может представлять собой одиночный гальванический элемент, аккумулятор или их соединение в батарею для увеличения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il2.jpg"/>
          <p:cNvPicPr/>
          <p:nvPr/>
        </p:nvPicPr>
        <p:blipFill>
          <a:blip r:embed="rId3"/>
          <a:stretch/>
        </p:blipFill>
        <p:spPr>
          <a:xfrm>
            <a:off x="3786120" y="2571840"/>
            <a:ext cx="1495440" cy="24685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0" descr="il4b.jpg"/>
          <p:cNvPicPr/>
          <p:nvPr/>
        </p:nvPicPr>
        <p:blipFill>
          <a:blip r:embed="rId4"/>
          <a:stretch/>
        </p:blipFill>
        <p:spPr>
          <a:xfrm rot="768600">
            <a:off x="5074920" y="314604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48CD-6A89-4907-BD43-0D8AF02401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7" descr="2.jpg"/>
          <p:cNvPicPr/>
          <p:nvPr/>
        </p:nvPicPr>
        <p:blipFill>
          <a:blip r:embed="rId1"/>
          <a:stretch/>
        </p:blipFill>
        <p:spPr>
          <a:xfrm>
            <a:off x="3143160" y="371484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PLATINUM.jpg"/>
          <p:cNvPicPr/>
          <p:nvPr/>
        </p:nvPicPr>
        <p:blipFill>
          <a:blip r:embed="rId2"/>
          <a:stretch/>
        </p:blipFill>
        <p:spPr>
          <a:xfrm>
            <a:off x="571680" y="3643200"/>
            <a:ext cx="2643120" cy="20210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571680" y="7858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мический источник тока многоразового действия. Если поместить в раствор соли два угольных электрода, то гальванометр не показывает наличие тока. Если же аккумулятор предварительно зарядить, то его можно использовать в качестве самостоятельного источника тока. Существуют различные типы аккумуляторов: кислотные и щелочные.  Заряды в них разделяются также в результате химических ре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3075120" y="35712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9" descr="flash-battary.jpg"/>
          <p:cNvPicPr/>
          <p:nvPr/>
        </p:nvPicPr>
        <p:blipFill>
          <a:blip r:embed="rId3"/>
          <a:stretch/>
        </p:blipFill>
        <p:spPr>
          <a:xfrm>
            <a:off x="5500800" y="3786120"/>
            <a:ext cx="2428920" cy="17557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8"/>
          <p:cNvSpPr/>
          <p:nvPr/>
        </p:nvSpPr>
        <p:spPr>
          <a:xfrm>
            <a:off x="428760" y="5500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е аккумуляторы используются для накопления энергии и автономного питания различных потреб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D4BB-EB32-400D-BFFB-2F994D271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" descr="Titan.jpg"/>
          <p:cNvPicPr/>
          <p:nvPr/>
        </p:nvPicPr>
        <p:blipFill>
          <a:blip r:embed="rId1"/>
          <a:stretch/>
        </p:blipFill>
        <p:spPr>
          <a:xfrm>
            <a:off x="5715000" y="22147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500040" y="48578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иратель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 для накопления энергии с целью ее последующ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4" descr="32_2.jpg"/>
          <p:cNvPicPr/>
          <p:nvPr/>
        </p:nvPicPr>
        <p:blipFill>
          <a:blip r:embed="rId2"/>
          <a:stretch/>
        </p:blipFill>
        <p:spPr>
          <a:xfrm>
            <a:off x="3643200" y="31431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Gara_206058.jpg"/>
          <p:cNvPicPr/>
          <p:nvPr/>
        </p:nvPicPr>
        <p:blipFill>
          <a:blip r:embed="rId3"/>
          <a:stretch/>
        </p:blipFill>
        <p:spPr>
          <a:xfrm>
            <a:off x="428760" y="2857680"/>
            <a:ext cx="3154320" cy="21142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p_7.jpg"/>
          <p:cNvPicPr/>
          <p:nvPr/>
        </p:nvPicPr>
        <p:blipFill>
          <a:blip r:embed="rId4"/>
          <a:stretch/>
        </p:blipFill>
        <p:spPr>
          <a:xfrm>
            <a:off x="4143240" y="5716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2.jpg"/>
          <p:cNvPicPr/>
          <p:nvPr/>
        </p:nvPicPr>
        <p:blipFill>
          <a:blip r:embed="rId5"/>
          <a:stretch/>
        </p:blipFill>
        <p:spPr>
          <a:xfrm>
            <a:off x="1714680" y="1143000"/>
            <a:ext cx="168588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71F9-BE9B-45FC-BF71-D6BD069CBD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monblok.jpg"/>
          <p:cNvPicPr/>
          <p:nvPr/>
        </p:nvPicPr>
        <p:blipFill>
          <a:blip r:embed="rId1"/>
          <a:stretch/>
        </p:blipFill>
        <p:spPr>
          <a:xfrm>
            <a:off x="1357200" y="1143000"/>
            <a:ext cx="6410520" cy="48038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2343240" y="40464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аккумуля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0ACE-A36B-4B80-80CA-B21C6933E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09g-i1.gif"/>
          <p:cNvPicPr/>
          <p:nvPr/>
        </p:nvPicPr>
        <p:blipFill>
          <a:blip r:embed="rId1"/>
          <a:stretch/>
        </p:blipFill>
        <p:spPr>
          <a:xfrm>
            <a:off x="2000160" y="1071720"/>
            <a:ext cx="5000760" cy="3357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468360" y="51577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источники тока, обозначенные цифрами 1, 2, 3, 4,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45A3-5A49-4EAE-9C4B-ACA416F136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28760" y="1214280"/>
          <a:ext cx="8143920" cy="5475600"/>
        </p:xfrm>
        <a:graphic>
          <a:graphicData uri="http://schemas.openxmlformats.org/drawingml/2006/table">
            <a:tbl>
              <a:tblPr/>
              <a:tblGrid>
                <a:gridCol w="2357280"/>
                <a:gridCol w="2649600"/>
                <a:gridCol w="3137040"/>
              </a:tblGrid>
              <a:tr h="1262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Источник т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Способ разделения заря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</a:tr>
              <a:tr h="4208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эле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с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нечные батаре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 спа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е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механи-ческий генер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ие механическ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ромышленной электрической 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ванический 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арики, радиоприем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умулято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"/>
          <p:cNvSpPr/>
          <p:nvPr/>
        </p:nvSpPr>
        <p:spPr>
          <a:xfrm>
            <a:off x="928800" y="3664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лассификация источников 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76FA-3A5C-40F9-A0CB-910B12284D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2" descr="4697_m.jpg"/>
          <p:cNvPicPr/>
          <p:nvPr/>
        </p:nvPicPr>
        <p:blipFill>
          <a:blip r:embed="rId1"/>
          <a:stretch/>
        </p:blipFill>
        <p:spPr>
          <a:xfrm>
            <a:off x="6786720" y="32148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931650466671.jpg"/>
          <p:cNvPicPr/>
          <p:nvPr/>
        </p:nvPicPr>
        <p:blipFill>
          <a:blip r:embed="rId2"/>
          <a:stretch/>
        </p:blipFill>
        <p:spPr>
          <a:xfrm>
            <a:off x="6072120" y="2500200"/>
            <a:ext cx="2643120" cy="951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accumulator.jpg"/>
          <p:cNvPicPr/>
          <p:nvPr/>
        </p:nvPicPr>
        <p:blipFill>
          <a:blip r:embed="rId3"/>
          <a:stretch/>
        </p:blipFill>
        <p:spPr>
          <a:xfrm>
            <a:off x="642960" y="4054320"/>
            <a:ext cx="3786120" cy="24465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4694_sm.jpg"/>
          <p:cNvPicPr/>
          <p:nvPr/>
        </p:nvPicPr>
        <p:blipFill>
          <a:blip r:embed="rId4"/>
          <a:stretch/>
        </p:blipFill>
        <p:spPr>
          <a:xfrm>
            <a:off x="714384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0708160024m.jpg"/>
          <p:cNvPicPr/>
          <p:nvPr/>
        </p:nvPicPr>
        <p:blipFill>
          <a:blip r:embed="rId5"/>
          <a:stretch/>
        </p:blipFill>
        <p:spPr>
          <a:xfrm>
            <a:off x="571680" y="3214800"/>
            <a:ext cx="1427040" cy="15001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el07_03"/>
          <p:cNvPicPr/>
          <p:nvPr/>
        </p:nvPicPr>
        <p:blipFill>
          <a:blip r:embed="rId6"/>
          <a:stretch/>
        </p:blipFill>
        <p:spPr>
          <a:xfrm>
            <a:off x="2000160" y="2214720"/>
            <a:ext cx="4162680" cy="16761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batarymch.jpg"/>
          <p:cNvPicPr/>
          <p:nvPr/>
        </p:nvPicPr>
        <p:blipFill>
          <a:blip r:embed="rId7"/>
          <a:stretch/>
        </p:blipFill>
        <p:spPr>
          <a:xfrm>
            <a:off x="4714920" y="4897440"/>
            <a:ext cx="2000160" cy="15606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" descr="4696_sm.jpg"/>
          <p:cNvPicPr/>
          <p:nvPr/>
        </p:nvPicPr>
        <p:blipFill>
          <a:blip r:embed="rId8"/>
          <a:stretch/>
        </p:blipFill>
        <p:spPr>
          <a:xfrm>
            <a:off x="5357880" y="38577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9"/>
          <p:cNvSpPr/>
          <p:nvPr/>
        </p:nvSpPr>
        <p:spPr>
          <a:xfrm>
            <a:off x="324000" y="189000"/>
            <a:ext cx="8820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етичные малогабаритные аккумуляторы (ГМА)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ГМА используются для малогабаритных потребителей электрической энергии (телефонные радиотрубки, переносные радиоприемники, электронные часы, измерительные приборы, сотовые телефоны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E404-3F41-4FE6-BAB6-5216348C4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428760" y="3857760"/>
            <a:ext cx="792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еский ток – упорядоченное движение заряженных час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786040" y="1071720"/>
            <a:ext cx="3218040" cy="2741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71680" y="4786200"/>
            <a:ext cx="8572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уществования электрического тока необходимы следующи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вободных электрических зарядов в проводн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ешнего электрического поля для прово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09g-i3.gif"/>
          <p:cNvPicPr/>
          <p:nvPr/>
        </p:nvPicPr>
        <p:blipFill>
          <a:blip r:embed="rId2"/>
          <a:stretch/>
        </p:blipFill>
        <p:spPr>
          <a:xfrm>
            <a:off x="500040" y="1000080"/>
            <a:ext cx="1928880" cy="2778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09g-i3.gif"/>
          <p:cNvPicPr/>
          <p:nvPr/>
        </p:nvPicPr>
        <p:blipFill>
          <a:blip r:embed="rId3"/>
          <a:stretch/>
        </p:blipFill>
        <p:spPr>
          <a:xfrm>
            <a:off x="6357960" y="1000080"/>
            <a:ext cx="1928880" cy="2854440"/>
          </a:xfrm>
          <a:prstGeom prst="rect">
            <a:avLst/>
          </a:prstGeom>
          <a:ln w="0">
            <a:noFill/>
          </a:ln>
        </p:spPr>
      </p:pic>
      <p:sp>
        <p:nvSpPr>
          <p:cNvPr id="5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5A6B-B58F-4DC8-BB59-3AF8A355F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p20sa.gif"/>
          <p:cNvPicPr/>
          <p:nvPr/>
        </p:nvPicPr>
        <p:blipFill>
          <a:blip r:embed="rId1"/>
          <a:stretch/>
        </p:blipFill>
        <p:spPr>
          <a:xfrm>
            <a:off x="3714840" y="5143680"/>
            <a:ext cx="1344600" cy="10666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" descr="8280DWAE.jpg"/>
          <p:cNvPicPr/>
          <p:nvPr/>
        </p:nvPicPr>
        <p:blipFill>
          <a:blip r:embed="rId2"/>
          <a:stretch/>
        </p:blipFill>
        <p:spPr>
          <a:xfrm>
            <a:off x="3000240" y="3000240"/>
            <a:ext cx="2059200" cy="2059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3" descr="A7Q.jpg"/>
          <p:cNvPicPr/>
          <p:nvPr/>
        </p:nvPicPr>
        <p:blipFill>
          <a:blip r:embed="rId3"/>
          <a:stretch/>
        </p:blipFill>
        <p:spPr>
          <a:xfrm>
            <a:off x="1143000" y="2214720"/>
            <a:ext cx="1428840" cy="9554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DS14DVFL.gif"/>
          <p:cNvPicPr/>
          <p:nvPr/>
        </p:nvPicPr>
        <p:blipFill>
          <a:blip r:embed="rId4"/>
          <a:stretch/>
        </p:blipFill>
        <p:spPr>
          <a:xfrm>
            <a:off x="6000840" y="4000680"/>
            <a:ext cx="2471760" cy="2138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F633.jpg"/>
          <p:cNvPicPr/>
          <p:nvPr/>
        </p:nvPicPr>
        <p:blipFill>
          <a:blip r:embed="rId5"/>
          <a:stretch/>
        </p:blipFill>
        <p:spPr>
          <a:xfrm>
            <a:off x="5214960" y="2714760"/>
            <a:ext cx="1785960" cy="1166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59_2.jpg"/>
          <p:cNvPicPr/>
          <p:nvPr/>
        </p:nvPicPr>
        <p:blipFill>
          <a:blip r:embed="rId6"/>
          <a:stretch/>
        </p:blipFill>
        <p:spPr>
          <a:xfrm>
            <a:off x="500040" y="4714920"/>
            <a:ext cx="1619280" cy="14763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"/>
          <p:cNvSpPr/>
          <p:nvPr/>
        </p:nvSpPr>
        <p:spPr>
          <a:xfrm>
            <a:off x="971640" y="642960"/>
            <a:ext cx="7200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нение источников т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иборы, изображённые на рису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507320" y="3286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2150280" y="578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4722120" y="59292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79200" y="4005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5658840" y="3357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6222240" y="4857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9DB5-3330-43C0-BDB5-ABBA90EB53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1071720" y="2802600"/>
            <a:ext cx="7215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Сегодня на уроке я узнал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51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Теперь я могу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51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51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65160"/>
                </a:solidFill>
                <a:latin typeface="Calibri"/>
                <a:ea typeface="Times New Roman"/>
              </a:rPr>
              <a:t>Знания, полученные сегодня на уроке,  пригодя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3084840" y="714240"/>
            <a:ext cx="281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500040" y="2286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должите фраз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5" descr="Lolly1.gif"/>
          <p:cNvPicPr/>
          <p:nvPr/>
        </p:nvPicPr>
        <p:blipFill>
          <a:blip r:embed="rId1"/>
          <a:stretch/>
        </p:blipFill>
        <p:spPr>
          <a:xfrm>
            <a:off x="1071720" y="50004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1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CA40-5312-42DB-83C4-54E81C6141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66" descr="Рисунок1.png"/>
          <p:cNvPicPr/>
          <p:nvPr/>
        </p:nvPicPr>
        <p:blipFill>
          <a:blip r:embed="rId1"/>
          <a:stretch/>
        </p:blipFill>
        <p:spPr>
          <a:xfrm>
            <a:off x="5500800" y="264312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67"/>
          <p:cNvSpPr/>
          <p:nvPr/>
        </p:nvSpPr>
        <p:spPr>
          <a:xfrm>
            <a:off x="357120" y="714240"/>
            <a:ext cx="8358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опыта тебе понадоби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е бумажное полотенце, пищевая фольга, ножницы, медные монеты, поваренная соль, вода, два изолированных медных провода, маленькая лампочка (1,5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0"/>
          <p:cNvSpPr/>
          <p:nvPr/>
        </p:nvSpPr>
        <p:spPr>
          <a:xfrm>
            <a:off x="250920" y="1844640"/>
            <a:ext cx="5400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стру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в воде немного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ежь аккуратно бумажное полотенце и фольгу на квадратики чуть крупнее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очи бумажные квадратики в солёной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 друг на друга стопкой: медную монету, кусочек фольги, снова монету, и так далее несколько раз. Сверху стопки должна быть бумага, внизу – мон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ённый конец одного провода подсунь под стопку, второй конец присоедини к лампочке. Один конец второго провода положи на стопку сверху, второй тоже присоедини к лампочке. Что получи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71"/>
          <p:cNvSpPr/>
          <p:nvPr/>
        </p:nvSpPr>
        <p:spPr>
          <a:xfrm>
            <a:off x="1143000" y="35712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ий проект «Сделай батарей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66" descr="Рисунок1.png"/>
          <p:cNvPicPr/>
          <p:nvPr/>
        </p:nvPicPr>
        <p:blipFill>
          <a:blip r:embed="rId2"/>
          <a:stretch/>
        </p:blipFill>
        <p:spPr>
          <a:xfrm>
            <a:off x="5580000" y="263700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5421-6CF9-4A9B-B84C-A027A9F98D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:\WINDOWS\Users\Aida\Рабочий стол\МОИ проекты на разработке\источники тока Новая папка\napryag2.gif"/>
          <p:cNvPicPr/>
          <p:nvPr/>
        </p:nvPicPr>
        <p:blipFill>
          <a:blip r:embed="rId1"/>
          <a:stretch/>
        </p:blipFill>
        <p:spPr>
          <a:xfrm>
            <a:off x="428760" y="1357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D:\WINDOWS\Users\Aida\Рабочий стол\МОИ проекты на разработке\источники тока Новая папка\napryag1.gif"/>
          <p:cNvPicPr/>
          <p:nvPr/>
        </p:nvPicPr>
        <p:blipFill>
          <a:blip r:embed="rId2"/>
          <a:stretch/>
        </p:blipFill>
        <p:spPr>
          <a:xfrm>
            <a:off x="4572000" y="1357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428760" y="357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 опыты, показанные на рису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и чем отличаются опы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1143000" y="4429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 то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устройство, в котором происходит преобразование какого-либо вида энергии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428760" y="5572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, разделяющие заряды, т.е. создающие электрическое поле,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ами т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53C-446C-4726-A048-B07DCEC634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71680" y="723960"/>
            <a:ext cx="585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электрическая батарея появилась в 1799 году. Её изобрел итальянский физик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ссандро Воль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45 - 1827) — итальянский физик, химик и физиолог, изобретатель источника постоянного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2" descr="http://class-fizika.narod.ru/8_class/8_urok/8_el/11.jpg"/>
          <p:cNvPicPr/>
          <p:nvPr/>
        </p:nvPicPr>
        <p:blipFill>
          <a:blip r:embed="rId1"/>
          <a:stretch/>
        </p:blipFill>
        <p:spPr>
          <a:xfrm>
            <a:off x="6572160" y="857160"/>
            <a:ext cx="1571760" cy="2168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4481640" y="1450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357280" y="3297240"/>
            <a:ext cx="64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ервый источник тока – «вольтов столб» – был построен в точном соответствии с его теорией «металлического» электричества. Вольта положил друг на друга попеременно несколько десятков небольших цинковых и серебряных кружочков, проложив меж ними бумагу, смоченную подсоленной в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3" descr="http://class-fizika.narod.ru/8_class/8_urok/8_el/12.gif"/>
          <p:cNvPicPr/>
          <p:nvPr/>
        </p:nvPicPr>
        <p:blipFill>
          <a:blip r:embed="rId2"/>
          <a:stretch/>
        </p:blipFill>
        <p:spPr>
          <a:xfrm>
            <a:off x="500040" y="3143160"/>
            <a:ext cx="17398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481640" y="2060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89B6-1694-436A-A110-8D14EEF93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428760" y="52149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ий источник тока - механическа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http://school.ort.spb.ru/library/physics/8class/tema_2/lesson_1/electrof_3_s.jpg"/>
          <p:cNvPicPr/>
          <p:nvPr/>
        </p:nvPicPr>
        <p:blipFill>
          <a:blip r:embed="rId1"/>
          <a:stretch/>
        </p:blipFill>
        <p:spPr>
          <a:xfrm>
            <a:off x="500040" y="1714680"/>
            <a:ext cx="2768760" cy="29286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3357720" y="135720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XVIII века все технические источники тока были основаны на электризации трением. Наиболее эффективным из этих источников стал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ки машины приводятся во вращение в противоположных направлениях; в результате трения щеток о диски на кондукторах машины накапливаются заряды противоположного зна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451240" y="42876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BB2B-D4D7-4962-9BEB-C7E9FD6FF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28760" y="5357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пловой источник тока – внутрення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2" descr="http://school.ort.spb.ru/library/physics/8class/tema_2/lesson_1/term_para_s.jpg"/>
          <p:cNvPicPr/>
          <p:nvPr/>
        </p:nvPicPr>
        <p:blipFill>
          <a:blip r:embed="rId1"/>
          <a:stretch/>
        </p:blipFill>
        <p:spPr>
          <a:xfrm>
            <a:off x="642960" y="1500120"/>
            <a:ext cx="2894040" cy="32148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2355120" y="3071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3643200" y="1214280"/>
            <a:ext cx="47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проволоки из разных металлов спаять с одного края, а затем нагреть место спая, то в них возникает ток – заряды при нагревании спая разделяются. Термоэлементы применяются в термодатчиках и на геотермальных электростанциях в качестве датчика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319200" y="455760"/>
            <a:ext cx="45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элемент (термоп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9DAE-8478-4CE8-A640-A2C19E96B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714240" y="5429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 света c помощью солнечных батарей преобразу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http://school.ort.spb.ru/library/physics/8class/tema_2/lesson_1/solar_s.jpg"/>
          <p:cNvPicPr/>
          <p:nvPr/>
        </p:nvPicPr>
        <p:blipFill>
          <a:blip r:embed="rId1"/>
          <a:stretch/>
        </p:blipFill>
        <p:spPr>
          <a:xfrm>
            <a:off x="642960" y="3143160"/>
            <a:ext cx="2571840" cy="2214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150560" y="342900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708360" y="1231200"/>
            <a:ext cx="485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вещении некоторых веществ светом, в них появляется ток – световая энергия превраща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приборе заряды разделяются под действием света.  Фотоэлементы применяются в солнечных батареях, световых датчиках, калькуляторах, видеока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4437000" y="4287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642960" y="785880"/>
            <a:ext cx="257184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1E4D-770D-43BA-B8CC-33EF8C0816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" descr="ai.jpg"/>
          <p:cNvPicPr/>
          <p:nvPr/>
        </p:nvPicPr>
        <p:blipFill>
          <a:blip r:embed="rId1"/>
          <a:stretch/>
        </p:blipFill>
        <p:spPr>
          <a:xfrm>
            <a:off x="714240" y="2637000"/>
            <a:ext cx="3357720" cy="2741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571680" y="121860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механический генератор. Заряды разделяются путем совершения механической работы. Применяется для производства промышленной электро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1944000" y="50004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механический ген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571680" y="5500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итель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, аппарат или машина, производящая какой-либо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7" descr="pr_b95.jpg"/>
          <p:cNvPicPr/>
          <p:nvPr/>
        </p:nvPicPr>
        <p:blipFill>
          <a:blip r:embed="rId2"/>
          <a:stretch/>
        </p:blipFill>
        <p:spPr>
          <a:xfrm>
            <a:off x="4071960" y="2357280"/>
            <a:ext cx="4214880" cy="307188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8295-3DE0-4760-9C7C-1BA231D3B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glav.jpg"/>
          <p:cNvPicPr/>
          <p:nvPr/>
        </p:nvPicPr>
        <p:blipFill>
          <a:blip r:embed="rId1"/>
          <a:stretch/>
        </p:blipFill>
        <p:spPr>
          <a:xfrm>
            <a:off x="1857240" y="3857760"/>
            <a:ext cx="5286600" cy="2428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1physics91_resize.jpg"/>
          <p:cNvPicPr/>
          <p:nvPr/>
        </p:nvPicPr>
        <p:blipFill>
          <a:blip r:embed="rId2"/>
          <a:stretch/>
        </p:blipFill>
        <p:spPr>
          <a:xfrm>
            <a:off x="1116000" y="620640"/>
            <a:ext cx="335772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10a-i1.gif"/>
          <p:cNvPicPr/>
          <p:nvPr/>
        </p:nvPicPr>
        <p:blipFill>
          <a:blip r:embed="rId3"/>
          <a:stretch/>
        </p:blipFill>
        <p:spPr>
          <a:xfrm>
            <a:off x="4714920" y="642960"/>
            <a:ext cx="2381040" cy="2357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7243560" y="59500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315920" y="2637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002840" y="2637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71680" y="31431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сточники тока вы видите на рису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907E-1C3C-4D90-9304-FF7BF596E7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дим Ковалёв</cp:lastModifiedBy>
  <dcterms:modified xsi:type="dcterms:W3CDTF">2017-05-14T08:00:38Z</dcterms:modified>
  <cp:revision>54</cp:revision>
  <dc:subject/>
  <dc:title>Слайд 1</dc:title>
</cp:coreProperties>
</file>