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E4D-8AC1-4A21-AF32-A3F5C36F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975-280E-47DA-ABB9-959D801F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A62-35AF-4968-8C09-744C6E2C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CC3-E673-4D92-AF10-16DFF415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BDA-22E1-4643-A747-6702DF3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8E8-7499-40CB-818F-7990562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A4E-AE3F-4587-BF2B-9FE2B81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EBD-FB27-43DC-BE05-039C9816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089-7B14-4DCC-B362-8DAEF5A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095-5246-444F-BAD7-C11320C8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124-94BD-48D5-991D-02DE99C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883-D61F-415A-B22E-65F6EFC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009-D887-499A-9F74-AF1C5E7C47DE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137440" cy="2327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539640" y="4149720"/>
            <a:ext cx="561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124000" y="2606760"/>
            <a:ext cx="3456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3798720" y="-71280"/>
            <a:ext cx="5345280" cy="2954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333360" y="2349360"/>
            <a:ext cx="34653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2077920" y="341280"/>
            <a:ext cx="4335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Познакомимся…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Изобразим…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18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entury Schoolbook"/>
              </a:rPr>
              <a:t>График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– это произведение искусства, выполненные графическими средств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268360" y="1959120"/>
            <a:ext cx="32403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212760" y="1600200"/>
            <a:ext cx="4379760" cy="338292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30240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Schoolbook"/>
              </a:rPr>
              <a:t>Цветная график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7447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1"/>
          <a:stretch/>
        </p:blipFill>
        <p:spPr>
          <a:xfrm>
            <a:off x="87480" y="16606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1" descr=""/>
          <p:cNvPicPr/>
          <p:nvPr/>
        </p:nvPicPr>
        <p:blipFill>
          <a:blip r:embed="rId2"/>
          <a:stretch/>
        </p:blipFill>
        <p:spPr>
          <a:xfrm>
            <a:off x="4356000" y="291960"/>
            <a:ext cx="37465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31840" y="476280"/>
            <a:ext cx="2170080" cy="4308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460600" y="1414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возникло трудностей и у  тебя всё удалос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" name="Рисунок 5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323800" cy="1962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2460600" y="321300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не не всё удалось ,иногда возникали трудности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468360" y="4751280"/>
            <a:ext cx="1582560" cy="1895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2078280" y="54561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ичего не получило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09:49:01Z</dcterms:created>
  <dc:creator>Елена</dc:creator>
  <dc:description/>
  <dc:language>en-US</dc:language>
  <cp:lastModifiedBy>admin</cp:lastModifiedBy>
  <dcterms:modified xsi:type="dcterms:W3CDTF">2016-10-10T18:16:02Z</dcterms:modified>
  <cp:revision>11</cp:revision>
  <dc:subject/>
  <dc:title>Слайд 1</dc:title>
</cp:coreProperties>
</file>