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599A-B064-4D2C-8BF4-BEB9BD55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EAFE-2886-42A0-9B75-685A788A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0C03-BCAA-4BD3-A60E-3B332176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2784-CC56-46B1-808B-EABE5DFD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2B7C-6F4C-4521-98A8-FC49CF9F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C404-442E-462E-B8F0-59473A3D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2C64-35EC-486A-BF86-3D01746D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8DB4-156C-41D6-9C6B-94CCD4FD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1E6A-B88B-45DD-AAF1-333C90F5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7774-2ECE-4BFA-9D0F-C39B5105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F88F-F12D-4AFC-A4CD-66ACEC9D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B823-6D25-462C-9FF6-2C5D943E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D1A7-7A81-40A4-A0C8-DB64E55E26AA}" type="slidenum"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137440" cy="23270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539640" y="4149720"/>
            <a:ext cx="561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2124000" y="2606760"/>
            <a:ext cx="345600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3798720" y="-71280"/>
            <a:ext cx="5345280" cy="29541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"/>
          <p:cNvPicPr/>
          <p:nvPr/>
        </p:nvPicPr>
        <p:blipFill>
          <a:blip r:embed="rId2"/>
          <a:stretch/>
        </p:blipFill>
        <p:spPr>
          <a:xfrm>
            <a:off x="333360" y="2349360"/>
            <a:ext cx="3465360" cy="34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2077920" y="341280"/>
            <a:ext cx="43354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entury Schoolbook"/>
              </a:rPr>
              <a:t>Познакомимся…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entury Schoolbook"/>
              </a:rPr>
              <a:t>Изобразим…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4360" y="182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Century Schoolbook"/>
              </a:rPr>
              <a:t>Графика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– это произведение искусства, выполненные графическими средствам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2268360" y="1959120"/>
            <a:ext cx="324036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6" name="Объект 4" descr=""/>
          <p:cNvPicPr/>
          <p:nvPr/>
        </p:nvPicPr>
        <p:blipFill>
          <a:blip r:embed="rId1"/>
          <a:stretch/>
        </p:blipFill>
        <p:spPr>
          <a:xfrm>
            <a:off x="212760" y="1600200"/>
            <a:ext cx="4379760" cy="3382920"/>
          </a:xfrm>
          <a:prstGeom prst="rect">
            <a:avLst/>
          </a:prstGeom>
          <a:ln w="0">
            <a:noFill/>
          </a:ln>
        </p:spPr>
      </p:pic>
      <p:pic>
        <p:nvPicPr>
          <p:cNvPr id="57" name="Объект 3" descr=""/>
          <p:cNvPicPr/>
          <p:nvPr/>
        </p:nvPicPr>
        <p:blipFill>
          <a:blip r:embed="rId2"/>
          <a:stretch/>
        </p:blipFill>
        <p:spPr>
          <a:xfrm>
            <a:off x="5148360" y="476280"/>
            <a:ext cx="30240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entury Schoolbook"/>
              </a:rPr>
              <a:t>Цветная графика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74472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1" name="Объект 6" descr=""/>
          <p:cNvPicPr/>
          <p:nvPr/>
        </p:nvPicPr>
        <p:blipFill>
          <a:blip r:embed="rId1"/>
          <a:stretch/>
        </p:blipFill>
        <p:spPr>
          <a:xfrm>
            <a:off x="87480" y="166068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62" name="Объект 1" descr=""/>
          <p:cNvPicPr/>
          <p:nvPr/>
        </p:nvPicPr>
        <p:blipFill>
          <a:blip r:embed="rId2"/>
          <a:stretch/>
        </p:blipFill>
        <p:spPr>
          <a:xfrm>
            <a:off x="4356000" y="291960"/>
            <a:ext cx="374652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231840" y="476280"/>
            <a:ext cx="2170080" cy="43084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2460600" y="14144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е возникло трудностей и у  тебя всё удалос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6" name="Рисунок 5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2323800" cy="1962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6"/>
          <p:cNvSpPr/>
          <p:nvPr/>
        </p:nvSpPr>
        <p:spPr>
          <a:xfrm>
            <a:off x="2460600" y="3213000"/>
            <a:ext cx="4572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не не всё удалось ,иногда возникали трудности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3"/>
          <a:stretch/>
        </p:blipFill>
        <p:spPr>
          <a:xfrm>
            <a:off x="468360" y="4751280"/>
            <a:ext cx="1582560" cy="18957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7"/>
          <p:cNvSpPr/>
          <p:nvPr/>
        </p:nvSpPr>
        <p:spPr>
          <a:xfrm>
            <a:off x="2078280" y="5456160"/>
            <a:ext cx="42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ничего не получилос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5T09:49:01Z</dcterms:created>
  <dc:creator>Елена</dc:creator>
  <dc:description/>
  <dc:language>en-US</dc:language>
  <cp:lastModifiedBy>admin</cp:lastModifiedBy>
  <dcterms:modified xsi:type="dcterms:W3CDTF">2016-10-10T18:16:02Z</dcterms:modified>
  <cp:revision>11</cp:revision>
  <dc:subject/>
  <dc:title>Слайд 1</dc:title>
</cp:coreProperties>
</file>