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9F0-E0F0-49A6-96B7-655140B9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5A3-3DCF-4339-8601-E54575EB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B13-814C-4902-B390-88528CB5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A0D-1D9B-4C60-A2A3-759215D3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A40-E38A-4E5D-9861-FB690975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066-5838-4556-975E-77E4A9D1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7F6-E8B6-47B3-AB35-C3C74043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B5D-4970-4056-ABC3-E5019CCA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3DB-739A-4572-AF95-C80F1A0C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BE0-D79E-4853-BFBF-2395D4D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4B0-D925-487E-9DAB-B1346950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021-89E8-4CB9-BAC5-9B0641D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6C34-D7E1-4BDA-BC58-1516A12BB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252000" cy="6507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53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5440" cy="6432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9396360" cy="664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325080" cy="654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19160"/>
            <a:ext cx="925200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325080" cy="652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4T17:40:47Z</dcterms:created>
  <dc:creator>Куделина</dc:creator>
  <dc:description/>
  <dc:language>en-US</dc:language>
  <cp:lastModifiedBy>Куделина</cp:lastModifiedBy>
  <dcterms:modified xsi:type="dcterms:W3CDTF">2017-05-14T18:57:15Z</dcterms:modified>
  <cp:revision>4</cp:revision>
  <dc:subject/>
  <dc:title>Слайд 1</dc:title>
</cp:coreProperties>
</file>