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A7C-2D4F-411D-B545-98D7ABDC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F3E-9715-443B-9C1B-D9B08A38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6673-F279-454A-9657-C8D940AA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DE4-BF1C-4724-97E0-AFD166B6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4C2-CC16-43EF-9DED-D2389EDD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F52-9C9D-4EB2-85D7-CC8153BD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380-5858-430A-9129-A3EDAC54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0B8-D710-4FD0-8C0A-7C77018A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25C-2395-4375-A619-282BF071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6B5-56FE-4251-B9B2-47832EDB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F6B-9C5C-4073-A231-66B99D3A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12B-1EDD-44FA-8C0C-989622F5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6BC4-3031-4A45-AB0B-22A07554C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78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252000" cy="6507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252000" cy="653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5440" cy="6432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9396360" cy="6645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325080" cy="654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19160"/>
            <a:ext cx="925200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325080" cy="6522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37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4T17:40:47Z</dcterms:created>
  <dc:creator>Куделина</dc:creator>
  <dc:description/>
  <dc:language>en-US</dc:language>
  <cp:lastModifiedBy>Куделина</cp:lastModifiedBy>
  <dcterms:modified xsi:type="dcterms:W3CDTF">2017-05-14T18:57:15Z</dcterms:modified>
  <cp:revision>4</cp:revision>
  <dc:subject/>
  <dc:title>Слайд 1</dc:title>
</cp:coreProperties>
</file>