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9708-20CF-47B7-B2A6-09C977EAD8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7A53-4506-4116-9FD9-7D87D8ECC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0CE3-CA02-4905-A88D-822ADE6E1B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78C-CEC5-4871-9C68-84D26410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C1B-1D3F-488D-AC79-6DF7E24E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683-1CEB-4B03-9750-AF3F3185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323-E30C-4461-87CC-3F31B23D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E9AA-24FB-498F-9B14-7C092788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9C29-93CB-4DB9-8D83-74FF98F1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CD8C-B689-4DA8-BE6A-6EBAA909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5F68-F081-478B-921B-ECCF6EF4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0D01-0E7F-4CEF-8704-14811347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7EBC-DF45-4CAE-930D-55E168A9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836E-584D-4EA6-B6A3-82DD444E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365-6C30-4376-8759-B68AC5CF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0BD8-AF55-436A-883F-16AB31C5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F4D4-F41F-499B-94BE-764DE359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8B8D-DFF3-42A4-8BC7-B601EA29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E555-5D3A-4599-A62A-034DAA90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EEA2-0FC4-4DF3-88A5-8BC296C1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482-1EA1-4310-B25E-75FACE66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E9D-DF6A-47DC-84E0-36253F4D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9E3-3F4E-43CE-945B-19D05652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632-98E2-40FC-ADD2-C698B55F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569-5F07-4FAE-8303-09CDD748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E1B-154C-4A4B-A9FF-7828C072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90E-29BA-4F73-9DE3-55766BC9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A909-7123-4563-BD97-846CB46D6B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2E6C-876F-4C1F-9051-60CA25BAC0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0" y="2857680"/>
            <a:ext cx="4286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ЦК 15.00.00 Машиностро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Ликино-Дулевский политехнический колледж –филиал ГГ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правление развития специальност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68600" y="798480"/>
            <a:ext cx="7755480" cy="116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826920" y="2286000"/>
            <a:ext cx="810288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2"/>
          <p:cNvSpPr/>
          <p:nvPr/>
        </p:nvSpPr>
        <p:spPr>
          <a:xfrm>
            <a:off x="1000080" y="242892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стажировок обучающихся по компетенциям WR в ресурсных центрах, на предприятиях и в организ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Заноскин Олег Сергеевич 1.JPG"/>
          <p:cNvPicPr/>
          <p:nvPr/>
        </p:nvPicPr>
        <p:blipFill>
          <a:blip r:embed="rId1"/>
          <a:stretch/>
        </p:blipFill>
        <p:spPr>
          <a:xfrm>
            <a:off x="928800" y="3429000"/>
            <a:ext cx="3571920" cy="2995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Бажин Евгений Владимирович 1.JPG"/>
          <p:cNvPicPr/>
          <p:nvPr/>
        </p:nvPicPr>
        <p:blipFill>
          <a:blip r:embed="rId2"/>
          <a:stretch/>
        </p:blipFill>
        <p:spPr>
          <a:xfrm>
            <a:off x="4857840" y="3429000"/>
            <a:ext cx="3929040" cy="30002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5" descr=""/>
          <p:cNvPicPr/>
          <p:nvPr/>
        </p:nvPicPr>
        <p:blipFill>
          <a:blip r:embed="rId3"/>
          <a:stretch/>
        </p:blipFill>
        <p:spPr>
          <a:xfrm>
            <a:off x="7858080" y="1143000"/>
            <a:ext cx="1114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38360" y="911520"/>
            <a:ext cx="7815960" cy="74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85880" y="2214720"/>
            <a:ext cx="81439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обучения экспертов, участвующих в национальных чемпионатах, с целью получения сертификата национального экспе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https://4.downloader.disk.yandex.ru/preview/14822d35e5f555f4d107e582c7aaecfcda96c65ce321b5451fcba2f72b657e33/inf/5fidw2znZghv21VOUnhgRvMtyOKNQLbdRKwkcJJi3yyI3PX8pqeLiIUYFMBhudwY-cTXuC5g7WlNEX7-YN6zVQ%3D%3D?uid=0&amp;filename=DSC_0055.JPG&amp;disposition=inline&amp;hash=&amp;limit=0&amp;content_type=image%2Fjpeg&amp;tknv=v2&amp;size=1249x510"/>
          <p:cNvPicPr/>
          <p:nvPr/>
        </p:nvPicPr>
        <p:blipFill>
          <a:blip r:embed="rId1"/>
          <a:stretch/>
        </p:blipFill>
        <p:spPr>
          <a:xfrm>
            <a:off x="928800" y="3571920"/>
            <a:ext cx="36432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https://4.downloader.disk.yandex.ru/preview/3008634f88ae886d6256ee090adf654a584a7f26721598f6d1bb72367c735a3d/inf/r-WuxaCZltvaWAJOGFePIC8EnEH-2IdxecKsrcaA1l2TIC_8mj4rWfGXrDZ4JMJR8MwrZntM6slAJy7oYIFU-g%3D%3D?uid=0&amp;filename=DSC_0090.JPG&amp;disposition=inline&amp;hash=&amp;limit=0&amp;content_type=image%2Fjpeg&amp;tknv=v2&amp;size=1249x510"/>
          <p:cNvPicPr/>
          <p:nvPr/>
        </p:nvPicPr>
        <p:blipFill>
          <a:blip r:embed="rId2"/>
          <a:stretch/>
        </p:blipFill>
        <p:spPr>
          <a:xfrm>
            <a:off x="4857840" y="3571920"/>
            <a:ext cx="3929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298520" y="656280"/>
            <a:ext cx="6792120" cy="116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7720" y="2361960"/>
            <a:ext cx="809172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студентов в национальных чемпионатах профессионального мастерства WR, всероссийских олимпиадах, конкурсах профессионального мастерства, обучающихся по программам СП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7858080" y="1143000"/>
            <a:ext cx="111456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ttp://sovtehmet.ru/media/837/8378.jpg"/>
          <p:cNvPicPr/>
          <p:nvPr/>
        </p:nvPicPr>
        <p:blipFill>
          <a:blip r:embed="rId2"/>
          <a:stretch/>
        </p:blipFill>
        <p:spPr>
          <a:xfrm>
            <a:off x="928800" y="3643200"/>
            <a:ext cx="3857400" cy="2995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urbc.ru/uploads/posts/2014-10/1414749769_2.jpg"/>
          <p:cNvPicPr/>
          <p:nvPr/>
        </p:nvPicPr>
        <p:blipFill>
          <a:blip r:embed="rId3"/>
          <a:stretch/>
        </p:blipFill>
        <p:spPr>
          <a:xfrm>
            <a:off x="5000760" y="364320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73360" y="254160"/>
            <a:ext cx="7515720" cy="153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стажировки обучающихся на профильных предприятиях, в ресурсных цен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http://news.nashbryansk.ru/uploads/2015/03/nashbryanskru_bmz-800x500_c.jpg"/>
          <p:cNvPicPr/>
          <p:nvPr/>
        </p:nvPicPr>
        <p:blipFill>
          <a:blip r:embed="rId1"/>
          <a:stretch/>
        </p:blipFill>
        <p:spPr>
          <a:xfrm>
            <a:off x="1000080" y="3214800"/>
            <a:ext cx="4071960" cy="2904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http://vedtver.ru/common/slir/w200/data/uploads/2015-10/page/56372/DSC_3500.JPG"/>
          <p:cNvPicPr/>
          <p:nvPr/>
        </p:nvPicPr>
        <p:blipFill>
          <a:blip r:embed="rId2"/>
          <a:stretch/>
        </p:blipFill>
        <p:spPr>
          <a:xfrm>
            <a:off x="5357880" y="3214800"/>
            <a:ext cx="3500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«Технология машиностроения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ttp://ostanke.ru/wp-content/uploads/2015/06/FS300CNC.jpg"/>
          <p:cNvPicPr/>
          <p:nvPr/>
        </p:nvPicPr>
        <p:blipFill>
          <a:blip r:embed="rId1"/>
          <a:stretch/>
        </p:blipFill>
        <p:spPr>
          <a:xfrm>
            <a:off x="1000080" y="3286080"/>
            <a:ext cx="3714840" cy="3000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s://i.ytimg.com/vi/j0PAyJA7A1M/hqdefault.jpg"/>
          <p:cNvPicPr/>
          <p:nvPr/>
        </p:nvPicPr>
        <p:blipFill>
          <a:blip r:embed="rId2"/>
          <a:stretch/>
        </p:blipFill>
        <p:spPr>
          <a:xfrm>
            <a:off x="4786200" y="3357720"/>
            <a:ext cx="392904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P1020833"/>
          <p:cNvPicPr/>
          <p:nvPr/>
        </p:nvPicPr>
        <p:blipFill>
          <a:blip r:embed="rId1"/>
          <a:stretch/>
        </p:blipFill>
        <p:spPr>
          <a:xfrm>
            <a:off x="785880" y="2571840"/>
            <a:ext cx="2643120" cy="1857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Сергей\Desktop\ДИСК-3\SP UFD U2\Станиславский и Кузина интегр.урок\фото\P1020859.JPG"/>
          <p:cNvPicPr/>
          <p:nvPr/>
        </p:nvPicPr>
        <p:blipFill>
          <a:blip r:embed="rId2"/>
          <a:stretch/>
        </p:blipFill>
        <p:spPr>
          <a:xfrm>
            <a:off x="3643200" y="4714920"/>
            <a:ext cx="2500560" cy="18572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http://www.edu54.ru/sites/default/files/images/SH101915.preview.JPG"/>
          <p:cNvPicPr/>
          <p:nvPr/>
        </p:nvPicPr>
        <p:blipFill>
          <a:blip r:embed="rId3"/>
          <a:stretch/>
        </p:blipFill>
        <p:spPr>
          <a:xfrm>
            <a:off x="857160" y="4786200"/>
            <a:ext cx="2643120" cy="1785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Сергей\Desktop\Станислав-5555555\Будую.АТЕСТАЦИЯ\ЭКСПО\Фотки\ФОТО с ОТБ турнира в г. Химки 29,30 октября\DSCF1092.JPG"/>
          <p:cNvPicPr/>
          <p:nvPr/>
        </p:nvPicPr>
        <p:blipFill>
          <a:blip r:embed="rId4"/>
          <a:stretch/>
        </p:blipFill>
        <p:spPr>
          <a:xfrm>
            <a:off x="6357960" y="2786040"/>
            <a:ext cx="2500200" cy="1714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Сергей\Desktop\Станислав-5555555\Будую.АТЕСТАЦИЯ\ЭКСПО\Фотки\ФОТО с ОТБ турнира в г. Химки 29,30 октября\DSCF1085.JPG"/>
          <p:cNvPicPr/>
          <p:nvPr/>
        </p:nvPicPr>
        <p:blipFill>
          <a:blip r:embed="rId5"/>
          <a:stretch/>
        </p:blipFill>
        <p:spPr>
          <a:xfrm>
            <a:off x="3571920" y="2643120"/>
            <a:ext cx="2643120" cy="18576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2" descr="Инфодосье / Люди / Роман Суслов"/>
          <p:cNvPicPr/>
          <p:nvPr/>
        </p:nvPicPr>
        <p:blipFill>
          <a:blip r:embed="rId6"/>
          <a:stretch/>
        </p:blipFill>
        <p:spPr>
          <a:xfrm>
            <a:off x="6286680" y="4714920"/>
            <a:ext cx="26431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учение лицензии на право ведения образовательной деятельности по   профессиям и специальностям из ТОП – 5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карь-универс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езеровщик-универс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сар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ttp://vgpl5.by/files/2015/04/vgpl5-spetsialnosti-slesar-mehanosborochnyh-rabot-2.jpg"/>
          <p:cNvPicPr/>
          <p:nvPr/>
        </p:nvPicPr>
        <p:blipFill>
          <a:blip r:embed="rId1"/>
          <a:stretch/>
        </p:blipFill>
        <p:spPr>
          <a:xfrm>
            <a:off x="857160" y="4572000"/>
            <a:ext cx="2500560" cy="204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ttp://mir46.ru/IMGS/80d2d78d0f461b41d9f0b6c2b40e84f0.jpg"/>
          <p:cNvPicPr/>
          <p:nvPr/>
        </p:nvPicPr>
        <p:blipFill>
          <a:blip r:embed="rId2"/>
          <a:stretch/>
        </p:blipFill>
        <p:spPr>
          <a:xfrm>
            <a:off x="3571920" y="4572000"/>
            <a:ext cx="2571840" cy="20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http://timetolive.ru/images/upload/image/4252.jpg"/>
          <p:cNvPicPr/>
          <p:nvPr/>
        </p:nvPicPr>
        <p:blipFill>
          <a:blip r:embed="rId3"/>
          <a:stretch/>
        </p:blipFill>
        <p:spPr>
          <a:xfrm>
            <a:off x="6286680" y="4500720"/>
            <a:ext cx="25002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43640" y="764280"/>
            <a:ext cx="7168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7786800" y="1643040"/>
            <a:ext cx="111420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Users\Сергей\Desktop\Станислав-5555555\Будую.АТЕСТАЦИЯ\ЭКСПО\Фотки\ФОТО с ОТБ турнира в г. Химки 29,30 октября\DSCF1093.JPG"/>
          <p:cNvPicPr/>
          <p:nvPr/>
        </p:nvPicPr>
        <p:blipFill>
          <a:blip r:embed="rId2"/>
          <a:stretch/>
        </p:blipFill>
        <p:spPr>
          <a:xfrm>
            <a:off x="5143680" y="3357720"/>
            <a:ext cx="2643120" cy="15714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8"/>
          <p:cNvSpPr/>
          <p:nvPr/>
        </p:nvSpPr>
        <p:spPr>
          <a:xfrm>
            <a:off x="857160" y="242892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планов обучения экспертов и обучающихся по компетенциям 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ld Skills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C:\Users\Сергей\Desktop\Станислав-5555555\Будую.АТЕСТАЦИЯ\ЭКСПО\Фотки\ФОТО с ОТБ турнира в г. Химки 29,30 октября\DSCF1085.JPG"/>
          <p:cNvPicPr/>
          <p:nvPr/>
        </p:nvPicPr>
        <p:blipFill>
          <a:blip r:embed="rId3"/>
          <a:stretch/>
        </p:blipFill>
        <p:spPr>
          <a:xfrm>
            <a:off x="1857240" y="3286080"/>
            <a:ext cx="2643480" cy="16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Users\Сергей\Desktop\Станислав-5555555\Будую.АТЕСТАЦИЯ\ЭКСПО\Фотки\ФОТО с ОТБ турнира в г. Химки 29,30 октября\DSCF1083.JPG"/>
          <p:cNvPicPr/>
          <p:nvPr/>
        </p:nvPicPr>
        <p:blipFill>
          <a:blip r:embed="rId4"/>
          <a:stretch/>
        </p:blipFill>
        <p:spPr>
          <a:xfrm>
            <a:off x="1857240" y="5072040"/>
            <a:ext cx="2643480" cy="157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:\Users\Сергей\Desktop\Станислав-5555555\Будую.АТЕСТАЦИЯ\ЭКСПО\Фотки\ФОТО с ОТБ турнира в г. Химки 29,30 октября\DSCF1087.JPG"/>
          <p:cNvPicPr/>
          <p:nvPr/>
        </p:nvPicPr>
        <p:blipFill>
          <a:blip r:embed="rId5"/>
          <a:stretch/>
        </p:blipFill>
        <p:spPr>
          <a:xfrm>
            <a:off x="5143680" y="5072040"/>
            <a:ext cx="2643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26920" y="2428920"/>
            <a:ext cx="817416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плана работы по подготовке обучающихся к чемпионатам WR, конкурсам, олимпиа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круглых столов, конференций, мастер-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7858080" y="1143000"/>
            <a:ext cx="111456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8" descr="http://bplm.brest.by/images/stories/prof_2015_operat_chpy.jpg"/>
          <p:cNvPicPr/>
          <p:nvPr/>
        </p:nvPicPr>
        <p:blipFill>
          <a:blip r:embed="rId2"/>
          <a:stretch/>
        </p:blipFill>
        <p:spPr>
          <a:xfrm>
            <a:off x="928800" y="3643200"/>
            <a:ext cx="3643200" cy="289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http://pu-64.narod.ru/tehnikum/WSR_2014_otb/IMG_2571.jpg"/>
          <p:cNvPicPr/>
          <p:nvPr/>
        </p:nvPicPr>
        <p:blipFill>
          <a:blip r:embed="rId3"/>
          <a:stretch/>
        </p:blipFill>
        <p:spPr>
          <a:xfrm>
            <a:off x="4786200" y="3643200"/>
            <a:ext cx="40719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09280" y="818640"/>
            <a:ext cx="7816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Users\Сергей\Desktop\Станислав-5555555\Будую.АТЕСТАЦИЯ\ЭКСПО\Фотки\DSCN4225.JPG"/>
          <p:cNvPicPr/>
          <p:nvPr/>
        </p:nvPicPr>
        <p:blipFill>
          <a:blip r:embed="rId1"/>
          <a:stretch/>
        </p:blipFill>
        <p:spPr>
          <a:xfrm>
            <a:off x="928800" y="3571920"/>
            <a:ext cx="4143240" cy="2908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Users\Сергей\Desktop\Станислав-5555555\Будую.АТЕСТАЦИЯ\ЭКСПО\Фотки\DSCN4238.JPG"/>
          <p:cNvPicPr/>
          <p:nvPr/>
        </p:nvPicPr>
        <p:blipFill>
          <a:blip r:embed="rId2"/>
          <a:stretch/>
        </p:blipFill>
        <p:spPr>
          <a:xfrm>
            <a:off x="5286240" y="3571920"/>
            <a:ext cx="364356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928800" y="2500200"/>
            <a:ext cx="77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Посещение преподавателями и студентами экскурсий по направлению  «МЕТАЛЛООБРАБОТКА». «СТАНКИ С ЧП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8" descr=""/>
          <p:cNvPicPr/>
          <p:nvPr/>
        </p:nvPicPr>
        <p:blipFill>
          <a:blip r:embed="rId3"/>
          <a:stretch/>
        </p:blipFill>
        <p:spPr>
          <a:xfrm>
            <a:off x="7858080" y="1143000"/>
            <a:ext cx="1114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74360" y="590040"/>
            <a:ext cx="7743960" cy="12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637000"/>
            <a:ext cx="8102880" cy="37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показательных выступлений участниками отборочных соревнований,   региональных чемпионатов профессионального мастерства W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http://pu-64.narod.ru/tehnikum/WSR_2014_otb/IMG_2571.jpg"/>
          <p:cNvPicPr/>
          <p:nvPr/>
        </p:nvPicPr>
        <p:blipFill>
          <a:blip r:embed="rId1"/>
          <a:stretch/>
        </p:blipFill>
        <p:spPr>
          <a:xfrm>
            <a:off x="1428840" y="-3571920"/>
            <a:ext cx="4357440" cy="25891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0" descr=""/>
          <p:cNvPicPr/>
          <p:nvPr/>
        </p:nvPicPr>
        <p:blipFill>
          <a:blip r:embed="rId2"/>
          <a:stretch/>
        </p:blipFill>
        <p:spPr>
          <a:xfrm>
            <a:off x="7858080" y="1143000"/>
            <a:ext cx="111456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1" descr="http://cs616320.vk.me/v616320023/15a35/MIo_Ro8uXaQ.jpg"/>
          <p:cNvPicPr/>
          <p:nvPr/>
        </p:nvPicPr>
        <p:blipFill>
          <a:blip r:embed="rId3"/>
          <a:stretch/>
        </p:blipFill>
        <p:spPr>
          <a:xfrm>
            <a:off x="928800" y="3643200"/>
            <a:ext cx="3714480" cy="25718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3" descr="http://www.edu54.ru/sites/default/files/images/SH101915.preview.JPG"/>
          <p:cNvPicPr/>
          <p:nvPr/>
        </p:nvPicPr>
        <p:blipFill>
          <a:blip r:embed="rId4"/>
          <a:stretch/>
        </p:blipFill>
        <p:spPr>
          <a:xfrm>
            <a:off x="4857840" y="3643200"/>
            <a:ext cx="4000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26920" y="764640"/>
            <a:ext cx="7693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838080" y="2362320"/>
            <a:ext cx="76932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ение работ по формированию групп студентов для участия в чемпионатах профессионального мастерства, олимпиадах, конкур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http://www.kvpu-14.dn.ua/images/fotos/profesii/p1040208.jpg"/>
          <p:cNvPicPr/>
          <p:nvPr/>
        </p:nvPicPr>
        <p:blipFill>
          <a:blip r:embed="rId1"/>
          <a:stretch/>
        </p:blipFill>
        <p:spPr>
          <a:xfrm>
            <a:off x="928800" y="3857760"/>
            <a:ext cx="3714480" cy="25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http://www.kvpu-14.dn.ua/images/fotos/profesii/p1040207.jpg"/>
          <p:cNvPicPr/>
          <p:nvPr/>
        </p:nvPicPr>
        <p:blipFill>
          <a:blip r:embed="rId2"/>
          <a:stretch/>
        </p:blipFill>
        <p:spPr>
          <a:xfrm>
            <a:off x="4786200" y="3857760"/>
            <a:ext cx="3714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44560" y="731880"/>
            <a:ext cx="7746120" cy="122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2"/>
          <p:cNvSpPr/>
          <p:nvPr/>
        </p:nvSpPr>
        <p:spPr>
          <a:xfrm>
            <a:off x="857160" y="25002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студентов в региональных чемпионатах профессионального мастерства WR, региональных этапах олимпиад, конкурсах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http://kov-obr.ru/Image/Privolzhsk/Chuvashiya/Cheboks%20mashinostroit%20(12).JPG"/>
          <p:cNvPicPr/>
          <p:nvPr/>
        </p:nvPicPr>
        <p:blipFill>
          <a:blip r:embed="rId1"/>
          <a:stretch/>
        </p:blipFill>
        <p:spPr>
          <a:xfrm>
            <a:off x="857160" y="407196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http://www.kov-obr.ru/Image/Privolzhsk/Chuvashiya/Cheboks%20mashinostroit%20(14).JPG"/>
          <p:cNvPicPr/>
          <p:nvPr/>
        </p:nvPicPr>
        <p:blipFill>
          <a:blip r:embed="rId2"/>
          <a:stretch/>
        </p:blipFill>
        <p:spPr>
          <a:xfrm>
            <a:off x="3714840" y="4071960"/>
            <a:ext cx="2643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http://www.kntu.info/uploads/images/small-kanikuly-s-uchebnikami-i-stankami_1_1_EDNMp.jpg"/>
          <p:cNvPicPr/>
          <p:nvPr/>
        </p:nvPicPr>
        <p:blipFill>
          <a:blip r:embed="rId3"/>
          <a:stretch/>
        </p:blipFill>
        <p:spPr>
          <a:xfrm>
            <a:off x="6429240" y="4071960"/>
            <a:ext cx="24289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23:32Z</dcterms:created>
  <dc:creator>Usere</dc:creator>
  <dc:description/>
  <dc:language>en-US</dc:language>
  <cp:lastModifiedBy>FX603</cp:lastModifiedBy>
  <dcterms:modified xsi:type="dcterms:W3CDTF">2017-05-04T16:27:17Z</dcterms:modified>
  <cp:revision>112</cp:revision>
  <dc:subject/>
  <dc:title>Индивидуальная траектория обучения</dc:title>
</cp:coreProperties>
</file>