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9F33-7B3B-4478-81B5-F0DD3F0D25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1F1F-E403-498B-8C71-4A8A79E4D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EA8F-FFC0-4768-AEE4-DFEEB060C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725-BCF4-4508-9B33-2DCC763A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0B1-CF6E-43BB-A79A-3469037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8D8-88B4-40FF-A175-08C359A6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FA0-318D-4A65-A8B2-E5DB0A49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99CE-4BFC-4E73-A27C-76013A17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FB3B-0A90-435E-911B-893A5939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8985-7A1C-45B9-BB43-5CB7EFDD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D9EC-3C0F-4E61-A535-0D942D3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E1F5-EB19-4FF4-8B13-824E4179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F4D4-C38A-4CD1-B602-3C4552EA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D46-9334-4F79-A6B1-DE61A7B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623-E061-42C2-A54D-7A48016A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D35-29D1-4A38-B170-5C05E166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3D3F-64DF-48F0-8500-096215C8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CBDE-13E8-4823-927B-4FBCB36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93D9-7D31-4997-8F1C-AD0E833C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2CFD-EE1F-46E2-AA87-D519CE55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97D-0832-4F05-99B6-69FEA519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8E0-496D-427C-ACF2-5F0081DD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99D-20CD-4CE6-A22C-D6FB1AA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578-9785-47A7-BB99-00D35B5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CB7-28C8-4702-A56E-6913B7D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DEA-F2A1-4383-8DFD-FC70D0E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C17-EE34-4A62-9825-AEF0BCD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57D7-34FD-4117-B444-97954FEB2F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6848-BF6F-4CA0-96C3-C40A2F4E3A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0" y="2857680"/>
            <a:ext cx="4286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ЦК 15.00.00 Машиностро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икино-Дулевский политехнический колледж –филиал ГГ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правление развития специальност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8600" y="798480"/>
            <a:ext cx="7755480" cy="116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26920" y="2286000"/>
            <a:ext cx="810288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2"/>
          <p:cNvSpPr/>
          <p:nvPr/>
        </p:nvSpPr>
        <p:spPr>
          <a:xfrm>
            <a:off x="1000080" y="242892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стажировок обучающихся по компетенциям WR в ресурсных центрах, на предприятиях и в организ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Заноскин Олег Сергеевич 1.JPG"/>
          <p:cNvPicPr/>
          <p:nvPr/>
        </p:nvPicPr>
        <p:blipFill>
          <a:blip r:embed="rId1"/>
          <a:stretch/>
        </p:blipFill>
        <p:spPr>
          <a:xfrm>
            <a:off x="928800" y="3429000"/>
            <a:ext cx="3571920" cy="2995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Бажин Евгений Владимирович 1.JPG"/>
          <p:cNvPicPr/>
          <p:nvPr/>
        </p:nvPicPr>
        <p:blipFill>
          <a:blip r:embed="rId2"/>
          <a:stretch/>
        </p:blipFill>
        <p:spPr>
          <a:xfrm>
            <a:off x="4857840" y="342900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"/>
          <p:cNvPicPr/>
          <p:nvPr/>
        </p:nvPicPr>
        <p:blipFill>
          <a:blip r:embed="rId3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38360" y="911520"/>
            <a:ext cx="7815960" cy="74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85880" y="2214720"/>
            <a:ext cx="8143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обучения экспертов, участвующих в национальных чемпионатах, с целью получения сертификата национального эксп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https://4.downloader.disk.yandex.ru/preview/14822d35e5f555f4d107e582c7aaecfcda96c65ce321b5451fcba2f72b657e33/inf/5fidw2znZghv21VOUnhgRvMtyOKNQLbdRKwkcJJi3yyI3PX8pqeLiIUYFMBhudwY-cTXuC5g7WlNEX7-YN6zVQ%3D%3D?uid=0&amp;filename=DSC_0055.JPG&amp;disposition=inline&amp;hash=&amp;limit=0&amp;content_type=image%2Fjpeg&amp;tknv=v2&amp;size=1249x510"/>
          <p:cNvPicPr/>
          <p:nvPr/>
        </p:nvPicPr>
        <p:blipFill>
          <a:blip r:embed="rId1"/>
          <a:stretch/>
        </p:blipFill>
        <p:spPr>
          <a:xfrm>
            <a:off x="928800" y="3571920"/>
            <a:ext cx="36432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ttps://4.downloader.disk.yandex.ru/preview/3008634f88ae886d6256ee090adf654a584a7f26721598f6d1bb72367c735a3d/inf/r-WuxaCZltvaWAJOGFePIC8EnEH-2IdxecKsrcaA1l2TIC_8mj4rWfGXrDZ4JMJR8MwrZntM6slAJy7oYIFU-g%3D%3D?uid=0&amp;filename=DSC_0090.JPG&amp;disposition=inline&amp;hash=&amp;limit=0&amp;content_type=image%2Fjpeg&amp;tknv=v2&amp;size=1249x510"/>
          <p:cNvPicPr/>
          <p:nvPr/>
        </p:nvPicPr>
        <p:blipFill>
          <a:blip r:embed="rId2"/>
          <a:stretch/>
        </p:blipFill>
        <p:spPr>
          <a:xfrm>
            <a:off x="4857840" y="3571920"/>
            <a:ext cx="392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298520" y="656280"/>
            <a:ext cx="6792120" cy="116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2361960"/>
            <a:ext cx="809172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студентов в национальных чемпионатах профессионального мастерства WR, всероссийских олимпиадах, конкурсах профессионального мастерства, обучающихся по программам СП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://sovtehmet.ru/media/837/8378.jpg"/>
          <p:cNvPicPr/>
          <p:nvPr/>
        </p:nvPicPr>
        <p:blipFill>
          <a:blip r:embed="rId2"/>
          <a:stretch/>
        </p:blipFill>
        <p:spPr>
          <a:xfrm>
            <a:off x="928800" y="3643200"/>
            <a:ext cx="3857400" cy="299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urbc.ru/uploads/posts/2014-10/1414749769_2.jpg"/>
          <p:cNvPicPr/>
          <p:nvPr/>
        </p:nvPicPr>
        <p:blipFill>
          <a:blip r:embed="rId3"/>
          <a:stretch/>
        </p:blipFill>
        <p:spPr>
          <a:xfrm>
            <a:off x="5000760" y="364320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73360" y="254160"/>
            <a:ext cx="7515720" cy="153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стажировки обучающихся на профильных предприятиях, в ресурсных цен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http://news.nashbryansk.ru/uploads/2015/03/nashbryanskru_bmz-800x500_c.jpg"/>
          <p:cNvPicPr/>
          <p:nvPr/>
        </p:nvPicPr>
        <p:blipFill>
          <a:blip r:embed="rId1"/>
          <a:stretch/>
        </p:blipFill>
        <p:spPr>
          <a:xfrm>
            <a:off x="1000080" y="3214800"/>
            <a:ext cx="4071960" cy="290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http://vedtver.ru/common/slir/w200/data/uploads/2015-10/page/56372/DSC_3500.JPG"/>
          <p:cNvPicPr/>
          <p:nvPr/>
        </p:nvPicPr>
        <p:blipFill>
          <a:blip r:embed="rId2"/>
          <a:stretch/>
        </p:blipFill>
        <p:spPr>
          <a:xfrm>
            <a:off x="5357880" y="3214800"/>
            <a:ext cx="3500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«Технология машиностроения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ostanke.ru/wp-content/uploads/2015/06/FS300CNC.jpg"/>
          <p:cNvPicPr/>
          <p:nvPr/>
        </p:nvPicPr>
        <p:blipFill>
          <a:blip r:embed="rId1"/>
          <a:stretch/>
        </p:blipFill>
        <p:spPr>
          <a:xfrm>
            <a:off x="1000080" y="3286080"/>
            <a:ext cx="3714840" cy="3000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s://i.ytimg.com/vi/j0PAyJA7A1M/hqdefault.jpg"/>
          <p:cNvPicPr/>
          <p:nvPr/>
        </p:nvPicPr>
        <p:blipFill>
          <a:blip r:embed="rId2"/>
          <a:stretch/>
        </p:blipFill>
        <p:spPr>
          <a:xfrm>
            <a:off x="4786200" y="3357720"/>
            <a:ext cx="39290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P1020833"/>
          <p:cNvPicPr/>
          <p:nvPr/>
        </p:nvPicPr>
        <p:blipFill>
          <a:blip r:embed="rId1"/>
          <a:stretch/>
        </p:blipFill>
        <p:spPr>
          <a:xfrm>
            <a:off x="785880" y="2571840"/>
            <a:ext cx="2643120" cy="185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Сергей\Desktop\ДИСК-3\SP UFD U2\Станиславский и Кузина интегр.урок\фото\P1020859.JPG"/>
          <p:cNvPicPr/>
          <p:nvPr/>
        </p:nvPicPr>
        <p:blipFill>
          <a:blip r:embed="rId2"/>
          <a:stretch/>
        </p:blipFill>
        <p:spPr>
          <a:xfrm>
            <a:off x="3643200" y="471492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http://www.edu54.ru/sites/default/files/images/SH101915.preview.JPG"/>
          <p:cNvPicPr/>
          <p:nvPr/>
        </p:nvPicPr>
        <p:blipFill>
          <a:blip r:embed="rId3"/>
          <a:stretch/>
        </p:blipFill>
        <p:spPr>
          <a:xfrm>
            <a:off x="857160" y="4786200"/>
            <a:ext cx="264312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Сергей\Desktop\Станислав-5555555\Будую.АТЕСТАЦИЯ\ЭКСПО\Фотки\ФОТО с ОТБ турнира в г. Химки 29,30 октября\DSCF1092.JPG"/>
          <p:cNvPicPr/>
          <p:nvPr/>
        </p:nvPicPr>
        <p:blipFill>
          <a:blip r:embed="rId4"/>
          <a:stretch/>
        </p:blipFill>
        <p:spPr>
          <a:xfrm>
            <a:off x="635796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Сергей\Desktop\Станислав-5555555\Будую.АТЕСТАЦИЯ\ЭКСПО\Фотки\ФОТО с ОТБ турнира в г. Химки 29,30 октября\DSCF1085.JPG"/>
          <p:cNvPicPr/>
          <p:nvPr/>
        </p:nvPicPr>
        <p:blipFill>
          <a:blip r:embed="rId5"/>
          <a:stretch/>
        </p:blipFill>
        <p:spPr>
          <a:xfrm>
            <a:off x="3571920" y="2643120"/>
            <a:ext cx="2643120" cy="1857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2" descr="Инфодосье / Люди / Роман Суслов"/>
          <p:cNvPicPr/>
          <p:nvPr/>
        </p:nvPicPr>
        <p:blipFill>
          <a:blip r:embed="rId6"/>
          <a:stretch/>
        </p:blipFill>
        <p:spPr>
          <a:xfrm>
            <a:off x="6286680" y="4714920"/>
            <a:ext cx="26431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чение лицензии на право ведения образовательной деятельности по   профессиям и специальностям из ТОП – 5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карь-универс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зеровщик-универс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с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vgpl5.by/files/2015/04/vgpl5-spetsialnosti-slesar-mehanosborochnyh-rabot-2.jpg"/>
          <p:cNvPicPr/>
          <p:nvPr/>
        </p:nvPicPr>
        <p:blipFill>
          <a:blip r:embed="rId1"/>
          <a:stretch/>
        </p:blipFill>
        <p:spPr>
          <a:xfrm>
            <a:off x="857160" y="4572000"/>
            <a:ext cx="2500560" cy="204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ttp://mir46.ru/IMGS/80d2d78d0f461b41d9f0b6c2b40e84f0.jpg"/>
          <p:cNvPicPr/>
          <p:nvPr/>
        </p:nvPicPr>
        <p:blipFill>
          <a:blip r:embed="rId2"/>
          <a:stretch/>
        </p:blipFill>
        <p:spPr>
          <a:xfrm>
            <a:off x="3571920" y="457200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ttp://timetolive.ru/images/upload/image/4252.jpg"/>
          <p:cNvPicPr/>
          <p:nvPr/>
        </p:nvPicPr>
        <p:blipFill>
          <a:blip r:embed="rId3"/>
          <a:stretch/>
        </p:blipFill>
        <p:spPr>
          <a:xfrm>
            <a:off x="6286680" y="4500720"/>
            <a:ext cx="25002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43640" y="764280"/>
            <a:ext cx="7168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7786800" y="1643040"/>
            <a:ext cx="11142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Сергей\Desktop\Станислав-5555555\Будую.АТЕСТАЦИЯ\ЭКСПО\Фотки\ФОТО с ОТБ турнира в г. Химки 29,30 октября\DSCF1093.JPG"/>
          <p:cNvPicPr/>
          <p:nvPr/>
        </p:nvPicPr>
        <p:blipFill>
          <a:blip r:embed="rId2"/>
          <a:stretch/>
        </p:blipFill>
        <p:spPr>
          <a:xfrm>
            <a:off x="5143680" y="3357720"/>
            <a:ext cx="2643120" cy="15714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857160" y="242892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ланов обучения экспертов и обучающихся по компетенциям 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ld Skill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C:\Users\Сергей\Desktop\Станислав-5555555\Будую.АТЕСТАЦИЯ\ЭКСПО\Фотки\ФОТО с ОТБ турнира в г. Химки 29,30 октября\DSCF1085.JPG"/>
          <p:cNvPicPr/>
          <p:nvPr/>
        </p:nvPicPr>
        <p:blipFill>
          <a:blip r:embed="rId3"/>
          <a:stretch/>
        </p:blipFill>
        <p:spPr>
          <a:xfrm>
            <a:off x="1857240" y="3286080"/>
            <a:ext cx="264348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Users\Сергей\Desktop\Станислав-5555555\Будую.АТЕСТАЦИЯ\ЭКСПО\Фотки\ФОТО с ОТБ турнира в г. Химки 29,30 октября\DSCF1083.JPG"/>
          <p:cNvPicPr/>
          <p:nvPr/>
        </p:nvPicPr>
        <p:blipFill>
          <a:blip r:embed="rId4"/>
          <a:stretch/>
        </p:blipFill>
        <p:spPr>
          <a:xfrm>
            <a:off x="1857240" y="5072040"/>
            <a:ext cx="264348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:\Users\Сергей\Desktop\Станислав-5555555\Будую.АТЕСТАЦИЯ\ЭКСПО\Фотки\ФОТО с ОТБ турнира в г. Химки 29,30 октября\DSCF1087.JPG"/>
          <p:cNvPicPr/>
          <p:nvPr/>
        </p:nvPicPr>
        <p:blipFill>
          <a:blip r:embed="rId5"/>
          <a:stretch/>
        </p:blipFill>
        <p:spPr>
          <a:xfrm>
            <a:off x="5143680" y="5072040"/>
            <a:ext cx="2643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2428920"/>
            <a:ext cx="81741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лана работы по подготовке обучающихся к чемпионатам WR, конкурсам, олимпиа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круглых столов, конференций, мастер-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8" descr="http://bplm.brest.by/images/stories/prof_2015_operat_chpy.jpg"/>
          <p:cNvPicPr/>
          <p:nvPr/>
        </p:nvPicPr>
        <p:blipFill>
          <a:blip r:embed="rId2"/>
          <a:stretch/>
        </p:blipFill>
        <p:spPr>
          <a:xfrm>
            <a:off x="928800" y="3643200"/>
            <a:ext cx="3643200" cy="289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http://pu-64.narod.ru/tehnikum/WSR_2014_otb/IMG_2571.jpg"/>
          <p:cNvPicPr/>
          <p:nvPr/>
        </p:nvPicPr>
        <p:blipFill>
          <a:blip r:embed="rId3"/>
          <a:stretch/>
        </p:blipFill>
        <p:spPr>
          <a:xfrm>
            <a:off x="4786200" y="3643200"/>
            <a:ext cx="40719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09280" y="818640"/>
            <a:ext cx="7816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Сергей\Desktop\Станислав-5555555\Будую.АТЕСТАЦИЯ\ЭКСПО\Фотки\DSCN4225.JPG"/>
          <p:cNvPicPr/>
          <p:nvPr/>
        </p:nvPicPr>
        <p:blipFill>
          <a:blip r:embed="rId1"/>
          <a:stretch/>
        </p:blipFill>
        <p:spPr>
          <a:xfrm>
            <a:off x="928800" y="3571920"/>
            <a:ext cx="4143240" cy="290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Сергей\Desktop\Станислав-5555555\Будую.АТЕСТАЦИЯ\ЭКСПО\Фотки\DSCN4238.JPG"/>
          <p:cNvPicPr/>
          <p:nvPr/>
        </p:nvPicPr>
        <p:blipFill>
          <a:blip r:embed="rId2"/>
          <a:stretch/>
        </p:blipFill>
        <p:spPr>
          <a:xfrm>
            <a:off x="5286240" y="3571920"/>
            <a:ext cx="364356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928800" y="2500200"/>
            <a:ext cx="77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Посещение преподавателями и студентами экскурсий по направлению  «МЕТАЛЛООБРАБОТКА». «СТАНКИ С ЧП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8" descr=""/>
          <p:cNvPicPr/>
          <p:nvPr/>
        </p:nvPicPr>
        <p:blipFill>
          <a:blip r:embed="rId3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74360" y="590040"/>
            <a:ext cx="7743960" cy="12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637000"/>
            <a:ext cx="8102880" cy="37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показательных выступлений участниками отборочных соревнований,   региональных чемпионатов профессионального мастерства W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http://pu-64.narod.ru/tehnikum/WSR_2014_otb/IMG_2571.jpg"/>
          <p:cNvPicPr/>
          <p:nvPr/>
        </p:nvPicPr>
        <p:blipFill>
          <a:blip r:embed="rId1"/>
          <a:stretch/>
        </p:blipFill>
        <p:spPr>
          <a:xfrm>
            <a:off x="1428840" y="-3571920"/>
            <a:ext cx="4357440" cy="2589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2"/>
          <a:stretch/>
        </p:blipFill>
        <p:spPr>
          <a:xfrm>
            <a:off x="7858080" y="114300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http://cs616320.vk.me/v616320023/15a35/MIo_Ro8uXaQ.jpg"/>
          <p:cNvPicPr/>
          <p:nvPr/>
        </p:nvPicPr>
        <p:blipFill>
          <a:blip r:embed="rId3"/>
          <a:stretch/>
        </p:blipFill>
        <p:spPr>
          <a:xfrm>
            <a:off x="928800" y="3643200"/>
            <a:ext cx="3714480" cy="257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3" descr="http://www.edu54.ru/sites/default/files/images/SH101915.preview.JPG"/>
          <p:cNvPicPr/>
          <p:nvPr/>
        </p:nvPicPr>
        <p:blipFill>
          <a:blip r:embed="rId4"/>
          <a:stretch/>
        </p:blipFill>
        <p:spPr>
          <a:xfrm>
            <a:off x="4857840" y="3643200"/>
            <a:ext cx="4000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6920" y="764640"/>
            <a:ext cx="7693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38080" y="2362320"/>
            <a:ext cx="76932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ие работ по формированию групп студентов для участия в чемпионатах профессионального мастерства, олимпиадах, 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http://www.kvpu-14.dn.ua/images/fotos/profesii/p1040208.jpg"/>
          <p:cNvPicPr/>
          <p:nvPr/>
        </p:nvPicPr>
        <p:blipFill>
          <a:blip r:embed="rId1"/>
          <a:stretch/>
        </p:blipFill>
        <p:spPr>
          <a:xfrm>
            <a:off x="928800" y="3857760"/>
            <a:ext cx="371448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http://www.kvpu-14.dn.ua/images/fotos/profesii/p1040207.jpg"/>
          <p:cNvPicPr/>
          <p:nvPr/>
        </p:nvPicPr>
        <p:blipFill>
          <a:blip r:embed="rId2"/>
          <a:stretch/>
        </p:blipFill>
        <p:spPr>
          <a:xfrm>
            <a:off x="4786200" y="3857760"/>
            <a:ext cx="3714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44560" y="731880"/>
            <a:ext cx="7746120" cy="122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Технология машиностроения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2"/>
          <p:cNvSpPr/>
          <p:nvPr/>
        </p:nvSpPr>
        <p:spPr>
          <a:xfrm>
            <a:off x="857160" y="25002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студентов в региональных чемпионатах профессионального мастерства WR, региональных этапах олимпиад, конкурсах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http://kov-obr.ru/Image/Privolzhsk/Chuvashiya/Cheboks%20mashinostroit%20(12).JPG"/>
          <p:cNvPicPr/>
          <p:nvPr/>
        </p:nvPicPr>
        <p:blipFill>
          <a:blip r:embed="rId1"/>
          <a:stretch/>
        </p:blipFill>
        <p:spPr>
          <a:xfrm>
            <a:off x="857160" y="407196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http://www.kov-obr.ru/Image/Privolzhsk/Chuvashiya/Cheboks%20mashinostroit%20(14).JPG"/>
          <p:cNvPicPr/>
          <p:nvPr/>
        </p:nvPicPr>
        <p:blipFill>
          <a:blip r:embed="rId2"/>
          <a:stretch/>
        </p:blipFill>
        <p:spPr>
          <a:xfrm>
            <a:off x="3714840" y="4071960"/>
            <a:ext cx="2643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http://www.kntu.info/uploads/images/small-kanikuly-s-uchebnikami-i-stankami_1_1_EDNMp.jpg"/>
          <p:cNvPicPr/>
          <p:nvPr/>
        </p:nvPicPr>
        <p:blipFill>
          <a:blip r:embed="rId3"/>
          <a:stretch/>
        </p:blipFill>
        <p:spPr>
          <a:xfrm>
            <a:off x="6429240" y="4071960"/>
            <a:ext cx="2428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23:32Z</dcterms:created>
  <dc:creator>Usere</dc:creator>
  <dc:description/>
  <dc:language>en-US</dc:language>
  <cp:lastModifiedBy>FX603</cp:lastModifiedBy>
  <dcterms:modified xsi:type="dcterms:W3CDTF">2017-05-04T16:27:17Z</dcterms:modified>
  <cp:revision>112</cp:revision>
  <dc:subject/>
  <dc:title>Индивидуальная траектория обучения</dc:title>
</cp:coreProperties>
</file>