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jpeg" ContentType="image/jpeg"/>
  <Override PartName="/ppt/media/image28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7.jpeg" ContentType="image/jpeg"/>
  <Override PartName="/ppt/media/image50.jpeg" ContentType="image/jpeg"/>
  <Override PartName="/ppt/media/image10.png" ContentType="image/pn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44.jpeg" ContentType="image/jpeg"/>
  <Override PartName="/ppt/media/image38.jpeg" ContentType="image/jpeg"/>
  <Override PartName="/ppt/media/image33.jpeg" ContentType="image/jpeg"/>
  <Override PartName="/ppt/media/image43.jpeg" ContentType="image/jpeg"/>
  <Override PartName="/ppt/media/image45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4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49.jpeg" ContentType="image/jpeg"/>
  <Override PartName="/ppt/media/image40.jpeg" ContentType="image/jpeg"/>
  <Override PartName="/ppt/media/image13.jpeg" ContentType="image/jpeg"/>
  <Override PartName="/ppt/media/image11.jpeg" ContentType="image/jpe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34.jpeg" ContentType="image/jpeg"/>
  <Override PartName="/ppt/media/image7.png" ContentType="image/png"/>
  <Override PartName="/ppt/media/image9.png" ContentType="image/png"/>
  <Override PartName="/ppt/media/image22.jpeg" ContentType="image/jpeg"/>
  <Override PartName="/ppt/media/image12.jpeg" ContentType="image/jpe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40FC-4D6D-418E-92BD-DA5EBA310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7EA0-4431-4FD8-8B0E-D2B37616D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E53B-786C-4308-98A6-BFF752B6F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2C0B-B75F-41A5-9E8B-BFA62B142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1E08-D630-49AF-A9C1-EC5C97528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63A2-D747-47FC-A7F1-E7F96909C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6614-3808-49A8-B1C8-F592F6754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03F6-75AF-4FD6-8C94-97A882434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D336-AB6A-4838-A936-C51F645AB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B03D-0E1C-4A39-A568-977D60D8C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BA90-DF79-4368-BE0D-5F32D9AA5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F8B7-911F-4AC3-B0FF-DF7BCD180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68CD3-2589-48D7-BCD0-9D4A6CDEB58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10.png"/><Relationship Id="rId15" Type="http://schemas.openxmlformats.org/officeDocument/2006/relationships/image" Target="../media/image11.jpeg"/><Relationship Id="rId1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УЛЬТИМЕДИЙНА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ЗЕНТ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0948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разовательная область «Музык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разовательная деятельнос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Музыкально-художественная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ма «Деревянные звук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узыкальный руководител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БДОУ № 57 «Дюймовоч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нчаренко Дина Юр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012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original"/>
          <p:cNvPicPr/>
          <p:nvPr/>
        </p:nvPicPr>
        <p:blipFill>
          <a:blip r:embed="rId1"/>
          <a:stretch/>
        </p:blipFill>
        <p:spPr>
          <a:xfrm>
            <a:off x="5334120" y="1828800"/>
            <a:ext cx="3352680" cy="42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«Песня по ролям»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дачи: способствовать выразительному исполнению песни; развивать тембровый слух, чувство метра, память; проявлять творческую инициативу, мышлен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8" descr="6 группа 029"/>
          <p:cNvPicPr/>
          <p:nvPr/>
        </p:nvPicPr>
        <p:blipFill>
          <a:blip r:embed="rId1"/>
          <a:stretch/>
        </p:blipFill>
        <p:spPr>
          <a:xfrm>
            <a:off x="304920" y="2209680"/>
            <a:ext cx="2097000" cy="28195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9" descr="6 группа 033"/>
          <p:cNvPicPr/>
          <p:nvPr/>
        </p:nvPicPr>
        <p:blipFill>
          <a:blip r:embed="rId2"/>
          <a:stretch/>
        </p:blipFill>
        <p:spPr>
          <a:xfrm>
            <a:off x="2666880" y="3809880"/>
            <a:ext cx="2210040" cy="26672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0" descr="6 группа 035"/>
          <p:cNvPicPr/>
          <p:nvPr/>
        </p:nvPicPr>
        <p:blipFill>
          <a:blip r:embed="rId3"/>
          <a:stretch/>
        </p:blipFill>
        <p:spPr>
          <a:xfrm>
            <a:off x="2057400" y="1447920"/>
            <a:ext cx="2916360" cy="21873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5105520" y="1523520"/>
            <a:ext cx="3581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редлагается исполни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любимую песню «Три синички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М.Шкодовой по ролям. Ро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«будут исполнять» деревянн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редметы: кубики и карандаш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Слушаем и сравниваем звучан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прос: Кого будут озвучива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рандаши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ети: Трех синичек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прос: Кого будут озвучива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убики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ети: Корову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Исполнение песни «Три синички» М.Шкодов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7" descr="6 группа 034"/>
          <p:cNvPicPr/>
          <p:nvPr/>
        </p:nvPicPr>
        <p:blipFill>
          <a:blip r:embed="rId1"/>
          <a:stretch/>
        </p:blipFill>
        <p:spPr>
          <a:xfrm>
            <a:off x="533520" y="1676520"/>
            <a:ext cx="2819160" cy="32004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8" descr="6 группа 036"/>
          <p:cNvPicPr/>
          <p:nvPr/>
        </p:nvPicPr>
        <p:blipFill>
          <a:blip r:embed="rId2"/>
          <a:stretch/>
        </p:blipFill>
        <p:spPr>
          <a:xfrm>
            <a:off x="3886200" y="1371600"/>
            <a:ext cx="4724280" cy="36576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457200" y="5334120"/>
            <a:ext cx="403848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Мальчики озвучивают кубик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«корову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648320" y="5334120"/>
            <a:ext cx="403848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Девочки озвучивают карандашам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«синичек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этап: познавательный, развивающий, творческий</a:t>
            </a:r>
            <a:br>
              <a:rPr sz="24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дачи: дать представление о происхождении деревянных музыкальных инструментов; способствовать развитию тембрового и динамического слуха, воспитывать доброжелательные взаимоотнош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6 группа 039"/>
          <p:cNvPicPr/>
          <p:nvPr/>
        </p:nvPicPr>
        <p:blipFill>
          <a:blip r:embed="rId1"/>
          <a:stretch/>
        </p:blipFill>
        <p:spPr>
          <a:xfrm>
            <a:off x="4648320" y="3429000"/>
            <a:ext cx="4038480" cy="27194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457200" y="4190760"/>
            <a:ext cx="4038480" cy="19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Тук-тук-тук! Тук-тук-тук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Это дятел сел на сук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ечит дерево: тук-тук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де ж ты жук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голодался я: тук-тук!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0" y="1599840"/>
            <a:ext cx="4038480" cy="21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прос: Какие деревянные звуки можем услышать в природе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одсказка – аудиозапись «стук дятл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ети: Дятел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(на экране появляется слайд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1" descr="6 группа 054"/>
          <p:cNvPicPr/>
          <p:nvPr/>
        </p:nvPicPr>
        <p:blipFill>
          <a:blip r:embed="rId2"/>
          <a:stretch/>
        </p:blipFill>
        <p:spPr>
          <a:xfrm>
            <a:off x="609480" y="1523880"/>
            <a:ext cx="358164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оявление куклы Бурати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0" descr="6 группа 043"/>
          <p:cNvPicPr/>
          <p:nvPr/>
        </p:nvPicPr>
        <p:blipFill>
          <a:blip r:embed="rId1"/>
          <a:stretch/>
        </p:blipFill>
        <p:spPr>
          <a:xfrm>
            <a:off x="4343400" y="3048120"/>
            <a:ext cx="4419720" cy="31240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5409720" y="1066320"/>
            <a:ext cx="3124440" cy="21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Раздается стук в двер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ети: В двери стучат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узыкальный руководитель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Тук-тук-тук! Тук-тук-тук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дается в двери стук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09480" y="4571640"/>
            <a:ext cx="3353040" cy="157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спитатель выносит Буратин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спитатель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Это кто-то очень странн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еловечек деревянный?!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ети: Буратино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9" descr="6 группа 041"/>
          <p:cNvPicPr/>
          <p:nvPr/>
        </p:nvPicPr>
        <p:blipFill>
          <a:blip r:embed="rId2"/>
          <a:stretch/>
        </p:blipFill>
        <p:spPr>
          <a:xfrm>
            <a:off x="685800" y="914400"/>
            <a:ext cx="42670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Буратино исследует звуки</a:t>
            </a:r>
            <a:br>
              <a:rPr sz="20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Задачи: закрепить словесные характеристики звуков, развивать тембровый слух и память, пополнять словарный запа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648320" y="1143000"/>
            <a:ext cx="403848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уратино: Я тоже сделан из дерева 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юблю слушать деревянные звук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ни такие, такие…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Буратино издает звуки предмет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Дети помогают подобрать слова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теплые, трескучие, гремучие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стучащие, сух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9" descr="6 группа 046"/>
          <p:cNvPicPr/>
          <p:nvPr/>
        </p:nvPicPr>
        <p:blipFill>
          <a:blip r:embed="rId1"/>
          <a:stretch/>
        </p:blipFill>
        <p:spPr>
          <a:xfrm>
            <a:off x="609480" y="1143000"/>
            <a:ext cx="3581640" cy="28195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1" descr="6 группа 049"/>
          <p:cNvPicPr/>
          <p:nvPr/>
        </p:nvPicPr>
        <p:blipFill>
          <a:blip r:embed="rId2"/>
          <a:stretch/>
        </p:blipFill>
        <p:spPr>
          <a:xfrm>
            <a:off x="4572000" y="3429000"/>
            <a:ext cx="3886200" cy="304812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13"/>
          <p:cNvSpPr/>
          <p:nvPr/>
        </p:nvSpPr>
        <p:spPr>
          <a:xfrm>
            <a:off x="609480" y="4267080"/>
            <a:ext cx="3886200" cy="18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уратино: Но у вас нет самог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лавного! Того, с чем можно игра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оркестр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ети: Музыкальных инструментов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ети помогают вспомнить, какие музыкальные инструменты издают деревянные зву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«Деревянные истории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648320" y="1066320"/>
            <a:ext cx="40384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уратино: А вы знаете, что деревянн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вуки со временем переселились и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едметов в музыкальн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нструменты? Вот как это было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ожками ели – теперь еще и играю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(показ слайда – ложки выкладываются на стол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29" descr="6 группа 050"/>
          <p:cNvPicPr/>
          <p:nvPr/>
        </p:nvPicPr>
        <p:blipFill>
          <a:blip r:embed="rId1"/>
          <a:stretch/>
        </p:blipFill>
        <p:spPr>
          <a:xfrm>
            <a:off x="457200" y="1066680"/>
            <a:ext cx="4038480" cy="32767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457200" y="4647960"/>
            <a:ext cx="4038480" cy="147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еревянная шкатулка превратилась 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узыкальный инструмент – коробочк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слайд – коробочка на стол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32" descr="6 группа 051"/>
          <p:cNvPicPr/>
          <p:nvPr/>
        </p:nvPicPr>
        <p:blipFill>
          <a:blip r:embed="rId2"/>
          <a:stretch/>
        </p:blipFill>
        <p:spPr>
          <a:xfrm>
            <a:off x="4495680" y="3124080"/>
            <a:ext cx="411480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«Деревянные истори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419720" y="914040"/>
            <a:ext cx="403848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убель использовали для глажки бель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ще он очень похож на стиральну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ску (слайды – рубель на стол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2" descr="6 группа 052"/>
          <p:cNvPicPr/>
          <p:nvPr/>
        </p:nvPicPr>
        <p:blipFill>
          <a:blip r:embed="rId1"/>
          <a:stretch/>
        </p:blipFill>
        <p:spPr>
          <a:xfrm>
            <a:off x="533520" y="838080"/>
            <a:ext cx="3733560" cy="28195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8" descr="еще рубель"/>
          <p:cNvPicPr/>
          <p:nvPr/>
        </p:nvPicPr>
        <p:blipFill>
          <a:blip r:embed="rId2"/>
          <a:stretch/>
        </p:blipFill>
        <p:spPr>
          <a:xfrm>
            <a:off x="5181480" y="2362320"/>
            <a:ext cx="3187800" cy="21873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0" descr="6426341032458683eb06451bb424b95d983ab4586b8_b"/>
          <p:cNvPicPr/>
          <p:nvPr/>
        </p:nvPicPr>
        <p:blipFill>
          <a:blip r:embed="rId3"/>
          <a:stretch/>
        </p:blipFill>
        <p:spPr>
          <a:xfrm>
            <a:off x="533520" y="3962520"/>
            <a:ext cx="1295280" cy="21873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1" descr="еще трещотка"/>
          <p:cNvPicPr/>
          <p:nvPr/>
        </p:nvPicPr>
        <p:blipFill>
          <a:blip r:embed="rId4"/>
          <a:stretch/>
        </p:blipFill>
        <p:spPr>
          <a:xfrm>
            <a:off x="2057400" y="3886200"/>
            <a:ext cx="2914560" cy="218592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23"/>
          <p:cNvSpPr/>
          <p:nvPr/>
        </p:nvSpPr>
        <p:spPr>
          <a:xfrm>
            <a:off x="5257800" y="4952880"/>
            <a:ext cx="3048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еревянные прищепки стали трещотк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слайды – трещотка на стол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«Деревянные истори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191120" y="990720"/>
            <a:ext cx="40384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о самые необычные превращ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изошли с деревянными поленьями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ни превратились в ксилофо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(показ слайдов – ксилофон на стол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0" descr="поленья"/>
          <p:cNvPicPr/>
          <p:nvPr/>
        </p:nvPicPr>
        <p:blipFill>
          <a:blip r:embed="rId1"/>
          <a:stretch/>
        </p:blipFill>
        <p:spPr>
          <a:xfrm>
            <a:off x="380880" y="1066680"/>
            <a:ext cx="3429000" cy="25909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1" descr="ксилофон"/>
          <p:cNvPicPr/>
          <p:nvPr/>
        </p:nvPicPr>
        <p:blipFill>
          <a:blip r:embed="rId2"/>
          <a:stretch/>
        </p:blipFill>
        <p:spPr>
          <a:xfrm>
            <a:off x="762120" y="3809880"/>
            <a:ext cx="2971800" cy="25909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3" descr="деревяшки"/>
          <p:cNvPicPr/>
          <p:nvPr/>
        </p:nvPicPr>
        <p:blipFill>
          <a:blip r:embed="rId3"/>
          <a:stretch/>
        </p:blipFill>
        <p:spPr>
          <a:xfrm>
            <a:off x="4343400" y="2438280"/>
            <a:ext cx="373392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идактическая игра «Слушаем внимательно»</a:t>
            </a:r>
            <a:br>
              <a:rPr sz="20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задачи: развивать тембровый слух, память, формировать навыки игры на деревянных музыкальных инструментах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10" descr="6 группа 057"/>
          <p:cNvPicPr/>
          <p:nvPr/>
        </p:nvPicPr>
        <p:blipFill>
          <a:blip r:embed="rId1"/>
          <a:stretch/>
        </p:blipFill>
        <p:spPr>
          <a:xfrm>
            <a:off x="685800" y="1447920"/>
            <a:ext cx="3276720" cy="19573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1" descr="6 группа 065"/>
          <p:cNvPicPr/>
          <p:nvPr/>
        </p:nvPicPr>
        <p:blipFill>
          <a:blip r:embed="rId2"/>
          <a:stretch/>
        </p:blipFill>
        <p:spPr>
          <a:xfrm>
            <a:off x="685800" y="3657600"/>
            <a:ext cx="3733920" cy="26668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 txBox="1"/>
          <p:nvPr/>
        </p:nvSpPr>
        <p:spPr>
          <a:xfrm>
            <a:off x="4419720" y="1371240"/>
            <a:ext cx="403848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Буратино предлагает узнать 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аудиозаписи звучание  деревянны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музыкальных инструмент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Дети, узнавшие тембр того или иног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инструмента, подходят к столу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находят нужный инструмент 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оказывают способы звукоизвлеч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8" descr="6 группа 072"/>
          <p:cNvPicPr/>
          <p:nvPr/>
        </p:nvPicPr>
        <p:blipFill>
          <a:blip r:embed="rId3"/>
          <a:stretch/>
        </p:blipFill>
        <p:spPr>
          <a:xfrm>
            <a:off x="4648320" y="3657600"/>
            <a:ext cx="36576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идактическая игра «Слушай внимательно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7" descr="6 группа 070"/>
          <p:cNvPicPr/>
          <p:nvPr/>
        </p:nvPicPr>
        <p:blipFill>
          <a:blip r:embed="rId1"/>
          <a:stretch/>
        </p:blipFill>
        <p:spPr>
          <a:xfrm>
            <a:off x="609480" y="1219320"/>
            <a:ext cx="2819520" cy="21333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0" descr="6 группа 076"/>
          <p:cNvPicPr/>
          <p:nvPr/>
        </p:nvPicPr>
        <p:blipFill>
          <a:blip r:embed="rId2"/>
          <a:stretch/>
        </p:blipFill>
        <p:spPr>
          <a:xfrm>
            <a:off x="609480" y="3505320"/>
            <a:ext cx="3048120" cy="28191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 txBox="1"/>
          <p:nvPr/>
        </p:nvSpPr>
        <p:spPr>
          <a:xfrm>
            <a:off x="4495320" y="1371240"/>
            <a:ext cx="40388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Таким образом, у всех дет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оказываются в руках музыкальн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Инструмент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6 группа 067"/>
          <p:cNvPicPr/>
          <p:nvPr/>
        </p:nvPicPr>
        <p:blipFill>
          <a:blip r:embed="rId3"/>
          <a:stretch/>
        </p:blipFill>
        <p:spPr>
          <a:xfrm>
            <a:off x="4038480" y="2819520"/>
            <a:ext cx="464832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граммное содерж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Цель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: создать условия для творческого самовыражения детей в игре с «деревянными звуками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Образовательные задач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влечь внимание детей к богатству и разнообразию звуков, издаваемых деревянными предметами и музыкальными инструмент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ть представление о характере и разнообразии тембров «деревянных звуков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ть представление о происхождении деревянных музыкальных инструмен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учить различать звуки по длительностям, ориентируясь на графическое изображ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крепить названия деревянных музыкальных инструментов в соответствии со звуковым восприятием (ложки, коробочка, рубель, трещотка, ксилофон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должать формировать навыки игры на ни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Развивающие задач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вивать тембровый слух, музыкальную память, внимание, чувство ритм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вивать творческий потенциал, воображение, фантазию и изобретательность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вивать ассоциативное мышление и инициатив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Воспитательны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спитывать интерес к истории происхождения русских народных деревянных инструмен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спитывать доброжелательные взаимоотношения между детьми в процессе совместной творческой деятель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мпровизация на тему «Веселый и грустный Буратино»</a:t>
            </a:r>
            <a:br>
              <a:rPr sz="18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дачи: эмоционально откликаться на русские народные мелодии; выражать эмоции в игре на инструментах; учить пользоваться контрастной динамик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Буратино хвалит дет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росится быть «дирижером» 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оркестр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Уточняется понятие «дирижер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11" descr="6 группа 088"/>
          <p:cNvPicPr/>
          <p:nvPr/>
        </p:nvPicPr>
        <p:blipFill>
          <a:blip r:embed="rId1"/>
          <a:stretch/>
        </p:blipFill>
        <p:spPr>
          <a:xfrm>
            <a:off x="685800" y="1295280"/>
            <a:ext cx="3733920" cy="24386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2" descr="6 группа 091"/>
          <p:cNvPicPr/>
          <p:nvPr/>
        </p:nvPicPr>
        <p:blipFill>
          <a:blip r:embed="rId2"/>
          <a:stretch/>
        </p:blipFill>
        <p:spPr>
          <a:xfrm>
            <a:off x="685800" y="3886200"/>
            <a:ext cx="3733920" cy="25909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3" descr="6 группа 092"/>
          <p:cNvPicPr/>
          <p:nvPr/>
        </p:nvPicPr>
        <p:blipFill>
          <a:blip r:embed="rId3"/>
          <a:stretch/>
        </p:blipFill>
        <p:spPr>
          <a:xfrm>
            <a:off x="4800600" y="3657600"/>
            <a:ext cx="358128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V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ап: заключительный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«Оркестр»</a:t>
            </a:r>
            <a:br>
              <a:rPr sz="20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дачи: воспитывать выдержку; развивать внимание, умение чувствовать фразу; создавать положительный эмоциональный настрой от игр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123720" y="1371240"/>
            <a:ext cx="541044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Буратино предлагает исполнить русскую народну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есню «Светит месяц» по партия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оказываются карточки с изображение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деревянного инструмента. Те дети, у кого данн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инструмент играют законченную фразу. Пье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заканчивается общим звучанием оркест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9" descr="6 группа 086"/>
          <p:cNvPicPr/>
          <p:nvPr/>
        </p:nvPicPr>
        <p:blipFill>
          <a:blip r:embed="rId1"/>
          <a:stretch/>
        </p:blipFill>
        <p:spPr>
          <a:xfrm>
            <a:off x="457200" y="1371600"/>
            <a:ext cx="1639800" cy="21859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0" descr="6 группа 089"/>
          <p:cNvPicPr/>
          <p:nvPr/>
        </p:nvPicPr>
        <p:blipFill>
          <a:blip r:embed="rId2"/>
          <a:stretch/>
        </p:blipFill>
        <p:spPr>
          <a:xfrm>
            <a:off x="457200" y="3733920"/>
            <a:ext cx="3886200" cy="28191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1" descr="6 группа 090"/>
          <p:cNvPicPr/>
          <p:nvPr/>
        </p:nvPicPr>
        <p:blipFill>
          <a:blip r:embed="rId3"/>
          <a:stretch/>
        </p:blipFill>
        <p:spPr>
          <a:xfrm>
            <a:off x="4648320" y="3733920"/>
            <a:ext cx="403848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ведение итог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648320" y="99036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кие предметы «рассказывали на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вои истории»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ети: Деревянны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533520" y="4190760"/>
            <a:ext cx="40384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-250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какие музыкальные инструмен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переселились» звуки деревянны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едметов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ети: В ложки, коробочку, трещотку,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убель, ксилофо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уратино: Какие вы, ребята, молодцы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-сви-да-ни-я!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9" descr="6 группа 059"/>
          <p:cNvPicPr/>
          <p:nvPr/>
        </p:nvPicPr>
        <p:blipFill>
          <a:blip r:embed="rId1"/>
          <a:stretch/>
        </p:blipFill>
        <p:spPr>
          <a:xfrm>
            <a:off x="457200" y="990720"/>
            <a:ext cx="4038480" cy="29718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0" descr="6 группа 044"/>
          <p:cNvPicPr/>
          <p:nvPr/>
        </p:nvPicPr>
        <p:blipFill>
          <a:blip r:embed="rId2"/>
          <a:stretch/>
        </p:blipFill>
        <p:spPr>
          <a:xfrm>
            <a:off x="5181480" y="2286000"/>
            <a:ext cx="32004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зовательная область «Социализация»:формирование представлений о музыкальной культуре русского народа; развитие игровой деятельности через партнерские отнош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зовательная область «Познание»: расширение кругозора детей путем формирования представлений о происхождении деревянных музыкальных инструментов; развитие творческих способностей, инициатив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зовательная область «Коммуникация»: развитие свободного общения взрослых и детей во время эксперимента со звук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зовательная область «Художественное творчество»: проявление творчества, воображения, фантаз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зовательная область «Чтение художественной литературы»: использование стихов с целью усиления эмоционального и звукового восприя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зовательная область «Здоровье»: развивать слуховое и зрительное восприят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идактические задачи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о реализации интеграции образовательных област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варительная работа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1426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ормирование представлений о звуках окружающего мира, классификация (деревянные, металлические, стеклянные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нятие о длинных и коротких звуках: прохлопывание «Семейного рондо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учивание русской народной попевки «Скок, скок, поскок» с отбиванием ритмического рисунка колпачк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учивание песни М.Шкодовой «Три синички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накомство с музыкальными инструментами: ложками, коробочкой, трещоткой, рубеле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орудо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етские музыкальные инструменты: ложки, трещотки, рубель, коробочка, ксилофо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еревянные предметы: столы, стулья, палочки, карандаши, кубики, матрешки, посуда, игрушки, шкатулки и коробоч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укла Буратино, карточки с изображением музыкальных инструмен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редства ТСО: компьютер, телевизор, презентация (слайды) для детей, аудиозапис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ап – организационный, поисково-творческий.</a:t>
            </a:r>
            <a:br>
              <a:rPr sz="20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дачи: привлечь внимание детей к деревянным предметам, вызвать интерес к звуковым эксперимента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648320" y="1371240"/>
            <a:ext cx="403848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риветств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узыкальный руководитель: Сегодня нам свои истории будут рассказывать вот эти предметы. Из чего они сделаны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ети: Из дерев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Определение окружающих деревянных предме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узыкальный руководитель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Деревянный звук какой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н стучащий и сухой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еплый и трескучий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ихий и гремучий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Демонстрация звуковых возможностей деревянных предме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Изучение их звуковых характеристи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6 группа 013"/>
          <p:cNvPicPr/>
          <p:nvPr/>
        </p:nvPicPr>
        <p:blipFill>
          <a:blip r:embed="rId1"/>
          <a:stretch/>
        </p:blipFill>
        <p:spPr>
          <a:xfrm>
            <a:off x="779400" y="1600200"/>
            <a:ext cx="3394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Эксперимент со звук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648320" y="3505320"/>
            <a:ext cx="4038480" cy="26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Самостоятельное исследование – звукотворчество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узыкальный руководитель: Каким образом можно издавать «деревянные звуки»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ети: Взять деревянные палочки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(находят под стульчиками),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постучать ими, потереть между ладонями, постучать о сидение или спинку стула и т.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8" descr="6 группа 015"/>
          <p:cNvPicPr/>
          <p:nvPr/>
        </p:nvPicPr>
        <p:blipFill>
          <a:blip r:embed="rId1"/>
          <a:stretch/>
        </p:blipFill>
        <p:spPr>
          <a:xfrm>
            <a:off x="914400" y="11430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9" descr="6 группа 017"/>
          <p:cNvPicPr/>
          <p:nvPr/>
        </p:nvPicPr>
        <p:blipFill>
          <a:blip r:embed="rId2"/>
          <a:stretch/>
        </p:blipFill>
        <p:spPr>
          <a:xfrm>
            <a:off x="990720" y="3657600"/>
            <a:ext cx="2916000" cy="21877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" descr="6 группа 023"/>
          <p:cNvPicPr/>
          <p:nvPr/>
        </p:nvPicPr>
        <p:blipFill>
          <a:blip r:embed="rId3"/>
          <a:stretch/>
        </p:blipFill>
        <p:spPr>
          <a:xfrm>
            <a:off x="4952880" y="1143000"/>
            <a:ext cx="291492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этап – развивающий, творческий.</a:t>
            </a:r>
            <a:br>
              <a:rPr sz="20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дачи: формировать понятие о долготе звука; развивать тембровый слух, чувство метро-ритма; проявлять творческую инициативу, мышление и памя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447560"/>
            <a:ext cx="403848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«Дружная семейка»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граем палочками с ритмослогам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а-а, та-а – шагают бабуш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а, та, та, та – шагают мам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и-ти-ти-ти-ти-ти-ти-ти - де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4" descr="crotchet-blue-happy"/>
          <p:cNvPicPr/>
          <p:nvPr/>
        </p:nvPicPr>
        <p:blipFill>
          <a:blip r:embed="rId1"/>
          <a:stretch/>
        </p:blipFill>
        <p:spPr>
          <a:xfrm>
            <a:off x="2362320" y="3733920"/>
            <a:ext cx="1143000" cy="9903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1" descr="quaver-red-happy"/>
          <p:cNvPicPr/>
          <p:nvPr/>
        </p:nvPicPr>
        <p:blipFill>
          <a:blip r:embed="rId2"/>
          <a:stretch/>
        </p:blipFill>
        <p:spPr>
          <a:xfrm>
            <a:off x="3048120" y="5105520"/>
            <a:ext cx="761760" cy="7617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polovinka"/>
          <p:cNvPicPr/>
          <p:nvPr/>
        </p:nvPicPr>
        <p:blipFill>
          <a:blip r:embed="rId3"/>
          <a:stretch/>
        </p:blipFill>
        <p:spPr>
          <a:xfrm>
            <a:off x="533520" y="2286000"/>
            <a:ext cx="838080" cy="1143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polovinka"/>
          <p:cNvPicPr/>
          <p:nvPr/>
        </p:nvPicPr>
        <p:blipFill>
          <a:blip r:embed="rId4"/>
          <a:stretch/>
        </p:blipFill>
        <p:spPr>
          <a:xfrm>
            <a:off x="1905120" y="2286000"/>
            <a:ext cx="838080" cy="1143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9" descr="crotchet-blue-happy"/>
          <p:cNvPicPr/>
          <p:nvPr/>
        </p:nvPicPr>
        <p:blipFill>
          <a:blip r:embed="rId5"/>
          <a:stretch/>
        </p:blipFill>
        <p:spPr>
          <a:xfrm>
            <a:off x="990720" y="3733920"/>
            <a:ext cx="1143000" cy="990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0" descr="crotchet-blue-happy"/>
          <p:cNvPicPr/>
          <p:nvPr/>
        </p:nvPicPr>
        <p:blipFill>
          <a:blip r:embed="rId6"/>
          <a:stretch/>
        </p:blipFill>
        <p:spPr>
          <a:xfrm>
            <a:off x="457200" y="3733920"/>
            <a:ext cx="1143000" cy="990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1" descr="crotchet-blue-happy"/>
          <p:cNvPicPr/>
          <p:nvPr/>
        </p:nvPicPr>
        <p:blipFill>
          <a:blip r:embed="rId7"/>
          <a:stretch/>
        </p:blipFill>
        <p:spPr>
          <a:xfrm>
            <a:off x="1676520" y="3733920"/>
            <a:ext cx="1143000" cy="9903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5" descr="quaver-red-happy"/>
          <p:cNvPicPr/>
          <p:nvPr/>
        </p:nvPicPr>
        <p:blipFill>
          <a:blip r:embed="rId8"/>
          <a:stretch/>
        </p:blipFill>
        <p:spPr>
          <a:xfrm>
            <a:off x="2133720" y="5105520"/>
            <a:ext cx="761760" cy="792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6" descr="quaver-red-happy"/>
          <p:cNvPicPr/>
          <p:nvPr/>
        </p:nvPicPr>
        <p:blipFill>
          <a:blip r:embed="rId9"/>
          <a:stretch/>
        </p:blipFill>
        <p:spPr>
          <a:xfrm>
            <a:off x="762120" y="5105520"/>
            <a:ext cx="761760" cy="792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7" descr="quaver-red-happy"/>
          <p:cNvPicPr/>
          <p:nvPr/>
        </p:nvPicPr>
        <p:blipFill>
          <a:blip r:embed="rId10"/>
          <a:stretch/>
        </p:blipFill>
        <p:spPr>
          <a:xfrm>
            <a:off x="1219320" y="5105520"/>
            <a:ext cx="761760" cy="792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8" descr="quaver-red-happy"/>
          <p:cNvPicPr/>
          <p:nvPr/>
        </p:nvPicPr>
        <p:blipFill>
          <a:blip r:embed="rId11"/>
          <a:stretch/>
        </p:blipFill>
        <p:spPr>
          <a:xfrm>
            <a:off x="1676520" y="5105520"/>
            <a:ext cx="761760" cy="792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9" descr="quaver-red-happy"/>
          <p:cNvPicPr/>
          <p:nvPr/>
        </p:nvPicPr>
        <p:blipFill>
          <a:blip r:embed="rId12"/>
          <a:stretch/>
        </p:blipFill>
        <p:spPr>
          <a:xfrm>
            <a:off x="380880" y="5105520"/>
            <a:ext cx="762120" cy="792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0" descr="quaver-red-happy"/>
          <p:cNvPicPr/>
          <p:nvPr/>
        </p:nvPicPr>
        <p:blipFill>
          <a:blip r:embed="rId13"/>
          <a:stretch/>
        </p:blipFill>
        <p:spPr>
          <a:xfrm>
            <a:off x="2590920" y="5105520"/>
            <a:ext cx="761760" cy="792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0" descr="quaver-red-happy"/>
          <p:cNvPicPr/>
          <p:nvPr/>
        </p:nvPicPr>
        <p:blipFill>
          <a:blip r:embed="rId14"/>
          <a:stretch/>
        </p:blipFill>
        <p:spPr>
          <a:xfrm>
            <a:off x="0" y="5181480"/>
            <a:ext cx="838080" cy="7621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2" descr="6 группа 018"/>
          <p:cNvPicPr/>
          <p:nvPr/>
        </p:nvPicPr>
        <p:blipFill>
          <a:blip r:embed="rId15"/>
          <a:stretch/>
        </p:blipFill>
        <p:spPr>
          <a:xfrm>
            <a:off x="4267080" y="2895480"/>
            <a:ext cx="403884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«Семейное рондо»</a:t>
            </a:r>
            <a:br>
              <a:rPr sz="20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дачи: формировать понятие о долготе звуков; соотносить графическое изображение с ритмическим исполнение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7" descr="6 группа 021"/>
          <p:cNvPicPr/>
          <p:nvPr/>
        </p:nvPicPr>
        <p:blipFill>
          <a:blip r:embed="rId1"/>
          <a:stretch/>
        </p:blipFill>
        <p:spPr>
          <a:xfrm>
            <a:off x="609480" y="1752480"/>
            <a:ext cx="3810240" cy="30481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8" descr="6 группа 022"/>
          <p:cNvPicPr/>
          <p:nvPr/>
        </p:nvPicPr>
        <p:blipFill>
          <a:blip r:embed="rId2"/>
          <a:stretch/>
        </p:blipFill>
        <p:spPr>
          <a:xfrm>
            <a:off x="4800600" y="1752480"/>
            <a:ext cx="3733920" cy="304812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4952520"/>
            <a:ext cx="8229600" cy="117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пражнение в круг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Рефрен – дети маршируют по кругу            Эпизоды – ритмичное отстукива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шагов «Дружной семейки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«Деревянные загадки»</a:t>
            </a:r>
            <a:br>
              <a:rPr sz="20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дачи: развитие слуховой памяти, чувства ритма, координации рук и ритмического слух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8" descr="6 группа 025"/>
          <p:cNvPicPr/>
          <p:nvPr/>
        </p:nvPicPr>
        <p:blipFill>
          <a:blip r:embed="rId1"/>
          <a:stretch/>
        </p:blipFill>
        <p:spPr>
          <a:xfrm>
            <a:off x="762120" y="1371600"/>
            <a:ext cx="3581280" cy="25146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9" descr="6 группа 026"/>
          <p:cNvPicPr/>
          <p:nvPr/>
        </p:nvPicPr>
        <p:blipFill>
          <a:blip r:embed="rId2"/>
          <a:stretch/>
        </p:blipFill>
        <p:spPr>
          <a:xfrm>
            <a:off x="4648320" y="3962520"/>
            <a:ext cx="3581280" cy="25146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0" descr="6 группа 027"/>
          <p:cNvPicPr/>
          <p:nvPr/>
        </p:nvPicPr>
        <p:blipFill>
          <a:blip r:embed="rId3"/>
          <a:stretch/>
        </p:blipFill>
        <p:spPr>
          <a:xfrm>
            <a:off x="4648320" y="1371600"/>
            <a:ext cx="3581280" cy="25146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304920" y="4191120"/>
            <a:ext cx="396216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Музыкальный руководител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отстукивает ритм знакомой русской народной попевк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«Скок, поскок»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Дети узнаю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ропевание по фразам с отстукиванием ритмического рисунка – прием «эхо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INA</cp:lastModifiedBy>
  <dcterms:modified xsi:type="dcterms:W3CDTF">2016-10-26T12:54:30Z</dcterms:modified>
  <cp:revision>3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