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F5D-2F5F-4D1A-ABB2-485BD878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1B3-E62C-418A-88BF-E405AA6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4B0-3703-4544-AA9E-B1228967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66F-AE72-4326-83CB-AFEA5184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FB0-DD1A-4604-A961-C0912554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9BC-9D7D-4627-9393-78B991D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409-8824-4A1A-AAF9-F94337E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995-2FE9-4F67-87A2-60788CB5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DFA-53A5-419F-ACD7-19AB3BD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6C8-37E6-4FB7-897F-E9216A0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B6C-A0B6-4A8E-8A48-AAF97AB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099-8B5B-478B-9E20-E1C0684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E226-6FFC-4B7F-9431-6340F0783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ЛЬТИМЕДИЙ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область «Музы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узыкально-художестве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«Деревянные зву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№ 57 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енко Д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original"/>
          <p:cNvPicPr/>
          <p:nvPr/>
        </p:nvPicPr>
        <p:blipFill>
          <a:blip r:embed="rId1"/>
          <a:stretch/>
        </p:blipFill>
        <p:spPr>
          <a:xfrm>
            <a:off x="5334120" y="1828800"/>
            <a:ext cx="33526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есня по ролям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чи: способствовать выразительному исполнению песни; развивать тембровый слух, чувство метра, память; проявлять творческую инициативу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6 группа 029"/>
          <p:cNvPicPr/>
          <p:nvPr/>
        </p:nvPicPr>
        <p:blipFill>
          <a:blip r:embed="rId1"/>
          <a:stretch/>
        </p:blipFill>
        <p:spPr>
          <a:xfrm>
            <a:off x="304920" y="2209680"/>
            <a:ext cx="2097000" cy="281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6 группа 033"/>
          <p:cNvPicPr/>
          <p:nvPr/>
        </p:nvPicPr>
        <p:blipFill>
          <a:blip r:embed="rId2"/>
          <a:stretch/>
        </p:blipFill>
        <p:spPr>
          <a:xfrm>
            <a:off x="2666880" y="3809880"/>
            <a:ext cx="221004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6 группа 035"/>
          <p:cNvPicPr/>
          <p:nvPr/>
        </p:nvPicPr>
        <p:blipFill>
          <a:blip r:embed="rId3"/>
          <a:stretch/>
        </p:blipFill>
        <p:spPr>
          <a:xfrm>
            <a:off x="2057400" y="144792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105520" y="15235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лагается испол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юбимую песню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.Шкодовой по ролям. 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будут исполнять»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меты: кубики и карандаш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ушаем и сравниваем звуч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андаш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Трех синиче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ого будут озву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би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Коров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нение песни «Три синички» М.Шко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6 группа 034"/>
          <p:cNvPicPr/>
          <p:nvPr/>
        </p:nvPicPr>
        <p:blipFill>
          <a:blip r:embed="rId1"/>
          <a:stretch/>
        </p:blipFill>
        <p:spPr>
          <a:xfrm>
            <a:off x="533520" y="1676520"/>
            <a:ext cx="281916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6 группа 036"/>
          <p:cNvPicPr/>
          <p:nvPr/>
        </p:nvPicPr>
        <p:blipFill>
          <a:blip r:embed="rId2"/>
          <a:stretch/>
        </p:blipFill>
        <p:spPr>
          <a:xfrm>
            <a:off x="3886200" y="137160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льчики озвучивают куб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оров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53341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вочки озвучивают карандаш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иниче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: познавательный, развивающий, творческий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дать представление о происхождении деревянных музыкальных инструментов; способствовать развитию тембрового и динамического слуха, воспитывать доброжелательные взаим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6 группа 039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271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190760"/>
            <a:ext cx="40384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дятел сел на с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ит дерево: 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ж ты жу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олодался я: тук-тук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Какие деревянные звуки можем услышать в прир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сказка – аудиозапись «стук дят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яте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 экране появляется слай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6 группа 054"/>
          <p:cNvPicPr/>
          <p:nvPr/>
        </p:nvPicPr>
        <p:blipFill>
          <a:blip r:embed="rId2"/>
          <a:stretch/>
        </p:blipFill>
        <p:spPr>
          <a:xfrm>
            <a:off x="609480" y="152388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явление куклы Бура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6 группа 043"/>
          <p:cNvPicPr/>
          <p:nvPr/>
        </p:nvPicPr>
        <p:blipFill>
          <a:blip r:embed="rId1"/>
          <a:stretch/>
        </p:blipFill>
        <p:spPr>
          <a:xfrm>
            <a:off x="4343400" y="3048120"/>
            <a:ext cx="441972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409720" y="1066320"/>
            <a:ext cx="31244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ается стук в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двери стуча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ук-тук-тук! Тук-тук-ту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ается в двери сту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4571640"/>
            <a:ext cx="335304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выносит Бурати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Это кто-то очень ст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к деревянный?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Бурати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6 группа 041"/>
          <p:cNvPicPr/>
          <p:nvPr/>
        </p:nvPicPr>
        <p:blipFill>
          <a:blip r:embed="rId2"/>
          <a:stretch/>
        </p:blipFill>
        <p:spPr>
          <a:xfrm>
            <a:off x="685800" y="914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ратино исследует звуки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дачи: закрепить словесные характеристики звуков, развивать тембровый слух и память, пополнять словарный за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1430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Я тоже сделан из дерев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лю слушать деревян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такие, такие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издает звук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помогают подобрать сло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лые, трескучие, гремуч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учащие, сух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6 группа 046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81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6 группа 049"/>
          <p:cNvPicPr/>
          <p:nvPr/>
        </p:nvPicPr>
        <p:blipFill>
          <a:blip r:embed="rId2"/>
          <a:stretch/>
        </p:blipFill>
        <p:spPr>
          <a:xfrm>
            <a:off x="457200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609480" y="4267080"/>
            <a:ext cx="38862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Но у вас нет сам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го! Того, с чем можно иг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кест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Музыкальных инструмент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помогают вспомнить, какие музыкальные инструменты издают деревянные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0663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А вы знаете, что деревя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уки со временем переселились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 в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менты? Вот как это был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жками ели – теперь еще и игр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а – ложки выкладываются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9" descr="6 группа 050"/>
          <p:cNvPicPr/>
          <p:nvPr/>
        </p:nvPicPr>
        <p:blipFill>
          <a:blip r:embed="rId1"/>
          <a:stretch/>
        </p:blipFill>
        <p:spPr>
          <a:xfrm>
            <a:off x="457200" y="10666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4647960"/>
            <a:ext cx="40384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ая шкатулка превратилас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инструмент – короб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 – коробоч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2" descr="6 группа 051"/>
          <p:cNvPicPr/>
          <p:nvPr/>
        </p:nvPicPr>
        <p:blipFill>
          <a:blip r:embed="rId2"/>
          <a:stretch/>
        </p:blipFill>
        <p:spPr>
          <a:xfrm>
            <a:off x="4495680" y="3124080"/>
            <a:ext cx="4114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9720" y="914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 использовали для глажки бе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он очень похож на стира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у (слайды – рубель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6 группа 052"/>
          <p:cNvPicPr/>
          <p:nvPr/>
        </p:nvPicPr>
        <p:blipFill>
          <a:blip r:embed="rId1"/>
          <a:stretch/>
        </p:blipFill>
        <p:spPr>
          <a:xfrm>
            <a:off x="533520" y="838080"/>
            <a:ext cx="373356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еще рубель"/>
          <p:cNvPicPr/>
          <p:nvPr/>
        </p:nvPicPr>
        <p:blipFill>
          <a:blip r:embed="rId2"/>
          <a:stretch/>
        </p:blipFill>
        <p:spPr>
          <a:xfrm>
            <a:off x="5181480" y="2362320"/>
            <a:ext cx="318780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6426341032458683eb06451bb424b95d983ab4586b8_b"/>
          <p:cNvPicPr/>
          <p:nvPr/>
        </p:nvPicPr>
        <p:blipFill>
          <a:blip r:embed="rId3"/>
          <a:stretch/>
        </p:blipFill>
        <p:spPr>
          <a:xfrm>
            <a:off x="533520" y="3962520"/>
            <a:ext cx="12952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еще трещотка"/>
          <p:cNvPicPr/>
          <p:nvPr/>
        </p:nvPicPr>
        <p:blipFill>
          <a:blip r:embed="rId4"/>
          <a:stretch/>
        </p:blipFill>
        <p:spPr>
          <a:xfrm>
            <a:off x="2057400" y="3886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3"/>
          <p:cNvSpPr/>
          <p:nvPr/>
        </p:nvSpPr>
        <p:spPr>
          <a:xfrm>
            <a:off x="5257800" y="495288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ищепки стали трещо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лайды – трещотка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истор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91120" y="9907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амые необычные пре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ошли с деревянными поленьям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превратились в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оказ слайдов – ксилофон на сто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поленья"/>
          <p:cNvPicPr/>
          <p:nvPr/>
        </p:nvPicPr>
        <p:blipFill>
          <a:blip r:embed="rId1"/>
          <a:stretch/>
        </p:blipFill>
        <p:spPr>
          <a:xfrm>
            <a:off x="380880" y="106668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ксилофон"/>
          <p:cNvPicPr/>
          <p:nvPr/>
        </p:nvPicPr>
        <p:blipFill>
          <a:blip r:embed="rId2"/>
          <a:stretch/>
        </p:blipFill>
        <p:spPr>
          <a:xfrm>
            <a:off x="762120" y="3809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деревяшки"/>
          <p:cNvPicPr/>
          <p:nvPr/>
        </p:nvPicPr>
        <p:blipFill>
          <a:blip r:embed="rId3"/>
          <a:stretch/>
        </p:blipFill>
        <p:spPr>
          <a:xfrm>
            <a:off x="4343400" y="24382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ем внимательн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дачи: развивать тембровый слух, память, формировать навыки игры на деревянных музыкальных инструмент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6 группа 057"/>
          <p:cNvPicPr/>
          <p:nvPr/>
        </p:nvPicPr>
        <p:blipFill>
          <a:blip r:embed="rId1"/>
          <a:stretch/>
        </p:blipFill>
        <p:spPr>
          <a:xfrm>
            <a:off x="685800" y="1447920"/>
            <a:ext cx="3276720" cy="19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6 группа 065"/>
          <p:cNvPicPr/>
          <p:nvPr/>
        </p:nvPicPr>
        <p:blipFill>
          <a:blip r:embed="rId2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419720" y="13712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узна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удиозаписи звучание 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, узнавшие тембр того или и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а, подходят к сто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ходят нужный инструмент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 способы звукоизвл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6 группа 072"/>
          <p:cNvPicPr/>
          <p:nvPr/>
        </p:nvPicPr>
        <p:blipFill>
          <a:blip r:embed="rId3"/>
          <a:stretch/>
        </p:blipFill>
        <p:spPr>
          <a:xfrm>
            <a:off x="4648320" y="36576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Слушай вниматель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6 группа 070"/>
          <p:cNvPicPr/>
          <p:nvPr/>
        </p:nvPicPr>
        <p:blipFill>
          <a:blip r:embed="rId1"/>
          <a:stretch/>
        </p:blipFill>
        <p:spPr>
          <a:xfrm>
            <a:off x="609480" y="12193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6 группа 076"/>
          <p:cNvPicPr/>
          <p:nvPr/>
        </p:nvPicPr>
        <p:blipFill>
          <a:blip r:embed="rId2"/>
          <a:stretch/>
        </p:blipFill>
        <p:spPr>
          <a:xfrm>
            <a:off x="609480" y="3505320"/>
            <a:ext cx="3048120" cy="281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495320" y="1371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аким образом, у все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азываются в руках музык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6 группа 067"/>
          <p:cNvPicPr/>
          <p:nvPr/>
        </p:nvPicPr>
        <p:blipFill>
          <a:blip r:embed="rId3"/>
          <a:stretch/>
        </p:blipFill>
        <p:spPr>
          <a:xfrm>
            <a:off x="4038480" y="2819520"/>
            <a:ext cx="4648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оздать условия для творческого самовыражения детей в игре с «деревянными звук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лечь внимание детей к богатству и разнообразию звуков, издаваемых деревянными предметами и музыкальными инструм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характере и разнообразии тембров «деревянных зву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деревянных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азличать звуки по длительностям, ориентируясь на графическое из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названия деревянных музыкальных инструментов в соответствии со звуковым восприятием (ложки, коробочка, рубель, трещотка, ксилоф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ать формировать навыки игры на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ембровый слух, музыкальную память, внимание, чувство рит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творческий потенциал, воображение, фантазию и изобрет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ассоциативное мышление и инициати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интерес к истории происхождения русских народных деревян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доброжелательные взаимоотношения между детьми в процессе совместной творческ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ровизация на тему «Веселый и грустный Буратино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эмоционально откликаться на русские народные мелодии; выражать эмоции в игре на инструментах; учить пользоваться контрастной динам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хвалит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ится быть «дирижером»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кестр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очняется понятие «дириж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6 группа 088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6 группа 091"/>
          <p:cNvPicPr/>
          <p:nvPr/>
        </p:nvPicPr>
        <p:blipFill>
          <a:blip r:embed="rId2"/>
          <a:stretch/>
        </p:blipFill>
        <p:spPr>
          <a:xfrm>
            <a:off x="685800" y="3886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6 группа 092"/>
          <p:cNvPicPr/>
          <p:nvPr/>
        </p:nvPicPr>
        <p:blipFill>
          <a:blip r:embed="rId3"/>
          <a:stretch/>
        </p:blipFill>
        <p:spPr>
          <a:xfrm>
            <a:off x="4800600" y="3657600"/>
            <a:ext cx="358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: заключительны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Оркестр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воспитывать выдержку; развивать внимание, умение чувствовать фразу; создавать положительный эмоциональный настрой от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23720" y="137124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уратино предлагает исполнить русскую народ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сню «Светит месяц» по пар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азываются карточки с изобра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ревянного инструмента. Те дети, у кого д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струмент играют законченную фразу. Пь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нчивается общим звучанием оркес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6 группа 086"/>
          <p:cNvPicPr/>
          <p:nvPr/>
        </p:nvPicPr>
        <p:blipFill>
          <a:blip r:embed="rId1"/>
          <a:stretch/>
        </p:blipFill>
        <p:spPr>
          <a:xfrm>
            <a:off x="457200" y="13716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6 группа 089"/>
          <p:cNvPicPr/>
          <p:nvPr/>
        </p:nvPicPr>
        <p:blipFill>
          <a:blip r:embed="rId2"/>
          <a:stretch/>
        </p:blipFill>
        <p:spPr>
          <a:xfrm>
            <a:off x="457200" y="3733920"/>
            <a:ext cx="3886200" cy="281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6 группа 090"/>
          <p:cNvPicPr/>
          <p:nvPr/>
        </p:nvPicPr>
        <p:blipFill>
          <a:blip r:embed="rId3"/>
          <a:stretch/>
        </p:blipFill>
        <p:spPr>
          <a:xfrm>
            <a:off x="4648320" y="3733920"/>
            <a:ext cx="4038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предметы «рассказывали 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и истори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Деревя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4190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ие музыкальные инстр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ереселились» звуки деревя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 ложки, коробочку, трещотк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бель, ксило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ратино: Какие вы, ребята, молод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-сви-да-ни-я!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6 группа 059"/>
          <p:cNvPicPr/>
          <p:nvPr/>
        </p:nvPicPr>
        <p:blipFill>
          <a:blip r:embed="rId1"/>
          <a:stretch/>
        </p:blipFill>
        <p:spPr>
          <a:xfrm>
            <a:off x="457200" y="99072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6 группа 044"/>
          <p:cNvPicPr/>
          <p:nvPr/>
        </p:nvPicPr>
        <p:blipFill>
          <a:blip r:embed="rId2"/>
          <a:stretch/>
        </p:blipFill>
        <p:spPr>
          <a:xfrm>
            <a:off x="5181480" y="22860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Социализация»:формирование представлений о музыкальной культуре русского народа; развитие игровой деятельности через партнерски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Познание»: расширение кругозора детей путем формирования представлений о происхождении деревянных музыкальных инструментов; развитие творческих способностей, иници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Коммуникация»: развитие свободного общения взрослых и детей во время эксперимента со зв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Художественное творчество»: проявление творчества, воображения, фанта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Чтение художественной литературы»: использование стихов с целью усиления эмоционального и звук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 «Здоровье»: развивать слуховое и зрительное вос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зада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реализации интеграции образовательных об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арительная рабо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вуках окружающего мира, классификация (деревянные, металлические, стекля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о длинных и коротких звуках: прохлопывание «Семейного ронд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русской народной попевки «Скок, скок, поскок» с отбиванием ритмического рисунка колпа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учивание песни М.Шкодовой «Три синич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узыкальными инструментами: ложками, коробочкой, трещоткой, руб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е музыкальные инструменты: ложки, трещотки, рубель, коробочка, ксило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ревянные предметы: столы, стулья, палочки, карандаши, кубики, матрешки, посуда, игрушки, шкатулки и короб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кла Буратино, карточки с изображением музыкальных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ТСО: компьютер, телевизор, презентация (слайды) для детей, аудио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 – организационный, поисково-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привлечь внимание детей к деревянным предметам, вызвать интерес к звуковым эксперимен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вет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Сегодня нам свои истории будут рассказывать вот эти предметы. Из чего они сдел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Из дер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ение окружающих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ревянный звук ка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тучащий и сух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ый и треск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хий и гремуч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монстрация звуковых возможностей деревян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учение их звуковых характер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6 группа 01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имент со зву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350532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мостоятельное исследование – звукотворче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: Каким образом можно издавать «деревянные звуки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 Взять деревянные палоч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ходят под стульчиками)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учать ими, потереть между ладонями, постучать о сидение или спинку стул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6 группа 015"/>
          <p:cNvPicPr/>
          <p:nvPr/>
        </p:nvPicPr>
        <p:blipFill>
          <a:blip r:embed="rId1"/>
          <a:stretch/>
        </p:blipFill>
        <p:spPr>
          <a:xfrm>
            <a:off x="914400" y="114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6 группа 017"/>
          <p:cNvPicPr/>
          <p:nvPr/>
        </p:nvPicPr>
        <p:blipFill>
          <a:blip r:embed="rId2"/>
          <a:stretch/>
        </p:blipFill>
        <p:spPr>
          <a:xfrm>
            <a:off x="990720" y="36576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6 группа 023"/>
          <p:cNvPicPr/>
          <p:nvPr/>
        </p:nvPicPr>
        <p:blipFill>
          <a:blip r:embed="rId3"/>
          <a:stretch/>
        </p:blipFill>
        <p:spPr>
          <a:xfrm>
            <a:off x="4952880" y="1143000"/>
            <a:ext cx="2914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 – развивающий, творческий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а; развивать тембровый слух, чувство метро-ритма; проявлять творческую инициативу, мышление и пам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ружная семейка»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ем палочками с ритмосло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-а, та-а – шагают баб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, та, та, та – шагают ма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-ти-ти-ти-ти-ти-ти-ти -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crotchet-blue-happy"/>
          <p:cNvPicPr/>
          <p:nvPr/>
        </p:nvPicPr>
        <p:blipFill>
          <a:blip r:embed="rId1"/>
          <a:stretch/>
        </p:blipFill>
        <p:spPr>
          <a:xfrm>
            <a:off x="23623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quaver-red-happy"/>
          <p:cNvPicPr/>
          <p:nvPr/>
        </p:nvPicPr>
        <p:blipFill>
          <a:blip r:embed="rId2"/>
          <a:stretch/>
        </p:blipFill>
        <p:spPr>
          <a:xfrm>
            <a:off x="3048120" y="5105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polovinka"/>
          <p:cNvPicPr/>
          <p:nvPr/>
        </p:nvPicPr>
        <p:blipFill>
          <a:blip r:embed="rId3"/>
          <a:stretch/>
        </p:blipFill>
        <p:spPr>
          <a:xfrm>
            <a:off x="5335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olovinka"/>
          <p:cNvPicPr/>
          <p:nvPr/>
        </p:nvPicPr>
        <p:blipFill>
          <a:blip r:embed="rId4"/>
          <a:stretch/>
        </p:blipFill>
        <p:spPr>
          <a:xfrm>
            <a:off x="1905120" y="2286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rotchet-blue-happy"/>
          <p:cNvPicPr/>
          <p:nvPr/>
        </p:nvPicPr>
        <p:blipFill>
          <a:blip r:embed="rId5"/>
          <a:stretch/>
        </p:blipFill>
        <p:spPr>
          <a:xfrm>
            <a:off x="9907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rotchet-blue-happy"/>
          <p:cNvPicPr/>
          <p:nvPr/>
        </p:nvPicPr>
        <p:blipFill>
          <a:blip r:embed="rId6"/>
          <a:stretch/>
        </p:blipFill>
        <p:spPr>
          <a:xfrm>
            <a:off x="45720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tchet-blue-happy"/>
          <p:cNvPicPr/>
          <p:nvPr/>
        </p:nvPicPr>
        <p:blipFill>
          <a:blip r:embed="rId7"/>
          <a:stretch/>
        </p:blipFill>
        <p:spPr>
          <a:xfrm>
            <a:off x="1676520" y="3733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quaver-red-happy"/>
          <p:cNvPicPr/>
          <p:nvPr/>
        </p:nvPicPr>
        <p:blipFill>
          <a:blip r:embed="rId8"/>
          <a:stretch/>
        </p:blipFill>
        <p:spPr>
          <a:xfrm>
            <a:off x="21337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quaver-red-happy"/>
          <p:cNvPicPr/>
          <p:nvPr/>
        </p:nvPicPr>
        <p:blipFill>
          <a:blip r:embed="rId9"/>
          <a:stretch/>
        </p:blipFill>
        <p:spPr>
          <a:xfrm>
            <a:off x="7621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quaver-red-happy"/>
          <p:cNvPicPr/>
          <p:nvPr/>
        </p:nvPicPr>
        <p:blipFill>
          <a:blip r:embed="rId10"/>
          <a:stretch/>
        </p:blipFill>
        <p:spPr>
          <a:xfrm>
            <a:off x="12193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quaver-red-happy"/>
          <p:cNvPicPr/>
          <p:nvPr/>
        </p:nvPicPr>
        <p:blipFill>
          <a:blip r:embed="rId11"/>
          <a:stretch/>
        </p:blipFill>
        <p:spPr>
          <a:xfrm>
            <a:off x="16765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quaver-red-happy"/>
          <p:cNvPicPr/>
          <p:nvPr/>
        </p:nvPicPr>
        <p:blipFill>
          <a:blip r:embed="rId12"/>
          <a:stretch/>
        </p:blipFill>
        <p:spPr>
          <a:xfrm>
            <a:off x="380880" y="5105520"/>
            <a:ext cx="76212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quaver-red-happy"/>
          <p:cNvPicPr/>
          <p:nvPr/>
        </p:nvPicPr>
        <p:blipFill>
          <a:blip r:embed="rId13"/>
          <a:stretch/>
        </p:blipFill>
        <p:spPr>
          <a:xfrm>
            <a:off x="2590920" y="5105520"/>
            <a:ext cx="7617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quaver-red-happy"/>
          <p:cNvPicPr/>
          <p:nvPr/>
        </p:nvPicPr>
        <p:blipFill>
          <a:blip r:embed="rId14"/>
          <a:stretch/>
        </p:blipFill>
        <p:spPr>
          <a:xfrm>
            <a:off x="0" y="518148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6 группа 018"/>
          <p:cNvPicPr/>
          <p:nvPr/>
        </p:nvPicPr>
        <p:blipFill>
          <a:blip r:embed="rId15"/>
          <a:stretch/>
        </p:blipFill>
        <p:spPr>
          <a:xfrm>
            <a:off x="4267080" y="2895480"/>
            <a:ext cx="4038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емейное рондо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формировать понятие о долготе звуков; соотносить графическое изображение с ритмическим испол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6 группа 021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6 группа 022"/>
          <p:cNvPicPr/>
          <p:nvPr/>
        </p:nvPicPr>
        <p:blipFill>
          <a:blip r:embed="rId2"/>
          <a:stretch/>
        </p:blipFill>
        <p:spPr>
          <a:xfrm>
            <a:off x="4800600" y="175248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е в кр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френ – дети маршируют по кругу            Эпизоды – ритмичное отсту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агов «Дружной семей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ревянные загадки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: развитие слуховой памяти, чувства ритма, координации рук и ритмического сл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6 группа 025"/>
          <p:cNvPicPr/>
          <p:nvPr/>
        </p:nvPicPr>
        <p:blipFill>
          <a:blip r:embed="rId1"/>
          <a:stretch/>
        </p:blipFill>
        <p:spPr>
          <a:xfrm>
            <a:off x="762120" y="13716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6 группа 026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6 группа 027"/>
          <p:cNvPicPr/>
          <p:nvPr/>
        </p:nvPicPr>
        <p:blipFill>
          <a:blip r:embed="rId3"/>
          <a:stretch/>
        </p:blipFill>
        <p:spPr>
          <a:xfrm>
            <a:off x="4648320" y="13716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920" y="4191120"/>
            <a:ext cx="3962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тукивает ритм знакомой русской народной попе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кок, поскок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ти узн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певание по фразам с отстукиванием ритмического рисунка – прием «эх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NA</cp:lastModifiedBy>
  <dcterms:modified xsi:type="dcterms:W3CDTF">2016-10-26T12:54:3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