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BCCB-119D-4D71-9E9C-EBA4FF2C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165-F55F-4AEC-A42B-C6C0E6D6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388-2A8D-40F2-991C-F07393D4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D45-32C1-40CD-9843-166586FA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2F4F-B811-4A97-9170-BD320E18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CC6F-0766-40E1-9A6B-B5F1D643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1DFA-5801-4C67-9B02-F07B9557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0E85-EB04-4441-82B9-4910F9B1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43B6-6E45-4BF7-B21E-91C400BC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2D8B-58C1-47D7-8583-DE08EC19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895F-C980-4773-B410-83C66F90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B4A-EB74-428F-9CE1-7D1974E8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FD9C-81FA-4E7C-BA6F-B955FE4A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C376-33D4-4E3C-9320-9DC1C91E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BE44-A40E-4A31-B761-3DEC8871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BBFC-9578-4879-91A2-ADCF863B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F03C-80F6-4EBF-BF14-1616FE74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FEEC2-6277-4A0D-9E96-F5FF962F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1D0EE-FAB5-4F85-85BC-46E8DFED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AA587-8DFA-4991-875D-D07F8A41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DB7A5-8F1A-4579-9C03-49C66778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0EC56-EE38-4CA3-80CF-5BAD2E6E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FE31-B71E-40AA-8F09-E968BAF9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28E22-3755-4B6C-96FF-D35C0DC7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0D72B-B0E7-42A2-8098-93417951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D6447-2C71-4C91-AC1E-5735124E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C7112-8322-494E-A7DD-71698480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39B5D-7327-4831-828D-E3C1E169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E7D2C-3812-4C91-839E-6C5F2BD9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D0E07-A199-467B-A021-3ACAAFA6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B2944-7748-4529-A0D0-102FAEF3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7E486-6F62-4169-867C-E7E42BCD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2ABAA-9761-40E6-852D-B5C0FAED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7F6C-1422-4A5B-AC9B-C727DC27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4F0AB-2B69-429C-80B7-0E8CBA1A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DAC8F-72D4-4E2B-B518-E83B051A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4C05B-AB75-411B-BA8B-DB860C0D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C87B7-18B5-4757-81E1-C4B861B9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22DB2-D628-4150-8D9E-E025F552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4DDD9-AF0C-48DB-A164-8AD8C689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8012A-A249-40C1-A913-AD9B9DFE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3B3A3-BF63-49F2-9831-0D0B66F9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2BA9C-F115-4CB8-B91A-26BF866A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F5244-4D37-4056-A08E-A87BE85F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70B2-F2F7-4C61-9414-322B8DB6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48013-8469-429D-99F5-168E2410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291E6-59B2-4FBA-9A0B-F0908498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24B66-1BE3-483D-8EFA-23272000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A5CBD-22B2-4DCE-9399-836588EC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F57AE-4A3E-49C1-988B-BB8265EC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0AF84-CDBE-4D11-BC45-36223F7E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65B9E-7EAC-4DCB-B0AA-C55D5DC6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DCEF3-D158-4567-A05A-495F1FEA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94AB1-F76A-4C1C-8DB7-D93B77EC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A13FE-0799-41C1-91DF-4D12A8EE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BCE-5BED-46CA-B555-551E7EF6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8F6FB-1EF1-409A-A4D0-B551E984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85E3F-C4FB-4627-8987-51D2F683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05B55-E46F-4A86-85FD-E0787EB1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A480F-D584-4196-A2D6-F4CE3FB2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3519D-73BB-4F04-A53D-6A7C3A0A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270B8-E1D0-41E6-AE58-62DA8670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0020D-E274-42B8-A8EF-546F00EB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13AA0-E185-49AE-B406-38346AF2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A690C-5306-4F75-98D9-5B51AF98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B419F-8F6E-4E45-81C3-8F8E96FA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E955-2A35-44C4-880D-F24FBAED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D63AA-2CC5-48E6-8D16-EC875CD1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A6881-DA79-42A8-A8BA-11895383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08022-0561-405A-A892-A496BA92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F5994-18F4-4425-B006-E7222311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57738-5083-4391-B49F-67169A3D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7C1DB-1D1B-4267-9FD9-E49D8539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BD5BF-3BFC-4FFB-8673-F03E5132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C43BB-F14B-4462-910A-C18978FA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CC7E2-4238-4138-A4FE-86035A1A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49636-6BB0-4966-892A-4AE0345D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4930-55BA-4869-BFA2-6E4722FF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AED1B-14FC-4F22-95B1-250A2F80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AF824-9AF5-4CED-AD10-833B475C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49203-7F28-4516-9BE8-6F088559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15D5D-F9B8-40C9-B38E-ADCF0FDF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F84A0-D510-4EE9-950E-B52EDD32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635-4BD4-4AF3-81A2-24CF9BE1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BA01-338C-4D24-8FFC-3C7B3A959FA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3CF7-3DD6-461D-A33D-DC0636F458C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A70A-C4A1-4564-BB96-2AA50DA53F2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8137-17DE-4F79-9CBB-F5E355FDC87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7989-0299-4A4C-B591-F369A1E23E3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7668-C604-4EDD-A10B-7462A68568F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2722-BDD8-4239-B010-0793E1848A0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Заголовок 1"/>
          <p:cNvSpPr/>
          <p:nvPr/>
        </p:nvSpPr>
        <p:spPr>
          <a:xfrm>
            <a:off x="1116000" y="0"/>
            <a:ext cx="7848720" cy="175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5436a"/>
                </a:solidFill>
                <a:latin typeface="Corbel"/>
              </a:rPr>
              <a:t>Оптические приборы, вооружающие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одготовила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реподаватель физики ГБПОУ ВО БМТК Ковалева Е. П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5148360" y="1863720"/>
            <a:ext cx="2111400" cy="24066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5292720" y="4392720"/>
            <a:ext cx="2448000" cy="2235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"/>
          <p:cNvPicPr/>
          <p:nvPr/>
        </p:nvPicPr>
        <p:blipFill>
          <a:blip r:embed="rId3"/>
          <a:stretch/>
        </p:blipFill>
        <p:spPr>
          <a:xfrm>
            <a:off x="1649520" y="2085840"/>
            <a:ext cx="2047680" cy="2197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"/>
          <p:cNvPicPr/>
          <p:nvPr/>
        </p:nvPicPr>
        <p:blipFill>
          <a:blip r:embed="rId4"/>
          <a:stretch/>
        </p:blipFill>
        <p:spPr>
          <a:xfrm>
            <a:off x="1649520" y="4270320"/>
            <a:ext cx="19098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6786720" y="142920"/>
            <a:ext cx="2071440" cy="2544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"/>
          <p:cNvPicPr/>
          <p:nvPr/>
        </p:nvPicPr>
        <p:blipFill>
          <a:blip r:embed="rId2"/>
          <a:stretch/>
        </p:blipFill>
        <p:spPr>
          <a:xfrm>
            <a:off x="1214280" y="1571760"/>
            <a:ext cx="5286600" cy="179064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14280" y="142560"/>
            <a:ext cx="35719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Труба Галиле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TextBox 5"/>
          <p:cNvSpPr/>
          <p:nvPr/>
        </p:nvSpPr>
        <p:spPr>
          <a:xfrm>
            <a:off x="6643800" y="278604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алилео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1564- 16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6"/>
          <p:cNvSpPr/>
          <p:nvPr/>
        </p:nvSpPr>
        <p:spPr>
          <a:xfrm>
            <a:off x="1143000" y="714240"/>
            <a:ext cx="53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алилей в 1609 году конструирует собственноручно первый телеско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"/>
          <p:cNvSpPr/>
          <p:nvPr/>
        </p:nvSpPr>
        <p:spPr>
          <a:xfrm>
            <a:off x="1071720" y="342900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учи, идущие от предмета, проходят через собирающую линзу и становятся сходящимися (дали бы перевернутое, уменьшенное изображение). Затем они попадают на рассеивающую линзу и становятся расходящимися. Они дают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мнимое, прямое, увеличенное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зображение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 помощью своей трубы с 30-кратным увеличением Галилей сделал ряд астрономических открытий: Обнаружил горы на Луне, пятна на Солнце, открыл четыре спутника Юпитера, фазы Венеры, установил, что Млечный Путь состоит из множества звез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наше время в основном применяются в театральных бинокл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142920"/>
            <a:ext cx="74977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елескоп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TextBox 3"/>
          <p:cNvSpPr/>
          <p:nvPr/>
        </p:nvSpPr>
        <p:spPr>
          <a:xfrm>
            <a:off x="1071720" y="86184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Телескоп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оптическое устройство представляет собой мощную зрительную трубу, предназначенную для наблюдения весьма удаленных объектов – небесных свет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Телескоп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– это оптическая система, которая, «выхватывая» из пространства небольшую область, зрительно приближая расположенные в ней объекты. Телескоп улавливает параллельные своей оптической оси лучи светового потока, собирает их в одну точку (фокус) и увеличивает при помощи линзы или, чаще, системы линз (окуляра), которая одновременно снова преобразует расходящиеся лучи света в паралл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5000760" y="3429000"/>
            <a:ext cx="4081320" cy="2857680"/>
          </a:xfrm>
          <a:prstGeom prst="rect">
            <a:avLst/>
          </a:prstGeom>
          <a:ln w="0">
            <a:noFill/>
          </a:ln>
        </p:spPr>
      </p:pic>
      <p:sp>
        <p:nvSpPr>
          <p:cNvPr id="395" name="TextBox 6"/>
          <p:cNvSpPr/>
          <p:nvPr/>
        </p:nvSpPr>
        <p:spPr>
          <a:xfrm>
            <a:off x="1000080" y="3429000"/>
            <a:ext cx="4071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инзовый телескоп совершенствовался. Чтобы улучшить качество изображения, астрономы использовали новейшие технологии стекловарения, а также увеличивали фокусное расстояние телескопов, что, естественно приводило к увеличению и их физических размеров (например, в конце XVIII века длина телескопа Яна Гевелия достигала 46 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3"/>
          <p:cNvSpPr/>
          <p:nvPr/>
        </p:nvSpPr>
        <p:spPr>
          <a:xfrm>
            <a:off x="1071720" y="1429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тремясь усовершенствовать конструкцию телескопа таким образом, чтобы добиться максимально высокого качества изображения, ученые создали несколько оптических схем, использующих как линзы, так и зеркала. Среди таких телескопов наибольшее распространение получили катадиоптрические системы Нью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 типу элемента, используемого для сбора световых лучей в фокусе, все современные потребительские телескопы подразделяются на линзовые (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ефракторы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, зеркальные (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ефлекторы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 и зеркально-линзовые (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атадиоптрические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4"/>
          <p:cNvSpPr/>
          <p:nvPr/>
        </p:nvSpPr>
        <p:spPr>
          <a:xfrm>
            <a:off x="3286080" y="3429000"/>
            <a:ext cx="3571920" cy="8571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лескопы по типу элемента, используемого для сбора световых лучей в фоку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5"/>
          <p:cNvSpPr/>
          <p:nvPr/>
        </p:nvSpPr>
        <p:spPr>
          <a:xfrm>
            <a:off x="1177920" y="4929120"/>
            <a:ext cx="250020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рефр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(линзо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6"/>
          <p:cNvSpPr/>
          <p:nvPr/>
        </p:nvSpPr>
        <p:spPr>
          <a:xfrm>
            <a:off x="3857760" y="4929120"/>
            <a:ext cx="250020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рефле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(зеркаль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7"/>
          <p:cNvSpPr/>
          <p:nvPr/>
        </p:nvSpPr>
        <p:spPr>
          <a:xfrm>
            <a:off x="6500880" y="4929120"/>
            <a:ext cx="250020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катадиоптр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(зеркально-линзо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Прямая со стрелкой 16"/>
          <p:cNvCxnSpPr>
            <a:stCxn id="397" idx="2"/>
          </p:cNvCxnSpPr>
          <p:nvPr/>
        </p:nvCxnSpPr>
        <p:spPr>
          <a:xfrm flipH="1">
            <a:off x="5071680" y="4287600"/>
            <a:ext cx="2160" cy="214920"/>
          </a:xfrm>
          <a:prstGeom prst="straightConnector1">
            <a:avLst/>
          </a:prstGeom>
          <a:ln w="2844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02" name="Прямая соединительная линия 18"/>
          <p:cNvSpPr/>
          <p:nvPr/>
        </p:nvSpPr>
        <p:spPr>
          <a:xfrm flipH="1">
            <a:off x="2428560" y="4494240"/>
            <a:ext cx="5319720" cy="6480"/>
          </a:xfrm>
          <a:prstGeom prst="line">
            <a:avLst/>
          </a:prstGeom>
          <a:ln w="2844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Прямая со стрелкой 24"/>
          <p:cNvCxnSpPr>
            <a:endCxn id="398" idx="0"/>
          </p:cNvCxnSpPr>
          <p:nvPr/>
        </p:nvCxnSpPr>
        <p:spPr>
          <a:xfrm flipH="1">
            <a:off x="2426400" y="4500720"/>
            <a:ext cx="2520" cy="429120"/>
          </a:xfrm>
          <a:prstGeom prst="straightConnector1">
            <a:avLst/>
          </a:prstGeom>
          <a:ln w="2844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4" name="Прямая со стрелкой 32"/>
          <p:cNvCxnSpPr>
            <a:endCxn id="400" idx="0"/>
          </p:cNvCxnSpPr>
          <p:nvPr/>
        </p:nvCxnSpPr>
        <p:spPr>
          <a:xfrm>
            <a:off x="7739640" y="4494240"/>
            <a:ext cx="11880" cy="435600"/>
          </a:xfrm>
          <a:prstGeom prst="straightConnector1">
            <a:avLst/>
          </a:prstGeom>
          <a:ln w="2844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5" name="Прямая со стрелкой 39"/>
          <p:cNvCxnSpPr/>
          <p:nvPr/>
        </p:nvCxnSpPr>
        <p:spPr>
          <a:xfrm flipH="1">
            <a:off x="5060160" y="4500720"/>
            <a:ext cx="11880" cy="437040"/>
          </a:xfrm>
          <a:prstGeom prst="straightConnector1">
            <a:avLst/>
          </a:prstGeom>
          <a:ln w="2844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Линзовые телескопы (рефракторы)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4727520" y="1143000"/>
            <a:ext cx="4178520" cy="2428920"/>
          </a:xfrm>
          <a:prstGeom prst="rect">
            <a:avLst/>
          </a:prstGeom>
          <a:ln w="0">
            <a:noFill/>
          </a:ln>
        </p:spPr>
      </p:pic>
      <p:sp>
        <p:nvSpPr>
          <p:cNvPr id="408" name="TextBox 4"/>
          <p:cNvSpPr/>
          <p:nvPr/>
        </p:nvSpPr>
        <p:spPr>
          <a:xfrm>
            <a:off x="1071720" y="1071720"/>
            <a:ext cx="3929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еимуществ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крытая труба телескопа предотвращает проникновение внутрь трубы пыли и влаги, которые оказывают негативное воздействие на полезные свойства телеско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сты в обслуживании и эксплуатации – положение их линз зафиксировано в завод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6"/>
          <p:cNvSpPr/>
          <p:nvPr/>
        </p:nvSpPr>
        <p:spPr>
          <a:xfrm>
            <a:off x="1071720" y="3571920"/>
            <a:ext cx="792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словиях, что избавляет пользователя от необходимости самостоятельно производить юстировку, то есть тонкую подстрой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тсутствует центральное экранирование, которое уменьшает количество поступающего света и ведет к искажению дифракционной кар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Недостат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хроматическая аберр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Зеркальные телескопы (рефлекторы)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5500800" y="857160"/>
            <a:ext cx="3500280" cy="2892600"/>
          </a:xfrm>
          <a:prstGeom prst="rect">
            <a:avLst/>
          </a:prstGeom>
          <a:ln w="0">
            <a:noFill/>
          </a:ln>
        </p:spPr>
      </p:pic>
      <p:sp>
        <p:nvSpPr>
          <p:cNvPr id="412" name="TextBox 4"/>
          <p:cNvSpPr/>
          <p:nvPr/>
        </p:nvSpPr>
        <p:spPr>
          <a:xfrm>
            <a:off x="1071720" y="142884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еимуще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бъектив – параболическое зеркало большого диаметра          лишено хроматической абер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енее дороги в производстве: в конструкции рефлектора присутствуют всего две нуждающиеся в полировке и специальных покрытиях поверх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Мину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ольшую длину трубы, делающую телескоп более уязвимым к колеба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ложное обслуживание, предполагающее регулярную юстировку каждого зерк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Стрелка вправо 5"/>
          <p:cNvSpPr/>
          <p:nvPr/>
        </p:nvSpPr>
        <p:spPr>
          <a:xfrm>
            <a:off x="3214800" y="2143080"/>
            <a:ext cx="285480" cy="71640"/>
          </a:xfrm>
          <a:prstGeom prst="rightArrow">
            <a:avLst>
              <a:gd name="adj1" fmla="val 50000"/>
              <a:gd name="adj2" fmla="val 4981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Зеркально-линзовые телескопы (катадиоптрические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4143240" y="1500120"/>
            <a:ext cx="4734000" cy="1905120"/>
          </a:xfrm>
          <a:prstGeom prst="rect">
            <a:avLst/>
          </a:prstGeom>
          <a:ln w="0">
            <a:noFill/>
          </a:ln>
        </p:spPr>
      </p:pic>
      <p:sp>
        <p:nvSpPr>
          <p:cNvPr id="416" name="TextBox 3"/>
          <p:cNvSpPr/>
          <p:nvPr/>
        </p:nvSpPr>
        <p:spPr>
          <a:xfrm>
            <a:off x="1143000" y="1428840"/>
            <a:ext cx="2928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еимуще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и сохранении компактных размеров телескопа, позволяет добиваться большего увели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Недостат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уждаются в постоянной юстиров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5"/>
          <p:cNvSpPr/>
          <p:nvPr/>
        </p:nvSpPr>
        <p:spPr>
          <a:xfrm>
            <a:off x="1714680" y="214200"/>
            <a:ext cx="6715080" cy="5716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Оптические приборы вооружающие гл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6"/>
          <p:cNvSpPr/>
          <p:nvPr/>
        </p:nvSpPr>
        <p:spPr>
          <a:xfrm>
            <a:off x="1714680" y="1357200"/>
            <a:ext cx="3143160" cy="17146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риборы  для рассматривания </a:t>
            </a: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мелких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объектов (лупы, и микроскоп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7"/>
          <p:cNvSpPr/>
          <p:nvPr/>
        </p:nvSpPr>
        <p:spPr>
          <a:xfrm>
            <a:off x="5286240" y="1357200"/>
            <a:ext cx="3143520" cy="17146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риборы для рассматривания </a:t>
            </a: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далеких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объектов (зрительные трубы, телескопы, бинокли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8"/>
          <p:cNvSpPr/>
          <p:nvPr/>
        </p:nvSpPr>
        <p:spPr>
          <a:xfrm>
            <a:off x="1714680" y="3571920"/>
            <a:ext cx="671508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Изображения рассматриваемых предметов являются мним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Прямая со стрелкой 10"/>
          <p:cNvCxnSpPr>
            <a:endCxn id="324" idx="0"/>
          </p:cNvCxnSpPr>
          <p:nvPr/>
        </p:nvCxnSpPr>
        <p:spPr>
          <a:xfrm flipH="1">
            <a:off x="3285360" y="1142640"/>
            <a:ext cx="1080" cy="214920"/>
          </a:xfrm>
          <a:prstGeom prst="straightConnector1">
            <a:avLst/>
          </a:prstGeom>
          <a:ln w="2844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28" name="Прямая со стрелкой 11"/>
          <p:cNvCxnSpPr>
            <a:endCxn id="325" idx="0"/>
          </p:cNvCxnSpPr>
          <p:nvPr/>
        </p:nvCxnSpPr>
        <p:spPr>
          <a:xfrm flipH="1">
            <a:off x="6857640" y="1142640"/>
            <a:ext cx="2160" cy="214920"/>
          </a:xfrm>
          <a:prstGeom prst="straightConnector1">
            <a:avLst/>
          </a:prstGeom>
          <a:ln w="2844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29" name="Прямая соединительная линия 15"/>
          <p:cNvSpPr/>
          <p:nvPr/>
        </p:nvSpPr>
        <p:spPr>
          <a:xfrm>
            <a:off x="3286080" y="1143000"/>
            <a:ext cx="3571920" cy="0"/>
          </a:xfrm>
          <a:prstGeom prst="line">
            <a:avLst/>
          </a:prstGeom>
          <a:ln w="2844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18"/>
          <p:cNvSpPr/>
          <p:nvPr/>
        </p:nvSpPr>
        <p:spPr>
          <a:xfrm>
            <a:off x="5072040" y="785880"/>
            <a:ext cx="0" cy="357120"/>
          </a:xfrm>
          <a:prstGeom prst="line">
            <a:avLst/>
          </a:prstGeom>
          <a:ln w="2844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20"/>
          <p:cNvSpPr/>
          <p:nvPr/>
        </p:nvSpPr>
        <p:spPr>
          <a:xfrm>
            <a:off x="3286080" y="3071880"/>
            <a:ext cx="0" cy="142920"/>
          </a:xfrm>
          <a:prstGeom prst="line">
            <a:avLst/>
          </a:prstGeom>
          <a:ln w="2844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22"/>
          <p:cNvSpPr/>
          <p:nvPr/>
        </p:nvSpPr>
        <p:spPr>
          <a:xfrm>
            <a:off x="6858000" y="3071880"/>
            <a:ext cx="0" cy="142920"/>
          </a:xfrm>
          <a:prstGeom prst="line">
            <a:avLst/>
          </a:prstGeom>
          <a:ln w="2844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4"/>
          <p:cNvSpPr/>
          <p:nvPr/>
        </p:nvSpPr>
        <p:spPr>
          <a:xfrm>
            <a:off x="3286080" y="3214800"/>
            <a:ext cx="3571920" cy="0"/>
          </a:xfrm>
          <a:prstGeom prst="line">
            <a:avLst/>
          </a:prstGeom>
          <a:ln w="2844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Прямая со стрелкой 26"/>
          <p:cNvCxnSpPr>
            <a:endCxn id="326" idx="0"/>
          </p:cNvCxnSpPr>
          <p:nvPr/>
        </p:nvCxnSpPr>
        <p:spPr>
          <a:xfrm flipH="1">
            <a:off x="5071680" y="3214800"/>
            <a:ext cx="2160" cy="358920"/>
          </a:xfrm>
          <a:prstGeom prst="straightConnector1">
            <a:avLst/>
          </a:prstGeom>
          <a:ln w="2844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35" name="TextBox 27"/>
          <p:cNvSpPr/>
          <p:nvPr/>
        </p:nvSpPr>
        <p:spPr>
          <a:xfrm>
            <a:off x="1714680" y="4800600"/>
            <a:ext cx="67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Угловое увеличение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– отношение угла зрения при наблюдении предмета через оптический прибор к углу зрения при наблюдении невооруженным глазом (характеристика оптического прибор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уп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1143000" y="142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38" name="TextBox 4"/>
          <p:cNvSpPr/>
          <p:nvPr/>
        </p:nvSpPr>
        <p:spPr>
          <a:xfrm>
            <a:off x="1214280" y="114300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Лупа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– собирающая линза или система линз с малым фокусным расстоя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2"/>
          <a:stretch/>
        </p:blipFill>
        <p:spPr>
          <a:xfrm>
            <a:off x="1285920" y="1928880"/>
            <a:ext cx="5286240" cy="2857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0" name="Object 2"/>
              <p:cNvSpPr txBox="1"/>
              <p:nvPr/>
            </p:nvSpPr>
            <p:spPr>
              <a:xfrm>
                <a:off x="1428840" y="5000760"/>
                <a:ext cx="12859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TextBox 7"/>
          <p:cNvSpPr/>
          <p:nvPr/>
        </p:nvSpPr>
        <p:spPr>
          <a:xfrm>
            <a:off x="2786040" y="5286240"/>
            <a:ext cx="59292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гол зрения, под которым виден предмет невооруженным гл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25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м – расстояние наилучшего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– линейный размер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2"/>
          <p:cNvSpPr/>
          <p:nvPr/>
        </p:nvSpPr>
        <p:spPr>
          <a:xfrm>
            <a:off x="1143000" y="21420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упу помещают близко к глазу, а предмет располагают в ее фокальной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1214280" y="1711440"/>
                <a:ext cx="10004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4" name="TextBox 4"/>
          <p:cNvSpPr/>
          <p:nvPr/>
        </p:nvSpPr>
        <p:spPr>
          <a:xfrm>
            <a:off x="2286000" y="192888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 угол, под которым в лупу виден пред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– фокусное расстояние лу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1143000" y="2711520"/>
                <a:ext cx="171612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ϕ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TextBox 6"/>
          <p:cNvSpPr/>
          <p:nvPr/>
        </p:nvSpPr>
        <p:spPr>
          <a:xfrm>
            <a:off x="2857680" y="2928960"/>
            <a:ext cx="60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 угловое увеличение лу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7"/>
          <p:cNvSpPr/>
          <p:nvPr/>
        </p:nvSpPr>
        <p:spPr>
          <a:xfrm>
            <a:off x="1071720" y="422928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величение, даваемое лупой, ограничено ее разме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упы применяют часовых дел мастера, геологи, ботаники, криминали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71840" y="274680"/>
            <a:ext cx="6362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икроскоп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1071720" y="142920"/>
            <a:ext cx="1500120" cy="2279520"/>
          </a:xfrm>
          <a:prstGeom prst="rect">
            <a:avLst/>
          </a:prstGeom>
          <a:ln w="0">
            <a:noFill/>
          </a:ln>
        </p:spPr>
      </p:pic>
      <p:sp>
        <p:nvSpPr>
          <p:cNvPr id="350" name="TextBox 3"/>
          <p:cNvSpPr/>
          <p:nvPr/>
        </p:nvSpPr>
        <p:spPr>
          <a:xfrm>
            <a:off x="2714760" y="107172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Микроскоп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представляет собой комбинацию двух линз или систем лин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2643120" y="1857240"/>
            <a:ext cx="5639040" cy="16383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5"/>
          <p:cNvSpPr/>
          <p:nvPr/>
        </p:nvSpPr>
        <p:spPr>
          <a:xfrm>
            <a:off x="1143000" y="3500280"/>
            <a:ext cx="78580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инза 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обращенная к предмету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бъективом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дает действительное увеличение изображения предмет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инза 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куляр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едмет помещают между фокусом объектива и точкой, находящейся на двойном фокусном расстоянии. Окуляр размещают так, чтобы изображение совпадало с фокальной плоскостью окуля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6"/>
          <p:cNvSpPr/>
          <p:nvPr/>
        </p:nvSpPr>
        <p:spPr>
          <a:xfrm>
            <a:off x="1143000" y="5357880"/>
            <a:ext cx="7858080" cy="13572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личением микроскоп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ывается отношение угла зрения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φ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под которым виден предмет при наблюдении через микроскоп, к углу зрения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ψ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и наблюдении невооруженным глазом с расстояния наилучшего зрения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25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3"/>
          <a:stretch/>
        </p:blipFill>
        <p:spPr>
          <a:xfrm>
            <a:off x="7491240" y="6437160"/>
            <a:ext cx="311400" cy="3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1071720" y="142920"/>
                <a:ext cx="11430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Г</m:t>
                        </m:r>
                      </m:e>
                      <m:sub>
                        <m:r>
                          <m:t xml:space="preserve">м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ϕ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1071720" y="1857240"/>
                <a:ext cx="12142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1071720" y="3786120"/>
                <a:ext cx="17064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5"/>
              <p:cNvSpPr txBox="1"/>
              <p:nvPr/>
            </p:nvSpPr>
            <p:spPr>
              <a:xfrm>
                <a:off x="1071720" y="5491080"/>
                <a:ext cx="192852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9" name="TextBox 6"/>
          <p:cNvSpPr/>
          <p:nvPr/>
        </p:nvSpPr>
        <p:spPr>
          <a:xfrm>
            <a:off x="2357280" y="357120"/>
            <a:ext cx="64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увеличение микроск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2500200" y="2143080"/>
            <a:ext cx="63579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ля микроскоп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’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инейный размер изображения, даваемого объективом.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фокусное расстояние окуля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8"/>
          <p:cNvSpPr/>
          <p:nvPr/>
        </p:nvSpPr>
        <p:spPr>
          <a:xfrm>
            <a:off x="2928960" y="4059360"/>
            <a:ext cx="600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ill Sans MT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фокусное расстояние объект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6"/>
              <p:cNvSpPr txBox="1"/>
              <p:nvPr/>
            </p:nvSpPr>
            <p:spPr>
              <a:xfrm>
                <a:off x="1071720" y="928800"/>
                <a:ext cx="10000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3" name="TextBox 10"/>
          <p:cNvSpPr/>
          <p:nvPr/>
        </p:nvSpPr>
        <p:spPr>
          <a:xfrm>
            <a:off x="2214720" y="1214280"/>
            <a:ext cx="67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для лу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1"/>
          <p:cNvSpPr/>
          <p:nvPr/>
        </p:nvSpPr>
        <p:spPr>
          <a:xfrm>
            <a:off x="1071720" y="307188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инейный размер изображения в объективе связан с линейным размером предмета соотношени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7"/>
              <p:cNvSpPr txBox="1"/>
              <p:nvPr/>
            </p:nvSpPr>
            <p:spPr>
              <a:xfrm>
                <a:off x="1071720" y="4786200"/>
                <a:ext cx="16430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TextBox 13"/>
          <p:cNvSpPr/>
          <p:nvPr/>
        </p:nvSpPr>
        <p:spPr>
          <a:xfrm>
            <a:off x="2786040" y="485784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Оптическая длина тубуса микроскопа (расстояние между задним объектива и передним фокусом окуляр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4"/>
          <p:cNvSpPr/>
          <p:nvPr/>
        </p:nvSpPr>
        <p:spPr>
          <a:xfrm>
            <a:off x="3071880" y="557208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величение микроскопа: от нескольких десятков до 15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икроскоп позволяет различать мелкие детали предмета, которые при наблюдении невооруженным глазом или с помощью лупы слив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142920"/>
            <a:ext cx="7499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Труба Кеплер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1"/>
          <a:stretch/>
        </p:blipFill>
        <p:spPr>
          <a:xfrm>
            <a:off x="7215120" y="214200"/>
            <a:ext cx="1785960" cy="24559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4"/>
          <p:cNvSpPr/>
          <p:nvPr/>
        </p:nvSpPr>
        <p:spPr>
          <a:xfrm>
            <a:off x="7215120" y="271476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оганн Кеп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1571 – 16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5"/>
          <p:cNvSpPr/>
          <p:nvPr/>
        </p:nvSpPr>
        <p:spPr>
          <a:xfrm>
            <a:off x="1143000" y="78588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1613 г. была изготовлена Кристофом Шайнером по схеме Кепл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5" descr=""/>
          <p:cNvPicPr/>
          <p:nvPr/>
        </p:nvPicPr>
        <p:blipFill>
          <a:blip r:embed="rId2"/>
          <a:stretch/>
        </p:blipFill>
        <p:spPr>
          <a:xfrm>
            <a:off x="1214280" y="1428840"/>
            <a:ext cx="5929560" cy="19396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7858080" cy="192888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1214280" y="5357880"/>
            <a:ext cx="77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бъектив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– длиннофокусная линза, дающая действительное уменьшенное, перевернутое изображение предмета. Изображение удаленного предмета получается в фокальной плоскости объектива. Окуляр находится от этого изображения на своем фокусном расстоя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2"/>
          <p:cNvSpPr/>
          <p:nvPr/>
        </p:nvSpPr>
        <p:spPr>
          <a:xfrm>
            <a:off x="1071720" y="14292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гловым увеличением зрительной трубы называется отношение угла зрения, под которым мы видим изображение предмета в трубе, к углу зрения, под которым мы видим тот же предмет непосредств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8"/>
              <p:cNvSpPr txBox="1"/>
              <p:nvPr/>
            </p:nvSpPr>
            <p:spPr>
              <a:xfrm>
                <a:off x="1071720" y="936720"/>
                <a:ext cx="114300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Г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ϕ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7" name="TextBox 17"/>
          <p:cNvSpPr/>
          <p:nvPr/>
        </p:nvSpPr>
        <p:spPr>
          <a:xfrm>
            <a:off x="2357280" y="1150920"/>
            <a:ext cx="64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увеличение зрительной тру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8"/>
          <p:cNvSpPr/>
          <p:nvPr/>
        </p:nvSpPr>
        <p:spPr>
          <a:xfrm>
            <a:off x="1071720" y="185724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величение зрительной трубы равно отношению фокусного расстояния объектива к фокусному расстоянию окуля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9"/>
              <p:cNvSpPr txBox="1"/>
              <p:nvPr/>
            </p:nvSpPr>
            <p:spPr>
              <a:xfrm>
                <a:off x="1030320" y="2414520"/>
                <a:ext cx="12272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Г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0" name="TextBox 20"/>
          <p:cNvSpPr/>
          <p:nvPr/>
        </p:nvSpPr>
        <p:spPr>
          <a:xfrm>
            <a:off x="1143000" y="33577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руба Кеплера дает перевернутое изобра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1071720" y="0"/>
            <a:ext cx="1285560" cy="13273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4643280" y="2000160"/>
            <a:ext cx="4265640" cy="285768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643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Бинокл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TextBox 4"/>
          <p:cNvSpPr/>
          <p:nvPr/>
        </p:nvSpPr>
        <p:spPr>
          <a:xfrm>
            <a:off x="1143000" y="135720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инокль представляет собой две зрительные трубы, соединенные вместе для наблюдения предмета двумя глаз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1214280" y="264312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изменный бинок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ля уменьшения размеров применяемых в бинокле труб Кеплера и переворачивания изображения используются прямоугольные призмы полного отр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6:54:33Z</dcterms:created>
  <dc:creator>Titanik</dc:creator>
  <dc:description/>
  <dc:language>en-US</dc:language>
  <cp:lastModifiedBy>Вадим Ковалёв</cp:lastModifiedBy>
  <dcterms:modified xsi:type="dcterms:W3CDTF">2017-05-14T08:27:21Z</dcterms:modified>
  <cp:revision>60</cp:revision>
  <dc:subject/>
  <dc:title>Слайд 1</dc:title>
</cp:coreProperties>
</file>