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D49-CA51-41DA-8F1F-E61351A1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373-BC3A-4423-9CA0-EEBD5A76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A61-DF25-4F6C-AB98-286DAFEB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CC2-D5E7-4106-BEEF-6E37243B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EAE0-3F7E-4AE2-A15B-7DF5C69A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79C0-85DD-4C0D-B07C-D84A6DF4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EB9F-28CF-4CFB-A41E-57530EA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526F-AED5-4068-8843-E9E325A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F08B-83D2-4872-86A0-908DF659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6CAF-9394-4556-8D6B-5E3D1340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E998-74FA-4F10-89D1-4996E2EF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BAA-4FB1-4936-A9E4-A9EC64C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6BE-4A61-4D0A-B458-C3707F3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EC31-F3A1-4D02-822E-95EF999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E3C7-613D-4DEB-BB88-86A6CDD3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C31F-AF8E-4FA8-A365-E43E468F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1F8E-7452-4EAB-8B51-1EFA2355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CB10-71B5-46C7-B314-92676E16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A47B-2E87-4A52-89A4-9B364408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A1CB-5D61-4483-A4FD-52F0B83E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5916-0045-4955-A4C3-177D017B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413A-5EAE-4785-9621-C40ABA91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1E4-6A41-4D9A-8BE2-836D950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436C-68E7-4D01-ACB9-6AEF1F12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8E4B-A705-4B22-8658-2EBDEC7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B640-5BAC-4B57-9A3B-755FC64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CC6F-247B-49CF-98D2-CE6CB2E2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F2B8-B4AD-4ACA-B6B4-C3118EF7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C9AC-4657-4EFD-9FD4-53A1A535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BFD4-A0C3-43F5-9C6B-BE595D50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699F-4A38-4C1F-B13C-80C359EE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6649F-70FE-4C6C-BD37-B99D5715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4A2D-6B36-4968-B3FC-2B2ECED2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916-19AA-4064-B290-B65F98FA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F06C-29F7-4F75-BE55-3338959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DFD4-B594-4818-A08E-7EBD05FE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7320-F9E5-4B61-AE86-EA49D45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3356-9CDF-4E04-AA41-33245DD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CDC2-E7B9-4141-A757-DAC158A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D70F-1C20-4FEC-9FD8-82F9259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46C0-FC9B-4789-8D45-1618D98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8D04-4778-4D98-B139-2BD6A9B5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CE48-7F0D-4BC3-B8C7-DD50EA80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4A4D3-0D45-456F-80E5-C82A3D78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56E-6842-4BA7-832E-96F9C62D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5798-45E1-4A6E-9F82-22BAD25A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2B9F0-34D2-4605-A72F-3EE5E6CE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EC2A-C55C-412B-A3AA-C738F91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EF40-F122-4BF3-9B04-319954C2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3F7F-2E2C-4269-A153-084C8454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2EB8-449D-4713-BC8B-817B302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1BD1-409C-4E6B-9219-4894338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AE585-DD32-4968-B96A-0D34C4F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15C04-D192-4D82-8771-1E1B1413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2871-EC5F-4472-9C39-34177B18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B54-55C5-4F46-BFB2-5D76D96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95E72-1E98-41A4-849E-477C74F7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073D-FEC9-40BB-848A-62511179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52B2-4A89-4440-B620-B49C3E2D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DA73C-2A81-4175-991E-C10B0CB3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5E71-676D-4634-9637-93BA12B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71FA5-D1BE-420D-AEB9-8C4409E4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3750-9B3D-459E-8358-82486CE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D594-4DD9-4091-A694-EBBAC97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22C89-2597-4719-883F-96BBBC0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587B-2581-4A8C-B3F3-8AA7D07E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C1C-9BBC-48BB-902B-6FC66F3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A9F6A-D4D2-42B9-AA8F-AE3E348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7A62A-95BA-4886-92F6-C563D3FD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1D01C-8AF9-4297-A264-7725288C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5A81-94B2-4502-8D5B-560A071B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004E-0723-44D0-BD9A-799E990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E76C-9BDE-4675-85AA-AE3EABD3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66BF-F32D-4524-B273-4D24AEB4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0525E-F6DE-4A97-8CE8-FC7656B4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4FA4-EA0B-48F7-9E31-C60F332E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640E9-8621-470D-85C8-839A229C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3C6-5C8D-4A9E-9EF0-0DA14D70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644DE-D184-452B-9F3F-007A642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11B2-8D4F-4D55-8575-D1CF48C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BC2D4-D38C-4503-B851-A4C0CF4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9C4A-9D1E-4579-99D3-E01C2033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6A9C-9A1F-4CB3-A861-E59108EB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DEF-0F7A-400C-8386-0702BEB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2454-ECCD-4BCD-9526-9342C78482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7D99-1A9E-4501-BF7F-AB2B2A230A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4DDD-F47A-4473-8310-4F90C9175F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0444-A36E-462B-B2E4-B03AE2195E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0D00-58F9-4899-A178-526F33DCC9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FD91-50FF-4851-A32E-7400A88A4A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1F65-7898-48AC-86AF-2C1D090AF6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1"/>
          <p:cNvSpPr/>
          <p:nvPr/>
        </p:nvSpPr>
        <p:spPr>
          <a:xfrm>
            <a:off x="1116000" y="0"/>
            <a:ext cx="7848720" cy="17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436a"/>
                </a:solidFill>
                <a:latin typeface="Corbel"/>
              </a:rPr>
              <a:t>Оптические приборы, вооружающие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дготовил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подаватель физики ГБПОУ ВО БМТК Ковалева Е. 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5148360" y="1863720"/>
            <a:ext cx="2111400" cy="2406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5292720" y="4392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3"/>
          <a:stretch/>
        </p:blipFill>
        <p:spPr>
          <a:xfrm>
            <a:off x="1649520" y="2085840"/>
            <a:ext cx="2047680" cy="2197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4"/>
          <a:stretch/>
        </p:blipFill>
        <p:spPr>
          <a:xfrm>
            <a:off x="1649520" y="4270320"/>
            <a:ext cx="19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786720" y="142920"/>
            <a:ext cx="2071440" cy="2544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1214280" y="1571760"/>
            <a:ext cx="5286600" cy="17906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4280" y="142560"/>
            <a:ext cx="35719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уба Галиле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6643800" y="2786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илео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1564- 16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1143000" y="71424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илей в 1609 году конструирует собственноручно первый телес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1071720" y="342900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чи, идущие от предмета, проходят через собирающую линзу и становятся сходящимися (дали бы перевернутое, уменьшенное изображение). Затем они попадают на рассеивающую линзу и становятся расходящимися. Они дают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нимое, прямое, увеличенное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зображе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 помощью своей трубы с 30-кратным увеличением Галилей сделал ряд астрономических открытий: Обнаружил горы на Луне, пятна на Солнце, открыл четыре спутника Юпитера, фазы Венеры, установил, что Млечный Путь состоит из множества зв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наше время в основном применяются в театральных бинок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лескоп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1071720" y="86184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Телескоп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птическое устройство представляет собой мощную зрительную трубу, предназначенную для наблюдения весьма удаленных объектов – небесных све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Телескоп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это оптическая система, которая, «выхватывая» из пространства небольшую область, зрительно приближая расположенные в ней объекты. Телескоп улавливает параллельные своей оптической оси лучи светового потока, собирает их в одну точку (фокус) и увеличивает при помощи линзы или, чаще, системы линз (окуляра), которая одновременно снова преобразует расходящиеся лучи света в паралл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5000760" y="3429000"/>
            <a:ext cx="4081320" cy="2857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6"/>
          <p:cNvSpPr/>
          <p:nvPr/>
        </p:nvSpPr>
        <p:spPr>
          <a:xfrm>
            <a:off x="1000080" y="3429000"/>
            <a:ext cx="4071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зовый телескоп совершенствовался. Чтобы улучшить качество изображения, астрономы использовали новейшие технологии стекловарения, а также увеличивали фокусное расстояние телескопов, что, естественно приводило к увеличению и их физических размеров (например, в конце XVIII века длина телескопа Яна Гевелия достигала 46 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3"/>
          <p:cNvSpPr/>
          <p:nvPr/>
        </p:nvSpPr>
        <p:spPr>
          <a:xfrm>
            <a:off x="1071720" y="1429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ремясь усовершенствовать конструкцию телескопа таким образом, чтобы добиться максимально высокого качества изображения, ученые создали несколько оптических схем, использующих как линзы, так и зеркала. Среди таких телескопов наибольшее распространение получили катадиоптрические системы Нью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 типу элемента, используемого для сбора световых лучей в фокусе, все современные потребительские телескопы подразделяются на линзовые (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фра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зеркальные (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флектор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и зеркально-линзовые (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тадиоптрически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3286080" y="3429000"/>
            <a:ext cx="3571920" cy="857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лескопы по типу элемента, используемого для сбора световых лучей в фоку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1177920" y="4929120"/>
            <a:ext cx="250020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рефр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(линз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3857760" y="4929120"/>
            <a:ext cx="250020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рефле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(зерк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7"/>
          <p:cNvSpPr/>
          <p:nvPr/>
        </p:nvSpPr>
        <p:spPr>
          <a:xfrm>
            <a:off x="6500880" y="4929120"/>
            <a:ext cx="250020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катадиопт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(зеркально-линз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Прямая со стрелкой 16"/>
          <p:cNvCxnSpPr>
            <a:stCxn id="397" idx="2"/>
          </p:cNvCxnSpPr>
          <p:nvPr/>
        </p:nvCxnSpPr>
        <p:spPr>
          <a:xfrm flipH="1">
            <a:off x="5071680" y="4287600"/>
            <a:ext cx="2160" cy="214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02" name="Прямая соединительная линия 18"/>
          <p:cNvSpPr/>
          <p:nvPr/>
        </p:nvSpPr>
        <p:spPr>
          <a:xfrm flipH="1">
            <a:off x="2428560" y="4494240"/>
            <a:ext cx="5319720" cy="648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Прямая со стрелкой 24"/>
          <p:cNvCxnSpPr>
            <a:endCxn id="398" idx="0"/>
          </p:cNvCxnSpPr>
          <p:nvPr/>
        </p:nvCxnSpPr>
        <p:spPr>
          <a:xfrm flipH="1">
            <a:off x="2426400" y="4500720"/>
            <a:ext cx="2520" cy="4291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4" name="Прямая со стрелкой 32"/>
          <p:cNvCxnSpPr>
            <a:endCxn id="400" idx="0"/>
          </p:cNvCxnSpPr>
          <p:nvPr/>
        </p:nvCxnSpPr>
        <p:spPr>
          <a:xfrm>
            <a:off x="7739640" y="4494240"/>
            <a:ext cx="11880" cy="43560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5" name="Прямая со стрелкой 39"/>
          <p:cNvCxnSpPr/>
          <p:nvPr/>
        </p:nvCxnSpPr>
        <p:spPr>
          <a:xfrm flipH="1">
            <a:off x="5060160" y="4500720"/>
            <a:ext cx="11880" cy="43704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Линзовые телескопы (рефракторы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4727520" y="1143000"/>
            <a:ext cx="4178520" cy="24289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1071720" y="1071720"/>
            <a:ext cx="392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имуще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рытая труба телескопа предотвращает проникновение внутрь трубы пыли и влаги, которые оказывают негативное воздействие на полезные свойства телеск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ты в обслуживании и эксплуатации – положение их линз зафиксировано в завод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1071720" y="35719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словиях, что избавляет пользователя от необходимости самостоятельно производить юстировку, то есть тонкую подстрой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сутствует центральное экранирование, которое уменьшает количество поступающего света и ведет к искажению дифракционной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доста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роматическая аберр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Зеркальные телескопы (рефлекторы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5500800" y="857160"/>
            <a:ext cx="3500280" cy="28926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1071720" y="14288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иму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ъектив – параболическое зеркало большого диаметра          лишено хроматической абер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нее дороги в производстве: в конструкции рефлектора присутствуют всего две нуждающиеся в полировке и специальных покрытиях поверх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ину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ую длину трубы, делающую телескоп более уязвимым к колеб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ложное обслуживание, предполагающее регулярную юстировку каждого зер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трелка вправо 5"/>
          <p:cNvSpPr/>
          <p:nvPr/>
        </p:nvSpPr>
        <p:spPr>
          <a:xfrm>
            <a:off x="3214800" y="2143080"/>
            <a:ext cx="285480" cy="71640"/>
          </a:xfrm>
          <a:prstGeom prst="rightArrow">
            <a:avLst>
              <a:gd name="adj1" fmla="val 50000"/>
              <a:gd name="adj2" fmla="val 498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Зеркально-линзовые телескопы (катадиоптрические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143240" y="1500120"/>
            <a:ext cx="4734000" cy="19051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3"/>
          <p:cNvSpPr/>
          <p:nvPr/>
        </p:nvSpPr>
        <p:spPr>
          <a:xfrm>
            <a:off x="1143000" y="1428840"/>
            <a:ext cx="2928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иму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сохранении компактных размеров телескопа, позволяет добиваться большего увели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доста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уждаются в постоянной юстир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714680" y="214200"/>
            <a:ext cx="671508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птические приборы вооружающие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6"/>
          <p:cNvSpPr/>
          <p:nvPr/>
        </p:nvSpPr>
        <p:spPr>
          <a:xfrm>
            <a:off x="1714680" y="1357200"/>
            <a:ext cx="3143160" cy="1714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боры  для рассматривания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мелких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объектов (лупы, и микроск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7"/>
          <p:cNvSpPr/>
          <p:nvPr/>
        </p:nvSpPr>
        <p:spPr>
          <a:xfrm>
            <a:off x="5286240" y="1357200"/>
            <a:ext cx="3143520" cy="1714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боры для рассматривания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далеких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объектов (зрительные трубы, телескопы, бинокли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8"/>
          <p:cNvSpPr/>
          <p:nvPr/>
        </p:nvSpPr>
        <p:spPr>
          <a:xfrm>
            <a:off x="1714680" y="3571920"/>
            <a:ext cx="6715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зображения рассматриваемых предметов являются мни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Прямая со стрелкой 10"/>
          <p:cNvCxnSpPr>
            <a:endCxn id="324" idx="0"/>
          </p:cNvCxnSpPr>
          <p:nvPr/>
        </p:nvCxnSpPr>
        <p:spPr>
          <a:xfrm flipH="1">
            <a:off x="3285360" y="1142640"/>
            <a:ext cx="1080" cy="214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28" name="Прямая со стрелкой 11"/>
          <p:cNvCxnSpPr>
            <a:endCxn id="325" idx="0"/>
          </p:cNvCxnSpPr>
          <p:nvPr/>
        </p:nvCxnSpPr>
        <p:spPr>
          <a:xfrm flipH="1">
            <a:off x="6857640" y="1142640"/>
            <a:ext cx="2160" cy="214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9" name="Прямая соединительная линия 15"/>
          <p:cNvSpPr/>
          <p:nvPr/>
        </p:nvSpPr>
        <p:spPr>
          <a:xfrm>
            <a:off x="3286080" y="1143000"/>
            <a:ext cx="3571920" cy="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8"/>
          <p:cNvSpPr/>
          <p:nvPr/>
        </p:nvSpPr>
        <p:spPr>
          <a:xfrm>
            <a:off x="5072040" y="785880"/>
            <a:ext cx="0" cy="35712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20"/>
          <p:cNvSpPr/>
          <p:nvPr/>
        </p:nvSpPr>
        <p:spPr>
          <a:xfrm>
            <a:off x="3286080" y="3071880"/>
            <a:ext cx="0" cy="14292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22"/>
          <p:cNvSpPr/>
          <p:nvPr/>
        </p:nvSpPr>
        <p:spPr>
          <a:xfrm>
            <a:off x="6858000" y="3071880"/>
            <a:ext cx="0" cy="14292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4"/>
          <p:cNvSpPr/>
          <p:nvPr/>
        </p:nvSpPr>
        <p:spPr>
          <a:xfrm>
            <a:off x="3286080" y="3214800"/>
            <a:ext cx="3571920" cy="0"/>
          </a:xfrm>
          <a:prstGeom prst="line">
            <a:avLst/>
          </a:prstGeom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Прямая со стрелкой 26"/>
          <p:cNvCxnSpPr>
            <a:endCxn id="326" idx="0"/>
          </p:cNvCxnSpPr>
          <p:nvPr/>
        </p:nvCxnSpPr>
        <p:spPr>
          <a:xfrm flipH="1">
            <a:off x="5071680" y="3214800"/>
            <a:ext cx="2160" cy="358920"/>
          </a:xfrm>
          <a:prstGeom prst="straightConnector1">
            <a:avLst/>
          </a:prstGeom>
          <a:ln w="284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5" name="TextBox 27"/>
          <p:cNvSpPr/>
          <p:nvPr/>
        </p:nvSpPr>
        <p:spPr>
          <a:xfrm>
            <a:off x="1714680" y="48006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гловое увеличение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отношение угла зрения при наблюдении предмета через оптический прибор к углу зрения при наблюдении невооруженным глазом (характеристика оптического прибо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уп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214280" y="11430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уп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собирающая линза или система линз с малым фокусным рас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285920" y="1928880"/>
            <a:ext cx="5286240" cy="285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1428840" y="5000760"/>
                <a:ext cx="1285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TextBox 7"/>
          <p:cNvSpPr/>
          <p:nvPr/>
        </p:nvSpPr>
        <p:spPr>
          <a:xfrm>
            <a:off x="2786040" y="5286240"/>
            <a:ext cx="59292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гол зрения, под которым виден предмет невооруженн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25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м – расстояние наилучшего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линейный размер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2"/>
          <p:cNvSpPr/>
          <p:nvPr/>
        </p:nvSpPr>
        <p:spPr>
          <a:xfrm>
            <a:off x="1143000" y="2142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упу помещают близко к глазу, а предмет располагают в ее фокальн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1214280" y="1711440"/>
                <a:ext cx="10004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TextBox 4"/>
          <p:cNvSpPr/>
          <p:nvPr/>
        </p:nvSpPr>
        <p:spPr>
          <a:xfrm>
            <a:off x="2286000" y="19288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угол, под которым в лупу виден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фокусное расстояние лу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43000" y="2711520"/>
                <a:ext cx="17161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TextBox 6"/>
          <p:cNvSpPr/>
          <p:nvPr/>
        </p:nvSpPr>
        <p:spPr>
          <a:xfrm>
            <a:off x="2857680" y="292896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угловое увеличение лу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1071720" y="42292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величение, даваемое лупой, ограничено ее раз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упы применяют часовых дел мастера, геологи, ботаники, кримин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71840" y="274680"/>
            <a:ext cx="6362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икроско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071720" y="142920"/>
            <a:ext cx="1500120" cy="22795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2714760" y="107172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икроскоп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редставляет собой комбинацию двух линз или систем лин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2643120" y="1857240"/>
            <a:ext cx="5639040" cy="1638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5"/>
          <p:cNvSpPr/>
          <p:nvPr/>
        </p:nvSpPr>
        <p:spPr>
          <a:xfrm>
            <a:off x="1143000" y="3500280"/>
            <a:ext cx="7858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за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обращенная к предмету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ъективом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дает действительное увеличение изображения предме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за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куляр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едмет помещают между фокусом объектива и точкой, находящейся на двойном фокусном расстоянии. Окуляр размещают так, чтобы изображение совпадало с фокальной плоскостью окуля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1143000" y="5357880"/>
            <a:ext cx="7858080" cy="13572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ием микроскоп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ется отношение угла зрения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од которым виден предмет при наблюдении через микроскоп, к углу зрения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 наблюдении невооруженным глазом с расстояния наилучшего зрения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2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7491240" y="6437160"/>
            <a:ext cx="31140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1071720" y="142920"/>
                <a:ext cx="1143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1071720" y="1857240"/>
                <a:ext cx="1214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071720" y="3786120"/>
                <a:ext cx="17064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1071720" y="5491080"/>
                <a:ext cx="19285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Box 6"/>
          <p:cNvSpPr/>
          <p:nvPr/>
        </p:nvSpPr>
        <p:spPr>
          <a:xfrm>
            <a:off x="2357280" y="35712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величение микроск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2500200" y="2143080"/>
            <a:ext cx="63579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микроско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’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ейный размер изображения, даваемого объективом.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окусное расстояние окуля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2928960" y="4059360"/>
            <a:ext cx="600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окусное расстояние объек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1071720" y="928800"/>
                <a:ext cx="1000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TextBox 10"/>
          <p:cNvSpPr/>
          <p:nvPr/>
        </p:nvSpPr>
        <p:spPr>
          <a:xfrm>
            <a:off x="2214720" y="121428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для лу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1071720" y="30718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ейный размер изображения в объективе связан с линейным размером предмета соотнош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7"/>
              <p:cNvSpPr txBox="1"/>
              <p:nvPr/>
            </p:nvSpPr>
            <p:spPr>
              <a:xfrm>
                <a:off x="1071720" y="4786200"/>
                <a:ext cx="16430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TextBox 13"/>
          <p:cNvSpPr/>
          <p:nvPr/>
        </p:nvSpPr>
        <p:spPr>
          <a:xfrm>
            <a:off x="2786040" y="48578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птическая длина тубуса микроскопа (расстояние между задним объектива и передним фокусом окуля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4"/>
          <p:cNvSpPr/>
          <p:nvPr/>
        </p:nvSpPr>
        <p:spPr>
          <a:xfrm>
            <a:off x="3071880" y="557208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величение микроскопа: от нескольких десятков до 1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икроскоп позволяет различать мелкие детали предмета, которые при наблюдении невооруженным глазом или с помощью лупы сл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уба Кеплер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7215120" y="214200"/>
            <a:ext cx="1785960" cy="245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7215120" y="271476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оганн Кеп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1571 – 16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1143000" y="7858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613 г. была изготовлена Кристофом Шайнером по схеме Кепл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1214280" y="1428840"/>
            <a:ext cx="5929560" cy="1939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858080" cy="19288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1214280" y="535788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ъектив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длиннофокусная линза, дающая действительное уменьшенное, перевернутое изображение предмета. Изображение удаленного предмета получается в фокальной плоскости объектива. Окуляр находится от этого изображения на своем фокусном расстоя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"/>
          <p:cNvSpPr/>
          <p:nvPr/>
        </p:nvSpPr>
        <p:spPr>
          <a:xfrm>
            <a:off x="1071720" y="1429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гловым увеличением зрительной трубы называется отношение угла зрения, под которым мы видим изображение предмета в трубе, к углу зрения, под которым мы видим тот же предмет непосред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1071720" y="936720"/>
                <a:ext cx="11430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Box 17"/>
          <p:cNvSpPr/>
          <p:nvPr/>
        </p:nvSpPr>
        <p:spPr>
          <a:xfrm>
            <a:off x="2357280" y="115092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величение зрительной тру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1071720" y="18572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величение зрительной трубы равно отношению фокусного расстояния объектива к фокусному расстоянию окуля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9"/>
              <p:cNvSpPr txBox="1"/>
              <p:nvPr/>
            </p:nvSpPr>
            <p:spPr>
              <a:xfrm>
                <a:off x="1030320" y="2414520"/>
                <a:ext cx="1227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TextBox 20"/>
          <p:cNvSpPr/>
          <p:nvPr/>
        </p:nvSpPr>
        <p:spPr>
          <a:xfrm>
            <a:off x="1143000" y="3357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руба Кеплера дает перевернутое из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1285560" cy="1327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643280" y="2000160"/>
            <a:ext cx="4265640" cy="28576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43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Бинок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143000" y="13572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инокль представляет собой две зрительные трубы, соединенные вместе для наблюдения предмета двумя гла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214280" y="26431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зменный бинок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уменьшения размеров применяемых в бинокле труб Кеплера и переворачивания изображения используются прямоугольные призмы пол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6:54:33Z</dcterms:created>
  <dc:creator>Titanik</dc:creator>
  <dc:description/>
  <dc:language>en-US</dc:language>
  <cp:lastModifiedBy>Вадим Ковалёв</cp:lastModifiedBy>
  <dcterms:modified xsi:type="dcterms:W3CDTF">2017-05-14T08:27:21Z</dcterms:modified>
  <cp:revision>60</cp:revision>
  <dc:subject/>
  <dc:title>Слайд 1</dc:title>
</cp:coreProperties>
</file>