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860-BEAC-4F27-A638-69DA8422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482-DA62-4A71-8D38-E1F43A1C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BBF-151D-464F-9D43-64F30EBB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9F8-D4C3-4D24-8099-A6C39A4F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2DB-8602-4297-B903-74534310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436-9F72-4887-ADC6-0125F95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DDF-25BD-4BEB-BD06-0A974C73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C83-D56C-411B-AD55-633AA934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FBB-3693-4567-B765-957026F6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F3C-0A6B-42E7-871A-B1331D8C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4DF-1E10-464B-9D1D-5EDC20D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8D5-FAC7-4540-80C1-B64C006B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9BA-7B90-44F8-B55A-8AFC54E1B54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1785600"/>
            <a:ext cx="70009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Прогулки для детей раннего</a:t>
            </a:r>
            <a:r>
              <a:rPr b="1" lang="en-US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 </a:t>
            </a: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возраста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8F65-B622-4341-8F17-E0C5AEACE19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42960" y="1785960"/>
            <a:ext cx="7000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Прогулки для детей раннего</a:t>
            </a:r>
            <a:r>
              <a:rPr b="1" lang="en-US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 </a:t>
            </a: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возраста </a:t>
            </a:r>
            <a:endParaRPr b="0" lang="en-US" sz="4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71720" y="521928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спитатель Вербнякова Елена Павло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3F6A-9856-479F-977E-9DCAFD98477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000080" y="200016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Вывод: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жедневные обязательные прогулки с детьми не только способствуют общему оздоровлению, но и всесторонне развивают наших малыш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1075-90A9-4EA0-B190-7CABDF6F0C4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ажнейшей задаче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является сохранение 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репление здоровья детей. Пребывание детей на свежем воздухе имеет большое значение для физического развити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гул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является первым и наиболее доступным средством закаливания детского организма. Она способствует повышению его выносливости и устойчивости к неблагоприятным воздействиям внешней среды, особенно к простудным заболеваниям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аким образо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правильно организованные и продуманные прогулки помогают осуществлять задачи всестороннего развития дет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C42-05C0-4D20-85ED-9D509236B76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714240" y="642960"/>
            <a:ext cx="7572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Правильно организованная прогулка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помогает детям не только интересно, но и с пользой проводить время на свежем воздухе. Зимой прогулка проводится при температуре воздуха до -15 градусов, одежда в холодный период должна состоять из 3-4 слоев и не стеснять движения ребенка. Помощь малышам при одевании оказывает воспитатель и младший воспитатель. Детей выводят на участок группами, недопустим выход на прогулку всей группы одновременно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807732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Составные части прогулки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 Наблюдение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. Трудовая деятельность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. Игровая деятельность (п/и, м/и, и/ср.акт.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. Индивидуальная работа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5. Самостоятельная деятельность детей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6. Художественно-изобразительная деятельност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7. Ориентировка в пространстве</a:t>
            </a:r>
            <a:r>
              <a:rPr b="0" lang="ru-RU" sz="2200" spc="-1" strike="noStrike">
                <a:solidFill>
                  <a:srgbClr val="ffff00"/>
                </a:solidFill>
                <a:latin typeface="Constantia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A36-50FE-4A03-A83B-3B0CB9C7E4F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33B2-955B-49D8-A0BD-0E27944188F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78580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Наблюдение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что мы сюда включаем: наблюдение , за  явлениями природы, что позволяет формировать у них целостные ориентации на природу и социальные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явлен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 наблюдения за изменениями погоды, за транспортом, за животными, за деревьями, птицами, за работой взрослых, за растительным миром, за водой, за небом, ветром, за одеждой взрослых, сверстников, за насекомыми и др. ; 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788-0F7B-4CFC-8309-6223DA5CEF8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071720" y="100008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Трудовая деятельность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виваем необходимые трудовые навыки,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умен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соблюдать чистоту на веранде, кормить птиц, не разбрасывать песок по участку, собирать интересный природный материал. Планируется в зимнее время  уход за снежными постройками на участке (уборка снега с фигурок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129B-4D88-4A86-9B68-358B6A10D5B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85880" y="1000080"/>
            <a:ext cx="750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Игровая деятельность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ыбор игры зависит от времени года, погоды, температуры воздуха, от предшествующего проводимого занятия, от состояния детей, их желаний, от времени проведения прогулок; Играем в подвижные игры, которые обеспечивают потребность ребенка в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вижени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ED53-AD71-4235-8ADC-A23D9DD2DD1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785880" y="487440"/>
            <a:ext cx="7358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Индивидуальная работа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правлена не только на совершенствование физических качеств, но и на развитие психических процессов, закрепление материа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амостоятельная деятельнос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тей на прогулке протекает под контролем воспитателя. Это необходимо, чтобы дети не перегревались и не переохлаждались, и игры должны быть разнообразными по содержанию и двигательной нагрузке. Организуя самостоятельную деятельность детей нужно учитывать их индивидуальные особенности, степень подвижности, сообразуясь с погодными условия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714240" y="21495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0531-420D-4176-8719-13B14D15B53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928800" y="57168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Художественно-изобразительная деятельность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любимое занятие детей на прогулке, им очень нравится рисовать палочками на снегу линий, кружочков, а также разные формочки животных, птиц  в холодное время года, в тёплое время рисование мелкам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риентировка в пространстве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прогулка по участку детского сада, особенно когда на территории много интересных, ярких фигурок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5:37:10Z</dcterms:created>
  <dc:creator>User</dc:creator>
  <dc:description/>
  <dc:language>en-US</dc:language>
  <cp:lastModifiedBy>User</cp:lastModifiedBy>
  <dcterms:modified xsi:type="dcterms:W3CDTF">2017-03-30T13:23:49Z</dcterms:modified>
  <cp:revision>54</cp:revision>
  <dc:subject/>
  <dc:title>Организация прогулок для детей раннего дошкольного возраста в условиях Крайнего Севера</dc:title>
</cp:coreProperties>
</file>