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77A-A229-4F0B-A39A-3D385F80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B9F-EC58-4B29-AE8C-897A42D9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BAB-3E19-4BDC-922E-36DF832B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592-2755-48C8-BB68-9194C4E6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07A-AC63-4E21-BCC5-1C27D185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505-A114-4DC2-B06C-8AD40A65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BE9-FC7E-4812-91FF-221E1F52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455-58E4-4CA1-B093-80CF5186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DED-D216-42E6-9169-A28BAA71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587-4FF2-43F9-AA70-88E9AC53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72F-5EC5-48F4-BD26-0E9E216A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37F-AF8A-4B4B-8CFF-0F002FB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E730-17DB-4450-87B6-77A2CA36E33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1785600"/>
            <a:ext cx="70009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Прогулки для детей раннего</a:t>
            </a:r>
            <a:r>
              <a:rPr b="1" lang="en-US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 </a:t>
            </a:r>
            <a:r>
              <a:rPr b="1" lang="ru-RU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возраста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C72C-45ED-43B4-901C-615F0BD9C38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642960" y="1785960"/>
            <a:ext cx="7000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Прогулки для детей раннего</a:t>
            </a:r>
            <a:r>
              <a:rPr b="1" lang="en-US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 </a:t>
            </a:r>
            <a:r>
              <a:rPr b="1" lang="ru-RU" sz="4900" spc="-1" strike="noStrike">
                <a:solidFill>
                  <a:srgbClr val="cc0000"/>
                </a:solidFill>
                <a:latin typeface="Comic Sans MS"/>
                <a:ea typeface="Courier New"/>
              </a:rPr>
              <a:t>возраста </a:t>
            </a:r>
            <a:endParaRPr b="0" lang="en-US" sz="4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071720" y="521928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спитатель Вербнякова Елена Павло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84B5-5809-4E96-9B5C-44F4ADFD196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000080" y="200016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Вывод: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жедневные обязательные прогулки с детьми не только способствуют общему оздоровлению, но и всесторонне развивают наших малыш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9AAF-AED2-4B30-9A18-291237F14F8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ажнейшей задаче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является сохранение 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репление здоровья детей. Пребывание детей на свежем воздухе имеет большое значение для физического развити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гул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является первым и наиболее доступным средством закаливания детского организма. Она способствует повышению его выносливости и устойчивости к неблагоприятным воздействиям внешней среды, особенно к простудным заболеваниям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аким образо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правильно организованные и продуманные прогулки помогают осуществлять задачи всестороннего развития дет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111B-2399-4805-BB82-09A988FE912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714240" y="642960"/>
            <a:ext cx="7572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Правильно организованная прогулка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помогает детям не только интересно, но и с пользой проводить время на свежем воздухе. Зимой прогулка проводится при температуре воздуха до -15 градусов, одежда в холодный период должна состоять из 3-4 слоев и не стеснять движения ребенка. Помощь малышам при одевании оказывает воспитатель и младший воспитатель. Детей выводят на участок группами, недопустим выход на прогулку всей группы одновременно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807732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Составные части прогулки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 Наблюдение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. Трудовая деятельность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. Игровая деятельность (п/и, м/и, и/ср.акт.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4. Индивидуальная работа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5. Самостоятельная деятельность детей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6. Художественно-изобразительная деятельност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7. Ориентировка в пространстве</a:t>
            </a:r>
            <a:r>
              <a:rPr b="0" lang="ru-RU" sz="2200" spc="-1" strike="noStrike">
                <a:solidFill>
                  <a:srgbClr val="ffff00"/>
                </a:solidFill>
                <a:latin typeface="Constantia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392-3590-4B44-BBE5-9E930D874C2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942-CA0D-4E91-B271-F0ADF974C3C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785808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Наблюдение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что мы сюда включаем: наблюдение , за  явлениями природы, что позволяет формировать у них целостные ориентации на природу и социальные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явлен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 наблюдения за изменениями погоды, за транспортом, за животными, за деревьями, птицами, за работой взрослых, за растительным миром, за водой, за небом, ветром, за одеждой взрослых, сверстников, за насекомыми и др. ; 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FDD-BE35-4759-8AB7-47E9F78CD73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071720" y="100008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Трудовая деятельность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виваем необходимые трудовые навыки,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умен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соблюдать чистоту на веранде, кормить птиц, не разбрасывать песок по участку, собирать интересный природный материал. Планируется в зимнее время  уход за снежными постройками на участке (уборка снега с фигурок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FBC8-C9DE-470A-BFCD-0FC0B51202E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85880" y="1000080"/>
            <a:ext cx="750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Игровая деятельность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ыбор игры зависит от времени года, погоды, температуры воздуха, от предшествующего проводимого занятия, от состояния детей, их желаний, от времени проведения прогулок; Играем в подвижные игры, которые обеспечивают потребность ребенка в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вижени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6EF1-F46B-4A99-9E56-78A8A20728C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785880" y="487440"/>
            <a:ext cx="7358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Индивидуальная работа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правлена не только на совершенствование физических качеств, но и на развитие психических процессов, закрепление материа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амостоятельная деятельнос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етей на прогулке протекает под контролем воспитателя. Это необходимо, чтобы дети не перегревались и не переохлаждались, и игры должны быть разнообразными по содержанию и двигательной нагрузке. Организуя самостоятельную деятельность детей нужно учитывать их индивидуальные особенности, степень подвижности, сообразуясь с погодными условия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714240" y="21495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35AD-9EEE-4E0D-9399-E2DEFD07C68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928800" y="571680"/>
            <a:ext cx="735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Художественно-изобразительная деятельность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любимое занятие детей на прогулке, им очень нравится рисовать палочками на снегу линий, кружочков, а также разные формочки животных, птиц  в холодное время года, в тёплое время рисование мелкам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Ориентировка в пространстве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прогулка по участку детского сада, особенно когда на территории много интересных, ярких фигурок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5:37:10Z</dcterms:created>
  <dc:creator>User</dc:creator>
  <dc:description/>
  <dc:language>en-US</dc:language>
  <cp:lastModifiedBy>User</cp:lastModifiedBy>
  <dcterms:modified xsi:type="dcterms:W3CDTF">2017-03-30T13:23:49Z</dcterms:modified>
  <cp:revision>54</cp:revision>
  <dc:subject/>
  <dc:title>Организация прогулок для детей раннего дошкольного возраста в условиях Крайнего Севера</dc:title>
</cp:coreProperties>
</file>