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CE1-358F-4F19-A476-DDCD7DF4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FD2-5245-4776-813C-749D48B7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312-0B1B-4B9E-8442-AC956B23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134-8459-42AC-ACA4-895F5C17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F60B-B1BA-410C-A52C-2221ABDE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B216-40ED-4416-B91C-EBF01C56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AA0D-D4CF-454D-8435-2E83BD0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5EE8-A1AE-4F92-BD18-83F55E06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F2FD-EDC2-4CDB-8763-D1F78D5C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8718-DE93-4F8C-A8EF-F28E5169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B4FF-8D9C-4BB4-B5AB-0114C321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ACA-2495-469C-9FDF-4ED093F4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F9D1-948E-4C30-AD74-F7FED708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3F9A-757D-4BB3-BCB5-AE5ED080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E5F2-9C76-46EC-A824-0C6B3F74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1D5C-691E-4670-9D13-FAF95DC4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C30A-CF65-4555-80CD-E2B02679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2EF-8BE5-49B7-B213-D1FFF76C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8BC-5FFD-4C3E-B9E9-D5F8AFE3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144-E68B-4633-800A-27F15027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908-E700-4155-A896-96D24D43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ADC-775E-40A6-926F-7AE136F8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507-E71C-4764-8EBF-1C9CE328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079-8368-45FC-834B-E5D28E55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BECF-C821-4E73-B0CF-D0F708D757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CCBB-CEA7-4246-BA72-C80B2C75BB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нтегрированное занятие по математике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 Путешествие в Тундру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БДОУ ЦРР №12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.Россош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Физкультурная минутка : «хантыйский танец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00600" y="4343400"/>
            <a:ext cx="3733920" cy="236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3676680" cy="234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800600" y="1676520"/>
            <a:ext cx="3733920" cy="2471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09480" y="1701720"/>
            <a:ext cx="36673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вторяем счет от 1 до 5 и обратн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3733920" cy="248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3886200" cy="2433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724280" y="4273560"/>
            <a:ext cx="3733920" cy="2482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33520" y="1676520"/>
            <a:ext cx="37335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нтеграция област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тематическое развит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вательно- исследовательское развит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зическое развит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знакомить детей с особенностями природных условий тундры; повторить геометрические фигуры, размер ,цвет  ; повторить счет от 1 до 5 и обратно, развивать у детей способность анализировать, делать выводы, устанавливать простейшие причинно-следственные связи. Воспитывать любовь и интерес к растениям и животным тундры, развивать любознате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борудова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обус, карта, иллюстрации животных , льдины с цифрами, олень, карточки с геометрическими фигурам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аканчики, наполненные землей, мерные стаканчики, палоч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щем Тундру на глобусе и карт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0880" y="4114800"/>
            <a:ext cx="4267440" cy="2541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724280" y="4114800"/>
            <a:ext cx="4098960" cy="2525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724280" y="1447920"/>
            <a:ext cx="4089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вторяем геометрические фигу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2487600" cy="2922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00600" y="1676520"/>
            <a:ext cx="3319560" cy="2209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39625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28600" y="3967200"/>
            <a:ext cx="43434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ыполняем зада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4081320" cy="271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427644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80880" y="990720"/>
            <a:ext cx="4276800" cy="28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181480" y="1371600"/>
            <a:ext cx="3438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гра: « Поймай олен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3886200" cy="2438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800600" y="1428840"/>
            <a:ext cx="3886200" cy="2585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33520" y="1449360"/>
            <a:ext cx="38862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Эксперимент: «Вечная мерзлота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4159080" cy="2843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96252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4295520" cy="285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04920" y="1676520"/>
            <a:ext cx="3962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10:38:28Z</dcterms:created>
  <dc:creator>Home</dc:creator>
  <dc:description/>
  <dc:language>en-US</dc:language>
  <cp:lastModifiedBy>Home</cp:lastModifiedBy>
  <dcterms:modified xsi:type="dcterms:W3CDTF">2017-05-14T19:27:0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