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6D9-0728-4C4F-8718-D0E66945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427-7876-4FBE-90B9-A31AEC01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375-9E46-4C42-B3F4-F1F9A971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06E-1292-4D45-B8C6-FBA9AFD1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DA10-174C-4A5D-AC6E-7DBA4836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408A-36DA-4895-99F1-1FFC0F42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5A52-78CE-4475-A301-B1B9D27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0C5C-CF47-4245-B0EC-2C4843D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CDEE-4199-4053-8CF9-0F2C7A4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64AF-7506-4D6C-A1A1-7634E65F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620F-850A-4B23-8266-5CC88AB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9AE-C1BE-410C-9306-0B34AB81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E196-718E-4C42-BEE8-3C7591A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4A0D-05F2-4D3C-A6F9-93CABAD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BE3E-680D-49EA-B406-1E50ADF2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E116-04DF-414C-B785-83E7EB16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23E3-0A02-4445-A721-533CAB71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F3A-81B9-4B1C-BDBA-4A2104C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6D0-2DBD-4EFB-950B-7B21857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45B-6A7B-4E2C-9FC4-6E34723F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408-45BD-4FDA-AB7C-19F120DF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687-DCEB-4C6A-B81E-511BD36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EF8-EF5D-41A6-B225-71EF099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DA1-8510-4EBF-A9AF-1E32127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0116-A3CA-40BC-B855-5DFBA1933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14F-E8DD-427B-ADD5-D99BA6A5DD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нтегрированное занятие по математике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Путешествие в Тундру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БДОУ ЦРР №12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.Россош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Физкультурная минутка : «хантыйский танец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3676680" cy="234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733920" cy="2471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9480" y="1701720"/>
            <a:ext cx="36673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торяем счет от 1 до 5 и обратн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733920" cy="24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3886200" cy="2433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24280" y="4273560"/>
            <a:ext cx="3733920" cy="248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33520" y="1676520"/>
            <a:ext cx="37335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нтеграция област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ематическ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вательно- исследовательск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накомить детей с особенностями природных условий тундры; повторить геометрические фигуры, размер ,цвет  ; повторить счет от 1 до 5 и обратно, развивать у детей способность анализировать, делать выводы, устанавливать простейшие причинно-следственные связи. Воспитывать любовь и интерес к растениям и животным тундры, развивать любозна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орудов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обус, карта, иллюстрации животных , льдины с цифрами, олень, карточки с геометрическими фигура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канчики, наполненные землей, мерные стаканчики, пало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щем Тундру на глобусе и карт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4267440" cy="254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4098960" cy="2525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24280" y="1447920"/>
            <a:ext cx="408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вторяем геометрические фигу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2487600" cy="2922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331956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8600" y="396720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полняем зад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4081320" cy="271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27644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4276800" cy="28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181480" y="1371600"/>
            <a:ext cx="3438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гра: « Поймай олен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886200" cy="243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800600" y="1428840"/>
            <a:ext cx="3886200" cy="258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33520" y="1449360"/>
            <a:ext cx="38862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ксперимент: «Вечная мерзлота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4159080" cy="284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96252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295520" cy="285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3962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10:38:28Z</dcterms:created>
  <dc:creator>Home</dc:creator>
  <dc:description/>
  <dc:language>en-US</dc:language>
  <cp:lastModifiedBy>Home</cp:lastModifiedBy>
  <dcterms:modified xsi:type="dcterms:W3CDTF">2017-05-14T19:27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