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D38-C1B1-4839-BEFD-A0C9127B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C03-7640-4747-A934-F969409C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D94-2127-4CC1-96F7-06C833B8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1B4-266E-4EFA-8DBC-3CCD6452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A87F-E226-4D4A-B3D2-C9208FE9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A633-3ED6-48FA-B8E8-19040299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FF31-DEFC-4431-9E38-B1EBA7F1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7041-A068-445B-A2C6-8D1B2634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82C6-4CA3-4740-A60D-31A9419B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B180-BCED-41A2-A564-6377F0EA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4206-450D-41D1-9AA4-01CD06B0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660-7B28-4B71-BFD9-C4E8D3A3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6706-F3C9-46E8-810C-EF810946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8542-AB7F-42F8-89E6-9E8688A7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D89D-B416-446D-89BE-8B3A5E79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4A79-4CA9-4508-99EF-712AFEDE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1098-65F4-4A54-836F-02BA23A4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879B-4C75-4E3B-B83F-70D7CAA5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5E89-F64E-40F6-8BD5-40CB7D3F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9799-5EF1-4FC8-9439-7CF257FF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CEBC7-F05E-44F5-A37C-5F250AEE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48FBE-0EEC-4570-A6AE-4AFB3F52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BE9-FC6E-4954-ADBE-C1B9F735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828FB-6104-484B-80B6-F4F00962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859A-57D4-450E-8BBA-4B3B5573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6554D-B029-4F76-921F-15F8EBB1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AF988-EC6C-46F1-B7CD-23217AA2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97808-CFEE-4E36-97D4-40659ED9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0220-FC2B-48ED-BD9E-E7B2FE43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7B92D-A0BB-4C2B-A97E-AD625FD7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D2188-721A-4D11-AEAB-308D5676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D37CF-5EBD-48DB-842A-41F6F560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A7E88-074A-43D8-8671-6F52BAC4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FE3-25B2-48F2-BC2C-6C3B19EE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10B92-7D5E-4AE3-B0DB-F50B5F3E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9C301-3BBD-4A33-8014-990171C3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DC57D-5F5B-41AA-9C1C-93AB8363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EA4E6-685A-4E64-AF38-370872D2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B9225-94C6-42AE-A6F5-ED0B4780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225DD-0651-424F-B9AC-927FADDC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A6678-2DDE-4E0D-81CC-31FA5722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9D426-6E39-4BF8-88EB-9850D225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1C84-C1C3-4B67-9756-A81444D7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E2E34-4D39-47D3-AA43-6C50E476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28F-6C6C-44B2-B432-54677B91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6189A-1535-46C9-B4E4-B6629E26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55592-2972-42AF-BA4C-0E4A523B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63C40-8355-4D24-86F5-094B786B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06998-5F8B-450A-BA38-7F736F89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5EF15-09CE-4044-82EC-C9245363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09A7C-5F27-495C-847F-FA92C949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FA889-5CC0-421D-AD9F-7CC0E119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50017-1823-4A6B-9F28-6E2345CC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85EE6-A52F-4256-A598-2D039CFA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A4CE4-0F9E-41EA-BA27-F6512D7C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768-4BE6-4DD8-99DA-209B6EF8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2A9F0-C779-4D6D-996F-9C7A5685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AD09B-350E-4EFB-BBCB-29CFA911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EC7E1-15E0-425B-AB48-2D8EA4A3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9C138-92A5-43D4-BB27-38724608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025B2-A1DE-4C3D-AA84-CB358D30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65772-3D2E-4BB3-B219-8BEAAAE9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70356-F85F-484D-92CC-F59D8462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516DC-F814-4DC3-AF78-ADF708C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31EF7-38FD-495C-A4F7-7FE07A29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36D42-DDD0-474F-81F9-22FED7A6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25E-5225-4D5F-9321-C704F97D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59B83-FDB1-4FF4-B395-1C4A5F71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7B343-5A18-427D-811E-FDE15ACC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E3A7F-30EE-432F-BAA9-2D0A463E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AE05E-89C7-4A00-BBC7-77AA735A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666C4-0955-4890-B245-29F87E57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BEAA2-D72D-42F7-B454-06803C56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91C3E-5985-415C-9E52-A8242081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B2C2B-99E6-4562-8B7B-B6BE0C94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FEBB4-CA02-4F02-ACA8-BE185A5F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AF573-F14F-4B6A-AA1E-FB3861AC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343-FBE0-4192-B84A-A8AB0A71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12FF3-3153-4AF7-B339-AB04DEEC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19B1E-0F55-4659-B81F-0C0E5923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23EC8-8CE2-4E3F-BF73-268342E5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08917-490E-4268-91D9-17A898A0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D8348-D104-42EC-9D0B-3B4C0F17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95D53-3D6E-4650-AD49-CFC18916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A81FC-F91A-449A-8F4E-328F1870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DFBC2-8ECB-45DE-8496-427FEB63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01CAD-CDEE-4D76-867F-DB680132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88F62-1FD4-4762-B9DD-B36EDC52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E87-CC84-4FA3-AE5B-6B395A6B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CA48B-2543-433F-B857-D4B3DE7D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7C1BD-8AEC-4651-8A3E-2C89A6CA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56D79-E13F-41FC-9EB2-FD58189D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151D4-9EE4-456B-8DF4-9A2E5675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DD789-C87E-48C8-9C8A-0082B9A1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8C025-042C-4CAC-A3E7-E8D918AA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5838D-2577-43F0-8ADD-527D1A8A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2443-FAE5-4EBA-9D11-2F8B3CBFFD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A914-5CBB-4593-A3B7-9A83E7B9177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635E-0E9A-4D59-98CA-87068D5432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F22D-9037-4D2C-B1B2-A02142044C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0882-2D6E-4FC9-A099-F5B185B69A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C383-1764-4452-AF18-B7DCF10FE58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937C-2A17-4EB0-B88B-A64E2A3F55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7B62-6B45-4B63-9C06-38897387AD5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28680" y="420840"/>
            <a:ext cx="8467560" cy="30970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Users\иван\Downloads\1264597980_16.jpg"/>
          <p:cNvPicPr/>
          <p:nvPr/>
        </p:nvPicPr>
        <p:blipFill>
          <a:blip r:embed="rId1"/>
          <a:stretch/>
        </p:blipFill>
        <p:spPr>
          <a:xfrm>
            <a:off x="611280" y="311040"/>
            <a:ext cx="8064360" cy="62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:\Users\иван\Downloads\lastochra_der.jpg"/>
          <p:cNvPicPr/>
          <p:nvPr/>
        </p:nvPicPr>
        <p:blipFill>
          <a:blip r:embed="rId1"/>
          <a:stretch/>
        </p:blipFill>
        <p:spPr>
          <a:xfrm>
            <a:off x="1258920" y="334800"/>
            <a:ext cx="66978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Оцените свою работу на уроке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Я узнал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Я научился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Я понял, что могу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Мне понравилось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Для меня стало новым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Меня удивило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У меня получилось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Мне захотелось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«С земли еще не сошел снег, а в душу уже просится весна. Земля холодна, грязь со снегом хлюпает под ногами, но как кругом все весело, ласково, приветливо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Воздух так ясен и прозрачен, что если взобраться на голубятню или колокольню, то, кажется, увидишь всю вселенную от края до кра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Солнце светит ярко, и лучи его, играя и улыбаясь, купаются в лужах вместе с воробьям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Речка надувается и темнеет; она уже проснулась и не сегодня – завтра заревет. Деревья голы, но уже живут, дышат...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5559480" y="298440"/>
            <a:ext cx="3395520" cy="6261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Users\иван\Downloads\Tutchev.jpg"/>
          <p:cNvPicPr/>
          <p:nvPr/>
        </p:nvPicPr>
        <p:blipFill>
          <a:blip r:embed="rId2"/>
          <a:stretch/>
        </p:blipFill>
        <p:spPr>
          <a:xfrm>
            <a:off x="284040" y="209520"/>
            <a:ext cx="493560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5175360" y="268200"/>
            <a:ext cx="3852720" cy="6139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иван\Downloads\Алексей_Николаевич_Плещеев.jpg"/>
          <p:cNvPicPr/>
          <p:nvPr/>
        </p:nvPicPr>
        <p:blipFill>
          <a:blip r:embed="rId2"/>
          <a:stretch/>
        </p:blipFill>
        <p:spPr>
          <a:xfrm>
            <a:off x="324000" y="189000"/>
            <a:ext cx="4895640" cy="64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4992840" y="268200"/>
            <a:ext cx="4309920" cy="6120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Users\иван\Downloads\blok.jpg"/>
          <p:cNvPicPr/>
          <p:nvPr/>
        </p:nvPicPr>
        <p:blipFill>
          <a:blip r:embed="rId2"/>
          <a:stretch/>
        </p:blipFill>
        <p:spPr>
          <a:xfrm>
            <a:off x="533520" y="228600"/>
            <a:ext cx="4717800" cy="62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5254560" y="268200"/>
            <a:ext cx="3876840" cy="6334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иван\Downloads\маршак.jpg"/>
          <p:cNvPicPr/>
          <p:nvPr/>
        </p:nvPicPr>
        <p:blipFill>
          <a:blip r:embed="rId2"/>
          <a:stretch/>
        </p:blipFill>
        <p:spPr>
          <a:xfrm>
            <a:off x="682560" y="237960"/>
            <a:ext cx="4861080" cy="64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091040" y="444600"/>
            <a:ext cx="4754520" cy="5352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Users\иван\Documents\Наталья\картинки\sport010.jpg"/>
          <p:cNvPicPr/>
          <p:nvPr/>
        </p:nvPicPr>
        <p:blipFill>
          <a:blip r:embed="rId2"/>
          <a:stretch/>
        </p:blipFill>
        <p:spPr>
          <a:xfrm>
            <a:off x="304920" y="3581280"/>
            <a:ext cx="4038480" cy="3000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kniga02"/>
          <p:cNvPicPr/>
          <p:nvPr/>
        </p:nvPicPr>
        <p:blipFill>
          <a:blip r:embed="rId3"/>
          <a:srcRect l="8518" t="0" r="8475" b="0"/>
          <a:stretch/>
        </p:blipFill>
        <p:spPr>
          <a:xfrm>
            <a:off x="250920" y="333360"/>
            <a:ext cx="28083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C:\Users\иван\Downloads\5606.jpg"/>
          <p:cNvPicPr/>
          <p:nvPr/>
        </p:nvPicPr>
        <p:blipFill>
          <a:blip r:embed="rId1"/>
          <a:stretch/>
        </p:blipFill>
        <p:spPr>
          <a:xfrm>
            <a:off x="1332000" y="452520"/>
            <a:ext cx="6119640" cy="63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C:\Users\иван\Downloads\0_12c8f_bfd66758_-1-L.jpg"/>
          <p:cNvPicPr/>
          <p:nvPr/>
        </p:nvPicPr>
        <p:blipFill>
          <a:blip r:embed="rId1"/>
          <a:stretch/>
        </p:blipFill>
        <p:spPr>
          <a:xfrm>
            <a:off x="324000" y="351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ь</dc:creator>
  <dc:description/>
  <dc:language>en-US</dc:language>
  <cp:lastModifiedBy>Игорь</cp:lastModifiedBy>
  <dcterms:modified xsi:type="dcterms:W3CDTF">2017-05-14T14:00:3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