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9.png" ContentType="image/png"/>
  <Override PartName="/ppt/media/image7.png" ContentType="image/pn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7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0451-94AE-47B8-BD55-E4A17F998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8E1B-32F0-428F-A7D1-F16F0EA09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C12B-AD9B-450E-ADF4-FE3E67BD1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0B31-972B-4BAE-B156-B56AFA12F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D499C-E9EE-4D14-BB09-53836CEC4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88057-6531-41A1-A02C-C3C5C8809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AA89C-4327-42B2-BE9A-0ADACB3B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5A611-8189-46E8-84E0-F79A825EC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B0398-BF6F-4FD6-97C7-FB882DBB0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2E0CF-2538-4950-8EC3-0B0E332B7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C0EDF-6D76-41AC-97B0-2AD7DB4D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8A56-052A-42BD-91E0-3987F863E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E29BF-2C85-44ED-873C-D3B9E184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4EDA4-7627-4AA1-891B-763F48BF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19273-8F74-452F-9745-60BDEE26D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E1CED-DBAF-4E80-8194-2B13078BD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1A947-06E4-4FB8-B661-8ECC753F9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B1AA9-7BD9-4334-9C38-C404E521A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D905A-70F6-413C-8E91-91E919A97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6CF1F-B055-4DBF-9120-E4ACAA329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91315-B33D-4476-A566-506A48A71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53D2B-FAAD-4E13-9BE7-093CB310A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FFD5-10BE-4A4A-AAF8-FC3F41896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8E8FE-6620-499B-B548-ADCB1CEA2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E4D82-CD20-4E48-802A-9E0546DA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AAA0A-D354-4814-9A10-5CF94F67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E74FC-0C9C-4CC1-8EB6-2EE75D2E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6C4AF-9FBA-49EF-AE33-6CE6C224A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BAE07-08B4-4809-875B-7537C1FB0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B29C7-1622-470B-9548-BFE3A692F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F5465-3083-4B14-964A-EEBABB2B6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2218A-BFDD-4F4B-B2E4-2872A5F04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B1BF6-1538-4CA6-98C4-09AD131B6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5A3C-2856-4714-8F01-A32CBBEAA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2872E-BDC7-480D-B606-277AFB5CC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3B00E-ED87-4936-928B-20A9AF4E6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C2F74-C10A-418B-AC24-2511253AA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5FD9D-3D4A-48B2-8092-CF06ADD8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EC0F5-6806-408D-A48B-D15B87A1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92C49-7CBE-47B1-A01D-6421D8F4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27202-2B64-4EAE-8554-9DE46F26F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C3E60-DCBD-4B6B-8E66-E131929D2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D936D-57E6-410B-A30C-FD35B420D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F97EF-DFF5-44BF-9EE5-26DC2BDD2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EEC8-4ADF-4BC3-8B2B-DF2F51F8F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98FA1-431C-43F9-BF46-8B7858C25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0313A7-701E-4EF6-ABFB-7909DFE47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0EFF4-7999-428A-A0F2-C3280C683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A32A1-DFC3-44F2-BD23-0D444943E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3D5D36-9ED0-45C1-A119-6582E3088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A1906-920A-4B63-AA89-28114272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E1D9A-23BF-450B-A636-F3BD2A5F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81ABF-2AC3-419D-AC51-CB1CCF35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B08A8D-895C-4B0B-BAF9-4D174CDB7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FF3E2-0AF8-4452-963C-E30200A09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0ACE-9243-4300-BC9E-F5A505D81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AA66F-18CD-4647-831D-0392E18EB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A77A0-01AE-4E0A-93D6-3C6E276CC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3297B-14B2-4627-99B5-7BC5EF6E3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E17B0-FE38-4523-81C5-C69FE5AA9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C2ABA2-F204-4A30-82A5-D1D84596B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4758CC-AF67-4811-98BA-509E8FE69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A86CA-3A93-4565-A326-4017808E6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69AD26-9920-4875-A01F-B5BA7E2F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8C3BB1-73BA-491E-B81C-0DDD3DDE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1D31D9-4883-4A39-B483-9F611F20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719F-259F-46CE-BE9B-7406DB84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AF9B10-F12E-4AE0-9DB6-4FFDA2DBE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75E13-69F9-489D-B8DE-6C7AE32D7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47726-34A3-48F9-9B80-F27FBABC6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B7DF48-392A-480D-8EFB-F51D9064E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E4093F-94C4-42F6-892E-1CB6739C3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0E83F-4592-4056-945D-B9F3A843E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744A03-42BC-4BDD-8F65-CE96D38B1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3365D-1206-45A3-A27A-3BB8DB346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01DAC6-AADF-4403-909B-CE5C6E534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1CB7E-1697-48A8-B1C4-6FAA3F1F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32BC-0375-4264-A342-C24F443D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FD387D-0468-479C-B8D1-6C698039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6AD84-6B07-4281-9802-A5B8301E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6519C1-EDD1-4158-A550-E4259514F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56A53-6FA7-47F7-8ACD-A2A4C8D4B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9C64B4-0107-4866-9105-3F79D1280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D58763-F680-49F2-9037-46E2F3DC8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98E0D3-3DEC-4DE7-8293-542471901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793EA8-8E38-4A0D-9D47-EA3A53377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6DEADE-40EC-49D8-8F8E-7EBB6F342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C93754-7136-4875-A899-2DF67AD5B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ADD8-4359-4C0A-B0B8-9C2A121D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B260C1-15EC-42D4-B9F3-0E2D8138A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EC9DC8-2296-4037-9ED6-581C2AFD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9913DC-5E2C-4C29-9112-40CBFF1D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40DA4B-3D51-4A39-9118-F1D556D8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64B5B4-44B6-499C-B4D8-F884041B1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8394D4-BEFF-4738-BD58-80A45299C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351C80-5EB6-4A6B-9FD3-7FBE807AC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55095-EE27-45D0-A460-D845272799C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250D8-8707-46DC-B0D0-BB35168301F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D124D-9F4D-4F64-8282-B07FAEA0CF0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E6D2F-F491-46AC-8032-096933B996B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BD964-7AA6-4DB4-8720-E0008060A60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E04F0-E80C-47DE-B0C7-0066C66DDF6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57C01-6628-4419-8A69-EEBE05119FA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A544E-13F1-4D46-A77E-5C43DD91AE3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328680" y="420840"/>
            <a:ext cx="8467560" cy="309708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2" descr="C:\Users\иван\Downloads\1264597980_16.jpg"/>
          <p:cNvPicPr/>
          <p:nvPr/>
        </p:nvPicPr>
        <p:blipFill>
          <a:blip r:embed="rId1"/>
          <a:stretch/>
        </p:blipFill>
        <p:spPr>
          <a:xfrm>
            <a:off x="611280" y="311040"/>
            <a:ext cx="8064360" cy="621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C:\Users\иван\Downloads\lastochra_der.jpg"/>
          <p:cNvPicPr/>
          <p:nvPr/>
        </p:nvPicPr>
        <p:blipFill>
          <a:blip r:embed="rId1"/>
          <a:stretch/>
        </p:blipFill>
        <p:spPr>
          <a:xfrm>
            <a:off x="1258920" y="334800"/>
            <a:ext cx="6697800" cy="612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527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Lucida Sans Unicode"/>
              </a:rPr>
              <a:t>Оцените свою работу на уроке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Lucida Sans Unicode"/>
              </a:rPr>
              <a:t>Я узнал..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Lucida Sans Unicode"/>
              </a:rPr>
              <a:t>Я научился..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Lucida Sans Unicode"/>
              </a:rPr>
              <a:t>Я понял, что могу..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Lucida Sans Unicode"/>
              </a:rPr>
              <a:t>Мне понравилось..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Lucida Sans Unicode"/>
              </a:rPr>
              <a:t>Для меня стало новым..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Lucida Sans Unicode"/>
              </a:rPr>
              <a:t>Меня удивило..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Lucida Sans Unicode"/>
              </a:rPr>
              <a:t>У меня получилось..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Lucida Sans Unicode"/>
              </a:rPr>
              <a:t>Мне захотелось..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380520" y="1523520"/>
            <a:ext cx="8610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Lucida Sans Unicode"/>
              </a:rPr>
              <a:t>«С земли еще не сошел снег, а в душу уже просится весна. Земля холодна, грязь со снегом хлюпает под ногами, но как кругом все весело, ласково, приветливо!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Lucida Sans Unicode"/>
              </a:rPr>
              <a:t>Воздух так ясен и прозрачен, что если взобраться на голубятню или колокольню, то, кажется, увидишь всю вселенную от края до края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Lucida Sans Unicode"/>
              </a:rPr>
              <a:t>Солнце светит ярко, и лучи его, играя и улыбаясь, купаются в лужах вместе с воробьями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Lucida Sans Unicode"/>
              </a:rPr>
              <a:t>Речка надувается и темнеет; она уже проснулась и не сегодня – завтра заревет. Деревья голы, но уже живут, дышат...»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Rectangle 2" descr=""/>
          <p:cNvPicPr/>
          <p:nvPr/>
        </p:nvPicPr>
        <p:blipFill>
          <a:blip r:embed="rId1"/>
          <a:stretch/>
        </p:blipFill>
        <p:spPr>
          <a:xfrm>
            <a:off x="450720" y="219240"/>
            <a:ext cx="8242560" cy="12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Заголовок 1" descr=""/>
          <p:cNvPicPr/>
          <p:nvPr/>
        </p:nvPicPr>
        <p:blipFill>
          <a:blip r:embed="rId1"/>
          <a:stretch/>
        </p:blipFill>
        <p:spPr>
          <a:xfrm>
            <a:off x="5559480" y="298440"/>
            <a:ext cx="3395520" cy="62611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2" descr="C:\Users\иван\Downloads\Tutchev.jpg"/>
          <p:cNvPicPr/>
          <p:nvPr/>
        </p:nvPicPr>
        <p:blipFill>
          <a:blip r:embed="rId2"/>
          <a:stretch/>
        </p:blipFill>
        <p:spPr>
          <a:xfrm>
            <a:off x="284040" y="209520"/>
            <a:ext cx="4935600" cy="65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Заголовок 1" descr=""/>
          <p:cNvPicPr/>
          <p:nvPr/>
        </p:nvPicPr>
        <p:blipFill>
          <a:blip r:embed="rId1"/>
          <a:stretch/>
        </p:blipFill>
        <p:spPr>
          <a:xfrm>
            <a:off x="5175360" y="268200"/>
            <a:ext cx="3852720" cy="61390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2" descr="C:\Users\иван\Downloads\Алексей_Николаевич_Плещеев.jpg"/>
          <p:cNvPicPr/>
          <p:nvPr/>
        </p:nvPicPr>
        <p:blipFill>
          <a:blip r:embed="rId2"/>
          <a:stretch/>
        </p:blipFill>
        <p:spPr>
          <a:xfrm>
            <a:off x="324000" y="189000"/>
            <a:ext cx="4895640" cy="646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Заголовок 1" descr=""/>
          <p:cNvPicPr/>
          <p:nvPr/>
        </p:nvPicPr>
        <p:blipFill>
          <a:blip r:embed="rId1"/>
          <a:stretch/>
        </p:blipFill>
        <p:spPr>
          <a:xfrm>
            <a:off x="4992840" y="268200"/>
            <a:ext cx="4309920" cy="61200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C:\Users\иван\Downloads\blok.jpg"/>
          <p:cNvPicPr/>
          <p:nvPr/>
        </p:nvPicPr>
        <p:blipFill>
          <a:blip r:embed="rId2"/>
          <a:stretch/>
        </p:blipFill>
        <p:spPr>
          <a:xfrm>
            <a:off x="533520" y="228600"/>
            <a:ext cx="4717800" cy="626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Заголовок 1" descr=""/>
          <p:cNvPicPr/>
          <p:nvPr/>
        </p:nvPicPr>
        <p:blipFill>
          <a:blip r:embed="rId1"/>
          <a:stretch/>
        </p:blipFill>
        <p:spPr>
          <a:xfrm>
            <a:off x="5254560" y="268200"/>
            <a:ext cx="3876840" cy="63342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2" descr="C:\Users\иван\Downloads\маршак.jpg"/>
          <p:cNvPicPr/>
          <p:nvPr/>
        </p:nvPicPr>
        <p:blipFill>
          <a:blip r:embed="rId2"/>
          <a:stretch/>
        </p:blipFill>
        <p:spPr>
          <a:xfrm>
            <a:off x="682560" y="237960"/>
            <a:ext cx="4861080" cy="643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Заголовок 1" descr=""/>
          <p:cNvPicPr/>
          <p:nvPr/>
        </p:nvPicPr>
        <p:blipFill>
          <a:blip r:embed="rId1"/>
          <a:stretch/>
        </p:blipFill>
        <p:spPr>
          <a:xfrm>
            <a:off x="4091040" y="444600"/>
            <a:ext cx="4754520" cy="53528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C:\Users\иван\Documents\Наталья\картинки\sport010.jpg"/>
          <p:cNvPicPr/>
          <p:nvPr/>
        </p:nvPicPr>
        <p:blipFill>
          <a:blip r:embed="rId2"/>
          <a:stretch/>
        </p:blipFill>
        <p:spPr>
          <a:xfrm>
            <a:off x="304920" y="3581280"/>
            <a:ext cx="4038480" cy="300060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kniga02"/>
          <p:cNvPicPr/>
          <p:nvPr/>
        </p:nvPicPr>
        <p:blipFill>
          <a:blip r:embed="rId3"/>
          <a:srcRect l="8518" t="0" r="8475" b="0"/>
          <a:stretch/>
        </p:blipFill>
        <p:spPr>
          <a:xfrm>
            <a:off x="250920" y="333360"/>
            <a:ext cx="2808360" cy="304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2" descr="C:\Users\иван\Downloads\5606.jpg"/>
          <p:cNvPicPr/>
          <p:nvPr/>
        </p:nvPicPr>
        <p:blipFill>
          <a:blip r:embed="rId1"/>
          <a:stretch/>
        </p:blipFill>
        <p:spPr>
          <a:xfrm>
            <a:off x="1332000" y="452520"/>
            <a:ext cx="6119640" cy="632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3" descr="C:\Users\иван\Downloads\0_12c8f_bfd66758_-1-L.jpg"/>
          <p:cNvPicPr/>
          <p:nvPr/>
        </p:nvPicPr>
        <p:blipFill>
          <a:blip r:embed="rId1"/>
          <a:stretch/>
        </p:blipFill>
        <p:spPr>
          <a:xfrm>
            <a:off x="324000" y="351000"/>
            <a:ext cx="8351640" cy="6264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горь</dc:creator>
  <dc:description/>
  <dc:language>en-US</dc:language>
  <cp:lastModifiedBy>Игорь</cp:lastModifiedBy>
  <dcterms:modified xsi:type="dcterms:W3CDTF">2017-05-14T14:00:39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