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01C-0228-4171-8A11-FD4A415A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1DE-8C78-48A8-BCFC-86F21B4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855-DED3-4DE1-AE2D-56635195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E9A-4A40-49F7-A098-45799D4E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2594-451D-45B5-B975-25537FEC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9349-5DFC-47A0-B145-61B38794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97E-613F-4E9F-9C64-FE1C244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EF5D-B236-46E2-A8C0-DA56F4AE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D74E-2FA4-4BB2-966F-0C9AC7B7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2E03-1BA1-46C3-9BE8-54E4F3A8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ED4B-9317-4E19-9D99-2DF5D88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BD2-1B74-46E2-BB2E-DDBFDD16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8FA-0FFD-4123-9119-DAFC6F1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478-4469-4880-84E7-3B611DD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A36F-35CA-4121-8DAC-29FEEC7D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A3EC-4524-468D-80C1-89C4AF89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7E36-CBB6-451C-AB17-142F9118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EBCF-A19A-4FE0-A5DB-21C26A10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9797-821B-4B8B-8C40-C4E518DB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2074-56CE-4315-B075-433F686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F956-F541-4EAD-8F13-2C8D497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11A6-780B-4553-8797-3CD972A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7B2-312D-4035-9700-E41A1682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0C9B-99D9-4A7C-B7F8-3ED64977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EFD2-7AAC-45BB-808A-B642928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9E9A-7319-4D3B-8D93-61E9442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16F1-299D-436B-B942-CDAB231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B2BC-CCA6-4240-A3EB-66651AD1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5A9B-5297-407A-AF83-FBE38241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1EFD-4E51-4806-A229-C7887B6A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97A6-4A05-4379-9D6D-9A058F91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2D23-6C51-48E1-B1A2-D213090E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D07F-F62A-4898-8844-20A2ED50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F43-8BCA-45E2-B46B-E417473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63EC-F386-48E6-8CC2-C5E9D61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261F-3E45-4C87-A294-BEF59AD4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8EB6-39E6-44CB-A8CF-519E0A6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D261-EFED-427F-A0CE-618152D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C712-6A34-42FD-8C99-82C1BF6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1087-916D-4FD3-A627-ECE404A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090B-B08A-4DD3-8545-1C861660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5342-EFAD-4FDC-AC7D-82C1DA54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6613-9174-47E9-BCCF-822004AB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E66-FBE6-4953-BB21-F36073E0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DA5-9ACD-4084-BDD9-7C6ED23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A63-146F-432C-8E9A-086605C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1B5-12F5-4617-88B5-FE83E85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277-8DB6-4BA5-8482-1AD9000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AA5D-3C20-415F-9F52-E64B876B2AC7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F17D-289C-4C4B-8992-36D6C7499ED9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41C-217A-4A4A-B53F-8BC3051F7ED2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77A-B59E-4C0B-86D9-97365A80859E}" type="slidenum">
              <a:rPr b="1" lang="ru-RU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Nastya Mart\Desktop\православная культура\9e15d7d410aac19417797423a579a14f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120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1125360" y="1700280"/>
            <a:ext cx="574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ДОБРОЕ УТРО! -СОЛНЦУ И ПТИЦА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ДОБРОЕ УТРО! -УЛЫБЧИВЫМ ЛИЦА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И каждый становится добрым, доверчив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Sylfaen"/>
              </a:rPr>
              <a:t>Пусть ДОБРОЕ УТРО продлится до вечер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семья"/>
          <p:cNvPicPr/>
          <p:nvPr/>
        </p:nvPicPr>
        <p:blipFill>
          <a:blip r:embed="rId1"/>
          <a:stretch/>
        </p:blipFill>
        <p:spPr>
          <a:xfrm>
            <a:off x="1332000" y="765000"/>
            <a:ext cx="6551640" cy="43610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1476360" y="5229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«Во всем, как хотите, чтобы с вами поступали люди, так поступайте и вы с ним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332000" y="98100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родителей почитает, тот вовеки не погибает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оставляй отца и матери на старости лет, и Бог тебя не оставит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кивай пальцем, сам будешь старцем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мейся над старым, и сам будешь стар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ми деда на печи: и сам будешь та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петр%20и%20февр1"/>
          <p:cNvPicPr/>
          <p:nvPr/>
        </p:nvPicPr>
        <p:blipFill>
          <a:blip r:embed="rId1"/>
          <a:stretch/>
        </p:blipFill>
        <p:spPr>
          <a:xfrm>
            <a:off x="1116000" y="404640"/>
            <a:ext cx="3646440" cy="6039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247" name="Text Box 5"/>
          <p:cNvSpPr/>
          <p:nvPr/>
        </p:nvSpPr>
        <p:spPr>
          <a:xfrm>
            <a:off x="4932360" y="46530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лаговерный князь Пётр и княгиня Фефрония Муромск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Пётр%20и%20Феврония%20(3)"/>
          <p:cNvPicPr/>
          <p:nvPr/>
        </p:nvPicPr>
        <p:blipFill>
          <a:blip r:embed="rId1"/>
          <a:stretch/>
        </p:blipFill>
        <p:spPr>
          <a:xfrm>
            <a:off x="1908000" y="333360"/>
            <a:ext cx="5281920" cy="6156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4e9687b5ae9bb"/>
          <p:cNvPicPr/>
          <p:nvPr/>
        </p:nvPicPr>
        <p:blipFill>
          <a:blip r:embed="rId1"/>
          <a:stretch/>
        </p:blipFill>
        <p:spPr>
          <a:xfrm>
            <a:off x="455760" y="476280"/>
            <a:ext cx="4217760" cy="5832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50" name="Text Box 5"/>
          <p:cNvSpPr/>
          <p:nvPr/>
        </p:nvSpPr>
        <p:spPr>
          <a:xfrm>
            <a:off x="5076720" y="47628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 8 июля 2008 года в России отмечается День любви и верности. Специально к этому дню была учреждена медаль «За любовь и верность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6" descr="454936117"/>
          <p:cNvPicPr/>
          <p:nvPr/>
        </p:nvPicPr>
        <p:blipFill>
          <a:blip r:embed="rId2"/>
          <a:stretch/>
        </p:blipFill>
        <p:spPr>
          <a:xfrm>
            <a:off x="5076720" y="2924280"/>
            <a:ext cx="3672000" cy="34146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Nastya Mart\Desktop\православная культура\1343376829_glav.-ikona-carskoy-semi.jpg"/>
          <p:cNvPicPr/>
          <p:nvPr/>
        </p:nvPicPr>
        <p:blipFill>
          <a:blip r:embed="rId1"/>
          <a:stretch/>
        </p:blipFill>
        <p:spPr>
          <a:xfrm>
            <a:off x="539640" y="260280"/>
            <a:ext cx="3479760" cy="4324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Nastya Mart\Desktop\православная культура\Ikona-Svjatye-Carstvennye-strastoterpcy22.jpg"/>
          <p:cNvPicPr/>
          <p:nvPr/>
        </p:nvPicPr>
        <p:blipFill>
          <a:blip r:embed="rId2"/>
          <a:stretch/>
        </p:blipFill>
        <p:spPr>
          <a:xfrm>
            <a:off x="4032360" y="1579680"/>
            <a:ext cx="5076720" cy="5089320"/>
          </a:xfrm>
          <a:prstGeom prst="rect">
            <a:avLst/>
          </a:prstGeom>
          <a:ln w="0">
            <a:noFill/>
          </a:ln>
        </p:spPr>
      </p:pic>
      <p:pic>
        <p:nvPicPr>
          <p:cNvPr id="254" name="Заголовок 1" descr=""/>
          <p:cNvPicPr/>
          <p:nvPr/>
        </p:nvPicPr>
        <p:blipFill>
          <a:blip r:embed="rId3"/>
          <a:stretch/>
        </p:blipFill>
        <p:spPr>
          <a:xfrm>
            <a:off x="2597040" y="-176040"/>
            <a:ext cx="6924960" cy="23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539640" y="836640"/>
            <a:ext cx="8209080" cy="50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авила жиз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вь интересы других людей выше собствен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предан своей семье, избегай возможности её пред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ажая других людей, уважай себ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пимо относись к чужим точкам зр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й прощать и не будь обидчи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и в согласии с самим собой и други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являй чутк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свободен от лжи и обм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емись всё делать как можно лучш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ринимай людей как равных себ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семья 2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43498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257" name="Text Box 5"/>
          <p:cNvSpPr/>
          <p:nvPr/>
        </p:nvSpPr>
        <p:spPr>
          <a:xfrm>
            <a:off x="1835280" y="549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Да любите друг друга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C:\Users\Nastya Mart\Desktop\православная культура\3373276-Vector-illustration-of-an-idyllic-sunny-nature-background-with-a-blue-gradient-stripes-sky-birds-gre-Stock-Vector.jpg"/>
          <p:cNvPicPr/>
          <p:nvPr/>
        </p:nvPicPr>
        <p:blipFill>
          <a:blip r:embed="rId1"/>
          <a:stretch/>
        </p:blipFill>
        <p:spPr>
          <a:xfrm>
            <a:off x="539640" y="-561960"/>
            <a:ext cx="8048880" cy="74106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755640" y="106524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На части не делится солнце лучистое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И вечную землю нельзя поделит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Но искорку счастья луча золотист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Ты можешь, ты в силах друзьям подари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85920" y="404640"/>
            <a:ext cx="9289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дружной семье и в холод тепл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семье согласно, так и дело идет прекрас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Дерево держится корнями, а человек семьё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Жизнь родителей в детя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семье, где нет согласия, добра не быва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Семья без детей, что цветок без запах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826920" y="1773360"/>
            <a:ext cx="749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ристианская семь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35280" y="335772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Семья – есть Божий хр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5003640" y="1989000"/>
            <a:ext cx="388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семья в православном м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бъединяет членов такой семь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семья"/>
          <p:cNvPicPr/>
          <p:nvPr/>
        </p:nvPicPr>
        <p:blipFill>
          <a:blip r:embed="rId1"/>
          <a:stretch/>
        </p:blipFill>
        <p:spPr>
          <a:xfrm>
            <a:off x="357120" y="620640"/>
            <a:ext cx="4135680" cy="561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395280" y="333360"/>
            <a:ext cx="4753080" cy="71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ерево держится корням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 человек семьё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дружной семье и в холод тепл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семье, где нет соглас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бра не быв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семье любовь да сове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так и нужды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мире жить – с миром ж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588000" y="549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51672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516720" y="299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516720" y="4365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588000" y="551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203640" y="2708280"/>
            <a:ext cx="3097080" cy="9144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203640" y="3645000"/>
            <a:ext cx="3097080" cy="9144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03640" y="4581360"/>
            <a:ext cx="3097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2890800" y="981000"/>
            <a:ext cx="3649680" cy="170676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11640" y="3141720"/>
            <a:ext cx="914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924360" y="2421000"/>
            <a:ext cx="158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995640" y="393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995640" y="1844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211640" y="32814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1763640" y="5229360"/>
            <a:ext cx="66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 здании человеческого счастья дружба возводит стены, а любовь образует купо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зьма Прут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995640" y="450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img004"/>
          <p:cNvPicPr/>
          <p:nvPr/>
        </p:nvPicPr>
        <p:blipFill>
          <a:blip r:embed="rId1"/>
          <a:stretch/>
        </p:blipFill>
        <p:spPr>
          <a:xfrm>
            <a:off x="539640" y="1844640"/>
            <a:ext cx="8229600" cy="4078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41" name="Text Box 5"/>
          <p:cNvSpPr/>
          <p:nvPr/>
        </p:nvSpPr>
        <p:spPr>
          <a:xfrm>
            <a:off x="826920" y="765000"/>
            <a:ext cx="792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Семья без детей, что цветок без запах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476360" y="148428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БОГ, ПУСТОТА, ВЕРА, ЗЛО, ОДИНОЧЕСТВО, НАДЕЖДА, РАВНОДУШИЕ, ЛЮБОВЬ, ЛОЖЬ, ТЕРПЕНИЕ, ОБИДА, ЭГОИЗМ, НЕЖНОСТЬ, УВАЖЕНИ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ССОРА, ГРУБОСТЬ, ЕДИНСТВО, ОТЧУЖДЕНИЕ,СКВЕРНОСЛОВИЕ, МИЛОСЕРДИЕ, ДОВЕР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7:29:29Z</dcterms:created>
  <dc:creator>Ваня</dc:creator>
  <dc:description/>
  <dc:language>en-US</dc:language>
  <cp:lastModifiedBy>Пользователь Windows</cp:lastModifiedBy>
  <dcterms:modified xsi:type="dcterms:W3CDTF">2017-05-14T09:09:55Z</dcterms:modified>
  <cp:revision>14</cp:revision>
  <dc:subject/>
  <dc:title>Слайд 1</dc:title>
</cp:coreProperties>
</file>