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112-ABBA-40F4-B605-4CFEC490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1BD-E335-4F10-A4B5-EA0C25D7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165F-E756-45B9-8F63-B3724E5E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C07-0CEC-4DE1-893C-08A29B80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2258-A2B5-4B9D-BAF4-EF7FC4C4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CC27-B058-42B8-B9E3-C5623E4C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01E2-2207-48C4-A78F-326BCE0D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2EC3-9B20-4B0D-AA6C-EA981FD4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6B26-1A67-4EEE-AD1E-562ECE40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87A1-BF09-442A-9402-00FFBC46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0231-9760-46A5-9DAA-12130D02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F13F-6A8E-4315-A02E-9B3676F1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ED30-4AF5-4394-AE45-01B8BED1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57BC-2E67-4224-AFC5-1EBFAEDE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86F1-C51A-44AA-A9C2-5C5ED30F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E690-EAC8-4D3B-94FE-5FED86DF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0EA1-1E24-43A8-A6B0-F6C227D0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32962-A872-4BB1-B915-69790F10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7A19C-AF2D-4225-8A57-AE391359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E1508-C7AA-4585-8E0C-C570137A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9DACF-2E0D-4DED-8925-2EB8B392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4B0E1-973C-443B-A76F-2BCF13D1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5ED-6854-48C1-BA03-8B9301A2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33A7F-E205-4906-9ABF-AD7767D7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7A5FA-54AC-4819-97F4-95BCB012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CF399-1C48-4601-8210-8B4F6CFE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A667B-EDE5-4A6C-AFCB-137543D4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C884A-980E-4C21-A6AF-C00ECEF4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B7A27-1B79-48A0-B534-87741C2C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1CB8D-3228-4272-B4E4-F1F761D9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54D06-3A20-4E4E-8C71-3C2B5E8D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0C2FA-AC74-4B51-AF3C-9FF68FA8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9E5B2-1963-4DE5-B58B-967EFDB7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E6F-EB5B-483C-BFCE-C2ED2803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8248E-324C-4135-BA14-C903F83A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25006-B085-46AB-9A92-6D7B37F7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92B6E-E254-45C9-9F38-9A262DDB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FFC09-B6A6-4567-BDB4-FECE772C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306E5-9A93-4A65-8223-239E3BC4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3ACE6-CC34-45CE-A054-5E3B92C7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BEF72-344C-4599-9920-A3367E86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3CE74-3C20-4371-8E50-288330C5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65795-9194-4DE9-A591-47B8DAAF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A4C-3A33-4F37-9457-277D8778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FA1-9E76-449C-9AC2-D4D63BBF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5B0-C52B-4987-8025-FB1E59DC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3E6E-2764-4FA5-B612-24968A69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5ED-24EA-4374-95D1-E8E0C2F3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B125-8EE2-4990-AEB3-807F6E382A60}" type="slidenum">
              <a:rPr b="1" lang="ru-RU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331D-5C17-4A27-BCEE-E124275BEDEB}" type="slidenum">
              <a:rPr b="1" lang="ru-RU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C801-F4A3-4415-A28F-2FAAD027D4B6}" type="slidenum">
              <a:rPr b="1" lang="ru-RU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D564-5207-48CB-B37C-ED02E0DCF467}" type="slidenum">
              <a:rPr b="1" lang="ru-RU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Nastya Mart\Desktop\православная культура\9e15d7d410aac19417797423a579a14f.jpg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51204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1"/>
          <p:cNvSpPr/>
          <p:nvPr/>
        </p:nvSpPr>
        <p:spPr>
          <a:xfrm>
            <a:off x="1125360" y="1700280"/>
            <a:ext cx="574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Sylfaen"/>
              </a:rPr>
              <a:t>ДОБРОЕ УТРО! -СОЛНЦУ И ПТИЦАМ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Sylfaen"/>
              </a:rPr>
              <a:t>ДОБРОЕ УТРО! -УЛЫБЧИВЫМ ЛИЦАМ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Sylfaen"/>
              </a:rPr>
              <a:t>И каждый становится добрым, доверчивы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Sylfaen"/>
              </a:rPr>
              <a:t>Пусть ДОБРОЕ УТРО продлится до вечера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семья"/>
          <p:cNvPicPr/>
          <p:nvPr/>
        </p:nvPicPr>
        <p:blipFill>
          <a:blip r:embed="rId1"/>
          <a:stretch/>
        </p:blipFill>
        <p:spPr>
          <a:xfrm>
            <a:off x="1332000" y="765000"/>
            <a:ext cx="6551640" cy="43610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244" name="Text Box 5"/>
          <p:cNvSpPr/>
          <p:nvPr/>
        </p:nvSpPr>
        <p:spPr>
          <a:xfrm>
            <a:off x="1476360" y="5229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«Во всем, как хотите, чтобы с вами поступали люди, так поступайте и вы с ним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332000" y="981000"/>
            <a:ext cx="748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 родителей почитает, тот вовеки не погибает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оставляй отца и матери на старости лет, и Бог тебя не оставит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кивай пальцем, сам будешь старцем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смейся над старым, и сам будешь стар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рми деда на печи: и сам будешь та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петр%20и%20февр1"/>
          <p:cNvPicPr/>
          <p:nvPr/>
        </p:nvPicPr>
        <p:blipFill>
          <a:blip r:embed="rId1"/>
          <a:stretch/>
        </p:blipFill>
        <p:spPr>
          <a:xfrm>
            <a:off x="1116000" y="404640"/>
            <a:ext cx="3646440" cy="603900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247" name="Text Box 5"/>
          <p:cNvSpPr/>
          <p:nvPr/>
        </p:nvSpPr>
        <p:spPr>
          <a:xfrm>
            <a:off x="4932360" y="465300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Благоверный князь Пётр и княгиня Фефрония Муромск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Пётр%20и%20Феврония%20(3)"/>
          <p:cNvPicPr/>
          <p:nvPr/>
        </p:nvPicPr>
        <p:blipFill>
          <a:blip r:embed="rId1"/>
          <a:stretch/>
        </p:blipFill>
        <p:spPr>
          <a:xfrm>
            <a:off x="1908000" y="333360"/>
            <a:ext cx="5281920" cy="61563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4e9687b5ae9bb"/>
          <p:cNvPicPr/>
          <p:nvPr/>
        </p:nvPicPr>
        <p:blipFill>
          <a:blip r:embed="rId1"/>
          <a:stretch/>
        </p:blipFill>
        <p:spPr>
          <a:xfrm>
            <a:off x="455760" y="476280"/>
            <a:ext cx="4217760" cy="58323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250" name="Text Box 5"/>
          <p:cNvSpPr/>
          <p:nvPr/>
        </p:nvSpPr>
        <p:spPr>
          <a:xfrm>
            <a:off x="5076720" y="476280"/>
            <a:ext cx="38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 8 июля 2008 года в России отмечается День любви и верности. Специально к этому дню была учреждена медаль «За любовь и верность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6" descr="454936117"/>
          <p:cNvPicPr/>
          <p:nvPr/>
        </p:nvPicPr>
        <p:blipFill>
          <a:blip r:embed="rId2"/>
          <a:stretch/>
        </p:blipFill>
        <p:spPr>
          <a:xfrm>
            <a:off x="5076720" y="2924280"/>
            <a:ext cx="3672000" cy="34146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:\Users\Nastya Mart\Desktop\православная культура\1343376829_glav.-ikona-carskoy-semi.jpg"/>
          <p:cNvPicPr/>
          <p:nvPr/>
        </p:nvPicPr>
        <p:blipFill>
          <a:blip r:embed="rId1"/>
          <a:stretch/>
        </p:blipFill>
        <p:spPr>
          <a:xfrm>
            <a:off x="539640" y="260280"/>
            <a:ext cx="3479760" cy="4324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Nastya Mart\Desktop\православная культура\Ikona-Svjatye-Carstvennye-strastoterpcy22.jpg"/>
          <p:cNvPicPr/>
          <p:nvPr/>
        </p:nvPicPr>
        <p:blipFill>
          <a:blip r:embed="rId2"/>
          <a:stretch/>
        </p:blipFill>
        <p:spPr>
          <a:xfrm>
            <a:off x="4032360" y="1579680"/>
            <a:ext cx="5076720" cy="5089320"/>
          </a:xfrm>
          <a:prstGeom prst="rect">
            <a:avLst/>
          </a:prstGeom>
          <a:ln w="0">
            <a:noFill/>
          </a:ln>
        </p:spPr>
      </p:pic>
      <p:pic>
        <p:nvPicPr>
          <p:cNvPr id="254" name="Заголовок 1" descr=""/>
          <p:cNvPicPr/>
          <p:nvPr/>
        </p:nvPicPr>
        <p:blipFill>
          <a:blip r:embed="rId3"/>
          <a:stretch/>
        </p:blipFill>
        <p:spPr>
          <a:xfrm>
            <a:off x="2597040" y="-176040"/>
            <a:ext cx="6924960" cy="23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539640" y="836640"/>
            <a:ext cx="8209080" cy="50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равила жиз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вь интересы других людей выше собственны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ь предан своей семье, избегай возможности её пред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ажая других людей, уважай себ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рпимо относись к чужим точкам зр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ей прощать и не будь обидчи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ви в согласии с самим собой и другими людь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являй чутк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ь свободен от лжи и обма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емись всё делать как можно лучш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принимай людей как равных себ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семья 2"/>
          <p:cNvPicPr/>
          <p:nvPr/>
        </p:nvPicPr>
        <p:blipFill>
          <a:blip r:embed="rId1"/>
          <a:stretch/>
        </p:blipFill>
        <p:spPr>
          <a:xfrm>
            <a:off x="539640" y="1844640"/>
            <a:ext cx="8064720" cy="43498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257" name="Text Box 5"/>
          <p:cNvSpPr/>
          <p:nvPr/>
        </p:nvSpPr>
        <p:spPr>
          <a:xfrm>
            <a:off x="1835280" y="549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«Да любите друг друга!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7" descr="C:\Users\Nastya Mart\Desktop\православная культура\3373276-Vector-illustration-of-an-idyllic-sunny-nature-background-with-a-blue-gradient-stripes-sky-birds-gre-Stock-Vector.jpg"/>
          <p:cNvPicPr/>
          <p:nvPr/>
        </p:nvPicPr>
        <p:blipFill>
          <a:blip r:embed="rId1"/>
          <a:stretch/>
        </p:blipFill>
        <p:spPr>
          <a:xfrm>
            <a:off x="539640" y="-561960"/>
            <a:ext cx="8048880" cy="74106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755640" y="1065240"/>
            <a:ext cx="88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На части не делится солнце лучистое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И вечную землю нельзя поделит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Но искорку счастья луча золотисто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Ты можешь, ты в силах друзьям подарит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385920" y="404640"/>
            <a:ext cx="9289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В дружной семье и в холод тепл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В семье согласно, так и дело идет прекрасн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Дерево держится корнями, а человек семьё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Жизнь родителей в детя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В семье, где нет согласия, добра не бывае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Семья без детей, что цветок без запах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>
            <a:off x="826920" y="1773360"/>
            <a:ext cx="7490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ристианская семья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635280" y="3357720"/>
            <a:ext cx="55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Семья – есть Божий хра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5003640" y="1989000"/>
            <a:ext cx="3889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семья в православном м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объединяет членов такой семь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семья"/>
          <p:cNvPicPr/>
          <p:nvPr/>
        </p:nvPicPr>
        <p:blipFill>
          <a:blip r:embed="rId1"/>
          <a:stretch/>
        </p:blipFill>
        <p:spPr>
          <a:xfrm>
            <a:off x="357120" y="620640"/>
            <a:ext cx="4135680" cy="561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395280" y="333360"/>
            <a:ext cx="4753080" cy="71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Дерево держится корнями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а человек семьё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 дружной семье и в холод тепл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 семье, где нет согласи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добра не быв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 семье любовь да совет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так и нужды 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 мире жить – с миром ж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588000" y="549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516720" y="162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ужб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516720" y="2997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соглас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516720" y="4365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любов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6588000" y="5516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ми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3203640" y="2708280"/>
            <a:ext cx="3097080" cy="9144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203640" y="3645000"/>
            <a:ext cx="3097080" cy="9144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3203640" y="4581360"/>
            <a:ext cx="3097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AutoShape 7"/>
          <p:cNvSpPr/>
          <p:nvPr/>
        </p:nvSpPr>
        <p:spPr>
          <a:xfrm>
            <a:off x="2890800" y="981000"/>
            <a:ext cx="3649680" cy="1706760"/>
          </a:xfrm>
          <a:prstGeom prst="triangle">
            <a:avLst>
              <a:gd name="adj" fmla="val 50000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211640" y="3141720"/>
            <a:ext cx="9144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924360" y="2421000"/>
            <a:ext cx="1584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глас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3995640" y="3933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ужб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995640" y="1844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любов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211640" y="32814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ми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1763640" y="5229360"/>
            <a:ext cx="662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 здании человеческого счастья дружба возводит стены, а любовь образует купо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Козьма Прутк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3995640" y="4508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img004"/>
          <p:cNvPicPr/>
          <p:nvPr/>
        </p:nvPicPr>
        <p:blipFill>
          <a:blip r:embed="rId1"/>
          <a:stretch/>
        </p:blipFill>
        <p:spPr>
          <a:xfrm>
            <a:off x="539640" y="1844640"/>
            <a:ext cx="8229600" cy="40784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241" name="Text Box 5"/>
          <p:cNvSpPr/>
          <p:nvPr/>
        </p:nvSpPr>
        <p:spPr>
          <a:xfrm>
            <a:off x="826920" y="765000"/>
            <a:ext cx="792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Семья без детей, что цветок без запах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1476360" y="1484280"/>
            <a:ext cx="69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БОГ, ПУСТОТА, ВЕРА, ЗЛО, ОДИНОЧЕСТВО, НАДЕЖДА, РАВНОДУШИЕ, ЛЮБОВЬ, ЛОЖЬ, ТЕРПЕНИЕ, ОБИДА, ЭГОИЗМ, НЕЖНОСТЬ, УВАЖЕНИ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ССОРА, ГРУБОСТЬ, ЕДИНСТВО, ОТЧУЖДЕНИЕ,СКВЕРНОСЛОВИЕ, МИЛОСЕРДИЕ, ДОВЕР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07:29:29Z</dcterms:created>
  <dc:creator>Ваня</dc:creator>
  <dc:description/>
  <dc:language>en-US</dc:language>
  <cp:lastModifiedBy>Пользователь Windows</cp:lastModifiedBy>
  <dcterms:modified xsi:type="dcterms:W3CDTF">2017-05-14T09:09:55Z</dcterms:modified>
  <cp:revision>14</cp:revision>
  <dc:subject/>
  <dc:title>Слайд 1</dc:title>
</cp:coreProperties>
</file>