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20A-65C7-401A-BFC8-9DE2EC28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012-2EE6-4536-AE55-D59A2CC3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45E8-BF16-4945-B718-3F5A4219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24D4-6743-4EA3-A3D2-6D196293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FF28-91A9-45EE-ABF6-55EEDD1B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462-F66A-4431-B5B9-20337930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66E-4592-4073-8E68-B28B4A59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C1F-60D2-4727-B98B-000DEB3C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E06F-012D-476C-9419-33357109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6F9-9ED7-42AE-A203-513A7071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2BE8-6DA7-480D-87E2-8A2A279A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2178-32D3-44DF-B840-3629DD53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66D2-096F-4B6F-B712-B4728E0476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57200" y="914400"/>
            <a:ext cx="822960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«Реализация ответственного отношения к содержанию домашних животных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96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КОУ РО образовательный лицей -интернат «Педагогическ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. Таганр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140360" y="4572720"/>
            <a:ext cx="50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барухина Татьяна, 9 «б»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анец Ольга Алексе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би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0"/>
            <a:ext cx="906768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явление параметров ответственного отношения к содержанию животных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биологических особеннос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ппа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Диаграмма 6"/>
          <p:cNvGraphicFramePr/>
          <p:nvPr/>
        </p:nvGraphicFramePr>
        <p:xfrm>
          <a:off x="-990720" y="2133720"/>
          <a:ext cx="6197760" cy="41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" name="Диаграмма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990720" y="2133720"/>
                    <a:ext cx="619776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Диаграмма 11"/>
          <p:cNvGraphicFramePr/>
          <p:nvPr/>
        </p:nvGraphicFramePr>
        <p:xfrm>
          <a:off x="3581280" y="2057400"/>
          <a:ext cx="6197760" cy="41655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6" name="Диаграмма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2057400"/>
                    <a:ext cx="619776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7" name="Прямая со стрелкой 13"/>
          <p:cNvCxnSpPr/>
          <p:nvPr/>
        </p:nvCxnSpPr>
        <p:spPr>
          <a:xfrm>
            <a:off x="2107800" y="2133360"/>
            <a:ext cx="1080" cy="1080"/>
          </a:xfrm>
          <a:prstGeom prst="straightConnector1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 flipH="1">
            <a:off x="1752480" y="2057400"/>
            <a:ext cx="2286000" cy="160020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057400"/>
            <a:ext cx="1524240" cy="160020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6000" y="0"/>
            <a:ext cx="9117000" cy="66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знаний об особенностях живот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ниги по ух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ниги об особенно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х живо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собия по правильн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 питанию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Диаграмма 7"/>
          <p:cNvGraphicFramePr/>
          <p:nvPr/>
        </p:nvGraphicFramePr>
        <p:xfrm>
          <a:off x="-609480" y="1143000"/>
          <a:ext cx="6291000" cy="541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Диаграмма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09480" y="1143000"/>
                    <a:ext cx="6291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амооценка знаний биологических особенностей своего питом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Объект 5"/>
          <p:cNvGraphicFramePr/>
          <p:nvPr/>
        </p:nvGraphicFramePr>
        <p:xfrm>
          <a:off x="380880" y="1905120"/>
          <a:ext cx="8366400" cy="4640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Объект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905120"/>
                    <a:ext cx="8366400" cy="46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Прямоугольник 6"/>
          <p:cNvSpPr/>
          <p:nvPr/>
        </p:nvSpPr>
        <p:spPr>
          <a:xfrm>
            <a:off x="3884400" y="1295280"/>
            <a:ext cx="25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ппа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7" descr=""/>
          <p:cNvPicPr/>
          <p:nvPr/>
        </p:nvPicPr>
        <p:blipFill>
          <a:blip r:embed="rId4"/>
          <a:stretch/>
        </p:blipFill>
        <p:spPr>
          <a:xfrm>
            <a:off x="5807160" y="1879560"/>
            <a:ext cx="1936800" cy="25401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"/>
          <p:cNvPicPr/>
          <p:nvPr/>
        </p:nvPicPr>
        <p:blipFill>
          <a:blip r:embed="rId5"/>
          <a:stretch/>
        </p:blipFill>
        <p:spPr>
          <a:xfrm rot="1366800">
            <a:off x="3886200" y="2133360"/>
            <a:ext cx="230976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41148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ли бы вы сейчас это животн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Объект 9"/>
          <p:cNvGraphicFramePr/>
          <p:nvPr/>
        </p:nvGraphicFramePr>
        <p:xfrm>
          <a:off x="0" y="990720"/>
          <a:ext cx="4313160" cy="5457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Объект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90720"/>
                    <a:ext cx="4313160" cy="54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533520"/>
            <a:ext cx="44956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сывали когда-нибудь животное на улиц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Объект 14"/>
          <p:cNvGraphicFramePr/>
          <p:nvPr/>
        </p:nvGraphicFramePr>
        <p:xfrm>
          <a:off x="4343400" y="1066680"/>
          <a:ext cx="4597560" cy="55594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4" name="Объект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1066680"/>
                    <a:ext cx="4597560" cy="55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Прямоугольник 15"/>
          <p:cNvSpPr/>
          <p:nvPr/>
        </p:nvSpPr>
        <p:spPr>
          <a:xfrm>
            <a:off x="3237840" y="762120"/>
            <a:ext cx="38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ппа риска – 7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6"/>
          <a:stretch/>
        </p:blipFill>
        <p:spPr>
          <a:xfrm rot="20862000">
            <a:off x="5028840" y="1143000"/>
            <a:ext cx="1384200" cy="1984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7" descr=""/>
          <p:cNvPicPr/>
          <p:nvPr/>
        </p:nvPicPr>
        <p:blipFill>
          <a:blip r:embed="rId7"/>
          <a:stretch/>
        </p:blipFill>
        <p:spPr>
          <a:xfrm rot="4251600">
            <a:off x="1752840" y="1066680"/>
            <a:ext cx="138420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5200" y="151920"/>
            <a:ext cx="9118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пола животног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лод: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чел. -  не ду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ел. – прода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ар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Диаграмма 6"/>
          <p:cNvGraphicFramePr/>
          <p:nvPr/>
        </p:nvGraphicFramePr>
        <p:xfrm>
          <a:off x="0" y="685800"/>
          <a:ext cx="7315200" cy="581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Диаграмма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85800"/>
                    <a:ext cx="7315200" cy="58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Прямоугольник 15"/>
          <p:cNvSpPr/>
          <p:nvPr/>
        </p:nvSpPr>
        <p:spPr>
          <a:xfrm>
            <a:off x="2892600" y="129528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ппа рис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«Группа рис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Rectangle 3"/>
          <p:cNvGraphicFramePr/>
          <p:nvPr/>
        </p:nvGraphicFramePr>
        <p:xfrm>
          <a:off x="57240" y="1136520"/>
          <a:ext cx="9086760" cy="572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1136520"/>
                    <a:ext cx="9086760" cy="57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проведенных исследований была выявлена группа людей - «группа риска», которая может увеличить количество бездомных животных на улицах нашего города. Они составили примерно 40% от общего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точки напряжения, которые мешают реализовать ответственность за животно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знаний биологических и социальных особенностей животного (характер) до приобретения животного и при его содержан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равильный выбор источника информации об особенностях содержания, ухода за животн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связи с ветеринарной клини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огда неправильный выбор пола живот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ля успешной реализации ответственности за домашних питомцев необходимо внедрение программы (алгоритма) действий для тех, кто хочет иметь домашних животных , которую нужно внедрять через школьные программы, СМИ, рекламные щиты и плакаты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286000" y="1523880"/>
            <a:ext cx="48960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казание помощи в реализации ответственного отношения к содержанию домашних животных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ы предполагаем, что не все владельцы домашних животных проявляют ответственность  в изучении особенностей животных, которых они планируют завести, что и приводит к увеличению численности бездомных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4724280" y="30492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дачи исследования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Создать тексты опроса, анкеты для выявления степени готовности иметь домашнее живот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ровести исследования учащихся 9б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роанализировать уровень реализации ответственного отношения учащихся 9б класса и выявить параметры ответственного отношения к живо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Определить «группу риска» среди лицеистов по параметрам ответственного отношения к содержанию питом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Подготовить памятку для тех, кто хочет завести домашнее живот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Ознакомить с результатами исследования учащихся 9б класса, других лицеистов, провести акцию «Семь раз подумай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280" y="114480"/>
            <a:ext cx="91263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09480" y="1981080"/>
            <a:ext cx="81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ми были  выбраны  в качестве объекта исследования учащиеся 9 «Б» класса  лицея-интерната «Педагогический» г. Таганрог, а именно, их отношение к содержанию домашних животных. В данном исследовании нас интересовали вопросы, касающиеся содержания животных, знания особенностей питомцев, выявление параметров ответственного отношения к живо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124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691920"/>
            <a:ext cx="835344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ля решения поставленных задач, мы использовали следующие методы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изучение научной литературы с целью выбора методики определения готовности завести животное и составление  текста опроса и анкет для работы в исследуемой групп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анкетирование учащихся 9 «Б» класс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обработка данных анкетирования для выявления параметров ответственного отношения к содержанию животного и проверки наличия среди исследуемых «группы рис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Объект 8"/>
          <p:cNvGraphicFramePr/>
          <p:nvPr/>
        </p:nvGraphicFramePr>
        <p:xfrm>
          <a:off x="4800600" y="1119240"/>
          <a:ext cx="4981680" cy="5738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Объект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119240"/>
                    <a:ext cx="498168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4"/>
          <p:cNvGraphicFramePr/>
          <p:nvPr/>
        </p:nvGraphicFramePr>
        <p:xfrm>
          <a:off x="0" y="61920"/>
          <a:ext cx="6715080" cy="6796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920"/>
                    <a:ext cx="6715080" cy="67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Прямоугольник 1"/>
          <p:cNvSpPr/>
          <p:nvPr/>
        </p:nvSpPr>
        <p:spPr>
          <a:xfrm>
            <a:off x="304920" y="2286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омашних животных и их видовое разнообраз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редняя продолжительность жизни животных в исследуемой групп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4495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няя продолжительность жизни = (1год×6)+(2год×7)+(3год×4)+(4год×5)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лет×2)+(10лет×2)+(11лет×2)+(13лет×1) = 115/29 = 4,03 ≈ 4 го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905120"/>
          <a:ext cx="8229600" cy="2449440"/>
        </p:xfrm>
        <a:graphic>
          <a:graphicData uri="http://schemas.openxmlformats.org/drawingml/2006/table">
            <a:tbl>
              <a:tblPr/>
              <a:tblGrid>
                <a:gridCol w="1523880"/>
                <a:gridCol w="1676520"/>
                <a:gridCol w="1219320"/>
                <a:gridCol w="1600200"/>
                <a:gridCol w="2209680"/>
              </a:tblGrid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ль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-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зни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отсутствует сейчас, то почем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а Ч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па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ё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ё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за дом. животное реализуется через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12949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од за животными:      -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борка туал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гу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игиена животного 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Диаграмма 18"/>
          <p:cNvGraphicFramePr/>
          <p:nvPr/>
        </p:nvGraphicFramePr>
        <p:xfrm>
          <a:off x="-838080" y="1066680"/>
          <a:ext cx="6883200" cy="5791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6" name="Диаграмма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838080" y="1066680"/>
                    <a:ext cx="68832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явление параметров ответственного отношения к содержанию животных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ветеринарной кли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ппа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Диаграмма 6"/>
          <p:cNvGraphicFramePr/>
          <p:nvPr/>
        </p:nvGraphicFramePr>
        <p:xfrm>
          <a:off x="1295280" y="2362320"/>
          <a:ext cx="6197760" cy="41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9" name="Диаграмма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362320"/>
                    <a:ext cx="619776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0" name="Прямая со стрелкой 8"/>
          <p:cNvCxnSpPr/>
          <p:nvPr/>
        </p:nvCxnSpPr>
        <p:spPr>
          <a:xfrm>
            <a:off x="4393800" y="2361960"/>
            <a:ext cx="108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 flipH="1">
            <a:off x="3657240" y="3429000"/>
            <a:ext cx="22860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06:33:10Z</dcterms:created>
  <dc:creator>Ольга</dc:creator>
  <dc:description/>
  <dc:language>en-US</dc:language>
  <cp:lastModifiedBy>Ольга</cp:lastModifiedBy>
  <dcterms:modified xsi:type="dcterms:W3CDTF">2015-04-08T05:57:52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