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F6F-1819-4B5E-97C1-6DFDA325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DBE-54BF-4F80-B300-C3D004D7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AA5-D0AA-4EA8-8381-988415A9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440D-F622-4CDE-8F97-8A1EA1EB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AF45-8A57-47B1-A7D0-7DE1F8D4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5425-0A91-4EDF-9D3D-3B194994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E03B-948F-45E6-B28B-79DCEA4E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D829-ED6A-4E72-AB2D-17D3DAEA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B9A0-4E07-4727-8E12-00738F35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53F4-3C57-455E-BCC5-085672BC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6A13-4FA5-4E87-ADCF-9176E015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7D6-D394-400C-A25B-B63B884E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F5CA-E46C-4811-9D93-F690D01A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D709-EA17-4CAF-8B51-B3C54F71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282A-D59C-4CB2-94C1-6F892341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3A1A-256D-48E9-823D-0DA4AE5A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BA1D-2259-4308-A288-D91ABF55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7F5E-059E-467E-9379-F1FD00FC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16F-7A18-4BA8-8BB6-3F188F51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21D-725A-43D5-830F-154B9464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D0F-B2E3-4CC8-B754-A397E154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798-F9D2-458B-B907-A972854A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712-C8D1-482F-A2D3-E737DA54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6562-3D90-4117-BCE1-910C8C08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92F6-9AC4-4A0E-8386-D1351FB889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9381-4263-47AB-B6D6-1DB2512D22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-prirode.com/" TargetMode="External"/><Relationship Id="rId3" Type="http://schemas.openxmlformats.org/officeDocument/2006/relationships/hyperlink" Target="http://www.o-prirode.com/" TargetMode="External"/><Relationship Id="rId4" Type="http://schemas.openxmlformats.org/officeDocument/2006/relationships/hyperlink" Target="http://infourok.ru/konspekt" TargetMode="External"/><Relationship Id="rId5" Type="http://schemas.openxmlformats.org/officeDocument/2006/relationships/hyperlink" Target="http://spynet.ru/blog/42541.html" TargetMode="External"/><Relationship Id="rId6" Type="http://schemas.openxmlformats.org/officeDocument/2006/relationships/hyperlink" Target="http://spynet.ru/blog/42541.html" TargetMode="External"/><Relationship Id="rId7" Type="http://schemas.openxmlformats.org/officeDocument/2006/relationships/hyperlink" Target="http://spynet.ru/blog/42541.html" TargetMode="External"/><Relationship Id="rId8" Type="http://schemas.openxmlformats.org/officeDocument/2006/relationships/hyperlink" Target="http://spynet.ru/blog/42541.html" TargetMode="External"/><Relationship Id="rId9" Type="http://schemas.openxmlformats.org/officeDocument/2006/relationships/hyperlink" Target="http://spynet.ru/blog/42541.html" TargetMode="External"/><Relationship Id="rId10" Type="http://schemas.openxmlformats.org/officeDocument/2006/relationships/hyperlink" Target="http://spynet.ru/blog/42541.html" TargetMode="Externa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876920" y="5334120"/>
            <a:ext cx="4114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У «Ерышовская СОШ»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итель биологи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ротнева Наталья Андре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566720" y="2590920"/>
            <a:ext cx="658656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РЯД ЧЕШУЕКРЫЛЫЕ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АБОЧКИ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886200" cy="2362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52280" y="4038480"/>
            <a:ext cx="4572000" cy="2667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334120" y="152280"/>
            <a:ext cx="361944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400800" y="3352680"/>
            <a:ext cx="2590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3886200" cy="3276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952880" y="380880"/>
            <a:ext cx="4038840" cy="3124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3886200"/>
            <a:ext cx="4191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Мимикрия -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явление, при котором незащищенные животные подражают по форме и окраске защищенны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828800" y="3429000"/>
            <a:ext cx="5867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1295280"/>
            <a:ext cx="80773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культминутка 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Этот странный дом без окон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У людей зовётся кокон.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Свив на ветке этот дом,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Дремлет гусеница в нём,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Спит без просыпа всю зиму,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А зима промчалась мимо.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Март, апрель, капель, весна…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Просыпайся, Сонюшка,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Под весенним ярким солнышком!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Гусенице не до сна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Стала бабочкой она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ahoma"/>
              </a:rPr>
              <a:t>Развитие с полным превращением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807696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Дневные, или булавоусые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 имеют очень широкие крылья, которые они в покое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складывают вертикально вверх и прижимают друг к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другу, внутренней яркоокрашенной стороной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 тело стройное, грудь и брюшко тонкие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 усики булавовидные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 полет медленный, порхающ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Ночные, или перистоусые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 крылья узкие, складывают их кровлеобразно над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брюшком, или же держат распластанными в стороны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 грудь и брюшко обычно толстые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 усики разнообразного строения, но никогда н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бывают булавовидными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 полет стремительный, с частыми взмахам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крылье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Tahoma"/>
              </a:rPr>
              <a:t>Значение бабочек в природе и жизни человека</a:t>
            </a:r>
            <a:r>
              <a:rPr b="0" lang="en-US" sz="4000" spc="-1" strike="noStrike">
                <a:solidFill>
                  <a:srgbClr val="66ccff"/>
                </a:solidFill>
                <a:latin typeface="Tahoma"/>
              </a:rPr>
              <a:t>.</a:t>
            </a: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 взрослые насекомые опыляют цветковые растения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 бабочки и гусеницы служат пищей для многих беспозвоночных и позвоночных животных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 одомашненный вид, например, тутового шелкопряда, используют для получения шелка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 гусеницы вредят полевым, садовым, огородным и лесным растениям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 гусеницы моли повреждают одежду, обувь, ковры и другие вещи челове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Царство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 Животные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Тип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 Членистоногие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Класс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 Насекомые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Отряд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 Бабочки, или Чешуекрылые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Tahoma"/>
              </a:rPr>
              <a:t>Мозговой штурм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 Почему бабочек относят к отряду Чешуекрылые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 Как происходит развитие насекомых с полным превращением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 Как по форме и окраске тела бабочек можно определить, ночная она или дневная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. Какое значение имеют бабочки в природе и жизни человек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48006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«Нет правды без любви к природ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Любви к природе нет без чувства красоты».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                                 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(Я.П. Полянский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610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ТЕСТ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Для представителей отряда Чешуекрылые характерны следующие признак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) развитие с неполным превращением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) сосущий ротовой аппарат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) развитие с полным превращением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) личинка-гусениц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Из перечисленных насекомых к отряду Чешуекрылые относят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) медоносную пчелу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) радужница большая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) павлиний гл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Дышат насекомые при помощи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) легкий и трахей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) трахей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) жабр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) трах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Характерный признак отряда Бабочки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) задние крылья превращены в жужжальца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) крылья покрыты чешуйками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) передние крылья превращены в твердые надкрыль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В чем заключается сходство бабочек с цветами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) бабочки и цветы одинаково размножаются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) бабочки и цветы являются украшением нашей природы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) бабочки и цветы имеют одинаковое стро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Прочитать параграф учебника, ответить на  вопросы. Творческий уровень: составить кроссворд, используя бабочек на рисунке 65,66; сочинить стихи о бабочках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47760" y="2489040"/>
            <a:ext cx="6648480" cy="18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ля создания презентации были использованы фотографии со следующих ресурсов:</a:t>
            </a:r>
            <a:endParaRPr b="0" lang="en-US" sz="28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a8ad8"/>
                </a:solidFill>
                <a:uFillTx/>
                <a:latin typeface="Tahoma"/>
                <a:hlinkClick r:id="rId2"/>
              </a:rPr>
              <a:t>http://www.o-prirode.com</a:t>
            </a:r>
            <a:r>
              <a:rPr b="0" lang="en-US" sz="3200" spc="-1" strike="noStrike" u="sng">
                <a:solidFill>
                  <a:srgbClr val="8a8ad8"/>
                </a:solidFill>
                <a:uFillTx/>
                <a:latin typeface="Tahoma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a8ad8"/>
                </a:solidFill>
                <a:uFillTx/>
                <a:latin typeface="Tahoma"/>
                <a:hlinkClick r:id="rId4"/>
              </a:rPr>
              <a:t>http://infourok.ru/konspe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Tahoma"/>
              </a:rPr>
              <a:t>http://animalworld.com.ua/zoo/Metamorfozy_babochki_monarh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a8ad8"/>
                </a:solidFill>
                <a:uFillTx/>
                <a:latin typeface="Tahoma"/>
                <a:hlinkClick r:id="rId5"/>
              </a:rPr>
              <a:t>http</a:t>
            </a:r>
            <a:r>
              <a:rPr b="0" lang="ru-RU" sz="3200" spc="-1" strike="noStrike" u="sng">
                <a:solidFill>
                  <a:srgbClr val="8a8ad8"/>
                </a:solidFill>
                <a:uFillTx/>
                <a:latin typeface="Tahoma"/>
                <a:hlinkClick r:id="rId6"/>
              </a:rPr>
              <a:t>://</a:t>
            </a:r>
            <a:r>
              <a:rPr b="0" lang="ru-RU" sz="3200" spc="-1" strike="noStrike" u="sng">
                <a:solidFill>
                  <a:srgbClr val="8a8ad8"/>
                </a:solidFill>
                <a:uFillTx/>
                <a:latin typeface="Tahoma"/>
                <a:hlinkClick r:id="rId7"/>
              </a:rPr>
              <a:t>spynet.ru</a:t>
            </a:r>
            <a:r>
              <a:rPr b="0" lang="ru-RU" sz="3200" spc="-1" strike="noStrike" u="sng">
                <a:solidFill>
                  <a:srgbClr val="8a8ad8"/>
                </a:solidFill>
                <a:uFillTx/>
                <a:latin typeface="Tahoma"/>
                <a:hlinkClick r:id="rId8"/>
              </a:rPr>
              <a:t>/</a:t>
            </a:r>
            <a:r>
              <a:rPr b="0" lang="ru-RU" sz="3200" spc="-1" strike="noStrike" u="sng">
                <a:solidFill>
                  <a:srgbClr val="8a8ad8"/>
                </a:solidFill>
                <a:uFillTx/>
                <a:latin typeface="Tahoma"/>
                <a:hlinkClick r:id="rId9"/>
              </a:rPr>
              <a:t>blog</a:t>
            </a:r>
            <a:r>
              <a:rPr b="0" lang="ru-RU" sz="3200" spc="-1" strike="noStrike" u="sng">
                <a:solidFill>
                  <a:srgbClr val="8a8ad8"/>
                </a:solidFill>
                <a:uFillTx/>
                <a:latin typeface="Tahoma"/>
                <a:hlinkClick r:id="rId10"/>
              </a:rPr>
              <a:t>/42541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8686080" y="6020640"/>
            <a:ext cx="15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Каких жуков, встречающихся в нашей местности вы знаете? В коллекции найти этих представителе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Показать на таблице представителей отряда Клопы, ответить на вопрос: каковы особенности строения и жизнедеятельности клопов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Как насекомые приспособлены к средам обитани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Привести примеры биологической борьбы насекомы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Выполнить тест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Дышат насекомые при помощи: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легких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легких и трахей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) жабр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) трахе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Для насекомых характерны следующие признаки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4 пары ног и ни одной пары усик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3 пары ног и 1 пара усик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) головогрудь и брюшко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) голова, грудь, брюшк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Мальпигиевы сосуды – это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вид кровеносных сосуд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органы выделени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) органы пищеварительной систем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) сердц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Из перечисленных насекомых к отряду прямокрылым относят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майского жук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зеленого кузнечик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) медоносную пчелу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) белянкового наездник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Ты прав, одним воздушным очертанье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                                            </a:t>
            </a: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Я так мил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Весь бархат мой с его живым миганьем 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                                        </a:t>
            </a: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Лишь два кры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Не спрашивай: откуда появилас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                                          </a:t>
            </a: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Куда спешу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Здесь на цветок я летний опустилас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                                         </a:t>
            </a: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И вот – дышу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(А. Фет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b9cb5"/>
                </a:solidFill>
                <a:latin typeface="Tahoma"/>
              </a:rPr>
              <a:t>цели и задачи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-  изучить характерные признаки отряда на примере бабочек;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- показать их роль в природе и влияние на жизнь человека;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- знать основные особенности строения, жизнедеятельности и развития бабочек.  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ahoma"/>
              </a:rPr>
              <a:t>«Бабочки - летающие цветы»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8534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b9cb5"/>
                </a:solidFill>
                <a:latin typeface="Tahoma"/>
              </a:rPr>
              <a:t>Проблема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действительно ли бабочки произошли из цветков, оторвавщихся от растений?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19320" y="2895480"/>
            <a:ext cx="6629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4038840" cy="3048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590920" y="3429000"/>
            <a:ext cx="4114800" cy="3429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410080" y="380880"/>
            <a:ext cx="3581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1980-01-10T21:56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