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C58-E552-462A-87FC-3CB3BAB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12E-2097-415D-AAB0-3353EC40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EA0-54BC-45DB-8A21-E605C83F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58E-8334-4D15-A53B-B64C3469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A667-92F6-4AAF-8932-91D10113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B258-5FE5-41B5-AD49-2872F50A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7F08-D0FF-4B79-9414-F8E0B7E6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F2E4-5FC9-4C84-B52B-03F64F4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28B4-E839-4678-8F42-78EFF95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66DB-17CE-40E4-8583-FB709C73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DFD-13A8-4070-86BD-7E9730E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C53-7007-47B5-B91B-1C0608B7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4BC-C395-4986-BB61-17B7533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9AF-C061-462F-AFAF-5673392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969B-946D-404D-8A99-1448EC8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6D44-767D-486E-9CF3-2048B202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6ED6-F26B-41CA-8D85-CEAB58BE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B5F-D7A5-4EF8-B50E-7468AFD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40F-21CC-41E3-82EE-D193004C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E2C-0F3A-4B96-8875-D6328BC2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D08-FB54-4767-A285-C658ED44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A50-AC2F-45A2-AA8D-6C538C9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5C6-E2BF-431A-B103-E118D34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09A-2512-41F6-881C-CB58E68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B27-C3D3-43FF-86B5-699FBF1E1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292-CAC5-4DE0-8043-C8F8CD8BC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-prirode.com/" TargetMode="External"/><Relationship Id="rId3" Type="http://schemas.openxmlformats.org/officeDocument/2006/relationships/hyperlink" Target="http://www.o-prirode.com/" TargetMode="External"/><Relationship Id="rId4" Type="http://schemas.openxmlformats.org/officeDocument/2006/relationships/hyperlink" Target="http://infourok.ru/konspekt" TargetMode="External"/><Relationship Id="rId5" Type="http://schemas.openxmlformats.org/officeDocument/2006/relationships/hyperlink" Target="http://spynet.ru/blog/42541.html" TargetMode="External"/><Relationship Id="rId6" Type="http://schemas.openxmlformats.org/officeDocument/2006/relationships/hyperlink" Target="http://spynet.ru/blog/42541.html" TargetMode="External"/><Relationship Id="rId7" Type="http://schemas.openxmlformats.org/officeDocument/2006/relationships/hyperlink" Target="http://spynet.ru/blog/42541.html" TargetMode="External"/><Relationship Id="rId8" Type="http://schemas.openxmlformats.org/officeDocument/2006/relationships/hyperlink" Target="http://spynet.ru/blog/42541.html" TargetMode="External"/><Relationship Id="rId9" Type="http://schemas.openxmlformats.org/officeDocument/2006/relationships/hyperlink" Target="http://spynet.ru/blog/42541.html" TargetMode="External"/><Relationship Id="rId10" Type="http://schemas.openxmlformats.org/officeDocument/2006/relationships/hyperlink" Target="http://spynet.ru/blog/42541.html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76920" y="533412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«Ерышовская СОШ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ротнева Наталья Андре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66720" y="2590920"/>
            <a:ext cx="65865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РЯД ЧЕШУЕКРЫЛЫЕ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БОЧКИ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4120" y="152280"/>
            <a:ext cx="361944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400800" y="335268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4038840" cy="312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Мимикрия -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явление, при котором незащищенные животные подражают по форме и окраске защищенны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867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295280"/>
            <a:ext cx="80773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Этот странный дом без окон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У людей зовётся кокон.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Свив на ветке этот дом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Дремлет гусеница в нём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Спит без просыпа всю зиму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А зима промчалась мимо.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Март, апрель, капель, весна…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Просыпайся, Сонюшка,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Под весенним ярким солнышком!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Гусенице не до сна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Стала бабочкой она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ahoma"/>
              </a:rPr>
              <a:t>Развитие с полным превращением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0769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Дневные, или булавоусы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имеют очень широкие крылья, которые они в поко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складывают вертикально вверх и прижимают друг 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другу, внутренней яркоокрашенной стороной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тело стройное, грудь и брюшко тонкие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усики булавовидные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 полет медленный, порхающ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Ночные, или перистоусы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крылья узкие, складывают их кровлеобразно на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брюшком, или же держат распластанными в стороны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грудь и брюшко обычно толстые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усики разнообразного строения, но никогда 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бывают булавовидным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 полет стремительный, с частыми взмаха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крылье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Значение бабочек в природе и жизни человека</a:t>
            </a:r>
            <a:r>
              <a:rPr b="0" lang="en-US" sz="4000" spc="-1" strike="noStrike">
                <a:solidFill>
                  <a:srgbClr val="66cc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взрослые насекомые опыляют цветковые растения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бабочки и гусеницы служат пищей для многих беспозвоночных и позвоночных животных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одомашненный вид, например, тутового шелкопряда, используют для получения шелк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гусеницы вредят полевым, садовым, огородным и лесным растениям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гусеницы моли повреждают одежду, обувь, ковры и другие вещи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Царство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Животные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Тип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Членистоногие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Насекомые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Отряд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Бабочки, или Чешуекрылые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Почему бабочек относят к отряду Чешуекрылые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Как происходит развитие насекомых с полным превращением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Как по форме и окраске тела бабочек можно определить, ночная она или дневная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Какое значение имеют бабочки в природе и жизни челове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«Нет правды без любви к природ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Любви к природе нет без чувства красоты»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     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Я.П. Полянски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Для представителей отряда Чешуекрылые характерны следующие признак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развитие с неполным превращением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сосущий ротовой аппарат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развитие с полным превращением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личинка-гусени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Из перечисленных насекомых к отряду Чешуекрылые относят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медоносную пчелу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радужница больша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павлиний гл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Дышат насекомые при помощи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легкий и трахей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трахей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жабр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трах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Характерный признак отряда Бабочки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задние крылья превращены в жужжальца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крылья покрыты чешуйками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передние крылья превращены в твердые надкрыль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В чем заключается сходство бабочек с цветами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 бабочки и цветы одинаково размножаются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бабочки и цветы являются украшением нашей природы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бабочки и цветы имеют одинаковое 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читать параграф учебника, ответить на  вопросы. Творческий уровень: составить кроссворд, используя бабочек на рисунке 65,66; сочинить стихи о бабочк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47760" y="2489040"/>
            <a:ext cx="66484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создания презентации были использованы фотографии со следующих ресурсов:</a:t>
            </a:r>
            <a:endParaRPr b="0" lang="en-US" sz="2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www.o-prirode.com</a:t>
            </a:r>
            <a:r>
              <a:rPr b="0" lang="en-US" sz="32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infourok.ru/konsp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Tahoma"/>
              </a:rPr>
              <a:t>http://animalworld.com.ua/zoo/Metamorfozy_babochki_monar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spynet.ru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blog</a:t>
            </a:r>
            <a:r>
              <a:rPr b="0" lang="ru-RU" sz="32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/42541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8686080" y="6020640"/>
            <a:ext cx="15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Каких жуков, встречающихся в нашей местности вы знаете? В коллекции найти этих представителе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Показать на таблице представителей отряда Клопы, ответить на вопрос: каковы особенности строения и жизнедеятельности клоп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Как насекомые приспособлены к средам обита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Привести примеры биологической борьбы насеком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Выполнить тес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Дышат насекомые при помощи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легких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легких и трах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жабр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трах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Для насекомых характерны следующие признак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4 пары ног и ни одной пары ус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3 пары ног и 1 пара ус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головогрудь и брюшко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голова, грудь, брюшк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Мальпигиевы сосуды – это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ид кровеносных сосуд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органы выделе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органы пищеварительной систем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сердц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 перечисленных насекомых к отряду прямокрылым относя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майского жу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зеленого кузнечи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медоносную пчел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белянкового наездни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Ты прав, одним воздушным очертань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Я так мил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Весь бархат мой с его живым миганьем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Лишь два кры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Не спрашивай: откуда появила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Куда спеш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Здесь на цветок я летний опустилас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                                         </a:t>
            </a: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И вот – дышу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ahoma"/>
              </a:rPr>
              <a:t>(А. Фет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cb5"/>
                </a:solidFill>
                <a:latin typeface="Tahoma"/>
              </a:rPr>
              <a:t>цели и задач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 изучить характерные признаки отряда на примере бабочек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показать их роль в природе и влияние на жизнь человека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знать основные особенности строения, жизнедеятельности и развития бабочек. 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ahoma"/>
              </a:rPr>
              <a:t>«Бабочки - летающие цветы»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cb5"/>
                </a:solidFill>
                <a:latin typeface="Tahoma"/>
              </a:rPr>
              <a:t>Проблема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действительно ли бабочки произошли из цветков, оторвавщихся от растений?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662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03884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10080" y="38088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1980-01-10T21:56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