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8E69-1F56-4D7F-8359-07D64463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788-CBDF-4122-B605-6CC655E5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EF1-A200-40CC-8FE4-9C2B576C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07B6-8462-4EE8-90FD-2438606E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C8568-43F4-460D-88C1-4D31A5A8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6E3E1-FE79-40DD-8A16-D3706C8F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9D08B-55FD-466C-8939-A95375C7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BCF0C-3CDC-4B7A-B6B3-E2F2270C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E5398-08ED-4DE4-BA61-7B006782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5695B-9F1F-47C4-96FF-082C24F9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F9ABC-3F17-43AF-B5A7-821AFFF0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F50-37A3-4E18-A5B1-5BCF91BD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30C22-3108-4D7F-98C8-B5429EAC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9CB39-38B1-4FFA-B097-EC21E87D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BAED0-A4AF-42E7-B2B1-26D8C63A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23912-3763-4C10-BEBF-FBC7D8BB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DEDD3-6241-4787-B1FF-558D9A41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177C7-E7B5-4443-A874-37C15D6A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17CAE-8A65-4017-92B2-42611463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80A2-427F-489D-837E-E687EC06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889C-9554-4DC7-B905-29BB7CEE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D43A6-400E-4130-BB5C-56ADDF65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A93-42C1-4EE1-AA56-E9E99B45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43829-0AF5-4ECD-9357-9CEC4ED3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82729-589E-40BE-A9F7-82972D17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B3F49-428E-4328-B560-70F0DE0E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0295-F6A0-48AC-9BBB-F60F407F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3352-23A7-4662-BBD8-B610BB12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30E53-9B0C-481C-A04D-411A7CB5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BAB3-C828-4352-B336-BC0E67FC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D08DF7-C35C-4507-9E60-40917C77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DB622C-4B9E-4AD7-8496-6F305C40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B7373C-B2AD-4381-B8AE-9D087461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684-A84A-4ED0-9426-07318D1B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143F26-379C-40D6-BA02-C8D6D7B4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AA4ABE-ED91-45AB-975B-51D16688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071194-7378-4A81-945B-8E49D17E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D7077-F9B4-486C-B320-5349E2FF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BA407-B751-4342-ABDB-B8AE883C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3F5A83-1AF8-4E39-8F7A-E840ECA9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DE92A2-7F37-4F3A-81DA-D66A7BDE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FC5377-3F6F-4E48-B22A-B04BDAA1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A8DBDB-960E-43BB-8FF8-8CBD50B7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72F-EDF1-410F-AB5E-4156640D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41E-2450-4172-B94E-B9B2817C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E3D-7843-45B4-A26D-F6455AAB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721-7934-4F30-B2AB-12F161CD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80F-D7C7-4F65-9AD6-E7FC6ECD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c0c5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ED6C-3A5C-4869-A2D2-7EA6400831EE}" type="slidenum">
              <a:rPr b="0" lang="ru-RU" sz="16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ea157a"/>
          </a:solidFill>
          <a:ln w="38160">
            <a:solidFill>
              <a:srgbClr val="ea157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c0c5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9935-4C8F-4217-AEB5-EB73E7A2ACDC}" type="slidenum">
              <a:rPr b="0" lang="ru-RU" sz="16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c0c5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1499-CCBF-426B-96C0-8AECF959A961}" type="slidenum">
              <a:rPr b="0" lang="ru-RU" sz="16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c0c5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e11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A4A7-3468-41E4-B484-FD76A62C94E4}" type="slidenum">
              <a:rPr b="0" lang="ru-RU" sz="16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420840" y="85680"/>
            <a:ext cx="8302320" cy="28828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"/>
          <p:cNvSpPr/>
          <p:nvPr/>
        </p:nvSpPr>
        <p:spPr>
          <a:xfrm>
            <a:off x="4572000" y="4357800"/>
            <a:ext cx="41036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2" descr="http://slavyanskaya-kultura.ru/images/7(65).jpg"/>
          <p:cNvPicPr/>
          <p:nvPr/>
        </p:nvPicPr>
        <p:blipFill>
          <a:blip r:embed="rId2"/>
          <a:stretch/>
        </p:blipFill>
        <p:spPr>
          <a:xfrm>
            <a:off x="1495440" y="2708280"/>
            <a:ext cx="6265800" cy="381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slavyanskaya-kultura.ru/images/7(65).jpg"/>
          <p:cNvPicPr/>
          <p:nvPr/>
        </p:nvPicPr>
        <p:blipFill>
          <a:blip r:embed="rId1"/>
          <a:stretch/>
        </p:blipFill>
        <p:spPr>
          <a:xfrm>
            <a:off x="142920" y="227160"/>
            <a:ext cx="8786880" cy="638316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5"/>
          <p:cNvSpPr/>
          <p:nvPr/>
        </p:nvSpPr>
        <p:spPr>
          <a:xfrm>
            <a:off x="304920" y="617400"/>
            <a:ext cx="84610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особенности смоленского свадебного обряда, познакомиться со  свадебными песн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зучить литературу  и интернет источники по данной тем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общить и проанализировать матери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овести анкетирование по теме исслед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формулировать выводы;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здать презента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здать мини сборник свадебных песен смоленского кра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потеза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в особенности смоленского свадебного обряда, познакомившись  со свадебными песнями,  мы сможем сохранить ценность духовной культуры для будущего, для потом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2646360" y="281160"/>
            <a:ext cx="4260960" cy="101124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3"/>
          <p:cNvSpPr/>
          <p:nvPr/>
        </p:nvSpPr>
        <p:spPr>
          <a:xfrm>
            <a:off x="539640" y="1197000"/>
            <a:ext cx="79930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адебный обряд на Смоленщине включает несколько период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Сватов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Барыш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Сугля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Выпечка кара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Сбор невесты и жениха. Дар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Вечер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Девиш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Вечерок и приезд жени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Заруч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Свадебный поез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Свадебный пи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Бли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Продажа кара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6" descr="http://img-fotki.yandex.ru/get/4705/oksanaladeyshikowa.9e/0_5b074_8722ee13_L.jpg"/>
          <p:cNvPicPr/>
          <p:nvPr/>
        </p:nvPicPr>
        <p:blipFill>
          <a:blip r:embed="rId2"/>
          <a:stretch/>
        </p:blipFill>
        <p:spPr>
          <a:xfrm>
            <a:off x="5148360" y="206064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http://cs1.livemaster.ru/articlefoto/300x225/9/2/f/92f9b88a4c.jpg"/>
          <p:cNvPicPr/>
          <p:nvPr/>
        </p:nvPicPr>
        <p:blipFill>
          <a:blip r:embed="rId1"/>
          <a:stretch/>
        </p:blipFill>
        <p:spPr>
          <a:xfrm>
            <a:off x="250920" y="189000"/>
            <a:ext cx="345420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Picture 8" descr="http://kot-show.ru/images/stories/vmaterial/svadba_v_starinu.jpg"/>
          <p:cNvPicPr/>
          <p:nvPr/>
        </p:nvPicPr>
        <p:blipFill>
          <a:blip r:embed="rId2"/>
          <a:stretch/>
        </p:blipFill>
        <p:spPr>
          <a:xfrm>
            <a:off x="2556000" y="2779560"/>
            <a:ext cx="4626000" cy="285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Picture 10" descr="http://cyrillitsa.ru/wp-content/uploads/2013/05/devichnik.jpg"/>
          <p:cNvPicPr/>
          <p:nvPr/>
        </p:nvPicPr>
        <p:blipFill>
          <a:blip r:embed="rId3"/>
          <a:stretch/>
        </p:blipFill>
        <p:spPr>
          <a:xfrm>
            <a:off x="5353200" y="204840"/>
            <a:ext cx="3659040" cy="25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Picture 12" descr="http://vmeste-ryadom.ru/wp-content/uploads/2013/01/%D1%81%D0%B2%D0%B0%D1%82%D0%BE%D0%B2%D1%81%D1%82%D0%B2%D0%BE-%D0%B2-%D1%81%D1%82%D0%B0%D1%80%D0%B8%D0%BD%D1%83-300x179.jpg"/>
          <p:cNvPicPr/>
          <p:nvPr/>
        </p:nvPicPr>
        <p:blipFill>
          <a:blip r:embed="rId4"/>
          <a:stretch/>
        </p:blipFill>
        <p:spPr>
          <a:xfrm>
            <a:off x="5599080" y="4903920"/>
            <a:ext cx="3395520" cy="178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Picture 14" descr="http://life-e.ru/wp-content/uploads/2015/06/svadba-v-starinu.jpg"/>
          <p:cNvPicPr/>
          <p:nvPr/>
        </p:nvPicPr>
        <p:blipFill>
          <a:blip r:embed="rId5"/>
          <a:stretch/>
        </p:blipFill>
        <p:spPr>
          <a:xfrm>
            <a:off x="219240" y="4764240"/>
            <a:ext cx="2881080" cy="192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Picture 16" descr="https://go2.imgsmail.ru/imgpreview?key=554e6ebfd37597f1&amp;mb=imgdb_preview_160"/>
          <p:cNvPicPr/>
          <p:nvPr/>
        </p:nvPicPr>
        <p:blipFill>
          <a:blip r:embed="rId6"/>
          <a:stretch/>
        </p:blipFill>
        <p:spPr>
          <a:xfrm>
            <a:off x="3446640" y="5479920"/>
            <a:ext cx="1944360" cy="121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Picture 18" descr="http://artscroll.ru/Images/2008/r/Ryabushkin%20Andrej%20Petrovich/000014.jpg"/>
          <p:cNvPicPr/>
          <p:nvPr/>
        </p:nvPicPr>
        <p:blipFill>
          <a:blip r:embed="rId7"/>
          <a:stretch/>
        </p:blipFill>
        <p:spPr>
          <a:xfrm>
            <a:off x="250920" y="3068640"/>
            <a:ext cx="2160360" cy="127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0" descr="http://artscroll.ru/Images/2008/s/Shibanov_Mikhail/000004.jpg"/>
          <p:cNvPicPr/>
          <p:nvPr/>
        </p:nvPicPr>
        <p:blipFill>
          <a:blip r:embed="rId8"/>
          <a:stretch/>
        </p:blipFill>
        <p:spPr>
          <a:xfrm>
            <a:off x="7394400" y="3068640"/>
            <a:ext cx="1560600" cy="127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6" name="Picture 22" descr="http://media.pskovlive.ru/files/2014-07-15_12-32-05_795875456.png"/>
          <p:cNvPicPr/>
          <p:nvPr/>
        </p:nvPicPr>
        <p:blipFill>
          <a:blip r:embed="rId9"/>
          <a:stretch/>
        </p:blipFill>
        <p:spPr>
          <a:xfrm>
            <a:off x="3851280" y="909720"/>
            <a:ext cx="136836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ое значение имели свадебные обряды на Руси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чему на свадьбах в старину было принято плакать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ие обряды сохранились сегодня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ое значение имели обрядовые свадебные песни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вы думаете, влияет ли обряд венчания на прочность брака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ужны ли обряды сегодня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наете ли вы смоленские обрядовые песн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09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11280" y="162828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 опрошенных уверены в том, что свадебные обряды сегодня нужны, чтобы сохранить нашу культур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из известных обрядов 14 чел. (52%) назвали только один обряд - выкуп невесты и 3 чел.(11 %) – обряд «откусывания каравая», 2 чел.(7%) - обряд посыпания молодых цветами, деньгами, рисом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 опрошенных уверены в том, что венчание не влияет на прочность брака, а свадебные песни нужны только для веселья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кали же на свадьбах потому, что прощались с родительским домом, по мнению 9 чел. (33 %), остальные затруднились с ответо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5% опрошенных  уверены, что  свадебный обряд нужно сохранит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 опрошенных не знают смоленские обрядовые песн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1258920" y="6922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ы анкет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620640"/>
            <a:ext cx="835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Обряды – могущественное средство воспитания и сплочения народа в одно духовное целое; наши предки совершали обряды так же, как их совершали их деды и прадеды, следовательно, они объединяли народ не только географически, но и исторически, образуя духовную связь, уходящую вглубь времен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1ce"/>
                </a:solidFill>
                <a:latin typeface="Times New Roman"/>
                <a:ea typeface="Times New Roman"/>
              </a:rPr>
              <a:t>Знание обрядов своей родной земли приближает людей  к духовным корням.  Традиции все-таки не забыты, и они должны продолжать жить и передаваться из поколения в поколение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Рисунок 3" descr="http://www.yarsvadba.ru/thissite/files/@articles/promo/197.jpg"/>
          <p:cNvPicPr/>
          <p:nvPr/>
        </p:nvPicPr>
        <p:blipFill>
          <a:blip r:embed="rId1"/>
          <a:stretch/>
        </p:blipFill>
        <p:spPr>
          <a:xfrm>
            <a:off x="7116840" y="396720"/>
            <a:ext cx="1288800" cy="1543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7" descr=""/>
          <p:cNvPicPr/>
          <p:nvPr/>
        </p:nvPicPr>
        <p:blipFill>
          <a:blip r:embed="rId2"/>
          <a:stretch/>
        </p:blipFill>
        <p:spPr>
          <a:xfrm>
            <a:off x="826920" y="374760"/>
            <a:ext cx="1428840" cy="142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7:54:51Z</dcterms:created>
  <dc:creator>Admin</dc:creator>
  <dc:description/>
  <dc:language>en-US</dc:language>
  <cp:lastModifiedBy>Светлана</cp:lastModifiedBy>
  <dcterms:modified xsi:type="dcterms:W3CDTF">2017-02-03T06:49:35Z</dcterms:modified>
  <cp:revision>27</cp:revision>
  <dc:subject/>
  <dc:title>Свадебные обрядовые песни на Руси</dc:title>
</cp:coreProperties>
</file>