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5E81-3ABE-4A58-863A-CA3A14BD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2C11-E0B6-4496-A45F-1C8EB163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8F4-FADF-497E-816C-E403A691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45D-9310-4017-835D-E463CAC4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AB34C-8254-4F0E-9B66-8706BFDB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0F659-3DDF-4204-8820-A68CCB9C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C10EF-3189-4C27-9A07-F38693D8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02C44-1536-4338-A274-469A7E0E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AEBB0-561A-49C5-9371-C3F311FF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6D7FD-A382-4530-ADCF-AC950CBB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7BF5A-69D5-4B87-B433-F1C7498F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836-C06A-4BED-904A-FB8BE504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700BD-A5E4-473D-B728-33F3D8B7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3464C-20E8-4F7C-A829-10ABAED3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7D6C1-1068-4478-A5C5-5C78ADDF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C8249-6B6A-45F7-B2CF-E6EF8DF2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C625B-EAAE-4962-9B42-FEEDBCFF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19138-7C65-42F6-86CF-A13BDE84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CF594-4562-4925-A3E3-BB006BF5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4F5AD-79A2-4FA3-99C9-08C4BDF6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C7310-9B5C-4C24-8DBD-90A9EA5E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EB531-0334-44F9-A529-306D5E19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77E-0A85-4D35-A3CC-C09C9489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30175-A7CD-4B3E-B1E9-DF297EE0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B36C3-5474-4926-A759-7EA97C89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1003F-2BA7-4B6F-9C3D-5DFCAC5C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D5D6C-C0A1-42E4-B2A3-CB55F126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0C859-7374-4748-8494-054E8432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469B2-21E0-4553-A176-64F5EC08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0C7D0-8DED-4ED2-B911-45D6A620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75D1C7-493B-448A-BDFC-89FB5EB7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5BB9FC-8E24-4254-957B-7415E17D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C7D5E9-597D-4820-B9B2-453FCBFB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5B3-F5F1-41F0-B1A3-C0914C34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52888C-326E-4C9B-BEBF-B9794809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A3323D-EF91-47AA-911D-9EA87218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2E81FA-88E4-4D28-A3B9-F9B652F0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06B43D-F00F-4AFC-AA16-2633DA13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2D35A6-570F-4228-8CAE-3526729B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3701C9-0CAF-4039-9959-68AB5432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24D7BC-AE39-49CA-995A-A65C9FB1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1BF163-9C51-42B7-A297-57962766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220961-5221-460D-851E-88256369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35E5-C07F-4C3F-B51B-DDFD17EB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B57F-FD4E-49EF-9241-982777D7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2CF1-9977-4F87-BA02-0C9ACACB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5FE1-7F06-44A7-9AFB-29651E03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D16-D7FC-4B1B-B352-618EEFA2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c0c5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6FAD-D7D5-410D-A606-17F60E0D4B7B}" type="slidenum">
              <a:rPr b="0" lang="ru-RU" sz="16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ea157a"/>
          </a:solidFill>
          <a:ln w="38160">
            <a:solidFill>
              <a:srgbClr val="ea157a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c0c5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4CC3-CBDE-4209-9D46-129F675AFE0A}" type="slidenum">
              <a:rPr b="0" lang="ru-RU" sz="16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c0c5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22B7-F5C3-4B07-BABA-D8B9BC74B507}" type="slidenum">
              <a:rPr b="0" lang="ru-RU" sz="16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c0c5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5ADC-880D-457F-820E-636B49E849AB}" type="slidenum">
              <a:rPr b="0" lang="ru-RU" sz="16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420840" y="85680"/>
            <a:ext cx="8302320" cy="288288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3"/>
          <p:cNvSpPr/>
          <p:nvPr/>
        </p:nvSpPr>
        <p:spPr>
          <a:xfrm>
            <a:off x="4572000" y="4357800"/>
            <a:ext cx="41036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2" descr="http://slavyanskaya-kultura.ru/images/7(65).jpg"/>
          <p:cNvPicPr/>
          <p:nvPr/>
        </p:nvPicPr>
        <p:blipFill>
          <a:blip r:embed="rId2"/>
          <a:stretch/>
        </p:blipFill>
        <p:spPr>
          <a:xfrm>
            <a:off x="1495440" y="2708280"/>
            <a:ext cx="6265800" cy="381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slavyanskaya-kultura.ru/images/7(65).jpg"/>
          <p:cNvPicPr/>
          <p:nvPr/>
        </p:nvPicPr>
        <p:blipFill>
          <a:blip r:embed="rId1"/>
          <a:stretch/>
        </p:blipFill>
        <p:spPr>
          <a:xfrm>
            <a:off x="142920" y="227160"/>
            <a:ext cx="8786880" cy="638316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5"/>
          <p:cNvSpPr/>
          <p:nvPr/>
        </p:nvSpPr>
        <p:spPr>
          <a:xfrm>
            <a:off x="304920" y="617400"/>
            <a:ext cx="846108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особенности смоленского свадебного обряда, познакомиться со  свадебными песн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зучить литературу  и интернет источники по данной тем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общить и проанализировать материа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овести анкетирование по теме исслед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формулировать выводы;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здать презентац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здать мини сборник свадебных песен смоленского кра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ипотеза: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в особенности смоленского свадебного обряда, познакомившись  со свадебными песнями,  мы сможем сохранить ценность духовной культуры для будущего, для потом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2646360" y="281160"/>
            <a:ext cx="4260960" cy="101124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3"/>
          <p:cNvSpPr/>
          <p:nvPr/>
        </p:nvSpPr>
        <p:spPr>
          <a:xfrm>
            <a:off x="539640" y="1197000"/>
            <a:ext cx="79930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адебный обряд на Смоленщине включает несколько период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Сватов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Барыш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Сугля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Выпечка кара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Сбор невесты и жениха. Дар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Вечер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Девиш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Вечерок и приезд жени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Заруч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Свадебный поез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Свадебный пи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Бли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Продажа кара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6" descr="http://img-fotki.yandex.ru/get/4705/oksanaladeyshikowa.9e/0_5b074_8722ee13_L.jpg"/>
          <p:cNvPicPr/>
          <p:nvPr/>
        </p:nvPicPr>
        <p:blipFill>
          <a:blip r:embed="rId2"/>
          <a:stretch/>
        </p:blipFill>
        <p:spPr>
          <a:xfrm>
            <a:off x="5148360" y="206064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http://cs1.livemaster.ru/articlefoto/300x225/9/2/f/92f9b88a4c.jpg"/>
          <p:cNvPicPr/>
          <p:nvPr/>
        </p:nvPicPr>
        <p:blipFill>
          <a:blip r:embed="rId1"/>
          <a:stretch/>
        </p:blipFill>
        <p:spPr>
          <a:xfrm>
            <a:off x="250920" y="189000"/>
            <a:ext cx="345420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9" name="Picture 8" descr="http://kot-show.ru/images/stories/vmaterial/svadba_v_starinu.jpg"/>
          <p:cNvPicPr/>
          <p:nvPr/>
        </p:nvPicPr>
        <p:blipFill>
          <a:blip r:embed="rId2"/>
          <a:stretch/>
        </p:blipFill>
        <p:spPr>
          <a:xfrm>
            <a:off x="2556000" y="2779560"/>
            <a:ext cx="4626000" cy="285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Picture 10" descr="http://cyrillitsa.ru/wp-content/uploads/2013/05/devichnik.jpg"/>
          <p:cNvPicPr/>
          <p:nvPr/>
        </p:nvPicPr>
        <p:blipFill>
          <a:blip r:embed="rId3"/>
          <a:stretch/>
        </p:blipFill>
        <p:spPr>
          <a:xfrm>
            <a:off x="5353200" y="204840"/>
            <a:ext cx="3659040" cy="257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Picture 12" descr="http://vmeste-ryadom.ru/wp-content/uploads/2013/01/%D1%81%D0%B2%D0%B0%D1%82%D0%BE%D0%B2%D1%81%D1%82%D0%B2%D0%BE-%D0%B2-%D1%81%D1%82%D0%B0%D1%80%D0%B8%D0%BD%D1%83-300x179.jpg"/>
          <p:cNvPicPr/>
          <p:nvPr/>
        </p:nvPicPr>
        <p:blipFill>
          <a:blip r:embed="rId4"/>
          <a:stretch/>
        </p:blipFill>
        <p:spPr>
          <a:xfrm>
            <a:off x="5599080" y="4903920"/>
            <a:ext cx="3395520" cy="178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Picture 14" descr="http://life-e.ru/wp-content/uploads/2015/06/svadba-v-starinu.jpg"/>
          <p:cNvPicPr/>
          <p:nvPr/>
        </p:nvPicPr>
        <p:blipFill>
          <a:blip r:embed="rId5"/>
          <a:stretch/>
        </p:blipFill>
        <p:spPr>
          <a:xfrm>
            <a:off x="219240" y="4764240"/>
            <a:ext cx="2881080" cy="192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Picture 16" descr="https://go2.imgsmail.ru/imgpreview?key=554e6ebfd37597f1&amp;mb=imgdb_preview_160"/>
          <p:cNvPicPr/>
          <p:nvPr/>
        </p:nvPicPr>
        <p:blipFill>
          <a:blip r:embed="rId6"/>
          <a:stretch/>
        </p:blipFill>
        <p:spPr>
          <a:xfrm>
            <a:off x="3446640" y="5479920"/>
            <a:ext cx="1944360" cy="121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Picture 18" descr="http://artscroll.ru/Images/2008/r/Ryabushkin%20Andrej%20Petrovich/000014.jpg"/>
          <p:cNvPicPr/>
          <p:nvPr/>
        </p:nvPicPr>
        <p:blipFill>
          <a:blip r:embed="rId7"/>
          <a:stretch/>
        </p:blipFill>
        <p:spPr>
          <a:xfrm>
            <a:off x="250920" y="3068640"/>
            <a:ext cx="2160360" cy="127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0" descr="http://artscroll.ru/Images/2008/s/Shibanov_Mikhail/000004.jpg"/>
          <p:cNvPicPr/>
          <p:nvPr/>
        </p:nvPicPr>
        <p:blipFill>
          <a:blip r:embed="rId8"/>
          <a:stretch/>
        </p:blipFill>
        <p:spPr>
          <a:xfrm>
            <a:off x="7394400" y="3068640"/>
            <a:ext cx="1560600" cy="127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6" name="Picture 22" descr="http://media.pskovlive.ru/files/2014-07-15_12-32-05_795875456.png"/>
          <p:cNvPicPr/>
          <p:nvPr/>
        </p:nvPicPr>
        <p:blipFill>
          <a:blip r:embed="rId9"/>
          <a:stretch/>
        </p:blipFill>
        <p:spPr>
          <a:xfrm>
            <a:off x="3851280" y="909720"/>
            <a:ext cx="136836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ое значение имели свадебные обряды на Руси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чему на свадьбах в старину было принято плакать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ие обряды сохранились сегодня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ое значение имели обрядовые свадебные песни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 вы думаете, влияет ли обряд венчания на прочность брака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ужны ли обряды сегодня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наете ли вы смоленские обрядовые песн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09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11280" y="162828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 опрошенных уверены в том, что свадебные обряды сегодня нужны, чтобы сохранить нашу культур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из известных обрядов 14 чел. (52%) назвали только один обряд - выкуп невесты и 3 чел.(11 %) – обряд «откусывания каравая», 2 чел.(7%) - обряд посыпания молодых цветами, деньгами, рисом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 опрошенных уверены в том, что венчание не влияет на прочность брака, а свадебные песни нужны только для веселья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кали же на свадьбах потому, что прощались с родительским домом, по мнению 9 чел. (33 %), остальные затруднились с ответо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5% опрошенных  уверены, что  свадебный обряд нужно сохранит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 опрошенных не знают смоленские обрядовые песн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TextBox 1"/>
          <p:cNvSpPr/>
          <p:nvPr/>
        </p:nvSpPr>
        <p:spPr>
          <a:xfrm>
            <a:off x="1258920" y="6922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ультаты анкет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3640" y="620640"/>
            <a:ext cx="835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ени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Обряды – могущественное средство воспитания и сплочения народа в одно духовное целое; наши предки совершали обряды так же, как их совершали их деды и прадеды, следовательно, они объединяли народ не только географически, но и исторически, образуя духовную связь, уходящую вглубь времен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Знание обрядов своей родной земли приближает людей  к духовным корням.  Традиции все-таки не забыты, и они должны продолжать жить и передаваться из поколения в поколение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Рисунок 3" descr="http://www.yarsvadba.ru/thissite/files/@articles/promo/197.jpg"/>
          <p:cNvPicPr/>
          <p:nvPr/>
        </p:nvPicPr>
        <p:blipFill>
          <a:blip r:embed="rId1"/>
          <a:stretch/>
        </p:blipFill>
        <p:spPr>
          <a:xfrm>
            <a:off x="7116840" y="396720"/>
            <a:ext cx="1288800" cy="1543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3" name="Picture 7" descr=""/>
          <p:cNvPicPr/>
          <p:nvPr/>
        </p:nvPicPr>
        <p:blipFill>
          <a:blip r:embed="rId2"/>
          <a:stretch/>
        </p:blipFill>
        <p:spPr>
          <a:xfrm>
            <a:off x="826920" y="374760"/>
            <a:ext cx="1428840" cy="142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7:54:51Z</dcterms:created>
  <dc:creator>Admin</dc:creator>
  <dc:description/>
  <dc:language>en-US</dc:language>
  <cp:lastModifiedBy>Светлана</cp:lastModifiedBy>
  <dcterms:modified xsi:type="dcterms:W3CDTF">2017-02-03T06:49:35Z</dcterms:modified>
  <cp:revision>27</cp:revision>
  <dc:subject/>
  <dc:title>Свадебные обрядовые песни на Руси</dc:title>
</cp:coreProperties>
</file>