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media/image4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EF0-6FBA-4424-AA5B-31BD1074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74D-C082-43B8-BAAC-7F1D2BA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98F-376B-473C-9743-D152C76F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1C2-9057-44B0-91A9-0385AF87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F8D-209B-403F-9F2A-ADE159B4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0C9-0FA2-43E4-9213-E4BE4F4A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310-D12D-476A-8A86-6E094782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04F-F3B0-40EA-8DE2-9727319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60B-C169-43E5-9068-D1861DA9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824-369A-42DA-BA4E-0457A894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A5B-56EF-44DB-B484-7891758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1BF-6420-48BB-A0C6-0E52C07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E9C-FAD4-4FA5-A60F-FD5E8EB056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F30-4175-406B-BAF3-84B8E8D3A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0. Цифра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/>
          <p:cNvSpPr/>
          <p:nvPr/>
        </p:nvSpPr>
        <p:spPr>
          <a:xfrm>
            <a:off x="4427640" y="2276640"/>
            <a:ext cx="215640" cy="21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5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4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4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4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2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2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72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2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8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6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6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8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примеры вместе с зайчик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4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25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Мама</cp:lastModifiedBy>
  <dcterms:modified xsi:type="dcterms:W3CDTF">2017-05-14T14:32:48Z</dcterms:modified>
  <cp:revision>8</cp:revision>
  <dc:subject/>
  <dc:title>Число 0. Цифра 0.</dc:title>
</cp:coreProperties>
</file>