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media/image4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A94-AE78-4E8B-8598-6EF4B78B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F48-5855-4771-9313-2508D77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973-7BAB-43E6-847F-46712635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3B7-3754-4FCE-B05A-FDFC7521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5AE-E388-4B8C-8E3B-C287588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2A7-8023-4B3C-A3FD-86CAE7C9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16A-BD72-4361-B907-FF1F1FC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69F-DDE5-4E64-80DF-EEB122E7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178-B72C-4AE0-A6C8-4BFBE5D6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D83-9E97-4BF1-8043-4D15FFF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71A-4B45-48D1-A309-91B832C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4A0-CE0F-4C65-B299-B5AE2BC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58A-9506-4635-BF59-C1B911B210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EB6-20AC-4EF9-8849-35C4E24D1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0. Цифра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/>
          <p:cNvSpPr/>
          <p:nvPr/>
        </p:nvSpPr>
        <p:spPr>
          <a:xfrm>
            <a:off x="4427640" y="2276640"/>
            <a:ext cx="215640" cy="21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5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4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4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4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2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2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72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2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8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6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6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8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примеры вместе с зайчик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4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25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Мама</cp:lastModifiedBy>
  <dcterms:modified xsi:type="dcterms:W3CDTF">2017-05-14T14:32:48Z</dcterms:modified>
  <cp:revision>8</cp:revision>
  <dc:subject/>
  <dc:title>Число 0. Цифра 0.</dc:title>
</cp:coreProperties>
</file>