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62D-36F8-418E-9297-A32A86F8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84F-D392-41E6-A9DA-CBFED849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92B-96FD-4714-A57C-269EB691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732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732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F39-9DFC-4D37-9300-7538589E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60160" y="-159120"/>
            <a:ext cx="8901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8E7-1935-445C-8C28-A3B66AAE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5148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47320" y="151128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5564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5148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47320" y="4361400"/>
            <a:ext cx="27576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7BD-8BAD-4F5D-ABDB-DB80858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B14-7A17-4FED-9A56-E1BE7538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366-1698-408C-BA63-B78898E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-159120"/>
            <a:ext cx="8901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613-226E-4F10-9C0D-67CBFA20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FE9-0B7D-4A63-BF67-B1D6E8E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36140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9EC-2D42-48CC-8A95-C47E3F3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511280"/>
            <a:ext cx="417924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361400"/>
            <a:ext cx="8564400" cy="26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29F-15E3-426C-A01F-6BCBC20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FC2D-FF49-4FE7-BCA2-6273D3A95D6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6427440" y="3486240"/>
            <a:ext cx="604836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0160" y="-159120"/>
            <a:ext cx="89010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1511280"/>
            <a:ext cx="8564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034040"/>
            <a:ext cx="2100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0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00560" y="3633840"/>
            <a:ext cx="1008072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05636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802720" y="-16848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8802720" y="83916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802720" y="1847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05920"/>
            <a:ext cx="9070920" cy="14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Виды игровых технологий в учебном процессе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34200" y="5452560"/>
            <a:ext cx="3386160" cy="15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900" spc="-1" strike="noStrike">
                <a:solidFill>
                  <a:srgbClr val="eaeaea"/>
                </a:solidFill>
                <a:latin typeface="Arial Narrow"/>
              </a:rPr>
              <a:t>Царева Юля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900" spc="-1" strike="noStrike">
                <a:solidFill>
                  <a:srgbClr val="eaeaea"/>
                </a:solidFill>
                <a:latin typeface="Arial Narrow"/>
              </a:rPr>
              <a:t>49 группа</a:t>
            </a:r>
            <a:endParaRPr b="0" lang="en-US" sz="39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2278080"/>
            <a:ext cx="5219640" cy="4021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60360" y="1782720"/>
            <a:ext cx="93600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Развивающие: развитие внимания, памяти, речи, мышления, умений сравнивать, сопоставлять, находить аналогии, воображения, фантазии, творческих способностей, эмпатии, рефлексии, умения находить оптимальные решения; развитие мотивации учебной деятельност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оциализирующие: приобщение к нормам и ценностям общества; адаптация к условиям среды; стрессовый контроль, саморегуляция; обучение общению; психотерапия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Особенности игровых технологий</a:t>
            </a:r>
            <a:endParaRPr b="1" lang="en-US" sz="28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131840"/>
            <a:ext cx="92887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eaeaea"/>
                </a:solidFill>
                <a:latin typeface="Arial Narrow"/>
              </a:rPr>
              <a:t>Все следующие за дошкольным возрастные периоды со своими ведущими видами деятельности (младший школьный возраст - учебная деятельность, средний - общественно полезная, старший школьный возраст - учебно-профессиональная деятельность) не вытесняют игру, а продолжают включать ее в процесс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9280" y="41403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ИГРОВЫЕ ТЕХНОЛОГИИ В СРЕДНЕМ И СТАРШЕМ ШКОЛЬНОМ ВОЗРАСТЕ</a:t>
            </a:r>
            <a:endParaRPr b="1" lang="en-US" sz="28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5640" y="1242720"/>
            <a:ext cx="9504360" cy="34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подростковом возрасте наблюдается обострение потребности в создании своего собственного мира, в стремлении к взрослости, бурное развитие воображения, фантазии, появление стихийных групповых игр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Особенностями игры в старшем школьном возрасте является нацеленность на самоутверждение перед обществом, юмористическая окраска, стремление к розыгрышу, ориентация на речевую деятельность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22880" y="4500720"/>
            <a:ext cx="44971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Деловая игра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899640"/>
            <a:ext cx="97203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еловая игра используется для решения комплексных задач усвоения нового, закрепления материала, развития творческих способностей, формирования общеучебных умений, дает возможность учащимся понять и изучить учебный материал с различных позиций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учебном процессе применяются различные модификации деловых игр: имитационные, операционные, ролевые игры, деловой театр, психо- и социодрама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43196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Исполнение ролей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5640" y="1176480"/>
            <a:ext cx="950436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этих играх отрабатываются тактика поведения, действий, выполнение функций и обязанностей конкретного лица. Для проведения игр с исполнением роли разрабатывается модель-пьеса ситуации, между учащимися распределяются роли с «обязательным содержанием»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9280" y="3294000"/>
            <a:ext cx="5514840" cy="390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“</a:t>
            </a: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Деловой театр”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5640" y="1260000"/>
            <a:ext cx="9504360" cy="53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нем разыгрывается какая-либо ситуация, поведение человека в этой обстановке. Здесь школьник должен мобилизовать весь свой опыт, знания, навыки, суметь вжиться в образ определенного лица, понять его действия, оценить обстановку и найти правильную линию поведения. Основная задача метода инсценировки - научить подростка ориентироваться в различных обстоятельствах, давать объективную оценку своему поведению, учитывать возможности других людей, устанавливать с ними контакты, влиять на их интересы, потребности и деятельность, не прибегая к формальным атрибутам власти, к приказу. Для метода инсценировки составляется сценарий, где описываются конкретная ситуация, функции и обязанности действующих лиц, их задач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4900" spc="-1" strike="noStrike">
                <a:solidFill>
                  <a:srgbClr val="feeb9a"/>
                </a:solidFill>
                <a:latin typeface="Arial"/>
              </a:rPr>
              <a:t>Психодрама и социодрама.</a:t>
            </a:r>
            <a:endParaRPr b="1" lang="en-US" sz="49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76480"/>
            <a:ext cx="896472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Они весьма близки к «исполнению ролей» и «деловому театру». Это тоже «театр», но уже социально-психологический, в котором отрабатывается умение чувствовать ситуацию в коллективе, оценивать и изменять состояние другого человека, умение войти с ним в продуктивный контакт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3419640"/>
            <a:ext cx="4857480" cy="4047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6120" y="179280"/>
            <a:ext cx="890424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800" spc="-1" strike="noStrike">
                <a:solidFill>
                  <a:srgbClr val="eaeaea"/>
                </a:solidFill>
                <a:latin typeface="Arial Narrow"/>
                <a:ea typeface="msmincho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360000"/>
            <a:ext cx="918072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определению, </a:t>
            </a: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игра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 - 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Функции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 игровой деятельно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Развлекательн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оммуникативн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амореализац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4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Игротерапевтическ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5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иогнастическа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6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Функция коррекци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7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Межнациональная коммуникац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8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Социализация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0360" y="465120"/>
            <a:ext cx="93600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структуру игры как деятельности органично входит целеполагание, планирование, реализация цели, а также анализ результатов, в которых личность полностью реализует себя как субъект. Мотивация игровой деятельности обеспечивается ее добровольностью, возможностями выбора и элементами соревновательности, удовлетворения потребности в самоутверждении, самореализаци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3695760"/>
            <a:ext cx="936000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  <a:ea typeface="msmincho"/>
              </a:rPr>
              <a:t>В структуру игры как процесса входят: а) роли, взятые на себя играющими; б) игровые действия как средство реализации этих ролей; в) игровое употребление предметов, т.е. замещение реальных вещей игровыми, условными; г) реальные отношения между играющими; д) сюжет (содержание) - область действительности, условно воспроизводимая в иг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60360" y="539280"/>
            <a:ext cx="9539280" cy="63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7000"/>
              </a:lnSpc>
              <a:spcBef>
                <a:spcPts val="97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Игру как </a:t>
            </a:r>
            <a:r>
              <a:rPr b="1" lang="nl-BE" sz="2800" spc="-1" strike="noStrike">
                <a:solidFill>
                  <a:srgbClr val="eaeaea"/>
                </a:solidFill>
                <a:latin typeface="Arial Narrow"/>
              </a:rPr>
              <a:t>метод обучения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, передачи опыта старших поколений младшим люди использовали с древности. Широкое применение игра находит в народной педагогике, в дошкольных и внешкольных учреждениях. В современной школе, делающей ставку на активизацию и интенсификацию учебного процесса, игровая деятельность используется в следующих случаях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качестве самостоятельных технологий для освоения понятия, темы и даже раздела учебного предмета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ак элементы (иногда весьма существенные) более обширной технологи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качестве урока (занятия) или его части (введения, объяснения, закрепления, упражнения, контроля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4"/>
              </a:buBlip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— </a:t>
            </a: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как технологии внеклассной работы (игры типа «Зарница», «Орленок», КТД и др.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2720" y="1439640"/>
            <a:ext cx="8928000" cy="39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нятие «игровые педагогические технологии» включает достаточно обширную группу методов и приемов организации педагогического процесса в форме различных педагогических игр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 отличие от игр вообще педагогическая игра обладает существенным признаком -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200" spc="-1" strike="noStrike">
                <a:solidFill>
                  <a:srgbClr val="feeb9a"/>
                </a:solidFill>
                <a:latin typeface="Arial"/>
              </a:rPr>
              <a:t>Виды педагогических игр:</a:t>
            </a:r>
            <a:endParaRPr b="1" lang="en-US" sz="3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360" y="899640"/>
            <a:ext cx="9468000" cy="63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области деятельно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Физ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Интеллектуаль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рудов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Социаль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сихолог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характеру педагогического процесса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Обучающие, тренинговые, контролирующие, обобщающ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ознавательные, воспитательные, развивающ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Репродуктивные, продуктивные, твор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Коммуникативные, диагностические, профориентационные, психотехн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455400"/>
            <a:ext cx="9107640" cy="66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игровой методике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Предметные        -Сюжет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Ролевые               -Делов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Имитационные    -Драматизации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передметной области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Математические, химические, биологические, физические, экологи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Музыкальные, театральные, литератур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рудовые, технические, производствен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Физкультурные, спортивные, военно-прикладные, туристические, народны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Обществоведческие, управленческие, экономические, коммерчески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0720" y="2255760"/>
            <a:ext cx="892800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По игровой среде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Без предметов – с предметами, настольные, комнатные, уличные, на местности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Компьютерные, телевизионные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-Технические, со средствами передвижения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0520" y="115560"/>
            <a:ext cx="8904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200" spc="-1" strike="noStrike">
                <a:solidFill>
                  <a:srgbClr val="feeb9a"/>
                </a:solidFill>
                <a:latin typeface="Arial"/>
              </a:rPr>
              <a:t>Спектр целевых ориентаций в игровых технологиях</a:t>
            </a:r>
            <a:endParaRPr b="1" lang="en-US" sz="32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" y="1800360"/>
            <a:ext cx="96472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97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Дидактические: расширение кругозора, познавательная деятельность; применение ЗУН в практической деятельности; формирование определенных умений и навыков, необходимых в практической деятельности; развитие общеучебных умений и навыков; развитие трудовых навыков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-339840" algn="just">
              <a:lnSpc>
                <a:spcPct val="10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800" spc="-1" strike="noStrike">
                <a:solidFill>
                  <a:srgbClr val="eaeaea"/>
                </a:solidFill>
                <a:latin typeface="Arial Narrow"/>
              </a:rPr>
              <a:t>Воспитывающие: воспитание самостоятельности, воли; формирование определенных подходов, позиций, нравственных, эстетических и мировоззренческих установок; воспитание сотрудничества, коллективизма, общительности, коммуникативност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984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4-19T16:01:50Z</dcterms:modified>
  <cp:revision>0</cp:revision>
  <dc:subject/>
  <dc:title/>
</cp:coreProperties>
</file>