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F9B20-C1FC-4131-91F3-30A94E50A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60160" y="-159120"/>
            <a:ext cx="8901000" cy="149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eeb9a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5640" y="1511280"/>
            <a:ext cx="8564400" cy="260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9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5640" y="4361400"/>
            <a:ext cx="8564400" cy="260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9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EE17F-397D-44EF-8A1B-40F248D90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60160" y="-159120"/>
            <a:ext cx="8901000" cy="149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eeb9a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5640" y="1511280"/>
            <a:ext cx="4179240" cy="260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9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4400" y="1511280"/>
            <a:ext cx="4179240" cy="260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9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5640" y="4361400"/>
            <a:ext cx="4179240" cy="260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9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4400" y="4361400"/>
            <a:ext cx="4179240" cy="260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9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778EA-8D19-4AB7-ABE1-0F4738E8E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60160" y="-159120"/>
            <a:ext cx="8901000" cy="149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eeb9a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5640" y="1511280"/>
            <a:ext cx="2757600" cy="260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9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51480" y="1511280"/>
            <a:ext cx="2757600" cy="260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9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47320" y="1511280"/>
            <a:ext cx="2757600" cy="260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9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5640" y="4361400"/>
            <a:ext cx="2757600" cy="260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9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51480" y="4361400"/>
            <a:ext cx="2757600" cy="260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9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47320" y="4361400"/>
            <a:ext cx="2757600" cy="260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9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884FF-6515-4750-B6E5-BAD92BA6C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60160" y="-159120"/>
            <a:ext cx="8901000" cy="149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eeb9a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755640" y="1511280"/>
            <a:ext cx="8564400" cy="54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60160" y="-159120"/>
            <a:ext cx="8901000" cy="149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eeb9a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5640" y="1511280"/>
            <a:ext cx="8564400" cy="54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9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60160" y="-159120"/>
            <a:ext cx="8901000" cy="149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eeb9a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55640" y="1511280"/>
            <a:ext cx="4179240" cy="54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9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44400" y="1511280"/>
            <a:ext cx="4179240" cy="54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9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60160" y="-159120"/>
            <a:ext cx="8901000" cy="149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eeb9a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560160" y="-159120"/>
            <a:ext cx="8901000" cy="691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60160" y="-159120"/>
            <a:ext cx="8901000" cy="149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eeb9a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5640" y="1511280"/>
            <a:ext cx="4179240" cy="260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9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144400" y="1511280"/>
            <a:ext cx="4179240" cy="54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9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5640" y="4361400"/>
            <a:ext cx="4179240" cy="260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9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60160" y="-159120"/>
            <a:ext cx="8901000" cy="149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eeb9a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5640" y="1511280"/>
            <a:ext cx="8564400" cy="54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F9670-6666-48BD-BCF3-7F46D9712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60160" y="-159120"/>
            <a:ext cx="8901000" cy="149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eeb9a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755640" y="1511280"/>
            <a:ext cx="4179240" cy="54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9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44400" y="1511280"/>
            <a:ext cx="4179240" cy="260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9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144400" y="4361400"/>
            <a:ext cx="4179240" cy="260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9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60160" y="-159120"/>
            <a:ext cx="8901000" cy="149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eeb9a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55640" y="1511280"/>
            <a:ext cx="4179240" cy="260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9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144400" y="1511280"/>
            <a:ext cx="4179240" cy="260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9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755640" y="4361400"/>
            <a:ext cx="8564400" cy="260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9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60160" y="-159120"/>
            <a:ext cx="8901000" cy="149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eeb9a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640" y="1511280"/>
            <a:ext cx="8564400" cy="260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9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755640" y="4361400"/>
            <a:ext cx="8564400" cy="260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9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60160" y="-159120"/>
            <a:ext cx="8901000" cy="149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eeb9a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5640" y="1511280"/>
            <a:ext cx="4179240" cy="260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9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144400" y="1511280"/>
            <a:ext cx="4179240" cy="260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9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755640" y="4361400"/>
            <a:ext cx="4179240" cy="260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9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144400" y="4361400"/>
            <a:ext cx="4179240" cy="260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9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60160" y="-159120"/>
            <a:ext cx="8901000" cy="149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eeb9a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55640" y="1511280"/>
            <a:ext cx="2757600" cy="260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9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51480" y="1511280"/>
            <a:ext cx="2757600" cy="260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9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547320" y="1511280"/>
            <a:ext cx="2757600" cy="260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9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755640" y="4361400"/>
            <a:ext cx="2757600" cy="260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9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51480" y="4361400"/>
            <a:ext cx="2757600" cy="260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9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547320" y="4361400"/>
            <a:ext cx="2757600" cy="260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9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60160" y="-159120"/>
            <a:ext cx="8901000" cy="149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eeb9a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5640" y="1511280"/>
            <a:ext cx="8564400" cy="54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9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8DFA5-169D-45BC-B927-CC92FAE5F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60160" y="-159120"/>
            <a:ext cx="8901000" cy="149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eeb9a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5640" y="1511280"/>
            <a:ext cx="4179240" cy="54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9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4400" y="1511280"/>
            <a:ext cx="4179240" cy="54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9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70CFB-6196-485B-BBE5-A3FBF9CF7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60160" y="-159120"/>
            <a:ext cx="8901000" cy="149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eeb9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F4771-88DF-46ED-9816-F05BA9FE7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60160" y="-159120"/>
            <a:ext cx="8901000" cy="691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D2933-C79C-49FE-903E-64523BFFA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60160" y="-159120"/>
            <a:ext cx="8901000" cy="149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eeb9a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5640" y="1511280"/>
            <a:ext cx="4179240" cy="260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9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4400" y="1511280"/>
            <a:ext cx="4179240" cy="54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9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5640" y="4361400"/>
            <a:ext cx="4179240" cy="260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9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26699-89E2-4A8D-A9CE-458549C06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60160" y="-159120"/>
            <a:ext cx="8901000" cy="149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eeb9a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5640" y="1511280"/>
            <a:ext cx="4179240" cy="54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9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4400" y="1511280"/>
            <a:ext cx="4179240" cy="260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9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4400" y="4361400"/>
            <a:ext cx="4179240" cy="260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9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93576-6130-4C3A-AD0C-7E062D6B6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60160" y="-159120"/>
            <a:ext cx="8901000" cy="149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eeb9a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5640" y="1511280"/>
            <a:ext cx="4179240" cy="260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9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4400" y="1511280"/>
            <a:ext cx="4179240" cy="260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9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5640" y="4361400"/>
            <a:ext cx="8564400" cy="260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9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D0924-5279-43D1-9425-1505D11DF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42B7D4-ED77-49D0-9864-DB7A63FC2B18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73f4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rot="5400000">
            <a:off x="6427440" y="3486240"/>
            <a:ext cx="6048360" cy="1260360"/>
          </a:xfrm>
          <a:prstGeom prst="roundRect">
            <a:avLst>
              <a:gd name="adj" fmla="val 125"/>
            </a:avLst>
          </a:prstGeom>
          <a:gradFill rotWithShape="0">
            <a:gsLst>
              <a:gs pos="0">
                <a:srgbClr val="141f28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rot="5400000">
            <a:off x="4843440" y="2322360"/>
            <a:ext cx="399960" cy="10080720"/>
          </a:xfrm>
          <a:custGeom>
            <a:avLst/>
            <a:gdLst>
              <a:gd name="textAreaLeft" fmla="*/ 360 w 399960"/>
              <a:gd name="textAreaRight" fmla="*/ 399600 w 399960"/>
              <a:gd name="textAreaTop" fmla="*/ 360 h 10080720"/>
              <a:gd name="textAreaBottom" fmla="*/ 10080360 h 10080720"/>
            </a:gdLst>
            <a:ahLst/>
            <a:rect l="textAreaLeft" t="textAreaTop" r="textAreaRight" b="textAreaBottom"/>
            <a:pathLst>
              <a:path w="21600" h="543943">
                <a:moveTo>
                  <a:pt x="85" y="0"/>
                </a:moveTo>
                <a:arcTo wR="85" hR="85" stAng="16200000" swAng="-5400000"/>
                <a:lnTo>
                  <a:pt x="0" y="543858"/>
                </a:lnTo>
                <a:arcTo wR="85" hR="85" stAng="10800000" swAng="-5400000"/>
                <a:lnTo>
                  <a:pt x="21515" y="543943"/>
                </a:lnTo>
                <a:arcTo wR="85" hR="85" stAng="5400000" swAng="-5400000"/>
                <a:lnTo>
                  <a:pt x="21600" y="85"/>
                </a:lnTo>
                <a:arcTo wR="85" hR="85" stAng="0" swAng="-5400000"/>
                <a:close/>
              </a:path>
            </a:pathLst>
          </a:custGeom>
          <a:gradFill rotWithShape="0">
            <a:gsLst>
              <a:gs pos="0">
                <a:srgbClr val="273f4f"/>
              </a:gs>
              <a:gs pos="100000">
                <a:srgbClr val="2a69a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rot="5400000">
            <a:off x="4497480" y="-4491000"/>
            <a:ext cx="1092240" cy="10080720"/>
          </a:xfrm>
          <a:custGeom>
            <a:avLst/>
            <a:gdLst>
              <a:gd name="textAreaLeft" fmla="*/ 360 w 1092240"/>
              <a:gd name="textAreaRight" fmla="*/ 1091880 w 1092240"/>
              <a:gd name="textAreaTop" fmla="*/ 360 h 10080720"/>
              <a:gd name="textAreaBottom" fmla="*/ 10080360 h 10080720"/>
            </a:gdLst>
            <a:ahLst/>
            <a:rect l="textAreaLeft" t="textAreaTop" r="textAreaRight" b="textAreaBottom"/>
            <a:pathLst>
              <a:path w="21600" h="199296">
                <a:moveTo>
                  <a:pt x="31" y="0"/>
                </a:moveTo>
                <a:arcTo wR="31" hR="31" stAng="16200000" swAng="-5400000"/>
                <a:lnTo>
                  <a:pt x="0" y="199265"/>
                </a:lnTo>
                <a:arcTo wR="31" hR="31" stAng="10800000" swAng="-5400000"/>
                <a:lnTo>
                  <a:pt x="21569" y="199296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gradFill rotWithShape="0">
            <a:gsLst>
              <a:gs pos="0">
                <a:srgbClr val="273f4f"/>
              </a:gs>
              <a:gs pos="100000">
                <a:srgbClr val="2a69a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60160" y="-159120"/>
            <a:ext cx="8901000" cy="149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eeb9a"/>
                </a:solidFill>
                <a:latin typeface="Arial"/>
              </a:rPr>
              <a:t>Click to edit the title text format</a:t>
            </a:r>
            <a:endParaRPr b="1" lang="en-US" sz="4900" spc="-1" strike="noStrike">
              <a:solidFill>
                <a:srgbClr val="feeb9a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755640" y="1511280"/>
            <a:ext cx="8564400" cy="54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7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900" spc="-1" strike="noStrike">
                <a:solidFill>
                  <a:srgbClr val="eaeaea"/>
                </a:solidFill>
                <a:latin typeface="Arial Narrow"/>
              </a:rPr>
              <a:t>Click to edit the outline text format</a:t>
            </a:r>
            <a:endParaRPr b="0" lang="en-US" sz="3900" spc="-1" strike="noStrike">
              <a:solidFill>
                <a:srgbClr val="eaeaea"/>
              </a:solidFill>
              <a:latin typeface="Arial Narrow"/>
            </a:endParaRPr>
          </a:p>
          <a:p>
            <a:pPr lvl="1" marL="343080" indent="-343080">
              <a:spcBef>
                <a:spcPts val="975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900" spc="-1" strike="noStrike">
                <a:solidFill>
                  <a:srgbClr val="eaeaea"/>
                </a:solidFill>
                <a:latin typeface="Arial Narrow"/>
              </a:rPr>
              <a:t>Second Outline Level</a:t>
            </a:r>
            <a:endParaRPr b="0" lang="en-US" sz="3900" spc="-1" strike="noStrike">
              <a:solidFill>
                <a:srgbClr val="eaeaea"/>
              </a:solidFill>
              <a:latin typeface="Arial Narrow"/>
            </a:endParaRPr>
          </a:p>
          <a:p>
            <a:pPr lvl="2" marL="343080" indent="-343080">
              <a:spcBef>
                <a:spcPts val="975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900" spc="-1" strike="noStrike">
                <a:solidFill>
                  <a:srgbClr val="eaeaea"/>
                </a:solidFill>
                <a:latin typeface="Arial Narrow"/>
              </a:rPr>
              <a:t>Third Outline Level</a:t>
            </a:r>
            <a:endParaRPr b="0" lang="en-US" sz="3900" spc="-1" strike="noStrike">
              <a:solidFill>
                <a:srgbClr val="eaeaea"/>
              </a:solidFill>
              <a:latin typeface="Arial Narrow"/>
            </a:endParaRPr>
          </a:p>
          <a:p>
            <a:pPr lvl="3" marL="343080" indent="-343080">
              <a:spcBef>
                <a:spcPts val="975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900" spc="-1" strike="noStrike">
                <a:solidFill>
                  <a:srgbClr val="eaeaea"/>
                </a:solidFill>
                <a:latin typeface="Arial Narrow"/>
              </a:rPr>
              <a:t>Fourth Outline Level</a:t>
            </a:r>
            <a:endParaRPr b="0" lang="en-US" sz="3900" spc="-1" strike="noStrike">
              <a:solidFill>
                <a:srgbClr val="eaeaea"/>
              </a:solidFill>
              <a:latin typeface="Arial Narrow"/>
            </a:endParaRPr>
          </a:p>
          <a:p>
            <a:pPr lvl="4" marL="343080" indent="-343080">
              <a:spcBef>
                <a:spcPts val="975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900" spc="-1" strike="noStrike">
                <a:solidFill>
                  <a:srgbClr val="eaeaea"/>
                </a:solidFill>
                <a:latin typeface="Arial Narrow"/>
              </a:rPr>
              <a:t>Fifth Outline Level</a:t>
            </a:r>
            <a:endParaRPr b="0" lang="en-US" sz="3900" spc="-1" strike="noStrike">
              <a:solidFill>
                <a:srgbClr val="eaeaea"/>
              </a:solidFill>
              <a:latin typeface="Arial Narrow"/>
            </a:endParaRPr>
          </a:p>
          <a:p>
            <a:pPr lvl="5" marL="343080" indent="-343080">
              <a:spcBef>
                <a:spcPts val="975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900" spc="-1" strike="noStrike">
                <a:solidFill>
                  <a:srgbClr val="eaeaea"/>
                </a:solidFill>
                <a:latin typeface="Arial Narrow"/>
              </a:rPr>
              <a:t>Sixth Outline Level</a:t>
            </a:r>
            <a:endParaRPr b="0" lang="en-US" sz="3900" spc="-1" strike="noStrike">
              <a:solidFill>
                <a:srgbClr val="eaeaea"/>
              </a:solidFill>
              <a:latin typeface="Arial Narrow"/>
            </a:endParaRPr>
          </a:p>
          <a:p>
            <a:pPr lvl="6" marL="343080" indent="-343080">
              <a:spcBef>
                <a:spcPts val="975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900" spc="-1" strike="noStrike">
                <a:solidFill>
                  <a:srgbClr val="eaeaea"/>
                </a:solidFill>
                <a:latin typeface="Arial Narrow"/>
              </a:rPr>
              <a:t>Seventh Outline Level</a:t>
            </a:r>
            <a:endParaRPr b="0" lang="en-US" sz="39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6" name=""/>
          <p:cNvSpPr/>
          <p:nvPr/>
        </p:nvSpPr>
        <p:spPr>
          <a:xfrm>
            <a:off x="755640" y="7034040"/>
            <a:ext cx="210024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1176480"/>
            <a:ext cx="8375760" cy="19080"/>
          </a:xfrm>
          <a:prstGeom prst="roundRect">
            <a:avLst>
              <a:gd name="adj" fmla="val 8333"/>
            </a:avLst>
          </a:prstGeom>
          <a:gradFill rotWithShape="0">
            <a:gsLst>
              <a:gs pos="0">
                <a:srgbClr val="273f4f"/>
              </a:gs>
              <a:gs pos="100000">
                <a:srgbClr val="16528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440" bIns="-284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260360"/>
            <a:ext cx="8375760" cy="19080"/>
          </a:xfrm>
          <a:prstGeom prst="roundRect">
            <a:avLst>
              <a:gd name="adj" fmla="val 8333"/>
            </a:avLst>
          </a:prstGeom>
          <a:gradFill rotWithShape="0">
            <a:gsLst>
              <a:gs pos="0">
                <a:srgbClr val="273f4f"/>
              </a:gs>
              <a:gs pos="100000">
                <a:srgbClr val="16528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440" bIns="-284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1344600"/>
            <a:ext cx="8375760" cy="19080"/>
          </a:xfrm>
          <a:prstGeom prst="roundRect">
            <a:avLst>
              <a:gd name="adj" fmla="val 8333"/>
            </a:avLst>
          </a:prstGeom>
          <a:gradFill rotWithShape="0">
            <a:gsLst>
              <a:gs pos="0">
                <a:srgbClr val="273f4f"/>
              </a:gs>
              <a:gs pos="100000">
                <a:srgbClr val="16528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440" bIns="-284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300560" y="3633840"/>
            <a:ext cx="10080720" cy="144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7056360"/>
            <a:ext cx="8375760" cy="19080"/>
          </a:xfrm>
          <a:prstGeom prst="roundRect">
            <a:avLst>
              <a:gd name="adj" fmla="val 8333"/>
            </a:avLst>
          </a:prstGeom>
          <a:gradFill rotWithShape="0">
            <a:gsLst>
              <a:gs pos="0">
                <a:srgbClr val="273f4f"/>
              </a:gs>
              <a:gs pos="100000">
                <a:srgbClr val="16528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440" bIns="-284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8802720" y="-168480"/>
            <a:ext cx="19080" cy="2527560"/>
          </a:xfrm>
          <a:custGeom>
            <a:avLst/>
            <a:gdLst>
              <a:gd name="textAreaLeft" fmla="*/ 360 w 19080"/>
              <a:gd name="textAreaRight" fmla="*/ 18720 w 19080"/>
              <a:gd name="textAreaTop" fmla="*/ 360 h 2527560"/>
              <a:gd name="textAreaBottom" fmla="*/ 2527200 h 2527560"/>
            </a:gdLst>
            <a:ahLst/>
            <a:rect l="textAreaLeft" t="textAreaTop" r="textAreaRight" b="textAreaBottom"/>
            <a:pathLst>
              <a:path w="21600" h="2808800">
                <a:moveTo>
                  <a:pt x="1800" y="0"/>
                </a:moveTo>
                <a:arcTo wR="1800" hR="1800" stAng="16200000" swAng="-5400000"/>
                <a:lnTo>
                  <a:pt x="0" y="2807000"/>
                </a:lnTo>
                <a:arcTo wR="1800" hR="1800" stAng="10800000" swAng="-5400000"/>
                <a:lnTo>
                  <a:pt x="19800" y="2808800"/>
                </a:lnTo>
                <a:arcTo wR="1800" hR="1800" stAng="5400000" swAng="-5400000"/>
                <a:lnTo>
                  <a:pt x="21600" y="1800"/>
                </a:lnTo>
                <a:arcTo wR="1800" hR="1800" stAng="0" swAng="-5400000"/>
                <a:close/>
              </a:path>
            </a:pathLst>
          </a:cu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8802720" y="336240"/>
            <a:ext cx="18720" cy="2527560"/>
          </a:xfrm>
          <a:custGeom>
            <a:avLst/>
            <a:gdLst>
              <a:gd name="textAreaLeft" fmla="*/ 360 w 18720"/>
              <a:gd name="textAreaRight" fmla="*/ 18360 w 18720"/>
              <a:gd name="textAreaTop" fmla="*/ 360 h 2527560"/>
              <a:gd name="textAreaBottom" fmla="*/ 2527200 h 2527560"/>
            </a:gdLst>
            <a:ahLst/>
            <a:rect l="textAreaLeft" t="textAreaTop" r="textAreaRight" b="textAreaBottom"/>
            <a:pathLst>
              <a:path w="21600" h="2861796">
                <a:moveTo>
                  <a:pt x="1800" y="0"/>
                </a:moveTo>
                <a:arcTo wR="1800" hR="1800" stAng="16200000" swAng="-5400000"/>
                <a:lnTo>
                  <a:pt x="0" y="2859996"/>
                </a:lnTo>
                <a:arcTo wR="1800" hR="1800" stAng="10800000" swAng="-5400000"/>
                <a:lnTo>
                  <a:pt x="19800" y="2861796"/>
                </a:lnTo>
                <a:arcTo wR="1800" hR="1800" stAng="5400000" swAng="-5400000"/>
                <a:lnTo>
                  <a:pt x="21600" y="1800"/>
                </a:lnTo>
                <a:arcTo wR="1800" hR="1800" stAng="0" swAng="-5400000"/>
                <a:close/>
              </a:path>
            </a:pathLst>
          </a:cu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rot="16200000">
            <a:off x="8802720" y="839160"/>
            <a:ext cx="19080" cy="2527560"/>
          </a:xfrm>
          <a:custGeom>
            <a:avLst/>
            <a:gdLst>
              <a:gd name="textAreaLeft" fmla="*/ 360 w 19080"/>
              <a:gd name="textAreaRight" fmla="*/ 18720 w 19080"/>
              <a:gd name="textAreaTop" fmla="*/ 360 h 2527560"/>
              <a:gd name="textAreaBottom" fmla="*/ 2527200 h 2527560"/>
            </a:gdLst>
            <a:ahLst/>
            <a:rect l="textAreaLeft" t="textAreaTop" r="textAreaRight" b="textAreaBottom"/>
            <a:pathLst>
              <a:path w="21600" h="2808800">
                <a:moveTo>
                  <a:pt x="1800" y="0"/>
                </a:moveTo>
                <a:arcTo wR="1800" hR="1800" stAng="16200000" swAng="-5400000"/>
                <a:lnTo>
                  <a:pt x="0" y="2807000"/>
                </a:lnTo>
                <a:arcTo wR="1800" hR="1800" stAng="10800000" swAng="-5400000"/>
                <a:lnTo>
                  <a:pt x="19800" y="2808800"/>
                </a:lnTo>
                <a:arcTo wR="1800" hR="1800" stAng="5400000" swAng="-5400000"/>
                <a:lnTo>
                  <a:pt x="21600" y="1800"/>
                </a:lnTo>
                <a:arcTo wR="1800" hR="1800" stAng="0" swAng="-5400000"/>
                <a:close/>
              </a:path>
            </a:pathLst>
          </a:cu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rot="16200000">
            <a:off x="8802720" y="1344240"/>
            <a:ext cx="19080" cy="2527560"/>
          </a:xfrm>
          <a:custGeom>
            <a:avLst/>
            <a:gdLst>
              <a:gd name="textAreaLeft" fmla="*/ 360 w 19080"/>
              <a:gd name="textAreaRight" fmla="*/ 18720 w 19080"/>
              <a:gd name="textAreaTop" fmla="*/ 360 h 2527560"/>
              <a:gd name="textAreaBottom" fmla="*/ 2527200 h 2527560"/>
            </a:gdLst>
            <a:ahLst/>
            <a:rect l="textAreaLeft" t="textAreaTop" r="textAreaRight" b="textAreaBottom"/>
            <a:pathLst>
              <a:path w="21600" h="2808800">
                <a:moveTo>
                  <a:pt x="1800" y="0"/>
                </a:moveTo>
                <a:arcTo wR="1800" hR="1800" stAng="16200000" swAng="-5400000"/>
                <a:lnTo>
                  <a:pt x="0" y="2807000"/>
                </a:lnTo>
                <a:arcTo wR="1800" hR="1800" stAng="10800000" swAng="-5400000"/>
                <a:lnTo>
                  <a:pt x="19800" y="2808800"/>
                </a:lnTo>
                <a:arcTo wR="1800" hR="1800" stAng="5400000" swAng="-5400000"/>
                <a:lnTo>
                  <a:pt x="21600" y="1800"/>
                </a:lnTo>
                <a:arcTo wR="1800" hR="1800" stAng="0" swAng="-5400000"/>
                <a:close/>
              </a:path>
            </a:pathLst>
          </a:cu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16200000">
            <a:off x="8802720" y="1847520"/>
            <a:ext cx="19080" cy="2527560"/>
          </a:xfrm>
          <a:custGeom>
            <a:avLst/>
            <a:gdLst>
              <a:gd name="textAreaLeft" fmla="*/ 360 w 19080"/>
              <a:gd name="textAreaRight" fmla="*/ 18720 w 19080"/>
              <a:gd name="textAreaTop" fmla="*/ 360 h 2527560"/>
              <a:gd name="textAreaBottom" fmla="*/ 2527200 h 2527560"/>
            </a:gdLst>
            <a:ahLst/>
            <a:rect l="textAreaLeft" t="textAreaTop" r="textAreaRight" b="textAreaBottom"/>
            <a:pathLst>
              <a:path w="21600" h="2808800">
                <a:moveTo>
                  <a:pt x="1800" y="0"/>
                </a:moveTo>
                <a:arcTo wR="1800" hR="1800" stAng="16200000" swAng="-5400000"/>
                <a:lnTo>
                  <a:pt x="0" y="2807000"/>
                </a:lnTo>
                <a:arcTo wR="1800" hR="1800" stAng="10800000" swAng="-5400000"/>
                <a:lnTo>
                  <a:pt x="19800" y="2808800"/>
                </a:lnTo>
                <a:arcTo wR="1800" hR="1800" stAng="5400000" swAng="-5400000"/>
                <a:lnTo>
                  <a:pt x="21600" y="1800"/>
                </a:lnTo>
                <a:arcTo wR="1800" hR="1800" stAng="0" swAng="-5400000"/>
                <a:close/>
              </a:path>
            </a:pathLst>
          </a:cu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rot="16200000">
            <a:off x="8802720" y="2352240"/>
            <a:ext cx="19080" cy="2527560"/>
          </a:xfrm>
          <a:custGeom>
            <a:avLst/>
            <a:gdLst>
              <a:gd name="textAreaLeft" fmla="*/ 360 w 19080"/>
              <a:gd name="textAreaRight" fmla="*/ 18720 w 19080"/>
              <a:gd name="textAreaTop" fmla="*/ 360 h 2527560"/>
              <a:gd name="textAreaBottom" fmla="*/ 2527200 h 2527560"/>
            </a:gdLst>
            <a:ahLst/>
            <a:rect l="textAreaLeft" t="textAreaTop" r="textAreaRight" b="textAreaBottom"/>
            <a:pathLst>
              <a:path w="21600" h="2808800">
                <a:moveTo>
                  <a:pt x="1800" y="0"/>
                </a:moveTo>
                <a:arcTo wR="1800" hR="1800" stAng="16200000" swAng="-5400000"/>
                <a:lnTo>
                  <a:pt x="0" y="2807000"/>
                </a:lnTo>
                <a:arcTo wR="1800" hR="1800" stAng="10800000" swAng="-5400000"/>
                <a:lnTo>
                  <a:pt x="19800" y="2808800"/>
                </a:lnTo>
                <a:arcTo wR="1800" hR="1800" stAng="5400000" swAng="-5400000"/>
                <a:lnTo>
                  <a:pt x="21600" y="1800"/>
                </a:lnTo>
                <a:arcTo wR="1800" hR="1800" stAng="0" swAng="-5400000"/>
                <a:close/>
              </a:path>
            </a:pathLst>
          </a:cu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8802720" y="2855520"/>
            <a:ext cx="19080" cy="2527560"/>
          </a:xfrm>
          <a:custGeom>
            <a:avLst/>
            <a:gdLst>
              <a:gd name="textAreaLeft" fmla="*/ 360 w 19080"/>
              <a:gd name="textAreaRight" fmla="*/ 18720 w 19080"/>
              <a:gd name="textAreaTop" fmla="*/ 360 h 2527560"/>
              <a:gd name="textAreaBottom" fmla="*/ 2527200 h 2527560"/>
            </a:gdLst>
            <a:ahLst/>
            <a:rect l="textAreaLeft" t="textAreaTop" r="textAreaRight" b="textAreaBottom"/>
            <a:pathLst>
              <a:path w="21600" h="2808800">
                <a:moveTo>
                  <a:pt x="1800" y="0"/>
                </a:moveTo>
                <a:arcTo wR="1800" hR="1800" stAng="16200000" swAng="-5400000"/>
                <a:lnTo>
                  <a:pt x="0" y="2807000"/>
                </a:lnTo>
                <a:arcTo wR="1800" hR="1800" stAng="10800000" swAng="-5400000"/>
                <a:lnTo>
                  <a:pt x="19800" y="2808800"/>
                </a:lnTo>
                <a:arcTo wR="1800" hR="1800" stAng="5400000" swAng="-5400000"/>
                <a:lnTo>
                  <a:pt x="21600" y="1800"/>
                </a:lnTo>
                <a:arcTo wR="1800" hR="1800" stAng="0" swAng="-5400000"/>
                <a:close/>
              </a:path>
            </a:pathLst>
          </a:cu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rot="16200000">
            <a:off x="8802720" y="3360240"/>
            <a:ext cx="19080" cy="2527560"/>
          </a:xfrm>
          <a:custGeom>
            <a:avLst/>
            <a:gdLst>
              <a:gd name="textAreaLeft" fmla="*/ 360 w 19080"/>
              <a:gd name="textAreaRight" fmla="*/ 18720 w 19080"/>
              <a:gd name="textAreaTop" fmla="*/ 360 h 2527560"/>
              <a:gd name="textAreaBottom" fmla="*/ 2527200 h 2527560"/>
            </a:gdLst>
            <a:ahLst/>
            <a:rect l="textAreaLeft" t="textAreaTop" r="textAreaRight" b="textAreaBottom"/>
            <a:pathLst>
              <a:path w="21600" h="2808800">
                <a:moveTo>
                  <a:pt x="1800" y="0"/>
                </a:moveTo>
                <a:arcTo wR="1800" hR="1800" stAng="16200000" swAng="-5400000"/>
                <a:lnTo>
                  <a:pt x="0" y="2807000"/>
                </a:lnTo>
                <a:arcTo wR="1800" hR="1800" stAng="10800000" swAng="-5400000"/>
                <a:lnTo>
                  <a:pt x="19800" y="2808800"/>
                </a:lnTo>
                <a:arcTo wR="1800" hR="1800" stAng="5400000" swAng="-5400000"/>
                <a:lnTo>
                  <a:pt x="21600" y="1800"/>
                </a:lnTo>
                <a:arcTo wR="1800" hR="1800" stAng="0" swAng="-5400000"/>
                <a:close/>
              </a:path>
            </a:pathLst>
          </a:cu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rot="16200000">
            <a:off x="8802720" y="3863520"/>
            <a:ext cx="19080" cy="2527560"/>
          </a:xfrm>
          <a:custGeom>
            <a:avLst/>
            <a:gdLst>
              <a:gd name="textAreaLeft" fmla="*/ 360 w 19080"/>
              <a:gd name="textAreaRight" fmla="*/ 18720 w 19080"/>
              <a:gd name="textAreaTop" fmla="*/ 360 h 2527560"/>
              <a:gd name="textAreaBottom" fmla="*/ 2527200 h 2527560"/>
            </a:gdLst>
            <a:ahLst/>
            <a:rect l="textAreaLeft" t="textAreaTop" r="textAreaRight" b="textAreaBottom"/>
            <a:pathLst>
              <a:path w="21600" h="2808800">
                <a:moveTo>
                  <a:pt x="1800" y="0"/>
                </a:moveTo>
                <a:arcTo wR="1800" hR="1800" stAng="16200000" swAng="-5400000"/>
                <a:lnTo>
                  <a:pt x="0" y="2807000"/>
                </a:lnTo>
                <a:arcTo wR="1800" hR="1800" stAng="10800000" swAng="-5400000"/>
                <a:lnTo>
                  <a:pt x="19800" y="2808800"/>
                </a:lnTo>
                <a:arcTo wR="1800" hR="1800" stAng="5400000" swAng="-5400000"/>
                <a:lnTo>
                  <a:pt x="21600" y="1800"/>
                </a:lnTo>
                <a:arcTo wR="1800" hR="1800" stAng="0" swAng="-5400000"/>
                <a:close/>
              </a:path>
            </a:pathLst>
          </a:cu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rot="16200000">
            <a:off x="8802720" y="4368240"/>
            <a:ext cx="19080" cy="2527560"/>
          </a:xfrm>
          <a:custGeom>
            <a:avLst/>
            <a:gdLst>
              <a:gd name="textAreaLeft" fmla="*/ 360 w 19080"/>
              <a:gd name="textAreaRight" fmla="*/ 18720 w 19080"/>
              <a:gd name="textAreaTop" fmla="*/ 360 h 2527560"/>
              <a:gd name="textAreaBottom" fmla="*/ 2527200 h 2527560"/>
            </a:gdLst>
            <a:ahLst/>
            <a:rect l="textAreaLeft" t="textAreaTop" r="textAreaRight" b="textAreaBottom"/>
            <a:pathLst>
              <a:path w="21600" h="2808800">
                <a:moveTo>
                  <a:pt x="1800" y="0"/>
                </a:moveTo>
                <a:arcTo wR="1800" hR="1800" stAng="16200000" swAng="-5400000"/>
                <a:lnTo>
                  <a:pt x="0" y="2807000"/>
                </a:lnTo>
                <a:arcTo wR="1800" hR="1800" stAng="10800000" swAng="-5400000"/>
                <a:lnTo>
                  <a:pt x="19800" y="2808800"/>
                </a:lnTo>
                <a:arcTo wR="1800" hR="1800" stAng="5400000" swAng="-5400000"/>
                <a:lnTo>
                  <a:pt x="21600" y="1800"/>
                </a:lnTo>
                <a:arcTo wR="1800" hR="1800" stAng="0" swAng="-5400000"/>
                <a:close/>
              </a:path>
            </a:pathLst>
          </a:cu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rot="16200000">
            <a:off x="8802720" y="4871520"/>
            <a:ext cx="19080" cy="2527560"/>
          </a:xfrm>
          <a:custGeom>
            <a:avLst/>
            <a:gdLst>
              <a:gd name="textAreaLeft" fmla="*/ 360 w 19080"/>
              <a:gd name="textAreaRight" fmla="*/ 18720 w 19080"/>
              <a:gd name="textAreaTop" fmla="*/ 360 h 2527560"/>
              <a:gd name="textAreaBottom" fmla="*/ 2527200 h 2527560"/>
            </a:gdLst>
            <a:ahLst/>
            <a:rect l="textAreaLeft" t="textAreaTop" r="textAreaRight" b="textAreaBottom"/>
            <a:pathLst>
              <a:path w="21600" h="2808800">
                <a:moveTo>
                  <a:pt x="1800" y="0"/>
                </a:moveTo>
                <a:arcTo wR="1800" hR="1800" stAng="16200000" swAng="-5400000"/>
                <a:lnTo>
                  <a:pt x="0" y="2807000"/>
                </a:lnTo>
                <a:arcTo wR="1800" hR="1800" stAng="10800000" swAng="-5400000"/>
                <a:lnTo>
                  <a:pt x="19800" y="2808800"/>
                </a:lnTo>
                <a:arcTo wR="1800" hR="1800" stAng="5400000" swAng="-5400000"/>
                <a:lnTo>
                  <a:pt x="21600" y="1800"/>
                </a:lnTo>
                <a:arcTo wR="1800" hR="1800" stAng="0" swAng="-5400000"/>
                <a:close/>
              </a:path>
            </a:pathLst>
          </a:cu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rot="16200000">
            <a:off x="8802720" y="5376240"/>
            <a:ext cx="19080" cy="2527560"/>
          </a:xfrm>
          <a:custGeom>
            <a:avLst/>
            <a:gdLst>
              <a:gd name="textAreaLeft" fmla="*/ 360 w 19080"/>
              <a:gd name="textAreaRight" fmla="*/ 18720 w 19080"/>
              <a:gd name="textAreaTop" fmla="*/ 360 h 2527560"/>
              <a:gd name="textAreaBottom" fmla="*/ 2527200 h 2527560"/>
            </a:gdLst>
            <a:ahLst/>
            <a:rect l="textAreaLeft" t="textAreaTop" r="textAreaRight" b="textAreaBottom"/>
            <a:pathLst>
              <a:path w="21600" h="2808800">
                <a:moveTo>
                  <a:pt x="1800" y="0"/>
                </a:moveTo>
                <a:arcTo wR="1800" hR="1800" stAng="16200000" swAng="-5400000"/>
                <a:lnTo>
                  <a:pt x="0" y="2807000"/>
                </a:lnTo>
                <a:arcTo wR="1800" hR="1800" stAng="10800000" swAng="-5400000"/>
                <a:lnTo>
                  <a:pt x="19800" y="2808800"/>
                </a:lnTo>
                <a:arcTo wR="1800" hR="1800" stAng="5400000" swAng="-5400000"/>
                <a:lnTo>
                  <a:pt x="21600" y="1800"/>
                </a:lnTo>
                <a:arcTo wR="1800" hR="1800" stAng="0" swAng="-5400000"/>
                <a:close/>
              </a:path>
            </a:pathLst>
          </a:cu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rot="16200000">
            <a:off x="8802720" y="5879520"/>
            <a:ext cx="19080" cy="2527560"/>
          </a:xfrm>
          <a:custGeom>
            <a:avLst/>
            <a:gdLst>
              <a:gd name="textAreaLeft" fmla="*/ 360 w 19080"/>
              <a:gd name="textAreaRight" fmla="*/ 18720 w 19080"/>
              <a:gd name="textAreaTop" fmla="*/ 360 h 2527560"/>
              <a:gd name="textAreaBottom" fmla="*/ 2527200 h 2527560"/>
            </a:gdLst>
            <a:ahLst/>
            <a:rect l="textAreaLeft" t="textAreaTop" r="textAreaRight" b="textAreaBottom"/>
            <a:pathLst>
              <a:path w="21600" h="2808800">
                <a:moveTo>
                  <a:pt x="1800" y="0"/>
                </a:moveTo>
                <a:arcTo wR="1800" hR="1800" stAng="16200000" swAng="-5400000"/>
                <a:lnTo>
                  <a:pt x="0" y="2807000"/>
                </a:lnTo>
                <a:arcTo wR="1800" hR="1800" stAng="10800000" swAng="-5400000"/>
                <a:lnTo>
                  <a:pt x="19800" y="2808800"/>
                </a:lnTo>
                <a:arcTo wR="1800" hR="1800" stAng="5400000" swAng="-5400000"/>
                <a:lnTo>
                  <a:pt x="21600" y="1800"/>
                </a:lnTo>
                <a:arcTo wR="1800" hR="1800" stAng="0" swAng="-5400000"/>
                <a:close/>
              </a:path>
            </a:pathLst>
          </a:cu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0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73f4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2920" y="205920"/>
            <a:ext cx="9070920" cy="14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BE" sz="4900" spc="-1" strike="noStrike">
                <a:solidFill>
                  <a:srgbClr val="feeb9a"/>
                </a:solidFill>
                <a:latin typeface="Arial"/>
              </a:rPr>
              <a:t>Виды игровых технологий в учебном процессе</a:t>
            </a:r>
            <a:endParaRPr b="1" lang="en-US" sz="4900" spc="-1" strike="noStrike">
              <a:solidFill>
                <a:srgbClr val="feeb9a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334200" y="5452560"/>
            <a:ext cx="3386160" cy="15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9840" indent="-339840">
              <a:lnSpc>
                <a:spcPct val="97000"/>
              </a:lnSpc>
              <a:spcBef>
                <a:spcPts val="975"/>
              </a:spcBef>
              <a:buSzPct val="100000"/>
              <a:buBlip>
                <a:blip r:embed="rId1"/>
              </a:buBlip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3900" spc="-1" strike="noStrike">
                <a:solidFill>
                  <a:srgbClr val="eaeaea"/>
                </a:solidFill>
                <a:latin typeface="Arial Narrow"/>
              </a:rPr>
              <a:t>Царева Юля</a:t>
            </a:r>
            <a:endParaRPr b="0" lang="en-US" sz="3900" spc="-1" strike="noStrike">
              <a:solidFill>
                <a:srgbClr val="eaeaea"/>
              </a:solidFill>
              <a:latin typeface="Arial Narrow"/>
            </a:endParaRPr>
          </a:p>
          <a:p>
            <a:pPr marL="339840" indent="-339840">
              <a:lnSpc>
                <a:spcPct val="100000"/>
              </a:lnSpc>
              <a:spcBef>
                <a:spcPts val="975"/>
              </a:spcBef>
              <a:buSzPct val="100000"/>
              <a:buBlip>
                <a:blip r:embed="rId2"/>
              </a:buBlip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3900" spc="-1" strike="noStrike">
                <a:solidFill>
                  <a:srgbClr val="eaeaea"/>
                </a:solidFill>
                <a:latin typeface="Arial Narrow"/>
              </a:rPr>
              <a:t>49 группа</a:t>
            </a:r>
            <a:endParaRPr b="0" lang="en-US" sz="39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539640" y="2278080"/>
            <a:ext cx="5219640" cy="402120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73f4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360360" y="1782720"/>
            <a:ext cx="9360000" cy="34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9840" indent="-339840" algn="just">
              <a:lnSpc>
                <a:spcPct val="97000"/>
              </a:lnSpc>
              <a:spcBef>
                <a:spcPts val="975"/>
              </a:spcBef>
              <a:buSzPct val="100000"/>
              <a:buBlip>
                <a:blip r:embed="rId1"/>
              </a:buBlip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2800" spc="-1" strike="noStrike">
                <a:solidFill>
                  <a:srgbClr val="eaeaea"/>
                </a:solidFill>
                <a:latin typeface="Arial Narrow"/>
              </a:rPr>
              <a:t>Развивающие: развитие внимания, памяти, речи, мышления, умений сравнивать, сопоставлять, находить аналогии, воображения, фантазии, творческих способностей, эмпатии, рефлексии, умения находить оптимальные решения; развитие мотивации учебной деятельности.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marL="339840" indent="-339840" algn="just">
              <a:lnSpc>
                <a:spcPct val="100000"/>
              </a:lnSpc>
              <a:spcBef>
                <a:spcPts val="975"/>
              </a:spcBef>
              <a:buSzPct val="100000"/>
              <a:buBlip>
                <a:blip r:embed="rId2"/>
              </a:buBlip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2800" spc="-1" strike="noStrike">
                <a:solidFill>
                  <a:srgbClr val="eaeaea"/>
                </a:solidFill>
                <a:latin typeface="Arial Narrow"/>
              </a:rPr>
              <a:t>Социализирующие: приобщение к нормам и ценностям общества; адаптация к условиям среды; стрессовый контроль, саморегуляция; обучение общению; психотерапия.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p:transition spd="med"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73f4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60520" y="167760"/>
            <a:ext cx="8904240" cy="8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BE" sz="2800" spc="-1" strike="noStrike">
                <a:solidFill>
                  <a:srgbClr val="feeb9a"/>
                </a:solidFill>
                <a:latin typeface="Arial"/>
              </a:rPr>
              <a:t>Особенности игровых технологий</a:t>
            </a:r>
            <a:endParaRPr b="1" lang="en-US" sz="2800" spc="-1" strike="noStrike">
              <a:solidFill>
                <a:srgbClr val="feeb9a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31640" y="1131840"/>
            <a:ext cx="9288720" cy="283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7680" indent="0" algn="just">
              <a:lnSpc>
                <a:spcPct val="97000"/>
              </a:lnSpc>
              <a:spcBef>
                <a:spcPts val="975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3200" spc="-1" strike="noStrike">
                <a:solidFill>
                  <a:srgbClr val="eaeaea"/>
                </a:solidFill>
                <a:latin typeface="Arial Narrow"/>
              </a:rPr>
              <a:t>Все следующие за дошкольным возрастные периоды со своими ведущими видами деятельности (младший школьный возраст - учебная деятельность, средний - общественно полезная, старший школьный возраст - учебно-профессиональная деятельность) не вытесняют игру, а продолжают включать ее в процесс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2519280" y="4140360"/>
            <a:ext cx="4859280" cy="324000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73f4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60520" y="167760"/>
            <a:ext cx="8904240" cy="8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BE" sz="2800" spc="-1" strike="noStrike">
                <a:solidFill>
                  <a:srgbClr val="feeb9a"/>
                </a:solidFill>
                <a:latin typeface="Arial"/>
              </a:rPr>
              <a:t>ИГРОВЫЕ ТЕХНОЛОГИИ В СРЕДНЕМ И СТАРШЕМ ШКОЛЬНОМ ВОЗРАСТЕ</a:t>
            </a:r>
            <a:endParaRPr b="1" lang="en-US" sz="2800" spc="-1" strike="noStrike">
              <a:solidFill>
                <a:srgbClr val="feeb9a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15640" y="1242720"/>
            <a:ext cx="9504360" cy="34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 algn="just">
              <a:lnSpc>
                <a:spcPct val="97000"/>
              </a:lnSpc>
              <a:spcBef>
                <a:spcPts val="975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2800" spc="-1" strike="noStrike">
                <a:solidFill>
                  <a:srgbClr val="eaeaea"/>
                </a:solidFill>
                <a:latin typeface="Arial Narrow"/>
              </a:rPr>
              <a:t>В подростковом возрасте наблюдается обострение потребности в создании своего собственного мира, в стремлении к взрослости, бурное развитие воображения, фантазии, появление стихийных групповых игр.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marL="341280" indent="0" algn="just">
              <a:lnSpc>
                <a:spcPct val="100000"/>
              </a:lnSpc>
              <a:spcBef>
                <a:spcPts val="975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2800" spc="-1" strike="noStrike">
                <a:solidFill>
                  <a:srgbClr val="eaeaea"/>
                </a:solidFill>
                <a:latin typeface="Arial Narrow"/>
              </a:rPr>
              <a:t>Особенностями игры в старшем школьном возрасте является нацеленность на самоутверждение перед обществом, юмористическая окраска, стремление к розыгрышу, ориентация на речевую деятельность.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4322880" y="4500720"/>
            <a:ext cx="4497120" cy="287964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73f4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60520" y="167760"/>
            <a:ext cx="8904240" cy="8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BE" sz="4900" spc="-1" strike="noStrike">
                <a:solidFill>
                  <a:srgbClr val="feeb9a"/>
                </a:solidFill>
                <a:latin typeface="Arial"/>
              </a:rPr>
              <a:t>Деловая игра</a:t>
            </a:r>
            <a:endParaRPr b="1" lang="en-US" sz="4900" spc="-1" strike="noStrike">
              <a:solidFill>
                <a:srgbClr val="feeb9a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78920" y="899640"/>
            <a:ext cx="9720360" cy="343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 algn="just">
              <a:lnSpc>
                <a:spcPct val="97000"/>
              </a:lnSpc>
              <a:spcBef>
                <a:spcPts val="975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2800" spc="-1" strike="noStrike">
                <a:solidFill>
                  <a:srgbClr val="eaeaea"/>
                </a:solidFill>
                <a:latin typeface="Arial Narrow"/>
              </a:rPr>
              <a:t>Деловая игра используется для решения комплексных задач усвоения нового, закрепления материала, развития творческих способностей, формирования общеучебных умений, дает возможность учащимся понять и изучить учебный материал с различных позиций.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marL="341280" indent="0" algn="just">
              <a:lnSpc>
                <a:spcPct val="100000"/>
              </a:lnSpc>
              <a:spcBef>
                <a:spcPts val="975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2800" spc="-1" strike="noStrike">
                <a:solidFill>
                  <a:srgbClr val="eaeaea"/>
                </a:solidFill>
                <a:latin typeface="Arial Narrow"/>
              </a:rPr>
              <a:t>В учебном процессе применяются различные модификации деловых игр: имитационные, операционные, ролевые игры, деловой театр, психо- и социодрама.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5580000" y="4319640"/>
            <a:ext cx="4319640" cy="302580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73f4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60520" y="167760"/>
            <a:ext cx="8904240" cy="8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BE" sz="4900" spc="-1" strike="noStrike">
                <a:solidFill>
                  <a:srgbClr val="feeb9a"/>
                </a:solidFill>
                <a:latin typeface="Arial"/>
              </a:rPr>
              <a:t>Исполнение ролей</a:t>
            </a:r>
            <a:endParaRPr b="1" lang="en-US" sz="4900" spc="-1" strike="noStrike">
              <a:solidFill>
                <a:srgbClr val="feeb9a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15640" y="1176480"/>
            <a:ext cx="9504360" cy="26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 algn="just">
              <a:lnSpc>
                <a:spcPct val="97000"/>
              </a:lnSpc>
              <a:spcBef>
                <a:spcPts val="975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2800" spc="-1" strike="noStrike">
                <a:solidFill>
                  <a:srgbClr val="eaeaea"/>
                </a:solidFill>
                <a:latin typeface="Arial Narrow"/>
              </a:rPr>
              <a:t>В этих играх отрабатываются тактика поведения, действий, выполнение функций и обязанностей конкретного лица. Для проведения игр с исполнением роли разрабатывается модель-пьеса ситуации, между учащимися распределяются роли с «обязательным содержанием».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3959280" y="3294000"/>
            <a:ext cx="5514840" cy="390708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73f4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60520" y="167760"/>
            <a:ext cx="8904240" cy="8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BE" sz="4900" spc="-1" strike="noStrike">
                <a:solidFill>
                  <a:srgbClr val="feeb9a"/>
                </a:solidFill>
                <a:latin typeface="Arial"/>
              </a:rPr>
              <a:t>“</a:t>
            </a:r>
            <a:r>
              <a:rPr b="1" lang="nl-BE" sz="4900" spc="-1" strike="noStrike">
                <a:solidFill>
                  <a:srgbClr val="feeb9a"/>
                </a:solidFill>
                <a:latin typeface="Arial"/>
              </a:rPr>
              <a:t>Деловой театр”</a:t>
            </a:r>
            <a:endParaRPr b="1" lang="en-US" sz="4900" spc="-1" strike="noStrike">
              <a:solidFill>
                <a:srgbClr val="feeb9a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15640" y="1260000"/>
            <a:ext cx="9504360" cy="539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9840" indent="-339840" algn="just">
              <a:lnSpc>
                <a:spcPct val="97000"/>
              </a:lnSpc>
              <a:spcBef>
                <a:spcPts val="975"/>
              </a:spcBef>
              <a:buSzPct val="100000"/>
              <a:buBlip>
                <a:blip r:embed="rId1"/>
              </a:buBlip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2800" spc="-1" strike="noStrike">
                <a:solidFill>
                  <a:srgbClr val="eaeaea"/>
                </a:solidFill>
                <a:latin typeface="Arial Narrow"/>
              </a:rPr>
              <a:t>В нем разыгрывается какая-либо ситуация, поведение человека в этой обстановке. Здесь школьник должен мобилизовать весь свой опыт, знания, навыки, суметь вжиться в образ определенного лица, понять его действия, оценить обстановку и найти правильную линию поведения. Основная задача метода инсценировки - научить подростка ориентироваться в различных обстоятельствах, давать объективную оценку своему поведению, учитывать возможности других людей, устанавливать с ними контакты, влиять на их интересы, потребности и деятельность, не прибегая к формальным атрибутам власти, к приказу. Для метода инсценировки составляется сценарий, где описываются конкретная ситуация, функции и обязанности действующих лиц, их задачи.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p:transition spd="med"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73f4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60520" y="167760"/>
            <a:ext cx="8904240" cy="8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BE" sz="4900" spc="-1" strike="noStrike">
                <a:solidFill>
                  <a:srgbClr val="feeb9a"/>
                </a:solidFill>
                <a:latin typeface="Arial"/>
              </a:rPr>
              <a:t>Психодрама и социодрама.</a:t>
            </a:r>
            <a:endParaRPr b="1" lang="en-US" sz="4900" spc="-1" strike="noStrike">
              <a:solidFill>
                <a:srgbClr val="feeb9a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95280" y="1176480"/>
            <a:ext cx="8964720" cy="26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 algn="just">
              <a:lnSpc>
                <a:spcPct val="97000"/>
              </a:lnSpc>
              <a:spcBef>
                <a:spcPts val="975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2800" spc="-1" strike="noStrike">
                <a:solidFill>
                  <a:srgbClr val="eaeaea"/>
                </a:solidFill>
                <a:latin typeface="Arial Narrow"/>
              </a:rPr>
              <a:t>Они весьма близки к «исполнению ролей» и «деловому театру». Это тоже «театр», но уже социально-психологический, в котором отрабатывается умение чувствовать ситуацию в коллективе, оценивать и изменять состояние другого человека, умение войти с ним в продуктивный контакт.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500720" y="3419640"/>
            <a:ext cx="4857480" cy="404784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73f4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816120" y="179280"/>
            <a:ext cx="8904240" cy="68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4800" spc="-1" strike="noStrike">
                <a:solidFill>
                  <a:srgbClr val="eaeaea"/>
                </a:solidFill>
                <a:latin typeface="Arial Narrow"/>
                <a:ea typeface="msmincho"/>
              </a:rPr>
              <a:t>СПАСИБО ЗА ВНИМАНИЕ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73f4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539640" y="360000"/>
            <a:ext cx="9180720" cy="660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 algn="just">
              <a:lnSpc>
                <a:spcPct val="97000"/>
              </a:lnSpc>
              <a:spcBef>
                <a:spcPts val="975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2800" spc="-1" strike="noStrike">
                <a:solidFill>
                  <a:srgbClr val="eaeaea"/>
                </a:solidFill>
                <a:latin typeface="Arial Narrow"/>
              </a:rPr>
              <a:t>По определению, </a:t>
            </a:r>
            <a:r>
              <a:rPr b="1" lang="nl-BE" sz="2800" spc="-1" strike="noStrike">
                <a:solidFill>
                  <a:srgbClr val="eaeaea"/>
                </a:solidFill>
                <a:latin typeface="Arial Narrow"/>
              </a:rPr>
              <a:t>игра</a:t>
            </a:r>
            <a:r>
              <a:rPr b="0" lang="nl-BE" sz="2800" spc="-1" strike="noStrike">
                <a:solidFill>
                  <a:srgbClr val="eaeaea"/>
                </a:solidFill>
                <a:latin typeface="Arial Narrow"/>
              </a:rPr>
              <a:t> - это вид деятельности в условиях ситуаций, направленных на воссоздание и усвоение общественного опыта, в котором складывается и совершенствуется самоуправление поведением.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marL="341280" indent="0" algn="just">
              <a:lnSpc>
                <a:spcPct val="100000"/>
              </a:lnSpc>
              <a:spcBef>
                <a:spcPts val="975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BE" sz="2800" spc="-1" strike="noStrike">
                <a:solidFill>
                  <a:srgbClr val="eaeaea"/>
                </a:solidFill>
                <a:latin typeface="Arial Narrow"/>
              </a:rPr>
              <a:t>Функции</a:t>
            </a:r>
            <a:r>
              <a:rPr b="0" lang="nl-BE" sz="2800" spc="-1" strike="noStrike">
                <a:solidFill>
                  <a:srgbClr val="eaeaea"/>
                </a:solidFill>
                <a:latin typeface="Arial Narrow"/>
              </a:rPr>
              <a:t> игровой деятельности: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marL="341280" indent="-339840" algn="just">
              <a:lnSpc>
                <a:spcPct val="100000"/>
              </a:lnSpc>
              <a:spcBef>
                <a:spcPts val="975"/>
              </a:spcBef>
              <a:buSzPct val="100000"/>
              <a:buBlip>
                <a:blip r:embed="rId1"/>
              </a:buBlip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2800" spc="-1" strike="noStrike">
                <a:solidFill>
                  <a:srgbClr val="eaeaea"/>
                </a:solidFill>
                <a:latin typeface="Arial Narrow"/>
              </a:rPr>
              <a:t>Развлекательная;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marL="341280" indent="-339840" algn="just">
              <a:lnSpc>
                <a:spcPct val="100000"/>
              </a:lnSpc>
              <a:spcBef>
                <a:spcPts val="975"/>
              </a:spcBef>
              <a:buSzPct val="100000"/>
              <a:buBlip>
                <a:blip r:embed="rId2"/>
              </a:buBlip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2800" spc="-1" strike="noStrike">
                <a:solidFill>
                  <a:srgbClr val="eaeaea"/>
                </a:solidFill>
                <a:latin typeface="Arial Narrow"/>
              </a:rPr>
              <a:t>Коммуникативная;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marL="341280" indent="-339840" algn="just">
              <a:lnSpc>
                <a:spcPct val="100000"/>
              </a:lnSpc>
              <a:spcBef>
                <a:spcPts val="975"/>
              </a:spcBef>
              <a:buSzPct val="100000"/>
              <a:buBlip>
                <a:blip r:embed="rId3"/>
              </a:buBlip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2800" spc="-1" strike="noStrike">
                <a:solidFill>
                  <a:srgbClr val="eaeaea"/>
                </a:solidFill>
                <a:latin typeface="Arial Narrow"/>
              </a:rPr>
              <a:t>Самореализация;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marL="341280" indent="-339840" algn="just">
              <a:lnSpc>
                <a:spcPct val="100000"/>
              </a:lnSpc>
              <a:spcBef>
                <a:spcPts val="975"/>
              </a:spcBef>
              <a:buSzPct val="100000"/>
              <a:buBlip>
                <a:blip r:embed="rId4"/>
              </a:buBlip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2800" spc="-1" strike="noStrike">
                <a:solidFill>
                  <a:srgbClr val="eaeaea"/>
                </a:solidFill>
                <a:latin typeface="Arial Narrow"/>
              </a:rPr>
              <a:t>Игротерапевтическая;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marL="341280" indent="-339840" algn="just">
              <a:lnSpc>
                <a:spcPct val="100000"/>
              </a:lnSpc>
              <a:spcBef>
                <a:spcPts val="975"/>
              </a:spcBef>
              <a:buSzPct val="100000"/>
              <a:buBlip>
                <a:blip r:embed="rId5"/>
              </a:buBlip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2800" spc="-1" strike="noStrike">
                <a:solidFill>
                  <a:srgbClr val="eaeaea"/>
                </a:solidFill>
                <a:latin typeface="Arial Narrow"/>
              </a:rPr>
              <a:t>Диогнастическая;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marL="341280" indent="-339840" algn="just">
              <a:lnSpc>
                <a:spcPct val="100000"/>
              </a:lnSpc>
              <a:spcBef>
                <a:spcPts val="975"/>
              </a:spcBef>
              <a:buSzPct val="100000"/>
              <a:buBlip>
                <a:blip r:embed="rId6"/>
              </a:buBlip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2800" spc="-1" strike="noStrike">
                <a:solidFill>
                  <a:srgbClr val="eaeaea"/>
                </a:solidFill>
                <a:latin typeface="Arial Narrow"/>
              </a:rPr>
              <a:t>Функция коррекции;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marL="341280" indent="-339840" algn="just">
              <a:lnSpc>
                <a:spcPct val="100000"/>
              </a:lnSpc>
              <a:spcBef>
                <a:spcPts val="975"/>
              </a:spcBef>
              <a:buSzPct val="100000"/>
              <a:buBlip>
                <a:blip r:embed="rId7"/>
              </a:buBlip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2800" spc="-1" strike="noStrike">
                <a:solidFill>
                  <a:srgbClr val="eaeaea"/>
                </a:solidFill>
                <a:latin typeface="Arial Narrow"/>
              </a:rPr>
              <a:t>Межнациональная коммуникация;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marL="341280" indent="-339840" algn="just">
              <a:lnSpc>
                <a:spcPct val="100000"/>
              </a:lnSpc>
              <a:spcBef>
                <a:spcPts val="975"/>
              </a:spcBef>
              <a:buSzPct val="100000"/>
              <a:buBlip>
                <a:blip r:embed="rId8"/>
              </a:buBlip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2800" spc="-1" strike="noStrike">
                <a:solidFill>
                  <a:srgbClr val="eaeaea"/>
                </a:solidFill>
                <a:latin typeface="Arial Narrow"/>
              </a:rPr>
              <a:t>Социализация.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p:transition spd="med"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73f4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360360" y="465120"/>
            <a:ext cx="9360000" cy="28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9840" indent="-339840" algn="just">
              <a:lnSpc>
                <a:spcPct val="97000"/>
              </a:lnSpc>
              <a:spcBef>
                <a:spcPts val="975"/>
              </a:spcBef>
              <a:buSzPct val="100000"/>
              <a:buBlip>
                <a:blip r:embed="rId1"/>
              </a:buBlip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2800" spc="-1" strike="noStrike">
                <a:solidFill>
                  <a:srgbClr val="eaeaea"/>
                </a:solidFill>
                <a:latin typeface="Arial Narrow"/>
              </a:rPr>
              <a:t>В структуру игры как деятельности органично входит целеполагание, планирование, реализация цели, а также анализ результатов, в которых личность полностью реализует себя как субъект. Мотивация игровой деятельности обеспечивается ее добровольностью, возможностями выбора и элементами соревновательности, удовлетворения потребности в самоутверждении, самореализации.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06" name=""/>
          <p:cNvSpPr/>
          <p:nvPr/>
        </p:nvSpPr>
        <p:spPr>
          <a:xfrm>
            <a:off x="360360" y="3695760"/>
            <a:ext cx="9360000" cy="260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39840" indent="-339840" algn="just">
              <a:lnSpc>
                <a:spcPct val="97000"/>
              </a:lnSpc>
              <a:spcBef>
                <a:spcPts val="975"/>
              </a:spcBef>
              <a:buSzPct val="100000"/>
              <a:buBlip>
                <a:blip r:embed="rId2"/>
              </a:buBlip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2800" spc="-1" strike="noStrike">
                <a:solidFill>
                  <a:srgbClr val="eaeaea"/>
                </a:solidFill>
                <a:latin typeface="Arial Narrow"/>
                <a:ea typeface="msmincho"/>
              </a:rPr>
              <a:t>В структуру игры как процесса входят: а) роли, взятые на себя играющими; б) игровые действия как средство реализации этих ролей; в) игровое употребление предметов, т.е. замещение реальных вещей игровыми, условными; г) реальные отношения между играющими; д) сюжет (содержание) - область действительности, условно воспроизводимая в игр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73f4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360360" y="539280"/>
            <a:ext cx="9539280" cy="63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 algn="just">
              <a:lnSpc>
                <a:spcPct val="97000"/>
              </a:lnSpc>
              <a:spcBef>
                <a:spcPts val="975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2800" spc="-1" strike="noStrike">
                <a:solidFill>
                  <a:srgbClr val="eaeaea"/>
                </a:solidFill>
                <a:latin typeface="Arial Narrow"/>
              </a:rPr>
              <a:t>Игру как </a:t>
            </a:r>
            <a:r>
              <a:rPr b="1" lang="nl-BE" sz="2800" spc="-1" strike="noStrike">
                <a:solidFill>
                  <a:srgbClr val="eaeaea"/>
                </a:solidFill>
                <a:latin typeface="Arial Narrow"/>
              </a:rPr>
              <a:t>метод обучения</a:t>
            </a:r>
            <a:r>
              <a:rPr b="0" lang="nl-BE" sz="2800" spc="-1" strike="noStrike">
                <a:solidFill>
                  <a:srgbClr val="eaeaea"/>
                </a:solidFill>
                <a:latin typeface="Arial Narrow"/>
              </a:rPr>
              <a:t>, передачи опыта старших поколений младшим люди использовали с древности. Широкое применение игра находит в народной педагогике, в дошкольных и внешкольных учреждениях. В современной школе, делающей ставку на активизацию и интенсификацию учебного процесса, игровая деятельность используется в следующих случаях: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marL="341280" indent="-339840" algn="just">
              <a:lnSpc>
                <a:spcPct val="100000"/>
              </a:lnSpc>
              <a:spcBef>
                <a:spcPts val="975"/>
              </a:spcBef>
              <a:buSzPct val="100000"/>
              <a:buBlip>
                <a:blip r:embed="rId1"/>
              </a:buBlip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2800" spc="-1" strike="noStrike">
                <a:solidFill>
                  <a:srgbClr val="eaeaea"/>
                </a:solidFill>
                <a:latin typeface="Arial Narrow"/>
              </a:rPr>
              <a:t>— </a:t>
            </a:r>
            <a:r>
              <a:rPr b="0" lang="nl-BE" sz="2800" spc="-1" strike="noStrike">
                <a:solidFill>
                  <a:srgbClr val="eaeaea"/>
                </a:solidFill>
                <a:latin typeface="Arial Narrow"/>
              </a:rPr>
              <a:t>в качестве самостоятельных технологий для освоения понятия, темы и даже раздела учебного предмета;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marL="341280" indent="-339840" algn="just">
              <a:lnSpc>
                <a:spcPct val="100000"/>
              </a:lnSpc>
              <a:spcBef>
                <a:spcPts val="975"/>
              </a:spcBef>
              <a:buSzPct val="100000"/>
              <a:buBlip>
                <a:blip r:embed="rId2"/>
              </a:buBlip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2800" spc="-1" strike="noStrike">
                <a:solidFill>
                  <a:srgbClr val="eaeaea"/>
                </a:solidFill>
                <a:latin typeface="Arial Narrow"/>
              </a:rPr>
              <a:t>— </a:t>
            </a:r>
            <a:r>
              <a:rPr b="0" lang="nl-BE" sz="2800" spc="-1" strike="noStrike">
                <a:solidFill>
                  <a:srgbClr val="eaeaea"/>
                </a:solidFill>
                <a:latin typeface="Arial Narrow"/>
              </a:rPr>
              <a:t>как элементы (иногда весьма существенные) более обширной технологии;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marL="341280" indent="-339840" algn="just">
              <a:lnSpc>
                <a:spcPct val="100000"/>
              </a:lnSpc>
              <a:spcBef>
                <a:spcPts val="975"/>
              </a:spcBef>
              <a:buSzPct val="100000"/>
              <a:buBlip>
                <a:blip r:embed="rId3"/>
              </a:buBlip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2800" spc="-1" strike="noStrike">
                <a:solidFill>
                  <a:srgbClr val="eaeaea"/>
                </a:solidFill>
                <a:latin typeface="Arial Narrow"/>
              </a:rPr>
              <a:t>— </a:t>
            </a:r>
            <a:r>
              <a:rPr b="0" lang="nl-BE" sz="2800" spc="-1" strike="noStrike">
                <a:solidFill>
                  <a:srgbClr val="eaeaea"/>
                </a:solidFill>
                <a:latin typeface="Arial Narrow"/>
              </a:rPr>
              <a:t>в качестве урока (занятия) или его части (введения, объяснения, закрепления, упражнения, контроля);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marL="341280" indent="-339840" algn="just">
              <a:lnSpc>
                <a:spcPct val="100000"/>
              </a:lnSpc>
              <a:spcBef>
                <a:spcPts val="975"/>
              </a:spcBef>
              <a:buSzPct val="100000"/>
              <a:buBlip>
                <a:blip r:embed="rId4"/>
              </a:buBlip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2800" spc="-1" strike="noStrike">
                <a:solidFill>
                  <a:srgbClr val="eaeaea"/>
                </a:solidFill>
                <a:latin typeface="Arial Narrow"/>
              </a:rPr>
              <a:t>— </a:t>
            </a:r>
            <a:r>
              <a:rPr b="0" lang="nl-BE" sz="2800" spc="-1" strike="noStrike">
                <a:solidFill>
                  <a:srgbClr val="eaeaea"/>
                </a:solidFill>
                <a:latin typeface="Arial Narrow"/>
              </a:rPr>
              <a:t>как технологии внеклассной работы (игры типа «Зарница», «Орленок», КТД и др.).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p:transition spd="med"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73f4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612720" y="1439640"/>
            <a:ext cx="8928000" cy="391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9840" indent="-339840" algn="just">
              <a:lnSpc>
                <a:spcPct val="97000"/>
              </a:lnSpc>
              <a:spcBef>
                <a:spcPts val="975"/>
              </a:spcBef>
              <a:buSzPct val="100000"/>
              <a:buBlip>
                <a:blip r:embed="rId1"/>
              </a:buBlip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2800" spc="-1" strike="noStrike">
                <a:solidFill>
                  <a:srgbClr val="eaeaea"/>
                </a:solidFill>
                <a:latin typeface="Arial Narrow"/>
              </a:rPr>
              <a:t>Понятие «игровые педагогические технологии» включает достаточно обширную группу методов и приемов организации педагогического процесса в форме различных педагогических игр.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marL="339840" indent="-339840" algn="just">
              <a:lnSpc>
                <a:spcPct val="100000"/>
              </a:lnSpc>
              <a:spcBef>
                <a:spcPts val="975"/>
              </a:spcBef>
              <a:buSzPct val="100000"/>
              <a:buBlip>
                <a:blip r:embed="rId2"/>
              </a:buBlip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2800" spc="-1" strike="noStrike">
                <a:solidFill>
                  <a:srgbClr val="eaeaea"/>
                </a:solidFill>
                <a:latin typeface="Arial Narrow"/>
              </a:rPr>
              <a:t>В отличие от игр вообще педагогическая игра обладает существенным признаком - четко поставленной целью обучения и соответствующим ей педагогическим результатом, которые могут быть обоснованы, выделены в явном виде и характеризуются учебно-познавательной направленностью.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p:transition spd="med"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73f4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60520" y="167760"/>
            <a:ext cx="8904240" cy="8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BE" sz="3200" spc="-1" strike="noStrike">
                <a:solidFill>
                  <a:srgbClr val="feeb9a"/>
                </a:solidFill>
                <a:latin typeface="Arial"/>
              </a:rPr>
              <a:t>Виды педагогических игр:</a:t>
            </a:r>
            <a:endParaRPr b="1" lang="en-US" sz="3200" spc="-1" strike="noStrike">
              <a:solidFill>
                <a:srgbClr val="feeb9a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60360" y="899640"/>
            <a:ext cx="9468000" cy="63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9840" indent="-339840">
              <a:lnSpc>
                <a:spcPct val="97000"/>
              </a:lnSpc>
              <a:spcBef>
                <a:spcPts val="975"/>
              </a:spcBef>
              <a:buSzPct val="100000"/>
              <a:buBlip>
                <a:blip r:embed="rId1"/>
              </a:buBlip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2800" spc="-1" strike="noStrike">
                <a:solidFill>
                  <a:srgbClr val="eaeaea"/>
                </a:solidFill>
                <a:latin typeface="Arial Narrow"/>
              </a:rPr>
              <a:t>По области деятельности: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marL="339840" indent="0">
              <a:lnSpc>
                <a:spcPct val="100000"/>
              </a:lnSpc>
              <a:spcBef>
                <a:spcPts val="975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2800" spc="-1" strike="noStrike">
                <a:solidFill>
                  <a:srgbClr val="eaeaea"/>
                </a:solidFill>
                <a:latin typeface="Arial Narrow"/>
              </a:rPr>
              <a:t>-Физические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marL="339840" indent="0">
              <a:lnSpc>
                <a:spcPct val="100000"/>
              </a:lnSpc>
              <a:spcBef>
                <a:spcPts val="975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2800" spc="-1" strike="noStrike">
                <a:solidFill>
                  <a:srgbClr val="eaeaea"/>
                </a:solidFill>
                <a:latin typeface="Arial Narrow"/>
              </a:rPr>
              <a:t>-Интеллектуальные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marL="339840" indent="0">
              <a:lnSpc>
                <a:spcPct val="100000"/>
              </a:lnSpc>
              <a:spcBef>
                <a:spcPts val="975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2800" spc="-1" strike="noStrike">
                <a:solidFill>
                  <a:srgbClr val="eaeaea"/>
                </a:solidFill>
                <a:latin typeface="Arial Narrow"/>
              </a:rPr>
              <a:t>-Трудовые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marL="339840" indent="0">
              <a:lnSpc>
                <a:spcPct val="100000"/>
              </a:lnSpc>
              <a:spcBef>
                <a:spcPts val="975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2800" spc="-1" strike="noStrike">
                <a:solidFill>
                  <a:srgbClr val="eaeaea"/>
                </a:solidFill>
                <a:latin typeface="Arial Narrow"/>
              </a:rPr>
              <a:t>-Социальные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marL="339840" indent="0">
              <a:lnSpc>
                <a:spcPct val="100000"/>
              </a:lnSpc>
              <a:spcBef>
                <a:spcPts val="975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2800" spc="-1" strike="noStrike">
                <a:solidFill>
                  <a:srgbClr val="eaeaea"/>
                </a:solidFill>
                <a:latin typeface="Arial Narrow"/>
              </a:rPr>
              <a:t>-Психологические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marL="339840" indent="-339840">
              <a:lnSpc>
                <a:spcPct val="100000"/>
              </a:lnSpc>
              <a:spcBef>
                <a:spcPts val="975"/>
              </a:spcBef>
              <a:buSzPct val="100000"/>
              <a:buBlip>
                <a:blip r:embed="rId2"/>
              </a:buBlip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2800" spc="-1" strike="noStrike">
                <a:solidFill>
                  <a:srgbClr val="eaeaea"/>
                </a:solidFill>
                <a:latin typeface="Arial Narrow"/>
              </a:rPr>
              <a:t>По характеру педагогического процесса: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marL="339840" indent="0">
              <a:lnSpc>
                <a:spcPct val="100000"/>
              </a:lnSpc>
              <a:spcBef>
                <a:spcPts val="975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2800" spc="-1" strike="noStrike">
                <a:solidFill>
                  <a:srgbClr val="eaeaea"/>
                </a:solidFill>
                <a:latin typeface="Arial Narrow"/>
              </a:rPr>
              <a:t>-Обучающие, тренинговые, контролирующие, обобщающие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marL="339840" indent="0">
              <a:lnSpc>
                <a:spcPct val="100000"/>
              </a:lnSpc>
              <a:spcBef>
                <a:spcPts val="975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2800" spc="-1" strike="noStrike">
                <a:solidFill>
                  <a:srgbClr val="eaeaea"/>
                </a:solidFill>
                <a:latin typeface="Arial Narrow"/>
              </a:rPr>
              <a:t>-Познавательные, воспитательные, развивающие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marL="339840" indent="0">
              <a:lnSpc>
                <a:spcPct val="100000"/>
              </a:lnSpc>
              <a:spcBef>
                <a:spcPts val="975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2800" spc="-1" strike="noStrike">
                <a:solidFill>
                  <a:srgbClr val="eaeaea"/>
                </a:solidFill>
                <a:latin typeface="Arial Narrow"/>
              </a:rPr>
              <a:t>-Репродуктивные, продуктивные, творческие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marL="339840" indent="0">
              <a:lnSpc>
                <a:spcPct val="100000"/>
              </a:lnSpc>
              <a:spcBef>
                <a:spcPts val="975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2800" spc="-1" strike="noStrike">
                <a:solidFill>
                  <a:srgbClr val="eaeaea"/>
                </a:solidFill>
                <a:latin typeface="Arial Narrow"/>
              </a:rPr>
              <a:t>-Коммуникативные, диагностические, профориентационные, психотехнические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p:transition spd="med"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73f4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539280" y="455400"/>
            <a:ext cx="9107640" cy="664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9840" indent="-339840">
              <a:lnSpc>
                <a:spcPct val="97000"/>
              </a:lnSpc>
              <a:spcBef>
                <a:spcPts val="975"/>
              </a:spcBef>
              <a:buSzPct val="100000"/>
              <a:buBlip>
                <a:blip r:embed="rId1"/>
              </a:buBlip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2800" spc="-1" strike="noStrike">
                <a:solidFill>
                  <a:srgbClr val="eaeaea"/>
                </a:solidFill>
                <a:latin typeface="Arial Narrow"/>
              </a:rPr>
              <a:t>По игровой методике: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marL="339840" indent="0">
              <a:lnSpc>
                <a:spcPct val="100000"/>
              </a:lnSpc>
              <a:spcBef>
                <a:spcPts val="975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2800" spc="-1" strike="noStrike">
                <a:solidFill>
                  <a:srgbClr val="eaeaea"/>
                </a:solidFill>
                <a:latin typeface="Arial Narrow"/>
              </a:rPr>
              <a:t>-Предметные        -Сюжетные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marL="339840" indent="0">
              <a:lnSpc>
                <a:spcPct val="100000"/>
              </a:lnSpc>
              <a:spcBef>
                <a:spcPts val="975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2800" spc="-1" strike="noStrike">
                <a:solidFill>
                  <a:srgbClr val="eaeaea"/>
                </a:solidFill>
                <a:latin typeface="Arial Narrow"/>
              </a:rPr>
              <a:t>-Ролевые               -Деловые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marL="339840" indent="0">
              <a:lnSpc>
                <a:spcPct val="100000"/>
              </a:lnSpc>
              <a:spcBef>
                <a:spcPts val="975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2800" spc="-1" strike="noStrike">
                <a:solidFill>
                  <a:srgbClr val="eaeaea"/>
                </a:solidFill>
                <a:latin typeface="Arial Narrow"/>
              </a:rPr>
              <a:t>-Имитационные    -Драматизации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marL="339840" indent="-339840">
              <a:lnSpc>
                <a:spcPct val="100000"/>
              </a:lnSpc>
              <a:spcBef>
                <a:spcPts val="975"/>
              </a:spcBef>
              <a:buSzPct val="100000"/>
              <a:buBlip>
                <a:blip r:embed="rId2"/>
              </a:buBlip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2800" spc="-1" strike="noStrike">
                <a:solidFill>
                  <a:srgbClr val="eaeaea"/>
                </a:solidFill>
                <a:latin typeface="Arial Narrow"/>
              </a:rPr>
              <a:t>По передметной области: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marL="339840" indent="0">
              <a:lnSpc>
                <a:spcPct val="100000"/>
              </a:lnSpc>
              <a:spcBef>
                <a:spcPts val="975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2800" spc="-1" strike="noStrike">
                <a:solidFill>
                  <a:srgbClr val="eaeaea"/>
                </a:solidFill>
                <a:latin typeface="Arial Narrow"/>
              </a:rPr>
              <a:t>-Математические, химические, биологические, физические, экологические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marL="339840" indent="0">
              <a:lnSpc>
                <a:spcPct val="100000"/>
              </a:lnSpc>
              <a:spcBef>
                <a:spcPts val="975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2800" spc="-1" strike="noStrike">
                <a:solidFill>
                  <a:srgbClr val="eaeaea"/>
                </a:solidFill>
                <a:latin typeface="Arial Narrow"/>
              </a:rPr>
              <a:t>-Музыкальные, театральные, литературные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marL="339840" indent="0">
              <a:lnSpc>
                <a:spcPct val="100000"/>
              </a:lnSpc>
              <a:spcBef>
                <a:spcPts val="975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2800" spc="-1" strike="noStrike">
                <a:solidFill>
                  <a:srgbClr val="eaeaea"/>
                </a:solidFill>
                <a:latin typeface="Arial Narrow"/>
              </a:rPr>
              <a:t>-Трудовые, технические, производственные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marL="339840" indent="0">
              <a:lnSpc>
                <a:spcPct val="100000"/>
              </a:lnSpc>
              <a:spcBef>
                <a:spcPts val="975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2800" spc="-1" strike="noStrike">
                <a:solidFill>
                  <a:srgbClr val="eaeaea"/>
                </a:solidFill>
                <a:latin typeface="Arial Narrow"/>
              </a:rPr>
              <a:t>-Физкультурные, спортивные, военно-прикладные, туристические, народные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marL="339840" indent="0">
              <a:lnSpc>
                <a:spcPct val="100000"/>
              </a:lnSpc>
              <a:spcBef>
                <a:spcPts val="975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2800" spc="-1" strike="noStrike">
                <a:solidFill>
                  <a:srgbClr val="eaeaea"/>
                </a:solidFill>
                <a:latin typeface="Arial Narrow"/>
              </a:rPr>
              <a:t>-Обществоведческие, управленческие, экономические, коммерческие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p:transition spd="med"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73f4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720720" y="2255760"/>
            <a:ext cx="8928000" cy="26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9840" indent="-339840">
              <a:lnSpc>
                <a:spcPct val="97000"/>
              </a:lnSpc>
              <a:spcBef>
                <a:spcPts val="975"/>
              </a:spcBef>
              <a:buSzPct val="100000"/>
              <a:buBlip>
                <a:blip r:embed="rId1"/>
              </a:buBlip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2800" spc="-1" strike="noStrike">
                <a:solidFill>
                  <a:srgbClr val="eaeaea"/>
                </a:solidFill>
                <a:latin typeface="Arial Narrow"/>
              </a:rPr>
              <a:t>По игровой среде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marL="339840" indent="0">
              <a:lnSpc>
                <a:spcPct val="100000"/>
              </a:lnSpc>
              <a:spcBef>
                <a:spcPts val="975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2800" spc="-1" strike="noStrike">
                <a:solidFill>
                  <a:srgbClr val="eaeaea"/>
                </a:solidFill>
                <a:latin typeface="Arial Narrow"/>
              </a:rPr>
              <a:t>-Без предметов – с предметами, настольные, комнатные, уличные, на местности;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marL="339840" indent="0">
              <a:lnSpc>
                <a:spcPct val="100000"/>
              </a:lnSpc>
              <a:spcBef>
                <a:spcPts val="975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2800" spc="-1" strike="noStrike">
                <a:solidFill>
                  <a:srgbClr val="eaeaea"/>
                </a:solidFill>
                <a:latin typeface="Arial Narrow"/>
              </a:rPr>
              <a:t>-Компьютерные, телевизионные;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marL="339840" indent="0">
              <a:lnSpc>
                <a:spcPct val="100000"/>
              </a:lnSpc>
              <a:spcBef>
                <a:spcPts val="975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2800" spc="-1" strike="noStrike">
                <a:solidFill>
                  <a:srgbClr val="eaeaea"/>
                </a:solidFill>
                <a:latin typeface="Arial Narrow"/>
              </a:rPr>
              <a:t>-Технические, со средствами передвижения;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p:transition spd="med"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73f4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60520" y="115560"/>
            <a:ext cx="8904240" cy="94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BE" sz="3200" spc="-1" strike="noStrike">
                <a:solidFill>
                  <a:srgbClr val="feeb9a"/>
                </a:solidFill>
                <a:latin typeface="Arial"/>
              </a:rPr>
              <a:t>Спектр целевых ориентаций в игровых технологиях</a:t>
            </a:r>
            <a:endParaRPr b="1" lang="en-US" sz="3200" spc="-1" strike="noStrike">
              <a:solidFill>
                <a:srgbClr val="feeb9a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1280" y="1800360"/>
            <a:ext cx="9647280" cy="48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9840" indent="-339840" algn="just">
              <a:lnSpc>
                <a:spcPct val="97000"/>
              </a:lnSpc>
              <a:spcBef>
                <a:spcPts val="975"/>
              </a:spcBef>
              <a:buSzPct val="100000"/>
              <a:buBlip>
                <a:blip r:embed="rId1"/>
              </a:buBlip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2800" spc="-1" strike="noStrike">
                <a:solidFill>
                  <a:srgbClr val="eaeaea"/>
                </a:solidFill>
                <a:latin typeface="Arial Narrow"/>
              </a:rPr>
              <a:t>Дидактические: расширение кругозора, познавательная деятельность; применение ЗУН в практической деятельности; формирование определенных умений и навыков, необходимых в практической деятельности; развитие общеучебных умений и навыков; развитие трудовых навыков.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marL="339840" indent="-339840" algn="just">
              <a:lnSpc>
                <a:spcPct val="100000"/>
              </a:lnSpc>
              <a:spcBef>
                <a:spcPts val="975"/>
              </a:spcBef>
              <a:buSzPct val="100000"/>
              <a:buBlip>
                <a:blip r:embed="rId2"/>
              </a:buBlip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2800" spc="-1" strike="noStrike">
                <a:solidFill>
                  <a:srgbClr val="eaeaea"/>
                </a:solidFill>
                <a:latin typeface="Arial Narrow"/>
              </a:rPr>
              <a:t>Воспитывающие: воспитание самостоятельности, воли; формирование определенных подходов, позиций, нравственных, эстетических и мировоззренческих установок; воспитание сотрудничества, коллективизма, общительности, коммуникативности.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marL="339840" indent="0" algn="just">
              <a:lnSpc>
                <a:spcPct val="100000"/>
              </a:lnSpc>
              <a:spcBef>
                <a:spcPts val="975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p:transition spd="med"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17-04-19T16:01:50Z</dcterms:modified>
  <cp:revision>0</cp:revision>
  <dc:subject/>
  <dc:title/>
</cp:coreProperties>
</file>