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7435-7FA4-457B-B2F5-F0A753DBB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7E99-9082-4A3A-8A0A-9671CF9AF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0028-D1AB-4D06-9349-FD1601E0B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008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032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056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252C-F2D7-4303-AF8A-7D522765B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77B6-CEC6-4678-8009-E628BC81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73008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4032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55056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06C9-8FCC-4112-AF8B-9D62B115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D966-9874-4A01-8EFA-FAFBE80F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7424-97D1-4830-891C-A2407E59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E952-2C1D-46B6-84B0-672AE456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90BC-38EA-4268-ABCF-1E2D7C45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AC33-FB45-4566-8526-1B7D85A8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2EDB-5FCA-4C91-AF4B-519570E2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96DBF4-1A2C-4C2D-A962-EA0FBA3B5A0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eb613d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0728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0728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0728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0728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20728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0728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3772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50440" y="184320"/>
            <a:ext cx="9169560" cy="197640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ffff"/>
                </a:solidFill>
                <a:latin typeface="Times New Roman"/>
              </a:rPr>
              <a:t>Здоровьесберегающие технологии, используемые в образовательном процессе</a:t>
            </a: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300360" y="6100920"/>
            <a:ext cx="3762360" cy="145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Царева Юл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руппа 4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619280" y="2340000"/>
            <a:ext cx="5408640" cy="36417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-182520"/>
            <a:ext cx="86086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Принципы здоровьесберегающих технолог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10960" y="968400"/>
            <a:ext cx="9507600" cy="58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нцип «Не навреди!»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нцип сознательности и активност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прерывности здоровьесберегающего процесс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стематичности и последовательност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нцип доступности и индивидуальност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сестороннего и гармонического развития личност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стемного чередования нагрузок и отдых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тепенного наращивания оздоровительных воздействи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зрастной адекватности здоровьесберегающего процесса и д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471320" y="87120"/>
            <a:ext cx="8427960" cy="36925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8000"/>
          </a:bodyPr>
          <a:p>
            <a:pPr marL="42300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ормы занятий, двигательная деятельность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 использованием профилактических методик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 применением функциональной музык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 чередованием занятий с высокой и низкой двигательной активностью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ерез оздоровительные мероприяти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здания здоровьесберегающей сред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19280" y="4140360"/>
            <a:ext cx="558000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-360" y="178920"/>
            <a:ext cx="968868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8000"/>
          </a:bodyPr>
          <a:p>
            <a:pPr marL="42300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лавное условие при этом – доброжелательное отношение к детям. Если к ребенку проявляют искренний интерес – занятия физкультурой для него в радость, и не принципиально где и в какой форме будут проводиться эти занятия. Необходимо чтобы все упражнения выполнялись на позитивной ноте – «Учите играя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тоды здоровьесберегающих технологий: фронтальный, групповой, практический метод, познавательная игра, игровой метод, соревновательный метод, метод индивидуальных занят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80000" y="4140360"/>
            <a:ext cx="5219640" cy="3313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30080" y="639720"/>
            <a:ext cx="8609040" cy="62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Таким образом, здоровьесберегающие технологии можно рассматривать как одну из самых перспективных систем, их применение в работе повысит результативность в образовательном процессе, сформирует у педагогов и родителей ценностные ориентации, направленные на сохранение здоровья и гармоничное развитие воспитанников. Помните, здоровье — это ДАР, который нужно не растрачивать попусту, а сохранять и приумножать начиная с самого ранне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32040" y="615960"/>
            <a:ext cx="8608680" cy="62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024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260360" y="539280"/>
            <a:ext cx="8609040" cy="55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8000"/>
          </a:bodyPr>
          <a:p>
            <a:pPr marL="423000" indent="-317160" algn="just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ормативное определение по данным Всемирной организацией здравоохранения, согласно которому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здоровь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— это состояние полного физического, психического и социального благополучия, а не только отсутствие болезней или физических дефект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 algn="just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Здоровьесберегающие технологи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− это технологии, направленные на решение задачи сохранения, поддержания и обогащения здоровья субъектов педагогического процесса: детей, педагогов и родител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292040" y="2408400"/>
            <a:ext cx="860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7000"/>
          </a:bodyPr>
          <a:p>
            <a:pPr marL="418680" indent="-313920" algn="just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Цель здоровьесберегающих технологий: обеспечить школьнику возможность сохранения здоровья, сформировать у него необходимые знания, умения, навыки по здоровому образу жизн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292040" y="431640"/>
            <a:ext cx="8608680" cy="640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7000"/>
          </a:bodyPr>
          <a:p>
            <a:pPr marL="41868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менение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доровьесберегающих технологий актуально в случаях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8680" indent="-313920" algn="just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иподинамии (нарушения функций опорно-двигательного аппарата, кровообращения, дыхания, пищеварения, нарушения зрения и т.п.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8680" indent="-313920" algn="just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тских стрессов (нервных расстройств вследствие отрицательной психологической обстановки в семье, излишнего шума и нервности в детском коллективе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8680" indent="-313920" algn="just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ревожности (недостатка эмоциональной поддержки в школьном учреждении и семье, недостатка информации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79280" y="178920"/>
            <a:ext cx="9539280" cy="67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8000"/>
          </a:bodyPr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лассификация здоровьесберегающих технологий определяется по доминированию целей и решаемых задач, а также ведущих средств здоровьесбережения и здоровьеобогащения. Можно выделить следующие виды здоровьесберегающих технологий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едико-профилактические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изкультурно-оздоровительные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хнологии обеспечения социально-психологического благополучия ребенка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алеологическое просвещение детей и родителей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доровьесберегающие образовательные технологии или просто образовательны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-360" y="703440"/>
            <a:ext cx="5040360" cy="640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8000"/>
          </a:bodyPr>
          <a:p>
            <a:pPr marL="42300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доровьесберегающие технологии, используемые в образовательном процессе,, делятся на 3 направления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Технологии стимулирования и сохранения здоровь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Технологии обучения здоровому образу жизн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Коррекционные технолог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80000" y="2160720"/>
            <a:ext cx="5040360" cy="34192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0600" y="122400"/>
            <a:ext cx="968868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ffff"/>
                </a:solidFill>
                <a:latin typeface="Times New Roman"/>
              </a:rPr>
              <a:t>1. Технологии стимулирования и сохранения здоровья</a:t>
            </a: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10960" y="1440000"/>
            <a:ext cx="9507600" cy="60084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8000"/>
          </a:bodyPr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вижные и спортивные игр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лаксац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имнастика пальчикова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имнастика для глаз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имнастика дыхательна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имнастика корригирующая или иначе лечебная (исправляющая) гимнасти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имнастика ортопедическа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изкультминут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инамические пауз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хнологии технической направлен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8920" y="-179640"/>
            <a:ext cx="972036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Технологии обучения здоровому образу жизни. К ним относятся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8920" y="928440"/>
            <a:ext cx="9720360" cy="645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 fontScale="98000"/>
          </a:bodyPr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Физкультурное занятие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Утренняя гимнастика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Гимнастика после сна, или иначе ее называют бодрящая гимнастика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Массаж и самомассаж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Точечный самомассаж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ктивный отдых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портивные развлечения, праздник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День здоровья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МИ (ситуативные малые игры – ролевая подражательная имитационная игра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роблемно-игровые (игротреннинги и / или игротерапия) и игры различного характер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0720" y="303120"/>
            <a:ext cx="86090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ffff"/>
                </a:solidFill>
                <a:latin typeface="Times New Roman"/>
              </a:rPr>
              <a:t>3. Коррекционные технологии. К ним относятся:</a:t>
            </a: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0360" y="2331720"/>
            <a:ext cx="950760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7000"/>
          </a:bodyPr>
          <a:p>
            <a:pPr marL="418680" indent="-31392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) Технологии музыкального воздейств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8680" indent="-31392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) Артикуляционная гимнасти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8680" indent="-31392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) Сказкотерап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8680" indent="-31392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) Библиотерап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8680" indent="-31392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5) Психогимнасти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8680" indent="-31392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6) Фонетическая ритми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7-04-19T17:06:43Z</dcterms:modified>
  <cp:revision>0</cp:revision>
  <dc:subject/>
  <dc:title/>
</cp:coreProperties>
</file>