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393-0784-4FBA-B3A5-02E7DFE3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FD6-CE7A-458A-97E5-68BFD7C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70E-ED5E-4367-8693-23C663ED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447-9236-4FC7-8EA6-EE594B4E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44B-2E31-4892-B337-89ADB8F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2C0-919F-417E-B6F8-130543FB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AFF-44D9-4D65-8DC4-AB1D684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9B3-BFCE-475A-9BFD-FC607614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DFA-EFCB-4B7C-8EA3-FA51BF5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959-CB1E-43DE-8271-9CAF597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694-405C-4CC9-9B48-9CD965B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490-F6AF-48CB-900A-FCF80D2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63123-5D16-4E93-BBA3-17F82D387D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0440" y="184320"/>
            <a:ext cx="916956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, используемые в образовательном процессе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360" y="6100920"/>
            <a:ext cx="376236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арева Ю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уппа 4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40864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-18252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ринципы здоровьесберегающих технолог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0960" y="968400"/>
            <a:ext cx="950760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«Не навреди!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сознательности и актив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прерывности здоровьесберегающего процес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тичности и последова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доступности и индивидуа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стороннего и гармонического развития лич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ного чередования нагрузок и отдых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епенного наращивания оздоровительных воздейст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ной адекватности здоровьесберегающего процесс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1320" y="87120"/>
            <a:ext cx="8427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ы занятий, двигательная деятельнос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использованием профилактических метод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применением функциональной музы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чередованием занятий с высокой и низкой двигательной активность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з оздоровительные мероприят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я здоровьесберегающе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9280" y="4140360"/>
            <a:ext cx="55800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78920"/>
            <a:ext cx="9688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ое условие при этом – доброжелательное отношение к детям. Если к ребенку проявляют искренний интерес – занятия физкультурой для него в радость, и не принципиально где и в какой форме будут проводиться эти занятия. Необходимо чтобы все упражнения выполнялись на позитивной ноте – «Учите игра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ы здоровьесберегающих технологий: фронтальный, групповой, практический метод, познавательная игра, игровой метод, соревновательный метод, метод индивидуальных зан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0000" y="4140360"/>
            <a:ext cx="521964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0080" y="639720"/>
            <a:ext cx="860904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аким образом, здоровьесберегающие технологии можно рассматривать как одну из самых перспективных систем, их применение в работе повысит результативность в образовательном процессе, сформирует у педагогов и родителей ценностные ориентации, направленные на сохранение здоровья и гармоничное развитие воспитанников. Помните, здоровье — это ДАР, который нужно не растрачивать попусту, а сохранять и приумножать начиная с самого ранне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32040" y="615960"/>
            <a:ext cx="860868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60360" y="539280"/>
            <a:ext cx="860904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ативное определение по данным Всемирной организацией здравоохранения, согласно которому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− это технологии, направленные на решение задачи сохранения, поддержания и обогащения здоровья субъектов педагогического процесса: детей, педагогов и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2040" y="2408400"/>
            <a:ext cx="860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здоровьесберегающих технологий: обеспечить школьнику возможность сохранения здоровья, сформировать у него необходимые знания, умения, навыки по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92040" y="431640"/>
            <a:ext cx="86086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е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х технологий актуально в случа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одинамии (нарушения функций опорно-двигательного аппарата, кровообращения, дыхания, пищеварения, нарушения зрения и т.п.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ских стрессов (нервных расстройств вследствие отрицательной психологической обстановки в семье, излишнего шума и нервности в детском коллектив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вожности (недостатка эмоциональной поддержки в школьном учреждении и семье, недостатка информаци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78920"/>
            <a:ext cx="9539280" cy="67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кация здоровьесберегающих технологий определяется по доминированию целей и решаемых задач, а также ведущих средств здоровьесбережения и здоровьеобогащения. Можно выделить следующие виды здоровьесберегающих технологи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ко-профилактическ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культурно-оздоровительны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и обеспечения социально-психологического благополучия ребен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леологическое просвещение детей и родител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образовательные технологии или просто образовательны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703440"/>
            <a:ext cx="5040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, используемые в образовательном процессе,, делятся на 3 направл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и стимулирования и сохране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ехнологии обучения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оррекционные техноло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0000" y="2160720"/>
            <a:ext cx="504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600" y="122400"/>
            <a:ext cx="9688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1. Технологии стимулирования и сохранения здоровья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0960" y="1440000"/>
            <a:ext cx="9507600" cy="6008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вижные и спортивные иг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лакс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пальчиков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для гла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дыхатель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корригирующая или иначе лечебная (исправляющая) гимнаст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ортопедическ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культмину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намические пау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ологии технической направл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-179640"/>
            <a:ext cx="9720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ехнологии обучения здоровому образу жизни. К ним относя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928440"/>
            <a:ext cx="972036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изкультурное заняти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тренняя гимнаст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мнастика после сна, или иначе ее называют бодрящая гимнаст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ассаж и самомасса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чечный самомасса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ктивный отды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ортивные развлечения, праздн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нь здоровь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МИ (ситуативные малые игры – ролевая подражательная имитационная игра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блемно-игровые (игротреннинги и / или игротерапия) и игры различного характе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3031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3. Коррекционные технологии. К ним относятся: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2331720"/>
            <a:ext cx="95076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Технологии музыкального воздейств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Артикуляционная гимнас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казкотерап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Библиотерап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Психогимнас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Фонетическая ритм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4-19T17:06:43Z</dcterms:modified>
  <cp:revision>0</cp:revision>
  <dc:subject/>
  <dc:title/>
</cp:coreProperties>
</file>