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BE8-CD50-49F1-9145-3D385902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BED-5E82-491A-A8E5-07336DFB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36F-1E51-426C-B935-8AC247A8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856-DD76-49AB-84F5-662A51B1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46A-8B6F-4D9A-9107-64BC845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689-3781-4530-9108-D24B900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E61-AEF6-4D1E-8E6D-013BE74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6E4-1E39-4D7C-A798-7A1808C3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334-F616-4E4C-BA8A-1BA0FD50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B2B-430D-4D92-94E0-FCF2233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98A-BEC9-4010-9421-8AB52BE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0DC-A3FC-4F02-98EF-1D209C3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A41-9177-409D-93D2-7D674B9A9C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900igr.net/datas/fizika/Nasyschennyj-par/0007-007-V-atmosfernom-vozdukhe-vsegda-nakhoditsja-opredeljonnoe-kolichestv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ic.pics.livejournal.com/temirgaleevee/74292366/14327/14327_original.jpg"/>
          <p:cNvPicPr/>
          <p:nvPr/>
        </p:nvPicPr>
        <p:blipFill>
          <a:blip r:embed="rId2"/>
          <a:stretch/>
        </p:blipFill>
        <p:spPr>
          <a:xfrm>
            <a:off x="324000" y="981000"/>
            <a:ext cx="88200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okr-mir.ru/uploads/posts/2016-01/1453213617_1.jpg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okr-mir.ru/uploads/posts/2016-01/1453213664_1-1.jpg"/>
          <p:cNvPicPr/>
          <p:nvPr/>
        </p:nvPicPr>
        <p:blipFill>
          <a:blip r:embed="rId2"/>
          <a:stretch/>
        </p:blipFill>
        <p:spPr>
          <a:xfrm>
            <a:off x="503280" y="1341360"/>
            <a:ext cx="864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okr-mir.ru/uploads/posts/2016-01/1453213616_2.jpg"/>
          <p:cNvPicPr/>
          <p:nvPr/>
        </p:nvPicPr>
        <p:blipFill>
          <a:blip r:embed="rId2"/>
          <a:stretch/>
        </p:blipFill>
        <p:spPr>
          <a:xfrm>
            <a:off x="32400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4:30:33Z</dcterms:created>
  <dc:creator>Валерия</dc:creator>
  <dc:description/>
  <dc:language>en-US</dc:language>
  <cp:lastModifiedBy>Acer</cp:lastModifiedBy>
  <dcterms:modified xsi:type="dcterms:W3CDTF">2017-03-02T16:35:33Z</dcterms:modified>
  <cp:revision>9</cp:revision>
  <dc:subject/>
  <dc:title>Слайд 1</dc:title>
</cp:coreProperties>
</file>