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4D8-8204-4D70-8E10-BA294503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CD01-F6C4-48AC-938B-3CA41BE8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A4A-1A9E-4805-90E8-ABC2AA5B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AD6-B528-4E6A-BF29-70BA4100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4E9-386E-4427-BCD6-F0430A34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8DD-490F-4902-A847-F8FD6A4A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D98-F6BC-49FC-8E38-3997B7AA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D91-52AF-49B8-9C04-4C1FD36F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5DB-5FCD-41D6-8510-3DFEB243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8E0-FEC6-4091-8CBD-2C11EFCD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830-4302-4649-A046-4763C6D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2A4-499C-463B-8596-9A8E1460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E933-A4FE-4B50-A291-1DE5560B90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900igr.net/datas/fizika/Nasyschennyj-par/0007-007-V-atmosfernom-vozdukhe-vsegda-nakhoditsja-opredeljonnoe-kolichestv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ic.pics.livejournal.com/temirgaleevee/74292366/14327/14327_original.jpg"/>
          <p:cNvPicPr/>
          <p:nvPr/>
        </p:nvPicPr>
        <p:blipFill>
          <a:blip r:embed="rId2"/>
          <a:stretch/>
        </p:blipFill>
        <p:spPr>
          <a:xfrm>
            <a:off x="324000" y="981000"/>
            <a:ext cx="88200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okr-mir.ru/uploads/posts/2016-01/1453213617_1.jpg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okr-mir.ru/uploads/posts/2016-01/1453213664_1-1.jpg"/>
          <p:cNvPicPr/>
          <p:nvPr/>
        </p:nvPicPr>
        <p:blipFill>
          <a:blip r:embed="rId2"/>
          <a:stretch/>
        </p:blipFill>
        <p:spPr>
          <a:xfrm>
            <a:off x="503280" y="1341360"/>
            <a:ext cx="8640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okr-mir.ru/uploads/posts/2016-01/1453213616_2.jpg"/>
          <p:cNvPicPr/>
          <p:nvPr/>
        </p:nvPicPr>
        <p:blipFill>
          <a:blip r:embed="rId2"/>
          <a:stretch/>
        </p:blipFill>
        <p:spPr>
          <a:xfrm>
            <a:off x="324000" y="0"/>
            <a:ext cx="85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14:30:33Z</dcterms:created>
  <dc:creator>Валерия</dc:creator>
  <dc:description/>
  <dc:language>en-US</dc:language>
  <cp:lastModifiedBy>Acer</cp:lastModifiedBy>
  <dcterms:modified xsi:type="dcterms:W3CDTF">2017-03-02T16:35:33Z</dcterms:modified>
  <cp:revision>9</cp:revision>
  <dc:subject/>
  <dc:title>Слайд 1</dc:title>
</cp:coreProperties>
</file>