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0AD57-2EC0-4066-B270-84B585B7D6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592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7344F-2499-4312-8CA3-68E3A7F31F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456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04B0C-C6AF-4C05-8EA6-0D1B77AF61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240" y="20174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7520" y="20174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592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240" y="416592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7520" y="416592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49A75-12EE-4B22-9098-4492E47D08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1B877-4353-4A18-BEC8-6B663D73A28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8C0CD-7371-4DC1-8D4E-62BD8FB1C61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7D404-DB16-4D94-8A97-962912903E9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B3F68-A82D-43A0-86BC-32D06A9AA2A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459F9-3FD9-4B55-84A2-98C9CFFF55D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148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E5C81-0B43-4D56-A17D-E9C3EE8BDA0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050FB-23D3-43EE-BD5B-2645A48639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C3EE3-2C28-4729-8D91-F565B3B59D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456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D7F02-377B-4D8A-BF03-D7936801937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7FF17-CE75-488A-96BD-D0284876F75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592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90C7E-218F-4604-8F42-B0FABC67BB4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456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63805-79DB-4744-8E34-ADD3FDC4CA6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240" y="20174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7520" y="20174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592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240" y="416592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7520" y="416592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2B468-0F17-4278-AFED-74834D7D7F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141E3-4D6F-44FD-B4E0-D3A07EBD81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3C0E6-B672-4FEF-97D4-A325EC0A0C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7D84E-8B92-4386-A18E-FB2AD11EE0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148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F7EA2-68AC-4CAB-B717-2DA1F23140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99D25-4D53-4AD1-9D4C-45AC4CDE82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456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60CBC-B048-44D3-8EED-F92B34664C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B9CBA-CAD3-4199-B7BF-5087577D9A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1"/>
          </p:nvPr>
        </p:nvSpPr>
        <p:spPr>
          <a:xfrm>
            <a:off x="7041960" y="624348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65EFB5B-48E0-408C-BC33-9F7D59F588D4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7560" cy="1051200"/>
            <a:chOff x="0" y="2438280"/>
            <a:chExt cx="9007560" cy="105120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09560" cy="473040"/>
              <a:chOff x="290520" y="2546280"/>
              <a:chExt cx="709560" cy="4730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6680" cy="4730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200" y="2546280"/>
                <a:ext cx="326880" cy="4730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6200" cy="473040"/>
              <a:chOff x="414360" y="2968560"/>
              <a:chExt cx="736200" cy="4730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30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360" y="2968560"/>
                <a:ext cx="367200" cy="4730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58720" cy="420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024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1480" cy="5400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"/>
          <p:cNvSpPr/>
          <p:nvPr/>
        </p:nvSpPr>
        <p:spPr>
          <a:xfrm>
            <a:off x="990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Num" idx="2"/>
          </p:nvPr>
        </p:nvSpPr>
        <p:spPr>
          <a:xfrm>
            <a:off x="68576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1C0378-B3DF-4D1D-8A98-F457FEF81695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Эмоции кота Маркиза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сполнитель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ченица 4-а класса МБОУ лицей№2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ихайленко Ев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уководитель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едагог МБОУ ДОД ДЭБЦ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пивненко Т.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Это мой домик. Здесь я отдыхаю и жду Еву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81024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84360" y="1773360"/>
            <a:ext cx="4465440" cy="4464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932360" y="1773360"/>
            <a:ext cx="4211640" cy="44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т и  Ева. Попугая она сделала сама в классе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7417080" cy="470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826920" y="2133720"/>
            <a:ext cx="7272360" cy="43196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амо внимание и любовь, ради тебя, Ева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-338400"/>
            <a:ext cx="779292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1371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пасибо всем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вет от Маркиза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     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Это я, Маркиз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533412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Я породистый и умный кот. Живу в доме у Евы, ученицы 4 класс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на заботливая и хорошая хозяйк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ы любим играть в кошки- мышк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95280" y="2095560"/>
            <a:ext cx="4753080" cy="407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Я получаю  удовольствие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7128000" cy="44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Еще чуть-чуть и она моя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116000" y="1830240"/>
            <a:ext cx="7272360" cy="455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Любопытство у меня в крови от предков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1182600" y="2017800"/>
            <a:ext cx="7772400" cy="42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4897440" cy="453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У, что у вас здесь в кастрюле?..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1182600" y="2017800"/>
            <a:ext cx="4829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187280" y="1844640"/>
            <a:ext cx="669636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Ева, я скучаю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692360" y="2133720"/>
            <a:ext cx="606240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Мне так одиноко и очень плохо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619280" y="1989000"/>
            <a:ext cx="6624720" cy="432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Как я зол, как я зол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258920" y="1989000"/>
            <a:ext cx="6985080" cy="4176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4T17:09:06Z</dcterms:created>
  <dc:creator>Таня</dc:creator>
  <dc:description/>
  <dc:language>en-US</dc:language>
  <cp:lastModifiedBy>Таня</cp:lastModifiedBy>
  <dcterms:modified xsi:type="dcterms:W3CDTF">2013-12-15T15:52:22Z</dcterms:modified>
  <cp:revision>7</cp:revision>
  <dc:subject/>
  <dc:title>Эмоции кота Маркиза.</dc:title>
</cp:coreProperties>
</file>