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1F9A5-7660-4732-968C-3D14C42D6F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A948E-4571-40CE-A562-47D1F74D74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960F3-FEBB-4C45-82A2-B8BE6AB8CF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24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752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24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752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CCADD-C235-4A76-B974-F4DA7C31B8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E5F8D-FD4F-429E-AD66-59A3C69BDB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AF740-1C80-45B9-85E5-0C9FC85B56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61BD1-C8D2-4238-A960-938796A83A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49EE7-5012-4682-953B-17BE6ADF08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46828-EB34-4E78-874A-48C7F20DBC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14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C91D3-5999-4D66-A379-4122B7B355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AC590-D8DA-4DC6-A390-E651E50ED7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C4CEF-9EB2-4C00-9C61-8FF1100201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8CC29-BE2C-497E-9E50-907476FC9B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9F200-0F73-4CA3-930C-9F3EFEE1DB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0D060-01C6-448E-A3A5-74684C7E6C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88CA6-E03B-4236-95AC-19D4874C83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24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752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24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752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AAAA5-2DC5-4933-8046-7F22133D9A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54BAF-9518-4B9E-8915-ADC5366910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1DE82-C150-44E0-8020-6648434C81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CBF45-E950-426B-8800-285C8B2608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14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E8547-3CEF-4183-ABE4-4C52BFF490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C229F-C900-4AAA-BD10-FC9B3A4FF1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A8928-CDA8-4513-B597-251CDBC91E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83204-A9AB-4960-84AB-E88855A429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704196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D083C7-4277-4793-AB82-A0A098288540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7560" cy="1051200"/>
            <a:chOff x="0" y="2438280"/>
            <a:chExt cx="9007560" cy="105120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09560" cy="473040"/>
              <a:chOff x="290520" y="2546280"/>
              <a:chExt cx="709560" cy="4730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6680" cy="4730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200" y="2546280"/>
                <a:ext cx="326880" cy="4730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6200" cy="473040"/>
              <a:chOff x="414360" y="2968560"/>
              <a:chExt cx="736200" cy="4730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30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360" y="2968560"/>
                <a:ext cx="367200" cy="4730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58720" cy="420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024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1480" cy="5400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2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2C92F-721F-433D-B988-1E76EBE77055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Эмоции кота Маркиза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полнитель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еница 4-а класса МБОУ лицей№2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ихайленко Е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уководитель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дагог МБОУ ДОД ДЭБ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пивненко Т.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Это мой домик. Здесь я отдыхаю и жду Еву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8102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4465440" cy="4464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932360" y="1773360"/>
            <a:ext cx="421164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т и  Ева. Попугая она сделала сама в классе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7417080" cy="470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272360" cy="43196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амо внимание и любовь, ради тебя, Ева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-338400"/>
            <a:ext cx="77929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асибо всем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вет от Маркиза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Это я, Маркиз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 породистый и умный кот. Живу в доме у Евы, ученицы 4 класс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на заботливая и хорошая хозяй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ы любим играть в кошки- мыш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5280" y="2095560"/>
            <a:ext cx="4753080" cy="40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Я получаю  удовольствие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12800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ще чуть-чуть и она моя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16000" y="1830240"/>
            <a:ext cx="7272360" cy="45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Любопытство у меня в крови от предков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182600" y="2017800"/>
            <a:ext cx="7772400" cy="42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4897440" cy="453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, что у вас здесь в кастрюле?..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182600" y="2017800"/>
            <a:ext cx="4829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69636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ва, я скучаю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60624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Мне так одиноко и очень плохо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6624720" cy="43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ак я зол, как я зол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985080" cy="417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4T17:09:06Z</dcterms:created>
  <dc:creator>Таня</dc:creator>
  <dc:description/>
  <dc:language>en-US</dc:language>
  <cp:lastModifiedBy>Таня</cp:lastModifiedBy>
  <dcterms:modified xsi:type="dcterms:W3CDTF">2013-12-15T15:52:22Z</dcterms:modified>
  <cp:revision>7</cp:revision>
  <dc:subject/>
  <dc:title>Эмоции кота Маркиза.</dc:title>
</cp:coreProperties>
</file>