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922E9-FF93-4BDF-BB65-F180B127F5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19758-BA04-49E8-9516-136C51AA9E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C8394-3E56-405F-87B9-3AABE2B2B0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9EAD-8502-4B28-8249-843EA8D483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689BE-11C9-42AB-BAF2-3BD173A3F4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F3746-E68D-4513-80C7-333A5AA692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EAB-2ED9-4E41-BC7B-5A898CFA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6E1-6C3A-4BBF-800E-E98470D9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07E-8373-431A-9274-EBC6659C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B28-CE86-447F-AAE3-8A32A4CE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9DA-4B08-450F-90A7-8CBAA8A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9E7-1E17-40A6-82AF-0CBA69BE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305-A212-445F-A039-7CDA7A2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5D9-41FA-4FFF-B6D7-D88B3A4A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2CB-E9D7-4E69-BCAB-CE8517E3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22F-9D04-4688-BC18-5E22046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D01-CA08-4372-BD3C-E73161C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CCF-85CD-4C28-989D-F0D42A36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174C7-8B59-42CD-8425-3191011A9CE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3968640"/>
            <a:ext cx="5472360" cy="3294000"/>
          </a:xfrm>
          <a:prstGeom prst="rect">
            <a:avLst/>
          </a:prstGeom>
          <a:solidFill>
            <a:srgbClr val="eeeeee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Shonar Bangla"/>
              </a:rPr>
              <a:t>Гарри Гродберг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Shonar Bangla"/>
              </a:rPr>
              <a:t>Garry Grodberg</a:t>
            </a:r>
            <a:br>
              <a:rPr sz="2800"/>
            </a:br>
            <a:br>
              <a:rPr sz="2800"/>
            </a:b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День рождения: </a:t>
            </a: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03.01.1929 год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Возраст: 87 лет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Место рождения: Клайпеда, Ли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324000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431640" y="231840"/>
            <a:ext cx="4248360" cy="344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5111640" y="250920"/>
            <a:ext cx="4773600" cy="33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640" y="4247640"/>
            <a:ext cx="9575640" cy="3024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Гарри Яковлевич Гродберг (род. 3 января 1929, Клайпеда, Литва —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советский и российский органист, народный артист Российской Федерации (1992), Лауреат Государственной премии РФ (2001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*Гродберг известен в том числе и своими интерпретациями Бах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*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Является почетным членом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Баховского и Генделевского обществ в Германии, также входил в состав жюри Международного Баховского конкурса в Лейпци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2592360" y="466560"/>
            <a:ext cx="51116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165560"/>
            <a:ext cx="9070920" cy="2998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Гарри Гридберг выступает в лучших концертных залах, с ведущими оркестрами и хоровыми коллективами, принимает участие в международных музыкальных фестиваля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honar Bangla"/>
              </a:rPr>
              <a:t>Партнеры Гарри Гродберга музыканты с мировыми именами: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М.Ростропович, Е.Мравинский, Е.Светланов, К.Кондрашин, Ю.Симонов, А.Янсонс, И.Маркевич, О.Каган, И.Козловский, И.Архипова, Т.Синявская, А.Юрлов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448000" y="263520"/>
            <a:ext cx="48956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6000" y="4273560"/>
            <a:ext cx="9070920" cy="2998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Гродберг стал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honar Bangla"/>
              </a:rPr>
              <a:t>первым выдающимся русским интерпретатором Баха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, признанным за рубежом, он один из российских органистов почетный член Баховского общества в Лейпциге. Его концерты звучали и звучат под сводами лучших соборов и концертных залов Европы, в особенности зачастую в городах Германии, где монографические программы, посвященные только Баху, редкое изъят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6912000" y="287280"/>
            <a:ext cx="2735280" cy="388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576360" y="349200"/>
            <a:ext cx="547200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4844880"/>
            <a:ext cx="9605880" cy="2570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Shonar Bangla"/>
              </a:rPr>
              <a:t>Гарри Гродберг организовал и возглавил один в стране ежегодный Баховский фестиваль в Твери (с 1992)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Shonar Bangla"/>
              </a:rPr>
              <a:t>Рекордными тиражами известные фирмы грамзаписи России, США, Германии и других государств выпускают несчетные диски органи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152360" y="345960"/>
            <a:ext cx="3414960" cy="431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137200" y="360360"/>
            <a:ext cx="43704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1:43:56Z</dcterms:created>
  <dc:creator>Ирина</dc:creator>
  <dc:description/>
  <dc:language>en-US</dc:language>
  <cp:lastModifiedBy>Windows User</cp:lastModifiedBy>
  <dcterms:modified xsi:type="dcterms:W3CDTF">2017-05-15T12:57:03Z</dcterms:modified>
  <cp:revision>3</cp:revision>
  <dc:subject/>
  <dc:title>Гарри Гродберг Garry Grodberg  День рождения: 03.01.1929 года Возраст: 87 лет Место рождения: Клайпеда, Литва</dc:title>
</cp:coreProperties>
</file>