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52F24-59A8-43ED-9A95-A5E2473A6D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81E1D-D89C-4FDC-8D01-656F92AC0A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FB988-BB11-4C9D-BA86-043E4802F1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55255-EB70-48A7-8597-4A6EBBE945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B9C07-7976-4FA8-AEBB-040672343F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0D02D-DD1B-49BA-9C8A-04FECFE297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D6FD-DDC1-4CAB-B442-8E1915A3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8229-D1DE-4B8F-841F-3C66DC38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F84D-3F54-4D55-9973-A1F6B21B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E696-30CE-4496-976B-79755C7F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1A2D-37F4-499B-BE08-BEFB297E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9E35-A5D5-4C98-953E-2B215300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F6E5-1914-424E-8A1A-E90B501B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2D1D-F03E-4194-BC0A-31ADE1E0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29B8-DBB0-4365-AE92-83B249A5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0F84-EF82-4097-959A-3B8DA9CD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D48-68F4-4BA4-83D0-3D7DDB80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F48A-37F2-4036-B4BF-F8B02221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90AB4-07C7-41C7-8162-48813BB7908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1640" y="3968640"/>
            <a:ext cx="5472360" cy="3294000"/>
          </a:xfrm>
          <a:prstGeom prst="rect">
            <a:avLst/>
          </a:prstGeom>
          <a:solidFill>
            <a:srgbClr val="eeeeee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Shonar Bangla"/>
              </a:rPr>
              <a:t>Гарри Гродберг</a:t>
            </a:r>
            <a:br>
              <a:rPr sz="4400"/>
            </a:br>
            <a:r>
              <a:rPr b="1" lang="ru-RU" sz="4400" spc="-1" strike="noStrike" u="sng">
                <a:solidFill>
                  <a:srgbClr val="000000"/>
                </a:solidFill>
                <a:uFillTx/>
                <a:latin typeface="Shonar Bangla"/>
              </a:rPr>
              <a:t>Garry Grodberg</a:t>
            </a:r>
            <a:br>
              <a:rPr sz="2800"/>
            </a:br>
            <a:br>
              <a:rPr sz="2800"/>
            </a:br>
            <a:r>
              <a:rPr b="1" lang="ru-RU" sz="2200" spc="-1" strike="noStrike">
                <a:solidFill>
                  <a:srgbClr val="000000"/>
                </a:solidFill>
                <a:latin typeface="Shonar Bangla"/>
              </a:rPr>
              <a:t>День рождения: </a:t>
            </a:r>
            <a:r>
              <a:rPr b="1" lang="ru-RU" sz="2200" spc="-1" strike="noStrike">
                <a:solidFill>
                  <a:srgbClr val="000000"/>
                </a:solidFill>
                <a:latin typeface="Shonar Bangla"/>
              </a:rPr>
              <a:t>03.01.1929 года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Shonar Bangla"/>
              </a:rPr>
              <a:t>Возраст: 87 лет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Shonar Bangla"/>
              </a:rPr>
              <a:t>Место рождения: Клайпеда, Ли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6696000" y="3743280"/>
            <a:ext cx="3240000" cy="302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431640" y="231840"/>
            <a:ext cx="4248360" cy="3440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4"/>
          <a:stretch/>
        </p:blipFill>
        <p:spPr>
          <a:xfrm>
            <a:off x="5111640" y="250920"/>
            <a:ext cx="4773600" cy="33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640" y="4247640"/>
            <a:ext cx="9575640" cy="3024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honar Bangla"/>
              </a:rPr>
              <a:t>*</a:t>
            </a:r>
            <a:r>
              <a:rPr b="0" lang="ru-RU" sz="2200" spc="-1" strike="noStrike">
                <a:solidFill>
                  <a:srgbClr val="000000"/>
                </a:solidFill>
                <a:latin typeface="Shonar Bangla"/>
              </a:rPr>
              <a:t>Гарри Яковлевич Гродберг (род. 3 января 1929, Клайпеда, Литва —</a:t>
            </a:r>
            <a:r>
              <a:rPr b="0" lang="ru-RU" sz="2200" spc="-1" strike="noStrike">
                <a:solidFill>
                  <a:srgbClr val="000000"/>
                </a:solidFill>
                <a:latin typeface="Shonar Bangla"/>
              </a:rPr>
              <a:t> советский и российский органист, народный артист Российской Федерации (1992), Лауреат Государственной премии РФ (2001)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Shonar Bangla"/>
              </a:rPr>
              <a:t>*Гродберг известен в том числе и своими интерпретациями Баха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Shonar Bangla"/>
              </a:rPr>
              <a:t> *</a:t>
            </a:r>
            <a:r>
              <a:rPr b="0" lang="ru-RU" sz="2200" spc="-1" strike="noStrike">
                <a:solidFill>
                  <a:srgbClr val="000000"/>
                </a:solidFill>
                <a:latin typeface="Shonar Bangla"/>
              </a:rPr>
              <a:t>Является почетным членом</a:t>
            </a:r>
            <a:r>
              <a:rPr b="0" lang="ru-RU" sz="2200" spc="-1" strike="noStrike">
                <a:solidFill>
                  <a:srgbClr val="000000"/>
                </a:solidFill>
                <a:latin typeface="Shonar Bangla"/>
              </a:rPr>
              <a:t> Баховского и Генделевского обществ в Германии, также входил в состав жюри Международного Баховского конкурса в Лейпциг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2592360" y="466560"/>
            <a:ext cx="51116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4165560"/>
            <a:ext cx="9070920" cy="29988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honar Bangla"/>
              </a:rPr>
              <a:t>Гарри Гридберг выступает в лучших концертных залах, с ведущими оркестрами и хоровыми коллективами, принимает участие в международных музыкальных фестивалях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Shonar Bangla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Shonar Bangla"/>
              </a:rPr>
              <a:t>Партнеры Гарри Гродберга музыканты с мировыми именами:</a:t>
            </a:r>
            <a:r>
              <a:rPr b="0" lang="ru-RU" sz="2200" spc="-1" strike="noStrike">
                <a:solidFill>
                  <a:srgbClr val="000000"/>
                </a:solidFill>
                <a:latin typeface="Shonar Bangla"/>
              </a:rPr>
              <a:t> М.Ростропович, Е.Мравинский, Е.Светланов, К.Кондрашин, Ю.Симонов, А.Янсонс, И.Маркевич, О.Каган, И.Козловский, И.Архипова, Т.Синявская, А.Юрлов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2448000" y="263520"/>
            <a:ext cx="489564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6000" y="4273560"/>
            <a:ext cx="9070920" cy="29988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honar Bangla"/>
              </a:rPr>
              <a:t>Гродберг стал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Shonar Bangla"/>
              </a:rPr>
              <a:t>первым выдающимся русским интерпретатором Баха</a:t>
            </a:r>
            <a:r>
              <a:rPr b="0" lang="ru-RU" sz="2200" spc="-1" strike="noStrike">
                <a:solidFill>
                  <a:srgbClr val="000000"/>
                </a:solidFill>
                <a:latin typeface="Shonar Bangla"/>
              </a:rPr>
              <a:t>, признанным за рубежом, он один из российских органистов почетный член Баховского общества в Лейпциге. Его концерты звучали и звучат под сводами лучших соборов и концертных залов Европы, в особенности зачастую в городах Германии, где монографические программы, посвященные только Баху, редкое изъят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6912000" y="287280"/>
            <a:ext cx="2735280" cy="388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576360" y="349200"/>
            <a:ext cx="5472000" cy="38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5640" y="4844880"/>
            <a:ext cx="9605880" cy="25704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Shonar Bangla"/>
              </a:rPr>
              <a:t>Гарри Гродберг организовал и возглавил один в стране ежегодный Баховский фестиваль в Твери (с 1992)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Shonar Bangla"/>
              </a:rPr>
              <a:t>Рекордными тиражами известные фирмы грамзаписи России, США, Германии и других государств выпускают несчетные диски органис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1152360" y="345960"/>
            <a:ext cx="3414960" cy="4319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5137200" y="360360"/>
            <a:ext cx="4370400" cy="4292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1:43:56Z</dcterms:created>
  <dc:creator>Ирина</dc:creator>
  <dc:description/>
  <dc:language>en-US</dc:language>
  <cp:lastModifiedBy>Windows User</cp:lastModifiedBy>
  <dcterms:modified xsi:type="dcterms:W3CDTF">2017-05-15T12:57:03Z</dcterms:modified>
  <cp:revision>3</cp:revision>
  <dc:subject/>
  <dc:title>Гарри Гродберг Garry Grodberg  День рождения: 03.01.1929 года Возраст: 87 лет Место рождения: Клайпеда, Литва</dc:title>
</cp:coreProperties>
</file>