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920-8353-4DF8-8251-5B87C84E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B19-0894-42EB-93B5-2798D4AD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87A-21CB-4C8E-A370-B54D329A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358-C70B-40EC-A31A-B81B71D8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5851-CDAB-45B8-8AF2-F7DC54DC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BA8E-BE2B-4626-B96C-988596B7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2F02-CED1-4D6D-B5AB-B844FA3C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70F5-0022-4303-A270-1962FBF3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900D-19CA-45A0-B535-6C68A22C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0D8D-3F75-4232-A4E9-C007C2AA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8E0A-9436-4869-AF9F-36B83145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A2C-6153-4C46-8AC8-119D2A33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20C2-24A3-4363-AC2D-3A934567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1498-A051-4DE5-A961-A31A2875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A4C4-15AF-4D21-8CC2-457CF30E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23AB-CF25-4305-B00A-43915AAE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9EA7-2E61-4C98-8CE9-7DB55531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D186A-B272-4A53-83AD-CC64C173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2FC6-8C71-4651-863B-C8C262AA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3F038-E4F1-41CE-AB73-E1A5DBCF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5D415-1063-465C-9F2B-E8788D17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B4748-168B-4C8E-A7F5-AB22BE73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684-02D7-40A0-9916-3B92D596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31ABB-473D-4B57-9FCD-7FD4A2C1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1398-9A43-4165-B304-0C72ADCD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74108-42B7-4697-8CC4-635CC0AF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38649-4015-4862-B392-58ECE0C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040A3-E08C-4E6C-88B7-C69C39FC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1AA2D-DD07-480B-AE6E-B2D04D4A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48DC-0583-4DEE-BF4F-58674AC0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A0E30-A122-4129-A51F-EC56A3A1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7AEC9-CF2E-4382-AAA7-090AB566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55836-396D-4663-B6ED-8883D540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A8A-D1C0-4AED-A05A-5BF6508E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EF24-AE6E-4678-B45C-963317D9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83662-30D2-45FB-897B-651976A9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389B5-E7CF-4505-ACFA-827494B0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15AB5-0438-45D1-A3E5-65E65196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70BC3-AF5E-49A5-8540-3795070E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C9F66-40A3-4878-830A-C17B2D44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4173D-0D76-47F2-A073-32926DE4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BF6E1-A261-4420-B335-4DC869B5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FD997-3F59-4239-B032-810D11FB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434-A7A6-4E17-B666-8F3D5DC5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380-FF8B-4A21-8819-A6D6DDC7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9B6-3774-4844-8F50-FD9596D7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76BE-5707-4479-BB69-343575C6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8A8-55BE-418D-B5A3-410E9EA7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195B-16C0-4876-B2B0-52F445D3A9EB}" type="slidenum">
              <a:rPr b="0" lang="en-US" sz="1200" spc="-1" strike="noStrike">
                <a:solidFill>
                  <a:srgbClr val="045c75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B9F8-5A21-4096-B714-A6FD46F24171}" type="slidenum">
              <a:rPr b="0" lang="en-US" sz="1200" spc="-1" strike="noStrike">
                <a:solidFill>
                  <a:srgbClr val="d1eaee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18FF-312B-41B9-9ECF-DBDCC0F67429}" type="slidenum">
              <a:rPr b="0" lang="en-US" sz="1200" spc="-1" strike="noStrike">
                <a:solidFill>
                  <a:srgbClr val="d1eaee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4F01-34FA-4009-9782-F8CF9A2A99CA}" type="slidenum">
              <a:rPr b="0" lang="en-US" sz="1200" spc="-1" strike="noStrike">
                <a:solidFill>
                  <a:srgbClr val="045c75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246240" y="527040"/>
            <a:ext cx="845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ТЕМА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Звук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‘]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Буква Ч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633240" y="4162320"/>
            <a:ext cx="82998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АОУ СШ «Средняя школа №1»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г. Петропавловска-Камчатского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Шабельникова  Елена Владимировна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Изображение 1" descr="luxfon.com-33138.jpg"/>
          <p:cNvPicPr/>
          <p:nvPr/>
        </p:nvPicPr>
        <p:blipFill>
          <a:blip r:embed="rId1"/>
          <a:stretch/>
        </p:blipFill>
        <p:spPr>
          <a:xfrm>
            <a:off x="633240" y="1504800"/>
            <a:ext cx="79711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709560" y="2508120"/>
          <a:ext cx="8434440" cy="1646280"/>
        </p:xfrm>
        <a:graphic>
          <a:graphicData uri="http://schemas.openxmlformats.org/drawingml/2006/table">
            <a:tbl>
              <a:tblPr/>
              <a:tblGrid>
                <a:gridCol w="352440"/>
                <a:gridCol w="450720"/>
                <a:gridCol w="400320"/>
                <a:gridCol w="401400"/>
                <a:gridCol w="403200"/>
                <a:gridCol w="401760"/>
                <a:gridCol w="401760"/>
                <a:gridCol w="399960"/>
                <a:gridCol w="401760"/>
                <a:gridCol w="398520"/>
                <a:gridCol w="406080"/>
                <a:gridCol w="401760"/>
                <a:gridCol w="401760"/>
                <a:gridCol w="399960"/>
                <a:gridCol w="403200"/>
                <a:gridCol w="401760"/>
                <a:gridCol w="401400"/>
                <a:gridCol w="401760"/>
                <a:gridCol w="399960"/>
                <a:gridCol w="401760"/>
                <a:gridCol w="4032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2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7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Изображение 1" descr="0_198021_708f15b4_orig (1).jpg"/>
          <p:cNvPicPr/>
          <p:nvPr/>
        </p:nvPicPr>
        <p:blipFill>
          <a:blip r:embed="rId1"/>
          <a:stretch/>
        </p:blipFill>
        <p:spPr>
          <a:xfrm>
            <a:off x="352440" y="1131840"/>
            <a:ext cx="82868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5753160" y="1009800"/>
          <a:ext cx="2031840" cy="4846320"/>
        </p:xfrm>
        <a:graphic>
          <a:graphicData uri="http://schemas.openxmlformats.org/drawingml/2006/table">
            <a:tbl>
              <a:tblPr/>
              <a:tblGrid>
                <a:gridCol w="2031840"/>
              </a:tblGrid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434960" y="1009800"/>
          <a:ext cx="2032200" cy="4846320"/>
        </p:xfrm>
        <a:graphic>
          <a:graphicData uri="http://schemas.openxmlformats.org/drawingml/2006/table">
            <a:tbl>
              <a:tblPr/>
              <a:tblGrid>
                <a:gridCol w="2032200"/>
              </a:tblGrid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ч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434960" y="1008000"/>
          <a:ext cx="2032200" cy="4846680"/>
        </p:xfrm>
        <a:graphic>
          <a:graphicData uri="http://schemas.openxmlformats.org/drawingml/2006/table">
            <a:tbl>
              <a:tblPr/>
              <a:tblGrid>
                <a:gridCol w="2032200"/>
              </a:tblGrid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773680" y="1008000"/>
          <a:ext cx="2032200" cy="4846680"/>
        </p:xfrm>
        <a:graphic>
          <a:graphicData uri="http://schemas.openxmlformats.org/drawingml/2006/table">
            <a:tbl>
              <a:tblPr/>
              <a:tblGrid>
                <a:gridCol w="2032200"/>
              </a:tblGrid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у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о</a:t>
                      </a:r>
                      <a:endParaRPr b="0" lang="en-US" sz="10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2184480" y="30240"/>
            <a:ext cx="48765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кижу.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.айка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.авы.а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кре.ет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кра.ка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2"/>
          <p:cNvSpPr/>
          <p:nvPr/>
        </p:nvSpPr>
        <p:spPr>
          <a:xfrm>
            <a:off x="2184480" y="9360"/>
            <a:ext cx="48765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кижуч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чайка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чавыча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кречет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крачка</a:t>
            </a:r>
            <a:endParaRPr b="0" lang="en-US" sz="8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Изображение 1" descr="Animals___Birds_____Seagull_in_flight_088076_.jpg"/>
          <p:cNvPicPr/>
          <p:nvPr/>
        </p:nvPicPr>
        <p:blipFill>
          <a:blip r:embed="rId1"/>
          <a:stretch/>
        </p:blipFill>
        <p:spPr>
          <a:xfrm>
            <a:off x="387360" y="852480"/>
            <a:ext cx="82170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Изображение 3" descr="Lake_Washington_Ship_Canal_Fish_Ladder_pamphlet_-_ocean_phase_Chinook.psd"/>
          <p:cNvPicPr/>
          <p:nvPr/>
        </p:nvPicPr>
        <p:blipFill>
          <a:blip r:embed="rId1"/>
          <a:stretch/>
        </p:blipFill>
        <p:spPr>
          <a:xfrm>
            <a:off x="638280" y="2943360"/>
            <a:ext cx="80485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21:56:02Z</dcterms:created>
  <dc:creator>macmini</dc:creator>
  <dc:description/>
  <dc:language>en-US</dc:language>
  <cp:lastModifiedBy>ГПД</cp:lastModifiedBy>
  <dcterms:modified xsi:type="dcterms:W3CDTF">2017-05-15T03:18:55Z</dcterms:modified>
  <cp:revision>18</cp:revision>
  <dc:subject/>
  <dc:title>Презентация PowerPoint</dc:title>
</cp:coreProperties>
</file>