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8.png" ContentType="image/png"/>
  <Override PartName="/ppt/media/image7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F5185-EC1C-4BEE-B7CD-7A55E648B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A5214-76CB-47C9-852A-8EBA1B322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636E9-8E12-4AC9-873F-82AD28E1E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101CB-E74F-4F0C-A323-402C01BAC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AADEA-BFD9-45D0-B543-EB606CD72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A4961-6E93-47DC-8C99-4557963A1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28226-5BC5-4547-B9D6-57D4A421B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AF2B9-CE83-4E5E-8488-555F45C65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7F9AB-7762-46E0-8915-D76C82548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67E27-89E1-43C5-83C2-9A2C4928E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662B5-A07B-49F4-98B8-76445FFEA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0F815-5A36-4AE3-A470-A4AA9EE53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6CEB0-95B4-4C0D-A956-7C86DB422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674D3-9A8E-4A6A-8BA7-125981FFF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A0AB9-C619-4CA0-8848-56C4A04E8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FF1D7-645E-43AF-B483-7A70A28ED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A1272-9A4D-4AF0-A5C3-523883FF8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8AEA9E-53E8-4494-B23D-B670CAE65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5E7137-A592-437D-9820-CF370CFAA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F851C6-C1F9-4EB1-8D12-8552110E7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219B07-6A8C-451D-9332-85AC2DB6E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6AC10A-4EE2-41D3-80F1-21AE555D3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1909C-63AD-4C7F-9531-5BE2F5CB9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37DC6C-DA27-4DA3-A182-1474FB907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E4325B-E66D-4B1A-9FEB-ADE39B081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AA1804-EC34-4471-976B-F36A01AF2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6E9202-1755-4F39-A51E-C63597210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343F15-71C0-4068-9CC7-97830D194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E1646A-2ED4-4E05-8A2D-407C1FBCA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7DD525-28F3-48E3-9585-1B60A6EB5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F4FE24-FEE0-4467-A3DD-AB0525475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C1A9D9-2E84-4CBF-AD35-B50648B4B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E3E1AC-9587-4975-8D8C-DEE71BDCD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C7760-0CC8-4E95-A0D6-5DEEB5CD1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D0EAAB-D0DD-4C02-98D9-6941047DE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5B73C9-6DD5-4122-B1B5-7D98453FD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BDF709-ACF2-4AEC-9F6C-8746037D0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8B07A9-4630-4515-94D1-A2A7FB534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28A7FD-53FF-4D52-B38F-D1060E0B3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8E206B-7655-4866-965B-E42780707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0EEAEB-ECCF-428A-95CE-D16B3E109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39F6DA-3022-456A-956F-1579593F5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8F5B2C-E61E-4FCD-AF5B-5D29503E6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8E91B-1CB2-4FB2-9C28-BA69C9857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59780-9F5E-4CF7-83EF-4352920DD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34F25-12C5-4C88-83FB-B35B7ABAC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7115C-B4E1-4CAE-B3A2-7D83483E1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6C3C9-902F-4A6C-AF3E-FCCACBC99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Book Antiqu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Book Antiqu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7899F-BBD3-429C-9089-B1F034C54AA8}" type="slidenum">
              <a:rPr b="0" lang="en-US" sz="1200" spc="-1" strike="noStrike">
                <a:solidFill>
                  <a:srgbClr val="045c75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Book Antiqu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Book Antiqu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C97FE-E05C-4F29-9F13-621836CA6A82}" type="slidenum">
              <a:rPr b="0" lang="en-US" sz="1200" spc="-1" strike="noStrike">
                <a:solidFill>
                  <a:srgbClr val="d1eaee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Book Antiqu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Book Antiqu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B8ACF-088B-4816-B015-B166BC829C4A}" type="slidenum">
              <a:rPr b="0" lang="en-US" sz="1200" spc="-1" strike="noStrike">
                <a:solidFill>
                  <a:srgbClr val="d1eaee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Book Antiqu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Book Antiqu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270EE-3DDD-4F0E-BBA1-AFCE0D24C71C}" type="slidenum">
              <a:rPr b="0" lang="en-US" sz="1200" spc="-1" strike="noStrike">
                <a:solidFill>
                  <a:srgbClr val="045c75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Box 1"/>
          <p:cNvSpPr/>
          <p:nvPr/>
        </p:nvSpPr>
        <p:spPr>
          <a:xfrm>
            <a:off x="246240" y="527040"/>
            <a:ext cx="8451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b050"/>
                </a:solidFill>
                <a:latin typeface="Arial"/>
              </a:rPr>
              <a:t>ТЕМА: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Звук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‘]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. Буква Ч.</a:t>
            </a: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96" name="TextBox 2"/>
          <p:cNvSpPr/>
          <p:nvPr/>
        </p:nvSpPr>
        <p:spPr>
          <a:xfrm>
            <a:off x="633240" y="4162320"/>
            <a:ext cx="829980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Учитель начальных классов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МАОУ СШ «Средняя школа №1» 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г. Петропавловска-Камчатского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Шабельникова  Елена Владимировна.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Изображение 1" descr="luxfon.com-33138.jpg"/>
          <p:cNvPicPr/>
          <p:nvPr/>
        </p:nvPicPr>
        <p:blipFill>
          <a:blip r:embed="rId1"/>
          <a:stretch/>
        </p:blipFill>
        <p:spPr>
          <a:xfrm>
            <a:off x="633240" y="1504800"/>
            <a:ext cx="7971120" cy="49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7" name=""/>
          <p:cNvGraphicFramePr/>
          <p:nvPr/>
        </p:nvGraphicFramePr>
        <p:xfrm>
          <a:off x="709560" y="2508120"/>
          <a:ext cx="8434440" cy="1646280"/>
        </p:xfrm>
        <a:graphic>
          <a:graphicData uri="http://schemas.openxmlformats.org/drawingml/2006/table">
            <a:tbl>
              <a:tblPr/>
              <a:tblGrid>
                <a:gridCol w="352440"/>
                <a:gridCol w="450720"/>
                <a:gridCol w="400320"/>
                <a:gridCol w="401400"/>
                <a:gridCol w="403200"/>
                <a:gridCol w="401760"/>
                <a:gridCol w="401760"/>
                <a:gridCol w="399960"/>
                <a:gridCol w="401760"/>
                <a:gridCol w="398520"/>
                <a:gridCol w="406080"/>
                <a:gridCol w="401760"/>
                <a:gridCol w="401760"/>
                <a:gridCol w="399960"/>
                <a:gridCol w="403200"/>
                <a:gridCol w="401760"/>
                <a:gridCol w="401400"/>
                <a:gridCol w="401760"/>
                <a:gridCol w="399960"/>
                <a:gridCol w="401760"/>
                <a:gridCol w="403200"/>
              </a:tblGrid>
              <a:tr h="82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a2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a2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a2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ы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a2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a2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874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874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874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874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874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874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874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874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874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874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874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874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874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874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874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2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я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a2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a2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a2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a2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a2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874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874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874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874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874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874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874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874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874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874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874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874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874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874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874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Изображение 1" descr="0_198021_708f15b4_orig (1).jpg"/>
          <p:cNvPicPr/>
          <p:nvPr/>
        </p:nvPicPr>
        <p:blipFill>
          <a:blip r:embed="rId1"/>
          <a:stretch/>
        </p:blipFill>
        <p:spPr>
          <a:xfrm>
            <a:off x="352440" y="1131840"/>
            <a:ext cx="8286840" cy="55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9" name=""/>
          <p:cNvGraphicFramePr/>
          <p:nvPr/>
        </p:nvGraphicFramePr>
        <p:xfrm>
          <a:off x="5753160" y="1009800"/>
          <a:ext cx="2031840" cy="4846320"/>
        </p:xfrm>
        <a:graphic>
          <a:graphicData uri="http://schemas.openxmlformats.org/drawingml/2006/table">
            <a:tbl>
              <a:tblPr/>
              <a:tblGrid>
                <a:gridCol w="2031840"/>
              </a:tblGrid>
              <a:tr h="1617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и</a:t>
                      </a:r>
                      <a:endParaRPr b="0" lang="en-US" sz="100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17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е</a:t>
                      </a:r>
                      <a:endParaRPr b="0" lang="en-US" sz="100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17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а</a:t>
                      </a:r>
                      <a:endParaRPr b="0" lang="en-US" sz="100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0" name=""/>
          <p:cNvGraphicFramePr/>
          <p:nvPr/>
        </p:nvGraphicFramePr>
        <p:xfrm>
          <a:off x="1434960" y="1009800"/>
          <a:ext cx="2032200" cy="4846320"/>
        </p:xfrm>
        <a:graphic>
          <a:graphicData uri="http://schemas.openxmlformats.org/drawingml/2006/table">
            <a:tbl>
              <a:tblPr/>
              <a:tblGrid>
                <a:gridCol w="2032200"/>
              </a:tblGrid>
              <a:tr h="1617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ч</a:t>
                      </a:r>
                      <a:endParaRPr b="0" lang="en-US" sz="100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17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ч</a:t>
                      </a:r>
                      <a:endParaRPr b="0" lang="en-US" sz="100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17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ч</a:t>
                      </a:r>
                      <a:endParaRPr b="0" lang="en-US" sz="100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1" name=""/>
          <p:cNvGraphicFramePr/>
          <p:nvPr/>
        </p:nvGraphicFramePr>
        <p:xfrm>
          <a:off x="1434960" y="1008000"/>
          <a:ext cx="2032200" cy="4846680"/>
        </p:xfrm>
        <a:graphic>
          <a:graphicData uri="http://schemas.openxmlformats.org/drawingml/2006/table">
            <a:tbl>
              <a:tblPr/>
              <a:tblGrid>
                <a:gridCol w="2032200"/>
              </a:tblGrid>
              <a:tr h="1617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у</a:t>
                      </a:r>
                      <a:endParaRPr b="0" lang="en-US" sz="100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17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а</a:t>
                      </a:r>
                      <a:endParaRPr b="0" lang="en-US" sz="100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17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о</a:t>
                      </a:r>
                      <a:endParaRPr b="0" lang="en-US" sz="100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2" name=""/>
          <p:cNvGraphicFramePr/>
          <p:nvPr/>
        </p:nvGraphicFramePr>
        <p:xfrm>
          <a:off x="5773680" y="1008000"/>
          <a:ext cx="2032200" cy="4846680"/>
        </p:xfrm>
        <a:graphic>
          <a:graphicData uri="http://schemas.openxmlformats.org/drawingml/2006/table">
            <a:tbl>
              <a:tblPr/>
              <a:tblGrid>
                <a:gridCol w="2032200"/>
              </a:tblGrid>
              <a:tr h="1617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у</a:t>
                      </a:r>
                      <a:endParaRPr b="0" lang="en-US" sz="100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17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а</a:t>
                      </a:r>
                      <a:endParaRPr b="0" lang="en-US" sz="100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17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о</a:t>
                      </a:r>
                      <a:endParaRPr b="0" lang="en-US" sz="100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Box 1"/>
          <p:cNvSpPr/>
          <p:nvPr/>
        </p:nvSpPr>
        <p:spPr>
          <a:xfrm>
            <a:off x="2184480" y="30240"/>
            <a:ext cx="487656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Times New Roman"/>
              </a:rPr>
              <a:t>кижу.</a:t>
            </a:r>
            <a:endParaRPr b="0" lang="en-US" sz="80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Times New Roman"/>
              </a:rPr>
              <a:t>.айка</a:t>
            </a:r>
            <a:endParaRPr b="0" lang="en-US" sz="80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Times New Roman"/>
              </a:rPr>
              <a:t>.авы.а</a:t>
            </a:r>
            <a:endParaRPr b="0" lang="en-US" sz="80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Times New Roman"/>
              </a:rPr>
              <a:t>кре.ет</a:t>
            </a:r>
            <a:endParaRPr b="0" lang="en-US" sz="80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Times New Roman"/>
              </a:rPr>
              <a:t>кра.ка</a:t>
            </a:r>
            <a:endParaRPr b="0" lang="en-US" sz="8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extBox 2"/>
          <p:cNvSpPr/>
          <p:nvPr/>
        </p:nvSpPr>
        <p:spPr>
          <a:xfrm>
            <a:off x="2184480" y="9360"/>
            <a:ext cx="487656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Times New Roman"/>
              </a:rPr>
              <a:t>кижуч</a:t>
            </a:r>
            <a:endParaRPr b="0" lang="en-US" sz="80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Times New Roman"/>
              </a:rPr>
              <a:t>чайка</a:t>
            </a:r>
            <a:endParaRPr b="0" lang="en-US" sz="80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Times New Roman"/>
              </a:rPr>
              <a:t>чавыча</a:t>
            </a:r>
            <a:endParaRPr b="0" lang="en-US" sz="80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Times New Roman"/>
              </a:rPr>
              <a:t>кречет</a:t>
            </a:r>
            <a:endParaRPr b="0" lang="en-US" sz="80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Times New Roman"/>
              </a:rPr>
              <a:t>крачка</a:t>
            </a:r>
            <a:endParaRPr b="0" lang="en-US" sz="8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Изображение 1" descr="Animals___Birds_____Seagull_in_flight_088076_.jpg"/>
          <p:cNvPicPr/>
          <p:nvPr/>
        </p:nvPicPr>
        <p:blipFill>
          <a:blip r:embed="rId1"/>
          <a:stretch/>
        </p:blipFill>
        <p:spPr>
          <a:xfrm>
            <a:off x="387360" y="852480"/>
            <a:ext cx="8217000" cy="568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Изображение 3" descr="Lake_Washington_Ship_Canal_Fish_Ladder_pamphlet_-_ocean_phase_Chinook.psd"/>
          <p:cNvPicPr/>
          <p:nvPr/>
        </p:nvPicPr>
        <p:blipFill>
          <a:blip r:embed="rId1"/>
          <a:stretch/>
        </p:blipFill>
        <p:spPr>
          <a:xfrm>
            <a:off x="638280" y="2943360"/>
            <a:ext cx="8048520" cy="272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1-08T21:56:02Z</dcterms:created>
  <dc:creator>macmini</dc:creator>
  <dc:description/>
  <dc:language>en-US</dc:language>
  <cp:lastModifiedBy>ГПД</cp:lastModifiedBy>
  <dcterms:modified xsi:type="dcterms:W3CDTF">2017-05-15T03:18:55Z</dcterms:modified>
  <cp:revision>18</cp:revision>
  <dc:subject/>
  <dc:title>Презентация PowerPoint</dc:title>
</cp:coreProperties>
</file>