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3.jpeg" ContentType="image/jpeg"/>
  <Override PartName="/ppt/media/image44.wmf" ContentType="image/x-wmf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2FA6-D5EB-4359-A8BF-55A1963E85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9AE6-F356-48B3-8E28-C9704756F0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6FF4-946C-4BD4-B3F0-6D980CAE3E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740A-6818-4BB8-80E4-1D5CA9E3FB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85F-3050-43DB-ADDF-B502BBBD8F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C2C-4596-449E-A216-169865C0B3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7BEF-3B0D-4293-8303-6EFF07EC90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E327-12B9-470B-BC20-826A97C0BE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021F-7044-424B-AE0E-00DC8713F7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D55C-A454-41A1-B581-48A99AB31F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A4B-3E75-41FA-899C-A8FABCD618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4FDC-8382-4F86-B106-B5B045AED5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933E-A811-412E-9F49-4C26F4F94B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27CA-ABF2-4310-A64B-F2F7FFC08C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47D9-EFB7-46B3-A880-EB0D9F4CD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CB7-3F74-466D-948C-0EDA91ECD0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E8F0-264E-4472-9385-92F45AD5FE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D9D8-2493-4A1C-834B-B0DDDF2982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406F-751E-4C71-AFFA-6ADB33699C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000D-9B8B-4E19-A89C-41528CEBB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256-4D94-45CF-BF0E-2A24054DE7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2DCC-91A8-49E9-9449-EDE5A6B559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15DB-B091-4624-9DAB-F60EC62EF6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B4DB-33C4-480D-8251-1BBE874498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0906-9EE0-4617-9060-81EC287A12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2F0-22B4-4BF4-98DE-74A765AF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4B3-9FD9-4B6A-823F-A02049C6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D4E-2E2B-4CF9-BB80-07D62B9E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1F3-3825-4F8E-AB79-B7823414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43CF-57AC-4919-A7DE-8A570BC6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FAA3-BA26-4FB1-BF0C-37007916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C163-96BD-43D3-98B8-D6F8E3B8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55E8-95BB-4A6A-B14F-0A6FE07B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DB72-9BE8-4FE6-895D-764BBA75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A53A-F1F1-4FA8-A26C-992DBB3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8832-C190-4675-9950-FB822A4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D0A-7899-4328-8BA9-D65B489A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DE43-2D40-4EC0-BC2E-6D6DDE2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0B75-97AF-49E2-971E-5DD3E10A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A463-F73D-45DC-9D54-BFB69A8C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1E7E-F029-4045-8B25-461A0FB5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57F7-6F07-473F-95E9-BAD57AA1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5DFE1-1A00-4E04-8E8B-1E60D679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C5A15-5979-4176-98D4-7DAB080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EDAB9-7BA7-4DC4-A4FD-4B80B3D6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756BF-0217-4A72-944F-1A06CCB1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3311D-1DE7-4386-954D-F02EEF66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6EC-C9D7-4430-A470-AE933306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6A314-A2C7-491B-B4B8-E31DBF8A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A183D-D125-4768-816B-CCA73F0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8B53F-0D8E-4B86-9651-9A96DA4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08C25-B853-46A2-A369-09DFD96B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6BE3E-AC92-4748-B47F-4FCBF366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30963-ECD6-49FD-B130-2990EA66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D8488-42C9-4FD1-AB0B-E20325E8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8FFA-012D-49C4-84F7-3DC7BD91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E611-DF2D-40BC-9B7F-53B8BC0C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D680-04DD-4305-9CA9-43FAA64A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C62-815F-4F40-9C3C-587ED339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BD35-E19A-4903-B521-F4CE8D0C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B629-BDEB-46F8-AAAB-763116F0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407D-8ACD-4779-AF0F-836A21DF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82AF3-BAE1-48A3-8829-71F998E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7FFA-A06B-4389-B5F1-E7E57A69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E8AD-D476-4B0F-82C2-0342E4C1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25DD-7949-4AE8-A5D7-7F9E267E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DCF22-59C5-4ED8-AEFB-84A613E2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AB58F-87EC-44E2-9C95-721CC150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E7A17-1A8D-44A3-8CBC-CF3B5250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581-F4F5-4020-8813-29A646E3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8C2E4-B69D-4649-BADE-80E644B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25B91-B98D-4CE6-B410-FA22A34B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871DE-0D4B-4C05-8570-C0438A09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9F05A-4246-4C31-A942-943610FC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FE51E-AC2B-4CB8-AD59-ECF95381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0B773-4147-4B5B-9E43-53B68596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F539C-9B6B-406F-A287-6155AEE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22E2D-830F-45B6-BE89-B18B9CF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1445F-F867-40FD-AA7D-DB9DA5C3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3E744-9125-4D87-A7FC-BBBD4AA3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B38-A7C3-4CA2-B8A7-2E1774F5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8F3CD-E8A6-4790-9713-679E57BD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62C37-4978-4CBC-8369-9CDEF37C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3DB29-5184-461E-93C7-37F9C623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F4A2E-CCC1-4259-B50D-BB9F410D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89EA2-A54B-4A4A-A2BC-699063C2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17C5B-70E2-48B3-B58E-32BBBECF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1E993-C8E3-42FF-B73E-98294812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D89C9-676B-4323-ABCE-98E5F4DF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04218-B76C-4DBF-82D4-4098BF8A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56AA2-4A03-47E9-A31B-01420A7C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36E-6CFB-4A9B-B5D9-57B973A0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E398F8-21F6-45B6-8530-9825928C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E5783-8A1B-43E1-8EFD-829667B0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82442-9A21-4235-9640-FF77986D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92493-0497-43C4-A1A1-8D61C4F7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0D4AA-B8E0-4B95-93B7-8CA044BD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7A22C-01CD-4EC3-9BAC-619D160C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4E03E-5533-4803-B53B-07A51A72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7AC7F-52C8-49E1-B470-82DA9BDA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BE6BE-0B46-480C-A384-67479F58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292AA-14BE-4E18-9195-69E3837D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A60-9704-4707-A8B3-23896AB8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673FD-38C0-43EE-B120-7B332D8E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CCFD2-4B36-4360-96DF-B7B3E44F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665C3-4294-4143-B577-3756BAD2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92E2D-1A24-4945-BF43-6C900546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8D5D5-9222-4A73-A86F-4ECADA58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046-AA62-4BBF-B8E2-229530B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8466-2393-4DBA-B289-1BD8522F4542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F186-5E36-42E8-A967-77F41B8F378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E0A2-F9C4-4354-9DFD-B1C82E95F011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CF7F-8115-46DB-BD79-7CCC09195DE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D918-174D-4C95-91BA-45AC2E606FD8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8403-0B40-4C0D-A0DC-B8E9734DE3A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545A-D250-4E90-8373-EFC4AAD9F969}" type="datetime">
              <a:rPr b="0" lang="en-US" sz="1200" spc="-1" strike="noStrike">
                <a:solidFill>
                  <a:srgbClr val="dde9ec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F8D-B97B-4BE0-A6BE-7CEB017FE76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B197-62D5-4138-BA3E-5AC5793922AE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D573-FA41-46EA-B58E-C9473816185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E51C-C1D7-462A-85F4-6659A7643244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0F8C-5E6C-427C-AB3A-4CCCD8106F9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6C65-0109-47C1-9567-E7F5B2823E8D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937-B183-4531-85B2-7607A8025C1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2.wmf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32000" y="785520"/>
            <a:ext cx="70200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53"/>
                </a:solidFill>
                <a:latin typeface="Cambria"/>
              </a:rPr>
              <a:t>   </a:t>
            </a:r>
            <a:r>
              <a:rPr b="1" lang="en-US" sz="4000" spc="-1" strike="noStrike">
                <a:solidFill>
                  <a:srgbClr val="464653"/>
                </a:solidFill>
                <a:latin typeface="Cambria"/>
              </a:rPr>
              <a:t>ПУТЕШЕСТВИЕ ТУЧКИ </a:t>
            </a:r>
            <a:br>
              <a:rPr sz="4000"/>
            </a:br>
            <a:r>
              <a:rPr b="1" lang="en-US" sz="4000" spc="-1" strike="noStrike">
                <a:solidFill>
                  <a:srgbClr val="464653"/>
                </a:solidFill>
                <a:latin typeface="Cambria"/>
              </a:rPr>
              <a:t>   ПО ЕВРОПЕ.    ВЕЛИКОБРИТАНИЯ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360" name="Picture 2" descr="C:\Documents and Settings\1\Local Settings\Temporary Internet Files\Content.IE5\ULEHWNEV\MPj04388080000[1].jpg"/>
          <p:cNvPicPr/>
          <p:nvPr/>
        </p:nvPicPr>
        <p:blipFill>
          <a:blip r:embed="rId1"/>
          <a:stretch/>
        </p:blipFill>
        <p:spPr>
          <a:xfrm>
            <a:off x="4071960" y="3429000"/>
            <a:ext cx="4429080" cy="2981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C:\Documents and Settings\1\Local Settings\Temporary Internet Files\Content.IE5\ULEHWNEV\MCj01994150000[1].wmf"/>
          <p:cNvPicPr/>
          <p:nvPr/>
        </p:nvPicPr>
        <p:blipFill>
          <a:blip r:embed="rId2"/>
          <a:stretch/>
        </p:blipFill>
        <p:spPr>
          <a:xfrm>
            <a:off x="7451640" y="0"/>
            <a:ext cx="1535040" cy="1295280"/>
          </a:xfrm>
          <a:prstGeom prst="rect">
            <a:avLst/>
          </a:prstGeom>
          <a:ln w="0">
            <a:noFill/>
          </a:ln>
        </p:spPr>
      </p:pic>
      <p:sp>
        <p:nvSpPr>
          <p:cNvPr id="362" name="Номер слайда 5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51BC-0272-4548-A485-4FBE90F0895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НЕОБЫЧНЫЕ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АВТОБУСЫ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 улицах Лондона можно увидеть множество ярко-красных двухэтажных автобу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643800" y="21420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2" descr="CAC5MNGL.jpg"/>
          <p:cNvPicPr/>
          <p:nvPr/>
        </p:nvPicPr>
        <p:blipFill>
          <a:blip r:embed="rId2"/>
          <a:stretch/>
        </p:blipFill>
        <p:spPr>
          <a:xfrm>
            <a:off x="5500800" y="4929120"/>
            <a:ext cx="2019240" cy="135756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11" descr="биг.JPG"/>
          <p:cNvPicPr/>
          <p:nvPr/>
        </p:nvPicPr>
        <p:blipFill>
          <a:blip r:embed="rId3"/>
          <a:stretch/>
        </p:blipFill>
        <p:spPr>
          <a:xfrm>
            <a:off x="4572000" y="2000160"/>
            <a:ext cx="3657600" cy="2467080"/>
          </a:xfrm>
          <a:prstGeom prst="rect">
            <a:avLst/>
          </a:prstGeom>
          <a:ln w="0">
            <a:noFill/>
          </a:ln>
        </p:spPr>
      </p:pic>
      <p:sp>
        <p:nvSpPr>
          <p:cNvPr id="419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B31C-527A-4BD9-A359-5CBBC1EE883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САМЫЕ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ИЗВЕСТНЫЕ ЧАСЫ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Лондоне туристы обязательно увидят башню высотой 98 метров, на которой расположены часы  «БИГ БЕ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гда часы отбивают время, бой их передают все английские радиостан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643800" y="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8" descr="бб.JPG"/>
          <p:cNvPicPr/>
          <p:nvPr/>
        </p:nvPicPr>
        <p:blipFill>
          <a:blip r:embed="rId2"/>
          <a:stretch/>
        </p:blipFill>
        <p:spPr>
          <a:xfrm>
            <a:off x="4714920" y="1785960"/>
            <a:ext cx="2716200" cy="411336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1CA8-F18C-460A-BC15-0AD711BE63D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БУКИНГЕМСКИЙ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ДВОРЕЦ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Если над дворцом реет королевский флаг, значит, королева находится во дворц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Большинство посетителей Лондона непременно хотят увидеть Букингемский дворец, в котором живет сама королева Великобрита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093080" y="0"/>
            <a:ext cx="1589040" cy="13399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9" descr="CAK1IZ0H.jpg"/>
          <p:cNvPicPr/>
          <p:nvPr/>
        </p:nvPicPr>
        <p:blipFill>
          <a:blip r:embed="rId2"/>
          <a:stretch/>
        </p:blipFill>
        <p:spPr>
          <a:xfrm>
            <a:off x="4140360" y="51577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бук8"/>
          <p:cNvPicPr/>
          <p:nvPr/>
        </p:nvPicPr>
        <p:blipFill>
          <a:blip r:embed="rId3"/>
          <a:stretch/>
        </p:blipFill>
        <p:spPr>
          <a:xfrm>
            <a:off x="4211640" y="112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бук1"/>
          <p:cNvPicPr/>
          <p:nvPr/>
        </p:nvPicPr>
        <p:blipFill>
          <a:blip r:embed="rId4"/>
          <a:stretch/>
        </p:blipFill>
        <p:spPr>
          <a:xfrm>
            <a:off x="5867280" y="3357720"/>
            <a:ext cx="2648160" cy="1692000"/>
          </a:xfrm>
          <a:prstGeom prst="rect">
            <a:avLst/>
          </a:prstGeom>
          <a:ln w="0">
            <a:noFill/>
          </a:ln>
        </p:spPr>
      </p:pic>
      <p:sp>
        <p:nvSpPr>
          <p:cNvPr id="431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7E87-B28B-4AA2-AD6C-2DE6D11DA3D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УТЕШЕСТВИЕ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РОДОЛЖАЕТС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о туристы не могут просто так заглянуть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вор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236000" y="0"/>
            <a:ext cx="1517400" cy="1279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бук3"/>
          <p:cNvPicPr/>
          <p:nvPr/>
        </p:nvPicPr>
        <p:blipFill>
          <a:blip r:embed="rId2"/>
          <a:stretch/>
        </p:blipFill>
        <p:spPr>
          <a:xfrm>
            <a:off x="4572000" y="162864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бук5"/>
          <p:cNvPicPr/>
          <p:nvPr/>
        </p:nvPicPr>
        <p:blipFill>
          <a:blip r:embed="rId3"/>
          <a:stretch/>
        </p:blipFill>
        <p:spPr>
          <a:xfrm>
            <a:off x="4572000" y="4365720"/>
            <a:ext cx="3313080" cy="2130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2" descr="бук"/>
          <p:cNvPicPr/>
          <p:nvPr/>
        </p:nvPicPr>
        <p:blipFill>
          <a:blip r:embed="rId4"/>
          <a:stretch/>
        </p:blipFill>
        <p:spPr>
          <a:xfrm>
            <a:off x="755640" y="4365720"/>
            <a:ext cx="3435480" cy="2092320"/>
          </a:xfrm>
          <a:prstGeom prst="rect">
            <a:avLst/>
          </a:prstGeom>
          <a:ln w="0">
            <a:noFill/>
          </a:ln>
        </p:spPr>
      </p:pic>
      <p:sp>
        <p:nvSpPr>
          <p:cNvPr id="438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91ED-575F-4351-AB0C-A88D5B64086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3657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олько летом в течение нескольких месяцев разрешается осматривать некоторые комнаты двор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сего их там 65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11" descr="бук2"/>
          <p:cNvPicPr/>
          <p:nvPr/>
        </p:nvPicPr>
        <p:blipFill>
          <a:blip r:embed="rId1"/>
          <a:stretch/>
        </p:blipFill>
        <p:spPr>
          <a:xfrm>
            <a:off x="4284720" y="404640"/>
            <a:ext cx="2857320" cy="36720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8" descr="бук6"/>
          <p:cNvPicPr/>
          <p:nvPr/>
        </p:nvPicPr>
        <p:blipFill>
          <a:blip r:embed="rId2"/>
          <a:stretch/>
        </p:blipFill>
        <p:spPr>
          <a:xfrm>
            <a:off x="3851280" y="4508640"/>
            <a:ext cx="1511280" cy="2141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9" descr="внутри"/>
          <p:cNvPicPr/>
          <p:nvPr/>
        </p:nvPicPr>
        <p:blipFill>
          <a:blip r:embed="rId3"/>
          <a:stretch/>
        </p:blipFill>
        <p:spPr>
          <a:xfrm>
            <a:off x="395280" y="4508640"/>
            <a:ext cx="3097080" cy="2114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0" descr="внутри3"/>
          <p:cNvPicPr/>
          <p:nvPr/>
        </p:nvPicPr>
        <p:blipFill>
          <a:blip r:embed="rId4"/>
          <a:stretch/>
        </p:blipFill>
        <p:spPr>
          <a:xfrm>
            <a:off x="5796000" y="4456080"/>
            <a:ext cx="2830320" cy="21225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C:\Documents and Settings\1\Local Settings\Temporary Internet Files\Content.IE5\ULEHWNEV\MCj01994150000[1].wmf"/>
          <p:cNvPicPr/>
          <p:nvPr/>
        </p:nvPicPr>
        <p:blipFill>
          <a:blip r:embed="rId5"/>
          <a:stretch/>
        </p:blipFill>
        <p:spPr>
          <a:xfrm>
            <a:off x="7236000" y="0"/>
            <a:ext cx="1444320" cy="1219320"/>
          </a:xfrm>
          <a:prstGeom prst="rect">
            <a:avLst/>
          </a:prstGeom>
          <a:ln w="0">
            <a:noFill/>
          </a:ln>
        </p:spPr>
      </p:pic>
      <p:sp>
        <p:nvSpPr>
          <p:cNvPr id="447" name="Номер слайда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051F-3930-46E6-A7A3-F1379AB443D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СМЕНА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КАРАУЛ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571400"/>
            <a:ext cx="3657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руглый год  можно наблюдать за сменой караула, когда гвардейцев, охраняющих дворец, сменяет новая охр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 караульных можно увидеть необычные  меховые шап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308720" y="0"/>
            <a:ext cx="1374840" cy="1158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караул4"/>
          <p:cNvPicPr/>
          <p:nvPr/>
        </p:nvPicPr>
        <p:blipFill>
          <a:blip r:embed="rId2"/>
          <a:stretch/>
        </p:blipFill>
        <p:spPr>
          <a:xfrm>
            <a:off x="4572000" y="4292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караул"/>
          <p:cNvPicPr/>
          <p:nvPr/>
        </p:nvPicPr>
        <p:blipFill>
          <a:blip r:embed="rId3"/>
          <a:stretch/>
        </p:blipFill>
        <p:spPr>
          <a:xfrm>
            <a:off x="4572000" y="1413000"/>
            <a:ext cx="3821040" cy="2641320"/>
          </a:xfrm>
          <a:prstGeom prst="rect">
            <a:avLst/>
          </a:prstGeom>
          <a:ln w="0">
            <a:noFill/>
          </a:ln>
        </p:spPr>
      </p:pic>
      <p:sp>
        <p:nvSpPr>
          <p:cNvPr id="453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A49C-6B0D-4174-97D8-84E122E3992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ТРАФАЛЬГАРСКАЯ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ЛОЩАДЬ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50560" y="1600200"/>
            <a:ext cx="3529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И туристы, и голуби очень любят собираться на ТРАФАЛЬГАРСКОЙ площади, посреди которой стоит высокая колонна со статуей адмирала Нельсона на самом верху. Этот моряк одержал много побе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715080" y="0"/>
            <a:ext cx="1967040" cy="1658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1\Рабочий стол\фото\первый 044.jpg"/>
          <p:cNvPicPr/>
          <p:nvPr/>
        </p:nvPicPr>
        <p:blipFill>
          <a:blip r:embed="rId2"/>
          <a:stretch/>
        </p:blipFill>
        <p:spPr>
          <a:xfrm>
            <a:off x="6372360" y="2421000"/>
            <a:ext cx="2305080" cy="1990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9" descr="нельсон"/>
          <p:cNvPicPr/>
          <p:nvPr/>
        </p:nvPicPr>
        <p:blipFill>
          <a:blip r:embed="rId3"/>
          <a:stretch/>
        </p:blipFill>
        <p:spPr>
          <a:xfrm>
            <a:off x="3851280" y="3716280"/>
            <a:ext cx="2300400" cy="2873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0" descr="траф"/>
          <p:cNvPicPr/>
          <p:nvPr/>
        </p:nvPicPr>
        <p:blipFill>
          <a:blip r:embed="rId4"/>
          <a:stretch/>
        </p:blipFill>
        <p:spPr>
          <a:xfrm>
            <a:off x="3851280" y="836640"/>
            <a:ext cx="2330280" cy="2765520"/>
          </a:xfrm>
          <a:prstGeom prst="rect">
            <a:avLst/>
          </a:prstGeom>
          <a:ln w="0">
            <a:noFill/>
          </a:ln>
        </p:spPr>
      </p:pic>
      <p:sp>
        <p:nvSpPr>
          <p:cNvPr id="460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C394-05DF-4CCD-BE49-F6A6FBC1BB5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ТАУЭР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428840"/>
            <a:ext cx="3657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ак называется замок, находящийся на Темз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00 лет здесь жили короли и короле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643800" y="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т"/>
          <p:cNvPicPr/>
          <p:nvPr/>
        </p:nvPicPr>
        <p:blipFill>
          <a:blip r:embed="rId2"/>
          <a:stretch/>
        </p:blipFill>
        <p:spPr>
          <a:xfrm>
            <a:off x="4140360" y="2073240"/>
            <a:ext cx="3887640" cy="3817800"/>
          </a:xfrm>
          <a:prstGeom prst="rect">
            <a:avLst/>
          </a:prstGeom>
          <a:ln w="0">
            <a:noFill/>
          </a:ln>
        </p:spPr>
      </p:pic>
      <p:sp>
        <p:nvSpPr>
          <p:cNvPr id="46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E7DB-101C-4FDF-AB7A-8307B5981A7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3657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олгое время он был тюрьмой, в которой содержались только очень важные особ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йчас здесь муз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6" descr="т1"/>
          <p:cNvPicPr/>
          <p:nvPr/>
        </p:nvPicPr>
        <p:blipFill>
          <a:blip r:embed="rId1"/>
          <a:stretch/>
        </p:blipFill>
        <p:spPr>
          <a:xfrm>
            <a:off x="4643280" y="400536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т внутри"/>
          <p:cNvPicPr/>
          <p:nvPr/>
        </p:nvPicPr>
        <p:blipFill>
          <a:blip r:embed="rId2"/>
          <a:stretch/>
        </p:blipFill>
        <p:spPr>
          <a:xfrm>
            <a:off x="826920" y="407664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9" descr="т2"/>
          <p:cNvPicPr/>
          <p:nvPr/>
        </p:nvPicPr>
        <p:blipFill>
          <a:blip r:embed="rId3"/>
          <a:stretch/>
        </p:blipFill>
        <p:spPr>
          <a:xfrm>
            <a:off x="4643280" y="476280"/>
            <a:ext cx="2390760" cy="30258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C:\Documents and Settings\1\Local Settings\Temporary Internet Files\Content.IE5\ULEHWNEV\MCj01994150000[1].wmf"/>
          <p:cNvPicPr/>
          <p:nvPr/>
        </p:nvPicPr>
        <p:blipFill>
          <a:blip r:embed="rId4"/>
          <a:stretch/>
        </p:blipFill>
        <p:spPr>
          <a:xfrm>
            <a:off x="7236000" y="0"/>
            <a:ext cx="1446120" cy="1219320"/>
          </a:xfrm>
          <a:prstGeom prst="rect">
            <a:avLst/>
          </a:prstGeom>
          <a:ln w="0">
            <a:noFill/>
          </a:ln>
        </p:spPr>
      </p:pic>
      <p:sp>
        <p:nvSpPr>
          <p:cNvPr id="473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65B1-ED3D-47A0-B6A3-B1A6AAB88E9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ВОРОНЫ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ТАУЭР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5280" y="1844280"/>
            <a:ext cx="3672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генда гласит, что когда в Тауэре останется меньше 6 воронов, королевскую семью постигнет нечто страшное. Сегодня в замке живет 8 больших черных птиц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308720" y="0"/>
            <a:ext cx="1374840" cy="115884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8" descr="ворон2.jpg"/>
          <p:cNvPicPr/>
          <p:nvPr/>
        </p:nvPicPr>
        <p:blipFill>
          <a:blip r:embed="rId2"/>
          <a:stretch/>
        </p:blipFill>
        <p:spPr>
          <a:xfrm>
            <a:off x="3059280" y="26028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0" descr="ворон 2"/>
          <p:cNvPicPr/>
          <p:nvPr/>
        </p:nvPicPr>
        <p:blipFill>
          <a:blip r:embed="rId3"/>
          <a:stretch/>
        </p:blipFill>
        <p:spPr>
          <a:xfrm>
            <a:off x="5003640" y="1341360"/>
            <a:ext cx="3384720" cy="2254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ворон3"/>
          <p:cNvPicPr/>
          <p:nvPr/>
        </p:nvPicPr>
        <p:blipFill>
          <a:blip r:embed="rId4"/>
          <a:stretch/>
        </p:blipFill>
        <p:spPr>
          <a:xfrm>
            <a:off x="4211640" y="386064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4E5E-2AD0-4766-847C-33DA04A6957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ДАВАЙТЕ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ОЗНАКОМИМС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70320" y="1600200"/>
            <a:ext cx="415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Я – ТУЧКА. Родилась над Атлантическим океаном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ВЫ знаете, что мой друг ветер очень любит путешествовать. Бродяга предложил мне отправиться вместе с ним в путешествие по миру. Я хочу пригласить и ВАС. Будет много интересного, ВЫ узнаете много нового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214200" y="2214720"/>
            <a:ext cx="3981600" cy="3357360"/>
          </a:xfrm>
          <a:prstGeom prst="rect">
            <a:avLst/>
          </a:prstGeom>
          <a:ln w="0">
            <a:noFill/>
          </a:ln>
        </p:spPr>
      </p:pic>
      <p:sp>
        <p:nvSpPr>
          <p:cNvPr id="367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634F-E9CA-49E4-B2BA-7832CA8B3AD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5267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Воронов кормят особой пищей: сырым мясом, поджаренным хлебом, кроликами, и даже птичьим кормом, вымоченным в кров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C:\Documents and Settings\1\Рабочий стол\фото\первый 045.jpg"/>
          <p:cNvPicPr/>
          <p:nvPr/>
        </p:nvPicPr>
        <p:blipFill>
          <a:blip r:embed="rId1"/>
          <a:stretch/>
        </p:blipFill>
        <p:spPr>
          <a:xfrm>
            <a:off x="5724360" y="1197000"/>
            <a:ext cx="2444760" cy="4513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ворон 1"/>
          <p:cNvPicPr/>
          <p:nvPr/>
        </p:nvPicPr>
        <p:blipFill>
          <a:blip r:embed="rId2"/>
          <a:stretch/>
        </p:blipFill>
        <p:spPr>
          <a:xfrm>
            <a:off x="1908000" y="3068640"/>
            <a:ext cx="2268720" cy="3024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7" descr="C:\Documents and Settings\1\Local Settings\Temporary Internet Files\Content.IE5\ULEHWNEV\MCj01994150000[1].wmf"/>
          <p:cNvPicPr/>
          <p:nvPr/>
        </p:nvPicPr>
        <p:blipFill>
          <a:blip r:embed="rId3"/>
          <a:stretch/>
        </p:blipFill>
        <p:spPr>
          <a:xfrm>
            <a:off x="7236000" y="0"/>
            <a:ext cx="144612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7DF3-F364-4C02-A2C7-73114C1430F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ДИКОВИННЫЕ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ЖИВОТНЫЕ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В Великобритании можно увидеть лошадей всех размеров и форм: от маленьких ПО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до ТЯЖЕЛОВОЗ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9" name="Object 9"/>
          <p:cNvGraphicFramePr/>
          <p:nvPr/>
        </p:nvGraphicFramePr>
        <p:xfrm>
          <a:off x="0" y="2816280"/>
          <a:ext cx="365760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6280"/>
                    <a:ext cx="36576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1" name="Picture 7" descr="C:\Documents and Settings\1\Local Settings\Temporary Internet Files\Content.IE5\ULEHWNEV\MCj01994150000[1].wmf"/>
          <p:cNvPicPr/>
          <p:nvPr/>
        </p:nvPicPr>
        <p:blipFill>
          <a:blip r:embed="rId3"/>
          <a:stretch/>
        </p:blipFill>
        <p:spPr>
          <a:xfrm>
            <a:off x="7164360" y="0"/>
            <a:ext cx="1517760" cy="12794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" descr="пони"/>
          <p:cNvPicPr/>
          <p:nvPr/>
        </p:nvPicPr>
        <p:blipFill>
          <a:blip r:embed="rId4"/>
          <a:stretch/>
        </p:blipFill>
        <p:spPr>
          <a:xfrm>
            <a:off x="755640" y="3933720"/>
            <a:ext cx="1509840" cy="2252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4" descr="пони и тяж"/>
          <p:cNvPicPr/>
          <p:nvPr/>
        </p:nvPicPr>
        <p:blipFill>
          <a:blip r:embed="rId5"/>
          <a:stretch/>
        </p:blipFill>
        <p:spPr>
          <a:xfrm>
            <a:off x="5781600" y="3068640"/>
            <a:ext cx="2325600" cy="3006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5" descr="тяж"/>
          <p:cNvPicPr/>
          <p:nvPr/>
        </p:nvPicPr>
        <p:blipFill>
          <a:blip r:embed="rId6"/>
          <a:stretch/>
        </p:blipFill>
        <p:spPr>
          <a:xfrm>
            <a:off x="2627280" y="3951360"/>
            <a:ext cx="2881440" cy="2163600"/>
          </a:xfrm>
          <a:prstGeom prst="rect">
            <a:avLst/>
          </a:prstGeom>
          <a:ln w="0">
            <a:noFill/>
          </a:ln>
        </p:spPr>
      </p:pic>
      <p:sp>
        <p:nvSpPr>
          <p:cNvPr id="495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4019-F03E-41C1-ABD0-240D26FA089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СПОРТ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нгличане очень любят спорт. Именно они изобрели такие популярные виды спорта, как гольф, теннис, крикет, регби, футб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164360" y="0"/>
            <a:ext cx="1517760" cy="12794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6" descr="гольф.JPG"/>
          <p:cNvPicPr/>
          <p:nvPr/>
        </p:nvPicPr>
        <p:blipFill>
          <a:blip r:embed="rId2"/>
          <a:stretch/>
        </p:blipFill>
        <p:spPr>
          <a:xfrm>
            <a:off x="826920" y="3573360"/>
            <a:ext cx="1357560" cy="2036880"/>
          </a:xfrm>
          <a:prstGeom prst="rect">
            <a:avLst/>
          </a:prstGeom>
          <a:ln w="0">
            <a:noFill/>
          </a:ln>
        </p:spPr>
      </p:pic>
      <p:pic>
        <p:nvPicPr>
          <p:cNvPr id="500" name="Содержимое 8" descr="теннис1.JPG"/>
          <p:cNvPicPr/>
          <p:nvPr/>
        </p:nvPicPr>
        <p:blipFill>
          <a:blip r:embed="rId3"/>
          <a:stretch/>
        </p:blipFill>
        <p:spPr>
          <a:xfrm>
            <a:off x="2556000" y="4581360"/>
            <a:ext cx="1333440" cy="20005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9" descr="крикет.jpg"/>
          <p:cNvPicPr/>
          <p:nvPr/>
        </p:nvPicPr>
        <p:blipFill>
          <a:blip r:embed="rId4"/>
          <a:stretch/>
        </p:blipFill>
        <p:spPr>
          <a:xfrm>
            <a:off x="4284720" y="3573360"/>
            <a:ext cx="1731960" cy="12859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10" descr="регби 1.jpg"/>
          <p:cNvPicPr/>
          <p:nvPr/>
        </p:nvPicPr>
        <p:blipFill>
          <a:blip r:embed="rId5"/>
          <a:stretch/>
        </p:blipFill>
        <p:spPr>
          <a:xfrm>
            <a:off x="4284720" y="5229360"/>
            <a:ext cx="1720800" cy="129060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1" descr="футбол.JPG"/>
          <p:cNvPicPr/>
          <p:nvPr/>
        </p:nvPicPr>
        <p:blipFill>
          <a:blip r:embed="rId6"/>
          <a:stretch/>
        </p:blipFill>
        <p:spPr>
          <a:xfrm>
            <a:off x="6443640" y="3573360"/>
            <a:ext cx="1365120" cy="2043360"/>
          </a:xfrm>
          <a:prstGeom prst="rect">
            <a:avLst/>
          </a:prstGeom>
          <a:ln w="0">
            <a:noFill/>
          </a:ln>
        </p:spPr>
      </p:pic>
      <p:sp>
        <p:nvSpPr>
          <p:cNvPr id="504" name="Номер слайда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9737-2665-4E07-8B54-20A26F2EC9A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УЭМБЛИ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920" y="1600200"/>
            <a:ext cx="345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Большинство решающих футбольных матчей проходят в Лондоне на стадионе Уэмбли. Он вмещает около 80000 болельщиков!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093080" y="0"/>
            <a:ext cx="1590480" cy="1341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уэмбли"/>
          <p:cNvPicPr/>
          <p:nvPr/>
        </p:nvPicPr>
        <p:blipFill>
          <a:blip r:embed="rId2"/>
          <a:stretch/>
        </p:blipFill>
        <p:spPr>
          <a:xfrm>
            <a:off x="4211640" y="3645000"/>
            <a:ext cx="3178080" cy="2509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уэмбли1"/>
          <p:cNvPicPr/>
          <p:nvPr/>
        </p:nvPicPr>
        <p:blipFill>
          <a:blip r:embed="rId3"/>
          <a:stretch/>
        </p:blipFill>
        <p:spPr>
          <a:xfrm>
            <a:off x="3708360" y="98100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510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88D6-BB78-48F5-A964-786F3755EAC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ОДВЕДЕМ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 ИТОГ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естоположение ст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то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осударствен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ла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то прав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тра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269960" y="1600200"/>
            <a:ext cx="44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еверо-запад Европ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 остров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онд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нглий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рол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786720" y="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5" descr="флаг.jpg"/>
          <p:cNvPicPr/>
          <p:nvPr/>
        </p:nvPicPr>
        <p:blipFill>
          <a:blip r:embed="rId2"/>
          <a:stretch/>
        </p:blipFill>
        <p:spPr>
          <a:xfrm>
            <a:off x="4357800" y="4143240"/>
            <a:ext cx="1625400" cy="812880"/>
          </a:xfrm>
          <a:prstGeom prst="rect">
            <a:avLst/>
          </a:prstGeom>
          <a:ln w="0">
            <a:noFill/>
          </a:ln>
        </p:spPr>
      </p:pic>
      <p:sp>
        <p:nvSpPr>
          <p:cNvPr id="516" name="Стрелка вправо 6"/>
          <p:cNvSpPr/>
          <p:nvPr/>
        </p:nvSpPr>
        <p:spPr>
          <a:xfrm>
            <a:off x="3714840" y="1571760"/>
            <a:ext cx="5493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Стрелка вправо 7"/>
          <p:cNvSpPr/>
          <p:nvPr/>
        </p:nvSpPr>
        <p:spPr>
          <a:xfrm>
            <a:off x="3643200" y="2786040"/>
            <a:ext cx="621000" cy="4842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Стрелка вправо 8"/>
          <p:cNvSpPr/>
          <p:nvPr/>
        </p:nvSpPr>
        <p:spPr>
          <a:xfrm>
            <a:off x="3643200" y="3571920"/>
            <a:ext cx="621000" cy="4842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Стрелка вправо 9"/>
          <p:cNvSpPr/>
          <p:nvPr/>
        </p:nvSpPr>
        <p:spPr>
          <a:xfrm>
            <a:off x="3643200" y="4286160"/>
            <a:ext cx="621000" cy="4842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Стрелка вправо 10"/>
          <p:cNvSpPr/>
          <p:nvPr/>
        </p:nvSpPr>
        <p:spPr>
          <a:xfrm>
            <a:off x="3643200" y="5572080"/>
            <a:ext cx="64296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C:\Documents and Settings\1\Рабочий стол\фото\первый 047.jpg"/>
          <p:cNvPicPr/>
          <p:nvPr/>
        </p:nvPicPr>
        <p:blipFill>
          <a:blip r:embed="rId3"/>
          <a:stretch/>
        </p:blipFill>
        <p:spPr>
          <a:xfrm>
            <a:off x="6929280" y="2928960"/>
            <a:ext cx="2032200" cy="2235240"/>
          </a:xfrm>
          <a:prstGeom prst="rect">
            <a:avLst/>
          </a:prstGeom>
          <a:ln w="0">
            <a:noFill/>
          </a:ln>
        </p:spPr>
      </p:pic>
      <p:sp>
        <p:nvSpPr>
          <p:cNvPr id="522" name="Номер слайда 1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616D-5F74-49D1-9ECC-35EFF50E3EC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715080" y="0"/>
            <a:ext cx="1967040" cy="16588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ОД НАМИ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ВЕЛИКОБРИТАНИ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1600200"/>
            <a:ext cx="423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Британские острова - это два больших острова: Британия и Ирландия находятся на северо-западе Европы в Атлантическом океа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Великобритания состоит из четырех частей: Англии, Шотландии, Уэльса и Северной Ирланд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Кроме того, сюда входит еще около 5000 небольших островов. Только некоторые из них заселены людьми, а на остальных живут лишь морские птиц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2" descr="C:\Documents and Settings\1\Рабочий стол\фото\первый 054.jpg"/>
          <p:cNvPicPr/>
          <p:nvPr/>
        </p:nvPicPr>
        <p:blipFill>
          <a:blip r:embed="rId2"/>
          <a:stretch/>
        </p:blipFill>
        <p:spPr>
          <a:xfrm>
            <a:off x="571680" y="1643040"/>
            <a:ext cx="3605040" cy="4635360"/>
          </a:xfrm>
          <a:prstGeom prst="rect">
            <a:avLst/>
          </a:prstGeom>
          <a:ln w="0">
            <a:noFill/>
          </a:ln>
        </p:spPr>
      </p:pic>
      <p:sp>
        <p:nvSpPr>
          <p:cNvPr id="373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1B14-13EC-4F02-85E0-B749E53C072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ЗНАКОМИМСЯ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СО СТРАНОЙ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ликобритания простирается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75 километ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отя она в 2 раза меньше Франции, берег страны сильно изрезан ска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сли бы можно было выпрямить его, то он протянулся бы на половину земного ша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643800" y="21420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9" descr="изрез берег.JPG"/>
          <p:cNvPicPr/>
          <p:nvPr/>
        </p:nvPicPr>
        <p:blipFill>
          <a:blip r:embed="rId2"/>
          <a:stretch/>
        </p:blipFill>
        <p:spPr>
          <a:xfrm>
            <a:off x="4857840" y="1857240"/>
            <a:ext cx="3019320" cy="4572000"/>
          </a:xfrm>
          <a:prstGeom prst="rect">
            <a:avLst/>
          </a:prstGeom>
          <a:ln w="0">
            <a:noFill/>
          </a:ln>
        </p:spPr>
      </p:pic>
      <p:sp>
        <p:nvSpPr>
          <p:cNvPr id="378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3788-D940-4DA2-8032-778A8243CEA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ВЕЧНАЯ СЫРОСТЬ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Шутят, что британцы только и говорят о своей погоде! Очень часто идет дождь. В целом на Британских островах весна и лето довольно прохладные, а осень и зима теплы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164360" y="0"/>
            <a:ext cx="1513080" cy="1276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дождь"/>
          <p:cNvPicPr/>
          <p:nvPr/>
        </p:nvPicPr>
        <p:blipFill>
          <a:blip r:embed="rId2"/>
          <a:stretch/>
        </p:blipFill>
        <p:spPr>
          <a:xfrm>
            <a:off x="4211640" y="4581360"/>
            <a:ext cx="4476600" cy="209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зонт"/>
          <p:cNvPicPr/>
          <p:nvPr/>
        </p:nvPicPr>
        <p:blipFill>
          <a:blip r:embed="rId3"/>
          <a:stretch/>
        </p:blipFill>
        <p:spPr>
          <a:xfrm>
            <a:off x="5651640" y="1341360"/>
            <a:ext cx="2063520" cy="3097440"/>
          </a:xfrm>
          <a:prstGeom prst="rect">
            <a:avLst/>
          </a:prstGeom>
          <a:ln w="0">
            <a:noFill/>
          </a:ln>
        </p:spPr>
      </p:pic>
      <p:sp>
        <p:nvSpPr>
          <p:cNvPr id="384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C4E3-C50A-4D2B-A5B4-0FA3E443C52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КОРОЛЕВСТВО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глия – это страна, в которой правит  королева ЕЛИЗАВЕТА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I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Государственный язык – АНГЛИЙСК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селение составляет свыше 58 миллионов челове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020000" y="0"/>
            <a:ext cx="1662120" cy="1401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Documents and Settings\1\Рабочий стол\фото\первый 041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7720" cy="2271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C:\Documents and Settings\1\Рабочий стол\фото\первый 043.jpg"/>
          <p:cNvPicPr/>
          <p:nvPr/>
        </p:nvPicPr>
        <p:blipFill>
          <a:blip r:embed="rId3"/>
          <a:stretch/>
        </p:blipFill>
        <p:spPr>
          <a:xfrm>
            <a:off x="1571760" y="1571760"/>
            <a:ext cx="1422360" cy="2235240"/>
          </a:xfrm>
          <a:prstGeom prst="rect">
            <a:avLst/>
          </a:prstGeom>
          <a:ln w="0">
            <a:noFill/>
          </a:ln>
        </p:spPr>
      </p:pic>
      <p:sp>
        <p:nvSpPr>
          <p:cNvPr id="391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CC5B-2002-4E2B-B9BA-3AD537B491D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ЛОНДОН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ондон – не только столица Англии, но и самый большой город Великобр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Лондоне проживает около 7 миллионов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ямо через центр города протекает река ТЕМЗА. Через нее переброшено 34 мо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877080" y="0"/>
            <a:ext cx="1662120" cy="1401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мост"/>
          <p:cNvPicPr/>
          <p:nvPr/>
        </p:nvPicPr>
        <p:blipFill>
          <a:blip r:embed="rId2"/>
          <a:stretch/>
        </p:blipFill>
        <p:spPr>
          <a:xfrm>
            <a:off x="4286160" y="1785960"/>
            <a:ext cx="1968480" cy="1476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мосты"/>
          <p:cNvPicPr/>
          <p:nvPr/>
        </p:nvPicPr>
        <p:blipFill>
          <a:blip r:embed="rId3"/>
          <a:stretch/>
        </p:blipFill>
        <p:spPr>
          <a:xfrm>
            <a:off x="4716360" y="3645000"/>
            <a:ext cx="3232080" cy="2938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мост4"/>
          <p:cNvPicPr/>
          <p:nvPr/>
        </p:nvPicPr>
        <p:blipFill>
          <a:blip r:embed="rId4"/>
          <a:stretch/>
        </p:blipFill>
        <p:spPr>
          <a:xfrm>
            <a:off x="6516720" y="1773360"/>
            <a:ext cx="1936800" cy="1452600"/>
          </a:xfrm>
          <a:prstGeom prst="rect">
            <a:avLst/>
          </a:prstGeom>
          <a:ln w="0">
            <a:noFill/>
          </a:ln>
        </p:spPr>
      </p:pic>
      <p:sp>
        <p:nvSpPr>
          <p:cNvPr id="398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8BF7-CF49-44C0-B36E-9BBC190EB5C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МЕТРОПОЛИТЕН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70320" y="1600200"/>
            <a:ext cx="387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В Лондоне самое старое в мире МЕТР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Состоит из 450 поездов, 273 станций, 840 км путей и 294 эскалатор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0 миллионов туристов приезжают сюда каждый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236000" y="0"/>
            <a:ext cx="1446120" cy="1219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метро1"/>
          <p:cNvPicPr/>
          <p:nvPr/>
        </p:nvPicPr>
        <p:blipFill>
          <a:blip r:embed="rId2"/>
          <a:stretch/>
        </p:blipFill>
        <p:spPr>
          <a:xfrm>
            <a:off x="539640" y="170028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етро4"/>
          <p:cNvPicPr/>
          <p:nvPr/>
        </p:nvPicPr>
        <p:blipFill>
          <a:blip r:embed="rId3"/>
          <a:stretch/>
        </p:blipFill>
        <p:spPr>
          <a:xfrm>
            <a:off x="539640" y="4516560"/>
            <a:ext cx="3311640" cy="1985760"/>
          </a:xfrm>
          <a:prstGeom prst="rect">
            <a:avLst/>
          </a:prstGeom>
          <a:ln w="0">
            <a:noFill/>
          </a:ln>
        </p:spPr>
      </p:pic>
      <p:sp>
        <p:nvSpPr>
          <p:cNvPr id="404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2805-1E4A-4ECE-9B66-F4E96EC2136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6" name="Picture 7" descr="метро3"/>
          <p:cNvPicPr/>
          <p:nvPr/>
        </p:nvPicPr>
        <p:blipFill>
          <a:blip r:embed="rId1"/>
          <a:stretch/>
        </p:blipFill>
        <p:spPr>
          <a:xfrm>
            <a:off x="4427640" y="37893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267080" y="4149360"/>
            <a:ext cx="3657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4113000"/>
            <a:ext cx="3657600" cy="23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267080" y="119664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Люди иногда путешествуют в метро, как селедки в консервной бан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8" descr="метро2"/>
          <p:cNvPicPr/>
          <p:nvPr/>
        </p:nvPicPr>
        <p:blipFill>
          <a:blip r:embed="rId2"/>
          <a:stretch/>
        </p:blipFill>
        <p:spPr>
          <a:xfrm>
            <a:off x="468360" y="260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метро5"/>
          <p:cNvPicPr/>
          <p:nvPr/>
        </p:nvPicPr>
        <p:blipFill>
          <a:blip r:embed="rId3"/>
          <a:stretch/>
        </p:blipFill>
        <p:spPr>
          <a:xfrm>
            <a:off x="539640" y="3789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C:\Documents and Settings\1\Local Settings\Temporary Internet Files\Content.IE5\ULEHWNEV\MCj01994150000[1].wmf"/>
          <p:cNvPicPr/>
          <p:nvPr/>
        </p:nvPicPr>
        <p:blipFill>
          <a:blip r:embed="rId4"/>
          <a:stretch/>
        </p:blipFill>
        <p:spPr>
          <a:xfrm>
            <a:off x="7236000" y="0"/>
            <a:ext cx="1446120" cy="12193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109E-B74C-4045-94B8-22B39ED3B1F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4:46:23Z</dcterms:created>
  <dc:creator>User</dc:creator>
  <dc:description/>
  <dc:language>en-US</dc:language>
  <cp:lastModifiedBy>Питонище</cp:lastModifiedBy>
  <dcterms:modified xsi:type="dcterms:W3CDTF">2010-06-10T11:14:15Z</dcterms:modified>
  <cp:revision>81</cp:revision>
  <dc:subject/>
  <dc:title>Путешествие тучки по земному шару.</dc:title>
</cp:coreProperties>
</file>