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43.jpeg" ContentType="image/jpeg"/>
  <Override PartName="/ppt/media/image44.wmf" ContentType="image/x-wmf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56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ambria"/>
              </a:rPr>
              <a:t>Click to move the slide</a:t>
            </a: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2D2C-3DE7-4BB8-A543-10D473744A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0FFF-6E30-4EAA-9D6C-4385678709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CCDF-9C23-4FBD-888C-BAEE05DC54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1D29-2EC2-4FE7-8FC0-3C2594FB2B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8330-EDC9-4F8B-B24B-0D7E9A3A2D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0D99-D619-4953-A5E0-BBE47AD6BC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5CF1-0B32-4564-8312-D8F41230ED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4897-2C70-465A-BA26-46158127E5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675F-8A1D-4257-811E-17B79098AB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8DE2-A463-409B-A59C-3E56E6A960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4302-A12C-42B8-B85D-A4FFA85305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4EF5-FE51-4F6C-9986-05915C854F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703A-855C-4F9A-9883-F045C25F6E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0B39-AEAE-4A1E-AA1C-D9756B1765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D872-0D05-4B0E-AC7D-F81D637289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4CEC-B795-4768-950A-8C18CC7CF9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22F3-65C6-4765-A216-D02A455C8F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9A6E-284F-4130-BCA8-9BDEF7902F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370D-F5A9-4E96-9630-D7CB1F0F4F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66FE-34C5-4E39-9063-3568793E58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6C28-72D1-49B6-BAB4-6D9BBB2A29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BCF6-0162-47E6-B5F1-7964005943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9470-3DB6-4D4F-A29D-BDD3FD0263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EC85-8C56-40D8-B143-266AE490F4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04DA-7309-4F59-9F2B-45325C76C2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4DE6-9497-41CE-92CF-7C2D0AB1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E95A-A3DD-4EDF-8A15-14AB386A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BB1D-BF0C-4E01-BE16-1E6ED74B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8B21-930A-4512-B941-EDEEDB33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7DC8-5E61-4705-B967-C8AA2598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C309-E418-4B49-B1D7-3D6D6806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5B37-3213-4A5B-B561-3F7635CD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B8AF-3F63-43A9-B8BD-1D7F469E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997B-9A5A-45B0-91BB-C8D205A9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3999-CF89-439E-B68B-E1B8E0EB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B4B1-BF4F-4219-B354-59BBC9A9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6B6B-244F-4F38-B2F3-CA4CEBCE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93D3-CE3A-45B3-B9D9-7E49F8B3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A6E2-5A35-454A-B47A-845F1DD2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F42A-8037-4F68-94BE-AC89BAE9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A8D6-0896-4DE4-A7AD-A8A602FB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F751-E0D7-4446-A1D9-05D73771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1CAC3-0BA4-4E40-BBD6-70DEDE55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0AB30-DC1D-4C90-84DC-E29DE709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15E4A-40E0-4395-99DB-BBF8825E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57072-C683-4746-86FF-E939DE4B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FB65A1-06D3-4A6B-9C81-95C9207F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4438-1E4C-487A-A4E0-4B93D37E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050C66-E88A-40BA-AEB0-9CDC9AF4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06E8BD-4858-42FA-8435-FEE29DAB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56CD20-4311-4972-BD0A-71D5B516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06500-D6A7-4E52-8238-11EBAE89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F3CFD-7AA3-4571-BC3C-63237BAA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7D3456-44C7-4F07-989D-273D9BBC4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B22EEC-A244-4688-BFB9-D207BB26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BD7B9-E6CB-4667-8D5F-F004DCDA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6D5B0-9D79-4AE1-8B4A-E5BD60F5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07782-33F0-4DB5-8E1A-DEB3D401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F871-47DB-499D-9DEB-A3870F96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7D625-6549-47A5-A87E-C0A782B5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E04AA-818E-4D34-9D5A-8D738026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15670-BAF7-448E-9866-AD6AF095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44025-7B06-47B1-BA9C-E81A8E49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0246F-49AB-417A-AFDF-627A84B9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758F3-11BF-4703-8547-4C44AEFE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33589-04F3-4644-9D2F-CE2FF757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E3FF3-64F1-402C-9D4F-6B2D129E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59AE4-4D1F-4674-965A-155ECD2E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0113BD-B035-4BA1-9D74-D747EE6C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87FF-7777-4299-8EB2-E5843AC1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2FEA22-3D41-45EA-8F4E-99AA6BA7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6A5201-9C0C-4D1F-A838-E0E330F3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7EDB98-C4C8-4990-A018-35D083DE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98894C-E628-44EC-A6DC-959091D9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CE503C-2BF0-4201-9826-E3D670A2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AA47F5-83D1-4B6D-856F-CB579EDF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016014-F5AD-40AB-80C2-9F1D1557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F8480F-CD1E-40A0-A8C8-70C1CB01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EB4D4A-6251-4F4A-81BC-3A42EDE9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727C7F-8A55-4F03-9259-4FAF242B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24D1-EFCD-4016-A26B-15DDBB23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427BA0-8F44-406B-A7A6-4C44C8ED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E1E389-DD3A-4222-9E35-3DC915C4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BD0E36-6264-4454-92C8-D01380FC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A04F3C-61EE-4BF5-BD67-82C0F2D3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C137C4-1AE2-443D-8D99-D1811AD8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21D2D7-7E37-4431-AFB7-E9D824DE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F06D82-35D1-45F8-9A12-3091C3D1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1C4F3B-DE21-47B1-B230-DED67733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EA3E35-0EFA-4D70-B9B8-BA34C1B9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591CD3-2163-41FD-9062-FC87BACC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31E4-710C-40DC-AE18-C9932274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7F8491-0795-4645-AFA5-C00127DC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F11ED2-82D7-48A1-90EC-35BA4E60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C71111-99BC-4AB3-99A8-16C87865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8E6374-F433-4491-A092-29330FB1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049575-2C24-4648-B11D-45BE36CA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EE18FE-07C5-4D98-B2AF-B62187E3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63E87B-FAE5-490E-AE73-2B27E1C1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0CAB60-C2C6-43BC-BC88-1B99DB9B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C3D2D2-6AA9-47F6-B671-EE7A33B4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CA1874-72FD-42EE-8867-80E0FA05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A421-BA20-42EA-AC44-E3E0E361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BDE42A-EA50-470E-9378-B544983D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9ACB17-AFD1-4F21-81B3-082F28E8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1DED63-DC79-4403-8B8F-2779853C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8AB1C7-52FD-4C83-8086-A8E60410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0084A7-5FFF-477B-8FD9-3C25BB2E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1A5-C635-4BDD-B1A8-F16B9802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CB4F-51E9-40DA-A606-A53BC80CF987}" type="datetime">
              <a:rPr b="0" lang="en-US" sz="1200" spc="-1" strike="noStrike">
                <a:solidFill>
                  <a:srgbClr val="464653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C85F-8A09-49E3-82D5-7A644DF46AB8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bfc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d7e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d7e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ecf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bfc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ecf0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bfc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bfc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F66D-0EC7-4A90-B814-57BB69D2ED18}" type="datetime">
              <a:rPr b="0" lang="en-US" sz="1200" spc="-1" strike="noStrike">
                <a:solidFill>
                  <a:srgbClr val="464653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8C42-7732-4525-9D0E-006F3C0CCF32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7EB0-ECCB-4759-B389-C197B0829B00}" type="datetime">
              <a:rPr b="0" lang="en-US" sz="1200" spc="-1" strike="noStrike">
                <a:solidFill>
                  <a:srgbClr val="464653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E45C-DC04-4537-AE31-16DAB4215C32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bfc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d7e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d7e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ecf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bfc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ecf0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bfc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bfc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0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2AE3-453A-45A8-8D63-F1EF1AE3BE1A}" type="datetime">
              <a:rPr b="0" lang="en-US" sz="1200" spc="-1" strike="noStrike">
                <a:solidFill>
                  <a:srgbClr val="dde9ec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0776-6A74-4AC6-8132-8D8B7924ED17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058A-8084-4319-8924-15ACF16D3900}" type="datetime">
              <a:rPr b="0" lang="en-US" sz="1200" spc="-1" strike="noStrike">
                <a:solidFill>
                  <a:srgbClr val="464653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924E-715B-44C4-94FA-DF8842E94CCC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C60D-8C12-4FB7-9F69-85ACA788B331}" type="datetime">
              <a:rPr b="0" lang="en-US" sz="1200" spc="-1" strike="noStrike">
                <a:solidFill>
                  <a:srgbClr val="464653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39CE-CA71-429E-966C-CAAB65B8390B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7BF3-AD97-4DA6-9522-0ABC7905DDA4}" type="datetime">
              <a:rPr b="0" lang="en-US" sz="1200" spc="-1" strike="noStrike">
                <a:solidFill>
                  <a:srgbClr val="464653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1E88-4611-4F3D-B089-1A07C07F4F79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image" Target="../media/image2.wmf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32000" y="785520"/>
            <a:ext cx="702000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4653"/>
                </a:solidFill>
                <a:latin typeface="Cambria"/>
              </a:rPr>
              <a:t>   </a:t>
            </a:r>
            <a:r>
              <a:rPr b="1" lang="en-US" sz="4000" spc="-1" strike="noStrike">
                <a:solidFill>
                  <a:srgbClr val="464653"/>
                </a:solidFill>
                <a:latin typeface="Cambria"/>
              </a:rPr>
              <a:t>ПУТЕШЕСТВИЕ ТУЧКИ </a:t>
            </a:r>
            <a:br>
              <a:rPr sz="4000"/>
            </a:br>
            <a:r>
              <a:rPr b="1" lang="en-US" sz="4000" spc="-1" strike="noStrike">
                <a:solidFill>
                  <a:srgbClr val="464653"/>
                </a:solidFill>
                <a:latin typeface="Cambria"/>
              </a:rPr>
              <a:t>   ПО ЕВРОПЕ.    ВЕЛИКОБРИТАНИЯ</a:t>
            </a:r>
            <a:endParaRPr b="0" lang="en-US" sz="4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360" name="Picture 2" descr="C:\Documents and Settings\1\Local Settings\Temporary Internet Files\Content.IE5\ULEHWNEV\MPj04388080000[1].jpg"/>
          <p:cNvPicPr/>
          <p:nvPr/>
        </p:nvPicPr>
        <p:blipFill>
          <a:blip r:embed="rId1"/>
          <a:stretch/>
        </p:blipFill>
        <p:spPr>
          <a:xfrm>
            <a:off x="4071960" y="3429000"/>
            <a:ext cx="4429080" cy="29811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C:\Documents and Settings\1\Local Settings\Temporary Internet Files\Content.IE5\ULEHWNEV\MCj01994150000[1].wmf"/>
          <p:cNvPicPr/>
          <p:nvPr/>
        </p:nvPicPr>
        <p:blipFill>
          <a:blip r:embed="rId2"/>
          <a:stretch/>
        </p:blipFill>
        <p:spPr>
          <a:xfrm>
            <a:off x="7451640" y="0"/>
            <a:ext cx="1535040" cy="1295280"/>
          </a:xfrm>
          <a:prstGeom prst="rect">
            <a:avLst/>
          </a:prstGeom>
          <a:ln w="0">
            <a:noFill/>
          </a:ln>
        </p:spPr>
      </p:pic>
      <p:sp>
        <p:nvSpPr>
          <p:cNvPr id="362" name="Номер слайда 5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A6C2-D369-415E-9A5A-DCEC3A048FD4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НЕОБЫЧНЫЕ </a:t>
            </a:r>
            <a:br>
              <a:rPr sz="3600"/>
            </a:b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АВТОБУСЫ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На улицах Лондона можно увидеть множество ярко-красных двухэтажных автобу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6643800" y="214200"/>
            <a:ext cx="1966680" cy="165888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12" descr="CAC5MNGL.jpg"/>
          <p:cNvPicPr/>
          <p:nvPr/>
        </p:nvPicPr>
        <p:blipFill>
          <a:blip r:embed="rId2"/>
          <a:stretch/>
        </p:blipFill>
        <p:spPr>
          <a:xfrm>
            <a:off x="5500800" y="4929120"/>
            <a:ext cx="2019240" cy="1357560"/>
          </a:xfrm>
          <a:prstGeom prst="rect">
            <a:avLst/>
          </a:prstGeom>
          <a:ln w="0">
            <a:noFill/>
          </a:ln>
        </p:spPr>
      </p:pic>
      <p:pic>
        <p:nvPicPr>
          <p:cNvPr id="418" name="Содержимое 11" descr="биг.JPG"/>
          <p:cNvPicPr/>
          <p:nvPr/>
        </p:nvPicPr>
        <p:blipFill>
          <a:blip r:embed="rId3"/>
          <a:stretch/>
        </p:blipFill>
        <p:spPr>
          <a:xfrm>
            <a:off x="4572000" y="2000160"/>
            <a:ext cx="3657600" cy="2467080"/>
          </a:xfrm>
          <a:prstGeom prst="rect">
            <a:avLst/>
          </a:prstGeom>
          <a:ln w="0">
            <a:noFill/>
          </a:ln>
        </p:spPr>
      </p:pic>
      <p:sp>
        <p:nvSpPr>
          <p:cNvPr id="419" name="Номер слайда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9DCF-4BD9-4B96-B834-98C2D37615A4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САМЫЕ</a:t>
            </a:r>
            <a:br>
              <a:rPr sz="3600"/>
            </a:b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ИЗВЕСТНЫЕ ЧАСЫ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 Лондоне туристы обязательно увидят башню высотой 98 метров, на которой расположены часы  «БИГ БЕН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огда часы отбивают время, бой их передают все английские радиостан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6643800" y="0"/>
            <a:ext cx="1966680" cy="1658880"/>
          </a:xfrm>
          <a:prstGeom prst="rect">
            <a:avLst/>
          </a:prstGeom>
          <a:ln w="0">
            <a:noFill/>
          </a:ln>
        </p:spPr>
      </p:pic>
      <p:pic>
        <p:nvPicPr>
          <p:cNvPr id="423" name="Содержимое 8" descr="бб.JPG"/>
          <p:cNvPicPr/>
          <p:nvPr/>
        </p:nvPicPr>
        <p:blipFill>
          <a:blip r:embed="rId2"/>
          <a:stretch/>
        </p:blipFill>
        <p:spPr>
          <a:xfrm>
            <a:off x="4714920" y="1785960"/>
            <a:ext cx="2716200" cy="4113360"/>
          </a:xfrm>
          <a:prstGeom prst="rect">
            <a:avLst/>
          </a:prstGeom>
          <a:ln w="0">
            <a:noFill/>
          </a:ln>
        </p:spPr>
      </p:pic>
      <p:sp>
        <p:nvSpPr>
          <p:cNvPr id="424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49B1-F084-4C9F-B76D-A716FECBDACE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БУКИНГЕМСКИЙ </a:t>
            </a:r>
            <a:br>
              <a:rPr sz="3600"/>
            </a:b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ДВОРЕЦ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Если над дворцом реет королевский флаг, значит, королева находится во дворц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Большинство посетителей Лондона непременно хотят увидеть Букингемский дворец, в котором живет сама королева Великобритан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7093080" y="0"/>
            <a:ext cx="1589040" cy="133992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9" descr="CAK1IZ0H.jpg"/>
          <p:cNvPicPr/>
          <p:nvPr/>
        </p:nvPicPr>
        <p:blipFill>
          <a:blip r:embed="rId2"/>
          <a:stretch/>
        </p:blipFill>
        <p:spPr>
          <a:xfrm>
            <a:off x="4140360" y="515772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1" descr="бук8"/>
          <p:cNvPicPr/>
          <p:nvPr/>
        </p:nvPicPr>
        <p:blipFill>
          <a:blip r:embed="rId3"/>
          <a:stretch/>
        </p:blipFill>
        <p:spPr>
          <a:xfrm>
            <a:off x="4211640" y="112536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2" descr="бук1"/>
          <p:cNvPicPr/>
          <p:nvPr/>
        </p:nvPicPr>
        <p:blipFill>
          <a:blip r:embed="rId4"/>
          <a:stretch/>
        </p:blipFill>
        <p:spPr>
          <a:xfrm>
            <a:off x="5867280" y="3357720"/>
            <a:ext cx="2648160" cy="1692000"/>
          </a:xfrm>
          <a:prstGeom prst="rect">
            <a:avLst/>
          </a:prstGeom>
          <a:ln w="0">
            <a:noFill/>
          </a:ln>
        </p:spPr>
      </p:pic>
      <p:sp>
        <p:nvSpPr>
          <p:cNvPr id="431" name="Номер слайда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2A06-997C-4826-88F2-228B5EC522DA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ПУТЕШЕСТВИЕ </a:t>
            </a:r>
            <a:br>
              <a:rPr sz="3600"/>
            </a:b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ПРОДОЛЖАЕТСЯ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о туристы не могут просто так заглянуть 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воре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4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7236000" y="0"/>
            <a:ext cx="1517400" cy="1279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8" descr="бук3"/>
          <p:cNvPicPr/>
          <p:nvPr/>
        </p:nvPicPr>
        <p:blipFill>
          <a:blip r:embed="rId2"/>
          <a:stretch/>
        </p:blipFill>
        <p:spPr>
          <a:xfrm>
            <a:off x="4572000" y="1628640"/>
            <a:ext cx="3313080" cy="24847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0" descr="бук5"/>
          <p:cNvPicPr/>
          <p:nvPr/>
        </p:nvPicPr>
        <p:blipFill>
          <a:blip r:embed="rId3"/>
          <a:stretch/>
        </p:blipFill>
        <p:spPr>
          <a:xfrm>
            <a:off x="4572000" y="4365720"/>
            <a:ext cx="3313080" cy="21304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2" descr="бук"/>
          <p:cNvPicPr/>
          <p:nvPr/>
        </p:nvPicPr>
        <p:blipFill>
          <a:blip r:embed="rId4"/>
          <a:stretch/>
        </p:blipFill>
        <p:spPr>
          <a:xfrm>
            <a:off x="755640" y="4365720"/>
            <a:ext cx="3435480" cy="2092320"/>
          </a:xfrm>
          <a:prstGeom prst="rect">
            <a:avLst/>
          </a:prstGeom>
          <a:ln w="0">
            <a:noFill/>
          </a:ln>
        </p:spPr>
      </p:pic>
      <p:sp>
        <p:nvSpPr>
          <p:cNvPr id="438" name="Номер слайда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94BE-B5BE-4EDA-85BD-57A556FFC578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3657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олько летом в течение нескольких месяцев разрешается осматривать некоторые комнаты дворц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сего их там 65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267080" y="1600200"/>
            <a:ext cx="36576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2" name="Picture 11" descr="бук2"/>
          <p:cNvPicPr/>
          <p:nvPr/>
        </p:nvPicPr>
        <p:blipFill>
          <a:blip r:embed="rId1"/>
          <a:stretch/>
        </p:blipFill>
        <p:spPr>
          <a:xfrm>
            <a:off x="4284720" y="404640"/>
            <a:ext cx="2857320" cy="36720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8" descr="бук6"/>
          <p:cNvPicPr/>
          <p:nvPr/>
        </p:nvPicPr>
        <p:blipFill>
          <a:blip r:embed="rId2"/>
          <a:stretch/>
        </p:blipFill>
        <p:spPr>
          <a:xfrm>
            <a:off x="3851280" y="4508640"/>
            <a:ext cx="1511280" cy="21412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9" descr="внутри"/>
          <p:cNvPicPr/>
          <p:nvPr/>
        </p:nvPicPr>
        <p:blipFill>
          <a:blip r:embed="rId3"/>
          <a:stretch/>
        </p:blipFill>
        <p:spPr>
          <a:xfrm>
            <a:off x="395280" y="4508640"/>
            <a:ext cx="3097080" cy="2114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0" descr="внутри3"/>
          <p:cNvPicPr/>
          <p:nvPr/>
        </p:nvPicPr>
        <p:blipFill>
          <a:blip r:embed="rId4"/>
          <a:stretch/>
        </p:blipFill>
        <p:spPr>
          <a:xfrm>
            <a:off x="5796000" y="4456080"/>
            <a:ext cx="2830320" cy="21225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7" descr="C:\Documents and Settings\1\Local Settings\Temporary Internet Files\Content.IE5\ULEHWNEV\MCj01994150000[1].wmf"/>
          <p:cNvPicPr/>
          <p:nvPr/>
        </p:nvPicPr>
        <p:blipFill>
          <a:blip r:embed="rId5"/>
          <a:stretch/>
        </p:blipFill>
        <p:spPr>
          <a:xfrm>
            <a:off x="7236000" y="0"/>
            <a:ext cx="1444320" cy="1219320"/>
          </a:xfrm>
          <a:prstGeom prst="rect">
            <a:avLst/>
          </a:prstGeom>
          <a:ln w="0">
            <a:noFill/>
          </a:ln>
        </p:spPr>
      </p:pic>
      <p:sp>
        <p:nvSpPr>
          <p:cNvPr id="447" name="Номер слайда 9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BF75-3954-4858-AEF5-967585582748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СМЕНА </a:t>
            </a:r>
            <a:br>
              <a:rPr sz="3600"/>
            </a:b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КАРАУЛА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7200" y="1571400"/>
            <a:ext cx="3657600" cy="46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руглый год  можно наблюдать за сменой караула, когда гвардейцев, охраняющих дворец, сменяет новая охра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 караульных можно увидеть необычные  меховые шап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0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7308720" y="0"/>
            <a:ext cx="1374840" cy="11588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караул4"/>
          <p:cNvPicPr/>
          <p:nvPr/>
        </p:nvPicPr>
        <p:blipFill>
          <a:blip r:embed="rId2"/>
          <a:stretch/>
        </p:blipFill>
        <p:spPr>
          <a:xfrm>
            <a:off x="4572000" y="4292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1" descr="караул"/>
          <p:cNvPicPr/>
          <p:nvPr/>
        </p:nvPicPr>
        <p:blipFill>
          <a:blip r:embed="rId3"/>
          <a:stretch/>
        </p:blipFill>
        <p:spPr>
          <a:xfrm>
            <a:off x="4572000" y="1413000"/>
            <a:ext cx="3821040" cy="2641320"/>
          </a:xfrm>
          <a:prstGeom prst="rect">
            <a:avLst/>
          </a:prstGeom>
          <a:ln w="0">
            <a:noFill/>
          </a:ln>
        </p:spPr>
      </p:pic>
      <p:sp>
        <p:nvSpPr>
          <p:cNvPr id="453" name="Номер слайда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95FD-D02A-467E-A544-FF3E9D76FB97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ТРАФАЛЬГАРСКАЯ </a:t>
            </a:r>
            <a:br>
              <a:rPr sz="3600"/>
            </a:b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ПЛОЩАДЬ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250560" y="1600200"/>
            <a:ext cx="35290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И туристы, и голуби очень любят собираться на ТРАФАЛЬГАРСКОЙ площади, посреди которой стоит высокая колонна со статуей адмирала Нельсона на самом верху. Этот моряк одержал много побед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6715080" y="0"/>
            <a:ext cx="1967040" cy="1658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C:\Documents and Settings\1\Рабочий стол\фото\первый 044.jpg"/>
          <p:cNvPicPr/>
          <p:nvPr/>
        </p:nvPicPr>
        <p:blipFill>
          <a:blip r:embed="rId2"/>
          <a:stretch/>
        </p:blipFill>
        <p:spPr>
          <a:xfrm>
            <a:off x="6372360" y="2421000"/>
            <a:ext cx="2305080" cy="19908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9" descr="нельсон"/>
          <p:cNvPicPr/>
          <p:nvPr/>
        </p:nvPicPr>
        <p:blipFill>
          <a:blip r:embed="rId3"/>
          <a:stretch/>
        </p:blipFill>
        <p:spPr>
          <a:xfrm>
            <a:off x="3851280" y="3716280"/>
            <a:ext cx="2300400" cy="28735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0" descr="траф"/>
          <p:cNvPicPr/>
          <p:nvPr/>
        </p:nvPicPr>
        <p:blipFill>
          <a:blip r:embed="rId4"/>
          <a:stretch/>
        </p:blipFill>
        <p:spPr>
          <a:xfrm>
            <a:off x="3851280" y="836640"/>
            <a:ext cx="2330280" cy="2765520"/>
          </a:xfrm>
          <a:prstGeom prst="rect">
            <a:avLst/>
          </a:prstGeom>
          <a:ln w="0">
            <a:noFill/>
          </a:ln>
        </p:spPr>
      </p:pic>
      <p:sp>
        <p:nvSpPr>
          <p:cNvPr id="460" name="Номер слайда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7D07-B7B5-4718-8203-E8B5727E8610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ТАУЭР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428840"/>
            <a:ext cx="3657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ак называется замок, находящийся на Темз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00 лет здесь жили короли и королев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6643800" y="0"/>
            <a:ext cx="1966680" cy="1658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т"/>
          <p:cNvPicPr/>
          <p:nvPr/>
        </p:nvPicPr>
        <p:blipFill>
          <a:blip r:embed="rId2"/>
          <a:stretch/>
        </p:blipFill>
        <p:spPr>
          <a:xfrm>
            <a:off x="4140360" y="2073240"/>
            <a:ext cx="3887640" cy="3817800"/>
          </a:xfrm>
          <a:prstGeom prst="rect">
            <a:avLst/>
          </a:prstGeom>
          <a:ln w="0">
            <a:noFill/>
          </a:ln>
        </p:spPr>
      </p:pic>
      <p:sp>
        <p:nvSpPr>
          <p:cNvPr id="465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A175-FC09-4D23-B5EE-B34AC04C3E58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3657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олгое время он был тюрьмой, в которой содержались только очень важные особ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йчас здесь муз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267080" y="1600200"/>
            <a:ext cx="36576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6" descr="т1"/>
          <p:cNvPicPr/>
          <p:nvPr/>
        </p:nvPicPr>
        <p:blipFill>
          <a:blip r:embed="rId1"/>
          <a:stretch/>
        </p:blipFill>
        <p:spPr>
          <a:xfrm>
            <a:off x="4643280" y="4005360"/>
            <a:ext cx="3311640" cy="24829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7" descr="т внутри"/>
          <p:cNvPicPr/>
          <p:nvPr/>
        </p:nvPicPr>
        <p:blipFill>
          <a:blip r:embed="rId2"/>
          <a:stretch/>
        </p:blipFill>
        <p:spPr>
          <a:xfrm>
            <a:off x="826920" y="4076640"/>
            <a:ext cx="3241800" cy="24303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9" descr="т2"/>
          <p:cNvPicPr/>
          <p:nvPr/>
        </p:nvPicPr>
        <p:blipFill>
          <a:blip r:embed="rId3"/>
          <a:stretch/>
        </p:blipFill>
        <p:spPr>
          <a:xfrm>
            <a:off x="4643280" y="476280"/>
            <a:ext cx="2390760" cy="30258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C:\Documents and Settings\1\Local Settings\Temporary Internet Files\Content.IE5\ULEHWNEV\MCj01994150000[1].wmf"/>
          <p:cNvPicPr/>
          <p:nvPr/>
        </p:nvPicPr>
        <p:blipFill>
          <a:blip r:embed="rId4"/>
          <a:stretch/>
        </p:blipFill>
        <p:spPr>
          <a:xfrm>
            <a:off x="7236000" y="0"/>
            <a:ext cx="1446120" cy="1219320"/>
          </a:xfrm>
          <a:prstGeom prst="rect">
            <a:avLst/>
          </a:prstGeom>
          <a:ln w="0">
            <a:noFill/>
          </a:ln>
        </p:spPr>
      </p:pic>
      <p:sp>
        <p:nvSpPr>
          <p:cNvPr id="473" name="Номер слайда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F5B2-DA79-4D1D-B454-6055567D10F5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ВОРОНЫ </a:t>
            </a:r>
            <a:br>
              <a:rPr sz="3600"/>
            </a:b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ТАУЭРА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95280" y="1844280"/>
            <a:ext cx="3672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егенда гласит, что когда в Тауэре останется меньше 6 воронов, королевскую семью постигнет нечто страшное. Сегодня в замке живет 8 больших черных птиц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7308720" y="0"/>
            <a:ext cx="1374840" cy="1158840"/>
          </a:xfrm>
          <a:prstGeom prst="rect">
            <a:avLst/>
          </a:prstGeom>
          <a:ln w="0">
            <a:noFill/>
          </a:ln>
        </p:spPr>
      </p:pic>
      <p:pic>
        <p:nvPicPr>
          <p:cNvPr id="477" name="Рисунок 8" descr="ворон2.jpg"/>
          <p:cNvPicPr/>
          <p:nvPr/>
        </p:nvPicPr>
        <p:blipFill>
          <a:blip r:embed="rId2"/>
          <a:stretch/>
        </p:blipFill>
        <p:spPr>
          <a:xfrm>
            <a:off x="3059280" y="260280"/>
            <a:ext cx="1625400" cy="12193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0" descr="ворон 2"/>
          <p:cNvPicPr/>
          <p:nvPr/>
        </p:nvPicPr>
        <p:blipFill>
          <a:blip r:embed="rId3"/>
          <a:stretch/>
        </p:blipFill>
        <p:spPr>
          <a:xfrm>
            <a:off x="5003640" y="1341360"/>
            <a:ext cx="3384720" cy="2254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ворон3"/>
          <p:cNvPicPr/>
          <p:nvPr/>
        </p:nvPicPr>
        <p:blipFill>
          <a:blip r:embed="rId4"/>
          <a:stretch/>
        </p:blipFill>
        <p:spPr>
          <a:xfrm>
            <a:off x="4211640" y="3860640"/>
            <a:ext cx="3166920" cy="2374920"/>
          </a:xfrm>
          <a:prstGeom prst="rect">
            <a:avLst/>
          </a:prstGeom>
          <a:ln w="0">
            <a:noFill/>
          </a:ln>
        </p:spPr>
      </p:pic>
      <p:sp>
        <p:nvSpPr>
          <p:cNvPr id="480" name="Номер слайда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DDBB-699C-44FB-8C4A-AE5C3E590CF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ДАВАЙТЕ </a:t>
            </a:r>
            <a:br>
              <a:rPr sz="3600"/>
            </a:b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ПОЗНАКОМИМСЯ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270320" y="1600200"/>
            <a:ext cx="4159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Я – ТУЧКА. Родилась над Атлантическим океаном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ВЫ знаете, что мой друг ветер очень любит путешествовать. Бродяга предложил мне отправиться вместе с ним в путешествие по миру. Я хочу пригласить и ВАС. Будет много интересного, ВЫ узнаете много нового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214200" y="2214720"/>
            <a:ext cx="3981600" cy="3357360"/>
          </a:xfrm>
          <a:prstGeom prst="rect">
            <a:avLst/>
          </a:prstGeom>
          <a:ln w="0">
            <a:noFill/>
          </a:ln>
        </p:spPr>
      </p:pic>
      <p:sp>
        <p:nvSpPr>
          <p:cNvPr id="367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5570-4890-4586-8CB9-8A8F39E63026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333000"/>
            <a:ext cx="52671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Воронов кормят особой пищей: сырым мясом, поджаренным хлебом, кроликами, и даже птичьим кормом, вымоченным в кров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2" descr="C:\Documents and Settings\1\Рабочий стол\фото\первый 045.jpg"/>
          <p:cNvPicPr/>
          <p:nvPr/>
        </p:nvPicPr>
        <p:blipFill>
          <a:blip r:embed="rId1"/>
          <a:stretch/>
        </p:blipFill>
        <p:spPr>
          <a:xfrm>
            <a:off x="5724360" y="1197000"/>
            <a:ext cx="2444760" cy="45133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ворон 1"/>
          <p:cNvPicPr/>
          <p:nvPr/>
        </p:nvPicPr>
        <p:blipFill>
          <a:blip r:embed="rId2"/>
          <a:stretch/>
        </p:blipFill>
        <p:spPr>
          <a:xfrm>
            <a:off x="1908000" y="3068640"/>
            <a:ext cx="2268720" cy="30243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7" descr="C:\Documents and Settings\1\Local Settings\Temporary Internet Files\Content.IE5\ULEHWNEV\MCj01994150000[1].wmf"/>
          <p:cNvPicPr/>
          <p:nvPr/>
        </p:nvPicPr>
        <p:blipFill>
          <a:blip r:embed="rId3"/>
          <a:stretch/>
        </p:blipFill>
        <p:spPr>
          <a:xfrm>
            <a:off x="7236000" y="0"/>
            <a:ext cx="1446120" cy="1219320"/>
          </a:xfrm>
          <a:prstGeom prst="rect">
            <a:avLst/>
          </a:prstGeom>
          <a:ln w="0">
            <a:noFill/>
          </a:ln>
        </p:spPr>
      </p:pic>
      <p:sp>
        <p:nvSpPr>
          <p:cNvPr id="486" name="Номер слайда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CA6B-8C13-4517-8988-D4CA2F8F04FD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ДИКОВИННЫЕ </a:t>
            </a:r>
            <a:br>
              <a:rPr sz="3600"/>
            </a:b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ЖИВОТНЫЕ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В Великобритании можно увидеть лошадей всех размеров и форм: от маленьких ПОН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до ТЯЖЕЛОВОЗ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9" name="Object 9"/>
          <p:cNvGraphicFramePr/>
          <p:nvPr/>
        </p:nvGraphicFramePr>
        <p:xfrm>
          <a:off x="0" y="2816280"/>
          <a:ext cx="3657600" cy="24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16280"/>
                    <a:ext cx="365760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1" name="Picture 7" descr="C:\Documents and Settings\1\Local Settings\Temporary Internet Files\Content.IE5\ULEHWNEV\MCj01994150000[1].wmf"/>
          <p:cNvPicPr/>
          <p:nvPr/>
        </p:nvPicPr>
        <p:blipFill>
          <a:blip r:embed="rId3"/>
          <a:stretch/>
        </p:blipFill>
        <p:spPr>
          <a:xfrm>
            <a:off x="7164360" y="0"/>
            <a:ext cx="1517760" cy="127944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3" descr="пони"/>
          <p:cNvPicPr/>
          <p:nvPr/>
        </p:nvPicPr>
        <p:blipFill>
          <a:blip r:embed="rId4"/>
          <a:stretch/>
        </p:blipFill>
        <p:spPr>
          <a:xfrm>
            <a:off x="755640" y="3933720"/>
            <a:ext cx="1509840" cy="22528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4" descr="пони и тяж"/>
          <p:cNvPicPr/>
          <p:nvPr/>
        </p:nvPicPr>
        <p:blipFill>
          <a:blip r:embed="rId5"/>
          <a:stretch/>
        </p:blipFill>
        <p:spPr>
          <a:xfrm>
            <a:off x="5781600" y="3068640"/>
            <a:ext cx="2325600" cy="30067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5" descr="тяж"/>
          <p:cNvPicPr/>
          <p:nvPr/>
        </p:nvPicPr>
        <p:blipFill>
          <a:blip r:embed="rId6"/>
          <a:stretch/>
        </p:blipFill>
        <p:spPr>
          <a:xfrm>
            <a:off x="2627280" y="3951360"/>
            <a:ext cx="2881440" cy="2163600"/>
          </a:xfrm>
          <a:prstGeom prst="rect">
            <a:avLst/>
          </a:prstGeom>
          <a:ln w="0">
            <a:noFill/>
          </a:ln>
        </p:spPr>
      </p:pic>
      <p:sp>
        <p:nvSpPr>
          <p:cNvPr id="495" name="Номер слайда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7F71-9EC0-409A-8A87-0083725A1ED9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СПОРТ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Англичане очень любят спорт. Именно они изобрели такие популярные виды спорта, как гольф, теннис, крикет, регби, футбо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8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7164360" y="0"/>
            <a:ext cx="1517760" cy="127944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6" descr="гольф.JPG"/>
          <p:cNvPicPr/>
          <p:nvPr/>
        </p:nvPicPr>
        <p:blipFill>
          <a:blip r:embed="rId2"/>
          <a:stretch/>
        </p:blipFill>
        <p:spPr>
          <a:xfrm>
            <a:off x="826920" y="3573360"/>
            <a:ext cx="1357560" cy="2036880"/>
          </a:xfrm>
          <a:prstGeom prst="rect">
            <a:avLst/>
          </a:prstGeom>
          <a:ln w="0">
            <a:noFill/>
          </a:ln>
        </p:spPr>
      </p:pic>
      <p:pic>
        <p:nvPicPr>
          <p:cNvPr id="500" name="Содержимое 8" descr="теннис1.JPG"/>
          <p:cNvPicPr/>
          <p:nvPr/>
        </p:nvPicPr>
        <p:blipFill>
          <a:blip r:embed="rId3"/>
          <a:stretch/>
        </p:blipFill>
        <p:spPr>
          <a:xfrm>
            <a:off x="2556000" y="4581360"/>
            <a:ext cx="1333440" cy="2000520"/>
          </a:xfrm>
          <a:prstGeom prst="rect">
            <a:avLst/>
          </a:prstGeom>
          <a:ln w="0">
            <a:noFill/>
          </a:ln>
        </p:spPr>
      </p:pic>
      <p:pic>
        <p:nvPicPr>
          <p:cNvPr id="501" name="Рисунок 9" descr="крикет.jpg"/>
          <p:cNvPicPr/>
          <p:nvPr/>
        </p:nvPicPr>
        <p:blipFill>
          <a:blip r:embed="rId4"/>
          <a:stretch/>
        </p:blipFill>
        <p:spPr>
          <a:xfrm>
            <a:off x="4284720" y="3573360"/>
            <a:ext cx="1731960" cy="1285920"/>
          </a:xfrm>
          <a:prstGeom prst="rect">
            <a:avLst/>
          </a:prstGeom>
          <a:ln w="0">
            <a:noFill/>
          </a:ln>
        </p:spPr>
      </p:pic>
      <p:pic>
        <p:nvPicPr>
          <p:cNvPr id="502" name="Рисунок 10" descr="регби 1.jpg"/>
          <p:cNvPicPr/>
          <p:nvPr/>
        </p:nvPicPr>
        <p:blipFill>
          <a:blip r:embed="rId5"/>
          <a:stretch/>
        </p:blipFill>
        <p:spPr>
          <a:xfrm>
            <a:off x="4284720" y="5229360"/>
            <a:ext cx="1720800" cy="129060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11" descr="футбол.JPG"/>
          <p:cNvPicPr/>
          <p:nvPr/>
        </p:nvPicPr>
        <p:blipFill>
          <a:blip r:embed="rId6"/>
          <a:stretch/>
        </p:blipFill>
        <p:spPr>
          <a:xfrm>
            <a:off x="6443640" y="3573360"/>
            <a:ext cx="1365120" cy="2043360"/>
          </a:xfrm>
          <a:prstGeom prst="rect">
            <a:avLst/>
          </a:prstGeom>
          <a:ln w="0">
            <a:noFill/>
          </a:ln>
        </p:spPr>
      </p:pic>
      <p:sp>
        <p:nvSpPr>
          <p:cNvPr id="504" name="Номер слайда 9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C632-FE9E-496D-AC59-D31E66AAD1F0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УЭМБЛИ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250920" y="1600200"/>
            <a:ext cx="3457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Большинство решающих футбольных матчей проходят в Лондоне на стадионе Уэмбли. Он вмещает около 80000 болельщиков!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7093080" y="0"/>
            <a:ext cx="1590480" cy="13413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8" descr="уэмбли"/>
          <p:cNvPicPr/>
          <p:nvPr/>
        </p:nvPicPr>
        <p:blipFill>
          <a:blip r:embed="rId2"/>
          <a:stretch/>
        </p:blipFill>
        <p:spPr>
          <a:xfrm>
            <a:off x="4211640" y="3645000"/>
            <a:ext cx="3178080" cy="25095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9" descr="уэмбли1"/>
          <p:cNvPicPr/>
          <p:nvPr/>
        </p:nvPicPr>
        <p:blipFill>
          <a:blip r:embed="rId3"/>
          <a:stretch/>
        </p:blipFill>
        <p:spPr>
          <a:xfrm>
            <a:off x="3708360" y="981000"/>
            <a:ext cx="3238560" cy="2428920"/>
          </a:xfrm>
          <a:prstGeom prst="rect">
            <a:avLst/>
          </a:prstGeom>
          <a:ln w="0">
            <a:noFill/>
          </a:ln>
        </p:spPr>
      </p:pic>
      <p:sp>
        <p:nvSpPr>
          <p:cNvPr id="510" name="Номер слайда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30F3-DDA4-4885-BAA3-1816F3CC46AC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 </a:t>
            </a: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ПОДВЕДЕМ</a:t>
            </a:r>
            <a:br>
              <a:rPr sz="3600"/>
            </a:b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 ИТОГ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Местоположение стр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тол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Государствен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язы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Фла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то прави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трано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269960" y="1600200"/>
            <a:ext cx="4405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еверо-запад Европ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 остров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 Атлантическом оке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онд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Англий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орол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6786720" y="0"/>
            <a:ext cx="1966680" cy="165888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5" descr="флаг.jpg"/>
          <p:cNvPicPr/>
          <p:nvPr/>
        </p:nvPicPr>
        <p:blipFill>
          <a:blip r:embed="rId2"/>
          <a:stretch/>
        </p:blipFill>
        <p:spPr>
          <a:xfrm>
            <a:off x="4357800" y="4143240"/>
            <a:ext cx="1625400" cy="812880"/>
          </a:xfrm>
          <a:prstGeom prst="rect">
            <a:avLst/>
          </a:prstGeom>
          <a:ln w="0">
            <a:noFill/>
          </a:ln>
        </p:spPr>
      </p:pic>
      <p:sp>
        <p:nvSpPr>
          <p:cNvPr id="516" name="Стрелка вправо 6"/>
          <p:cNvSpPr/>
          <p:nvPr/>
        </p:nvSpPr>
        <p:spPr>
          <a:xfrm>
            <a:off x="3714840" y="1571760"/>
            <a:ext cx="54936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Стрелка вправо 7"/>
          <p:cNvSpPr/>
          <p:nvPr/>
        </p:nvSpPr>
        <p:spPr>
          <a:xfrm>
            <a:off x="3643200" y="2786040"/>
            <a:ext cx="621000" cy="48420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Стрелка вправо 8"/>
          <p:cNvSpPr/>
          <p:nvPr/>
        </p:nvSpPr>
        <p:spPr>
          <a:xfrm>
            <a:off x="3643200" y="3571920"/>
            <a:ext cx="621000" cy="48420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Стрелка вправо 9"/>
          <p:cNvSpPr/>
          <p:nvPr/>
        </p:nvSpPr>
        <p:spPr>
          <a:xfrm>
            <a:off x="3643200" y="4286160"/>
            <a:ext cx="621000" cy="48420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Стрелка вправо 10"/>
          <p:cNvSpPr/>
          <p:nvPr/>
        </p:nvSpPr>
        <p:spPr>
          <a:xfrm>
            <a:off x="3643200" y="5572080"/>
            <a:ext cx="64296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2" descr="C:\Documents and Settings\1\Рабочий стол\фото\первый 047.jpg"/>
          <p:cNvPicPr/>
          <p:nvPr/>
        </p:nvPicPr>
        <p:blipFill>
          <a:blip r:embed="rId3"/>
          <a:stretch/>
        </p:blipFill>
        <p:spPr>
          <a:xfrm>
            <a:off x="6929280" y="2928960"/>
            <a:ext cx="2032200" cy="2235240"/>
          </a:xfrm>
          <a:prstGeom prst="rect">
            <a:avLst/>
          </a:prstGeom>
          <a:ln w="0">
            <a:noFill/>
          </a:ln>
        </p:spPr>
      </p:pic>
      <p:sp>
        <p:nvSpPr>
          <p:cNvPr id="522" name="Номер слайда 1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F85D-3F93-49CC-8FC7-07F83C8F54D2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6715080" y="0"/>
            <a:ext cx="1967040" cy="16588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ПОД НАМИ </a:t>
            </a:r>
            <a:br>
              <a:rPr sz="3600"/>
            </a:b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ВЕЛИКОБРИТАНИЯ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270320" y="1600200"/>
            <a:ext cx="4230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Британские острова - это два больших острова: Британия и Ирландия находятся на северо-западе Европы в Атлантическом океан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Великобритания состоит из четырех частей: Англии, Шотландии, Уэльса и Северной Ирланд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Кроме того, сюда входит еще около 5000 небольших островов. Только некоторые из них заселены людьми, а на остальных живут лишь морские птиц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Picture 2" descr="C:\Documents and Settings\1\Рабочий стол\фото\первый 054.jpg"/>
          <p:cNvPicPr/>
          <p:nvPr/>
        </p:nvPicPr>
        <p:blipFill>
          <a:blip r:embed="rId2"/>
          <a:stretch/>
        </p:blipFill>
        <p:spPr>
          <a:xfrm>
            <a:off x="571680" y="1643040"/>
            <a:ext cx="3605040" cy="4635360"/>
          </a:xfrm>
          <a:prstGeom prst="rect">
            <a:avLst/>
          </a:prstGeom>
          <a:ln w="0">
            <a:noFill/>
          </a:ln>
        </p:spPr>
      </p:pic>
      <p:sp>
        <p:nvSpPr>
          <p:cNvPr id="373" name="Номер слайда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05A8-6D3B-495B-8848-D190CD457B7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ЗНАКОМИМСЯ </a:t>
            </a:r>
            <a:br>
              <a:rPr sz="3600"/>
            </a:b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СО СТРАНОЙ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еликобритания простирается 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75 километр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Хотя она в 2 раза меньше Франции, берег страны сильно изрезан скал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сли бы можно было выпрямить его, то он протянулся бы на половину земного ша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6643800" y="214200"/>
            <a:ext cx="1966680" cy="1658880"/>
          </a:xfrm>
          <a:prstGeom prst="rect">
            <a:avLst/>
          </a:prstGeom>
          <a:ln w="0">
            <a:noFill/>
          </a:ln>
        </p:spPr>
      </p:pic>
      <p:pic>
        <p:nvPicPr>
          <p:cNvPr id="377" name="Содержимое 9" descr="изрез берег.JPG"/>
          <p:cNvPicPr/>
          <p:nvPr/>
        </p:nvPicPr>
        <p:blipFill>
          <a:blip r:embed="rId2"/>
          <a:stretch/>
        </p:blipFill>
        <p:spPr>
          <a:xfrm>
            <a:off x="4857840" y="1857240"/>
            <a:ext cx="3019320" cy="4572000"/>
          </a:xfrm>
          <a:prstGeom prst="rect">
            <a:avLst/>
          </a:prstGeom>
          <a:ln w="0">
            <a:noFill/>
          </a:ln>
        </p:spPr>
      </p:pic>
      <p:sp>
        <p:nvSpPr>
          <p:cNvPr id="378" name="Номер слайда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3629-8684-4F74-B0F2-2A736E2A5A7A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ВЕЧНАЯ СЫРОСТЬ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Шутят, что британцы только и говорят о своей погоде! Очень часто идет дождь. В целом на Британских островах весна и лето довольно прохладные, а осень и зима теплы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7164360" y="0"/>
            <a:ext cx="1513080" cy="12762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дождь"/>
          <p:cNvPicPr/>
          <p:nvPr/>
        </p:nvPicPr>
        <p:blipFill>
          <a:blip r:embed="rId2"/>
          <a:stretch/>
        </p:blipFill>
        <p:spPr>
          <a:xfrm>
            <a:off x="4211640" y="4581360"/>
            <a:ext cx="4476600" cy="2095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9" descr="зонт"/>
          <p:cNvPicPr/>
          <p:nvPr/>
        </p:nvPicPr>
        <p:blipFill>
          <a:blip r:embed="rId3"/>
          <a:stretch/>
        </p:blipFill>
        <p:spPr>
          <a:xfrm>
            <a:off x="5651640" y="1341360"/>
            <a:ext cx="2063520" cy="3097440"/>
          </a:xfrm>
          <a:prstGeom prst="rect">
            <a:avLst/>
          </a:prstGeom>
          <a:ln w="0">
            <a:noFill/>
          </a:ln>
        </p:spPr>
      </p:pic>
      <p:sp>
        <p:nvSpPr>
          <p:cNvPr id="384" name="Номер слайда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612A-56A6-404F-AFB9-AFB2639D5D2D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КОРОЛЕВСТВО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нглия – это страна, в которой правит  королева ЕЛИЗАВЕТА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II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Государственный язык – АНГЛИЙСК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аселение составляет свыше 58 миллионов челове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7020000" y="0"/>
            <a:ext cx="1662120" cy="1401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C:\Documents and Settings\1\Рабочий стол\фото\первый 041.jpg"/>
          <p:cNvPicPr/>
          <p:nvPr/>
        </p:nvPicPr>
        <p:blipFill>
          <a:blip r:embed="rId2"/>
          <a:stretch/>
        </p:blipFill>
        <p:spPr>
          <a:xfrm>
            <a:off x="428760" y="4286160"/>
            <a:ext cx="3717720" cy="2271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C:\Documents and Settings\1\Рабочий стол\фото\первый 043.jpg"/>
          <p:cNvPicPr/>
          <p:nvPr/>
        </p:nvPicPr>
        <p:blipFill>
          <a:blip r:embed="rId3"/>
          <a:stretch/>
        </p:blipFill>
        <p:spPr>
          <a:xfrm>
            <a:off x="1571760" y="1571760"/>
            <a:ext cx="1422360" cy="2235240"/>
          </a:xfrm>
          <a:prstGeom prst="rect">
            <a:avLst/>
          </a:prstGeom>
          <a:ln w="0">
            <a:noFill/>
          </a:ln>
        </p:spPr>
      </p:pic>
      <p:sp>
        <p:nvSpPr>
          <p:cNvPr id="391" name="Номер слайда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8033-F64C-4C21-B0E5-5E24984523ED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ЛОНДОН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ондон – не только столица Англии, но и самый большой город Великобрита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 Лондоне проживает около 7 миллионов челов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ямо через центр города протекает река ТЕМЗА. Через нее переброшено 34 мос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6877080" y="0"/>
            <a:ext cx="1662120" cy="1401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9" descr="мост"/>
          <p:cNvPicPr/>
          <p:nvPr/>
        </p:nvPicPr>
        <p:blipFill>
          <a:blip r:embed="rId2"/>
          <a:stretch/>
        </p:blipFill>
        <p:spPr>
          <a:xfrm>
            <a:off x="4286160" y="1785960"/>
            <a:ext cx="1968480" cy="14763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0" descr="мосты"/>
          <p:cNvPicPr/>
          <p:nvPr/>
        </p:nvPicPr>
        <p:blipFill>
          <a:blip r:embed="rId3"/>
          <a:stretch/>
        </p:blipFill>
        <p:spPr>
          <a:xfrm>
            <a:off x="4716360" y="3645000"/>
            <a:ext cx="3232080" cy="29383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1" descr="мост4"/>
          <p:cNvPicPr/>
          <p:nvPr/>
        </p:nvPicPr>
        <p:blipFill>
          <a:blip r:embed="rId4"/>
          <a:stretch/>
        </p:blipFill>
        <p:spPr>
          <a:xfrm>
            <a:off x="6516720" y="1773360"/>
            <a:ext cx="1936800" cy="1452600"/>
          </a:xfrm>
          <a:prstGeom prst="rect">
            <a:avLst/>
          </a:prstGeom>
          <a:ln w="0">
            <a:noFill/>
          </a:ln>
        </p:spPr>
      </p:pic>
      <p:sp>
        <p:nvSpPr>
          <p:cNvPr id="398" name="Номер слайда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1058-CF50-49E3-A3FF-44C94A76D972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Cambria"/>
              </a:rPr>
              <a:t>МЕТРОПОЛИТЕН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270320" y="1600200"/>
            <a:ext cx="387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В Лондоне самое старое в мире МЕТР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Состоит из 450 поездов, 273 станций, 840 км путей и 294 эскалаторов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20 миллионов туристов приезжают сюда каждый год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7" descr="C:\Documents and Settings\1\Local Settings\Temporary Internet Files\Content.IE5\ULEHWNEV\MCj01994150000[1].wmf"/>
          <p:cNvPicPr/>
          <p:nvPr/>
        </p:nvPicPr>
        <p:blipFill>
          <a:blip r:embed="rId1"/>
          <a:stretch/>
        </p:blipFill>
        <p:spPr>
          <a:xfrm>
            <a:off x="7236000" y="0"/>
            <a:ext cx="1446120" cy="12193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9" descr="метро1"/>
          <p:cNvPicPr/>
          <p:nvPr/>
        </p:nvPicPr>
        <p:blipFill>
          <a:blip r:embed="rId2"/>
          <a:stretch/>
        </p:blipFill>
        <p:spPr>
          <a:xfrm>
            <a:off x="539640" y="170028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0" descr="метро4"/>
          <p:cNvPicPr/>
          <p:nvPr/>
        </p:nvPicPr>
        <p:blipFill>
          <a:blip r:embed="rId3"/>
          <a:stretch/>
        </p:blipFill>
        <p:spPr>
          <a:xfrm>
            <a:off x="539640" y="4516560"/>
            <a:ext cx="3311640" cy="1985760"/>
          </a:xfrm>
          <a:prstGeom prst="rect">
            <a:avLst/>
          </a:prstGeom>
          <a:ln w="0">
            <a:noFill/>
          </a:ln>
        </p:spPr>
      </p:pic>
      <p:sp>
        <p:nvSpPr>
          <p:cNvPr id="404" name="Номер слайда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731A-3F41-4346-920F-09089B4B255D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06" name="Picture 7" descr="метро3"/>
          <p:cNvPicPr/>
          <p:nvPr/>
        </p:nvPicPr>
        <p:blipFill>
          <a:blip r:embed="rId1"/>
          <a:stretch/>
        </p:blipFill>
        <p:spPr>
          <a:xfrm>
            <a:off x="4427640" y="378936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267080" y="4149360"/>
            <a:ext cx="3657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4113000"/>
            <a:ext cx="3657600" cy="23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267080" y="1196640"/>
            <a:ext cx="3657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Люди иногда путешествуют в метро, как селедки в консервной бан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Picture 8" descr="метро2"/>
          <p:cNvPicPr/>
          <p:nvPr/>
        </p:nvPicPr>
        <p:blipFill>
          <a:blip r:embed="rId2"/>
          <a:stretch/>
        </p:blipFill>
        <p:spPr>
          <a:xfrm>
            <a:off x="468360" y="26028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9" descr="метро5"/>
          <p:cNvPicPr/>
          <p:nvPr/>
        </p:nvPicPr>
        <p:blipFill>
          <a:blip r:embed="rId3"/>
          <a:stretch/>
        </p:blipFill>
        <p:spPr>
          <a:xfrm>
            <a:off x="539640" y="37893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C:\Documents and Settings\1\Local Settings\Temporary Internet Files\Content.IE5\ULEHWNEV\MCj01994150000[1].wmf"/>
          <p:cNvPicPr/>
          <p:nvPr/>
        </p:nvPicPr>
        <p:blipFill>
          <a:blip r:embed="rId4"/>
          <a:stretch/>
        </p:blipFill>
        <p:spPr>
          <a:xfrm>
            <a:off x="7236000" y="0"/>
            <a:ext cx="1446120" cy="1219320"/>
          </a:xfrm>
          <a:prstGeom prst="rect">
            <a:avLst/>
          </a:prstGeom>
          <a:ln w="0">
            <a:noFill/>
          </a:ln>
        </p:spPr>
      </p:pic>
      <p:sp>
        <p:nvSpPr>
          <p:cNvPr id="413" name="Номер слайда 9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79A4-538D-4E81-B797-1E49D51A642B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4:46:23Z</dcterms:created>
  <dc:creator>User</dc:creator>
  <dc:description/>
  <dc:language>en-US</dc:language>
  <cp:lastModifiedBy>Питонище</cp:lastModifiedBy>
  <dcterms:modified xsi:type="dcterms:W3CDTF">2010-06-10T11:14:15Z</dcterms:modified>
  <cp:revision>81</cp:revision>
  <dc:subject/>
  <dc:title>Путешествие тучки по земному шару.</dc:title>
</cp:coreProperties>
</file>