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FAC-EC7D-4061-9CAA-A771EA54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6AF-EB6E-4D71-A021-EB629F77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7DF-F164-4F95-ADE5-9AC0431F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03F-3D68-4C6E-BDF8-24B9BDA9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48F-16CC-4F72-99ED-5BC08E37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34E-C116-4905-870F-3802ECA2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DEF-F45E-43F3-8411-9C9F9D89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140-DC5D-45D8-97E7-0E95AAAE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D00-CE0A-433F-AD6B-8485EB3E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651-6DC6-4013-8F08-1C80997C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96C-47D8-45FF-8A01-3D291C5B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8EB-7040-42EF-A283-81BE23A1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4C651-2EF2-45D1-BE05-52AEC64E75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71640" y="1295280"/>
            <a:ext cx="46796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Увеличь 10 в 6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1280" y="2016000"/>
            <a:ext cx="431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Уменьши 72 в 9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1280" y="2700360"/>
            <a:ext cx="2952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90:1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71280" y="3384720"/>
            <a:ext cx="33112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57*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71280" y="4032360"/>
            <a:ext cx="309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13*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1280" y="4716360"/>
            <a:ext cx="302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155*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1280" y="5400720"/>
            <a:ext cx="30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100: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48000" y="863640"/>
            <a:ext cx="237672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0*6=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48000" y="1563840"/>
            <a:ext cx="18003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2:9=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16000" y="2232000"/>
            <a:ext cx="18003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0360" y="2938320"/>
            <a:ext cx="18000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00360" y="3600360"/>
            <a:ext cx="18000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16000" y="4233960"/>
            <a:ext cx="18003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44720" y="4967280"/>
            <a:ext cx="18003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5640" y="1800000"/>
            <a:ext cx="907092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я научился……………….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мне это пригодится в жизни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6000" y="2735280"/>
            <a:ext cx="828036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машнее задание-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.Т.,с.50,№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517680"/>
            <a:ext cx="71280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ематическ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44360" y="1655640"/>
            <a:ext cx="100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чный магазин заказал 12 ваз для цветов по 200 руб. Сколько всего заплатили за ваз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346640"/>
            <a:ext cx="10152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9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чный магазин заказал вазы для цветов по 450 рублей,всего за вазы заплатили 900 рублей. Сколько всего заказали ваз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7280" y="2616120"/>
            <a:ext cx="712800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: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12 * 200 = 2400(р)-заплатили за ваз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вет: 2400 ру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" y="5286240"/>
            <a:ext cx="712800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: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12 * 200 = 2400(р)-заплатили за ваз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вет: 2400 ру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6000" y="1511280"/>
            <a:ext cx="97200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Цветочный магазин заказал 30 ваз,всего за вазы заплатили 3000 рублей. Сколько стоит одна ваз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517680"/>
            <a:ext cx="7128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ематическ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3280" y="2865600"/>
            <a:ext cx="18003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7280" y="2682720"/>
            <a:ext cx="712800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3000/30 = 100 (р)-стоимость одной ваз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: 100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7640" y="1584360"/>
            <a:ext cx="9072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купила набор,состоящий из таких товаров как:  1 ручки -стоимость 5 рублей,1 карандаша-7 рублей и 1 тетради-8 рублей. Найдите цену наб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6880" y="3672000"/>
            <a:ext cx="91234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640" y="2232000"/>
            <a:ext cx="9071280" cy="151920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Цена набора товаро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6000" y="154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Цель уро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меть находить цену набора тов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3384720"/>
            <a:ext cx="964728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урока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) Узнать,что такое «цена набора товаров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)Узнать как находить цену набора това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920" y="1007640"/>
            <a:ext cx="29530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а № 2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85840" y="2016000"/>
            <a:ext cx="5257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1280" y="1008000"/>
            <a:ext cx="295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а № 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5600" y="1871640"/>
            <a:ext cx="471312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87280" y="4435560"/>
            <a:ext cx="8783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)2575:25=103(руб)-стоимость 1 книги. 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)250/25=10(руб)- стоимость 1 ручки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)500/25=20(руб.)- стоимость 1 тетради. 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)103+10+20=133(руб.)-цена набора това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000" y="6664320"/>
            <a:ext cx="12240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76360" y="15462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Цель уро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меть находить цену набора тов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2440" y="3384720"/>
            <a:ext cx="964728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урока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) Узнать,что такое «цена набора товаров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)Узнать как находить цену набора това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1T01:24:11Z</dcterms:created>
  <dc:creator/>
  <dc:description/>
  <dc:language>en-US</dc:language>
  <cp:lastModifiedBy/>
  <cp:revision>1</cp:revision>
  <dc:subject/>
  <dc:title/>
</cp:coreProperties>
</file>