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5AB3-54BC-411B-BC22-6DCEEA58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CE3-9944-40EE-A267-ABDDABC6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D2A-805C-472D-9E0E-8EFE9404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28E8-431A-404F-9F26-A01703E1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987-11D5-4E24-97D1-3EA4B28F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301-C4CC-4ED2-9AE2-4348FAF7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916-43FA-481E-8BEE-102013D6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13B-AF94-4038-A02F-8536481C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CB4-F27B-43F0-83F1-2058C35E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AFC-8FF7-4272-8C8A-C021B191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A93-F19D-4F39-BB47-95D04315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264-A862-4199-94E8-8AF5B5F8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0EC24-6B15-4483-B82B-6339E80F9B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71640" y="1295280"/>
            <a:ext cx="46796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Увеличь 10 в 6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1280" y="2016000"/>
            <a:ext cx="431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Уменьши 72 в 9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1280" y="2700360"/>
            <a:ext cx="2952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90:1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71280" y="3384720"/>
            <a:ext cx="33112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57*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71280" y="4032360"/>
            <a:ext cx="309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13*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1280" y="4716360"/>
            <a:ext cx="302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155*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1280" y="5400720"/>
            <a:ext cx="30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100: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48000" y="863640"/>
            <a:ext cx="237672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0*6=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48000" y="1563840"/>
            <a:ext cx="18003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2:9=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16000" y="2232000"/>
            <a:ext cx="18003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0360" y="2938320"/>
            <a:ext cx="18000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00360" y="3600360"/>
            <a:ext cx="18000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16000" y="4233960"/>
            <a:ext cx="18003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44720" y="4967280"/>
            <a:ext cx="18003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5640" y="1800000"/>
            <a:ext cx="907092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я научился……………….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мне это пригодится в жизни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6000" y="2735280"/>
            <a:ext cx="828036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машнее задание-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.Т.,с.50,№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517680"/>
            <a:ext cx="71280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ематическ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44360" y="1655640"/>
            <a:ext cx="100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чный магазин заказал 12 ваз для цветов по 200 руб. Сколько всего заплатили за ваз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346640"/>
            <a:ext cx="10152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9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чный магазин заказал вазы для цветов по 450 рублей,всего за вазы заплатили 900 рублей. Сколько всего заказали ваз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7280" y="2616120"/>
            <a:ext cx="712800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: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12 * 200 = 2400(р)-заплатили за ваз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вет: 2400 ру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" y="5286240"/>
            <a:ext cx="712800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: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12 * 200 = 2400(р)-заплатили за ваз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вет: 2400 ру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6000" y="1511280"/>
            <a:ext cx="97200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Цветочный магазин заказал 30 ваз,всего за вазы заплатили 3000 рублей. Сколько стоит одна ваз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517680"/>
            <a:ext cx="7128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ематическ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3280" y="2865600"/>
            <a:ext cx="18003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7280" y="2682720"/>
            <a:ext cx="712800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3000/30 = 100 (р)-стоимость одной ваз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: 100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7640" y="1584360"/>
            <a:ext cx="9072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купила набор,состоящий из таких товаров как:  1 ручки -стоимость 5 рублей,1 карандаша-7 рублей и 1 тетради-8 рублей. Найдите цену наб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6880" y="3672000"/>
            <a:ext cx="91234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640" y="2232000"/>
            <a:ext cx="9071280" cy="151920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Цена набора товаро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6000" y="154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Цель уро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меть находить цену набора тов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3384720"/>
            <a:ext cx="964728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урока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) Узнать,что такое «цена набора товаров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)Узнать как находить цену набора това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920" y="1007640"/>
            <a:ext cx="29530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а № 2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85840" y="2016000"/>
            <a:ext cx="5257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1280" y="1008000"/>
            <a:ext cx="295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а № 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5600" y="1871640"/>
            <a:ext cx="471312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87280" y="4435560"/>
            <a:ext cx="8783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)2575:25=103(руб)-стоимость 1 книги. 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)250/25=10(руб)- стоимость 1 ручки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)500/25=20(руб.)- стоимость 1 тетради. 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)103+10+20=133(руб.)-цена набора това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000" y="6664320"/>
            <a:ext cx="12240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76360" y="15462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Цель уро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меть находить цену набора тов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2440" y="3384720"/>
            <a:ext cx="964728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урока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) Узнать,что такое «цена набора товаров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)Узнать как находить цену набора това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1T01:24:11Z</dcterms:created>
  <dc:creator/>
  <dc:description/>
  <dc:language>en-US</dc:language>
  <cp:lastModifiedBy/>
  <cp:revision>1</cp:revision>
  <dc:subject/>
  <dc:title/>
</cp:coreProperties>
</file>