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jpeg" ContentType="image/jpe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98B0E-9D33-4EA3-BE5B-0815A8B98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1266E-2721-436A-9592-7216627B8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7A71E-86E4-44D8-99E7-613590290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B3C21-88F5-4B60-81BB-011A9BB17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E1B0F-B8C2-4CA2-A1CB-E7A7FEBE5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11A89-462D-4C38-B0D9-BFC3389CA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561A8-A891-42A3-99E5-5A359AD5D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15A77-767D-413D-9C47-A8CE0D998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87DE0-8C0E-428A-BA3B-2477D4323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F39BD-C6D7-4077-8DF4-AF0F993FA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BD7DD-3A55-43EE-BFDC-DA9397CE2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03843-55EF-4E00-8F5C-7CB868E31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40174-10E0-465B-BEC3-C86B877D8D1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&amp;Ncy;&amp;ocy;&amp;vcy;&amp;ocy;&amp;gcy;&amp;ocy;&amp;dcy;&amp;ncy;&amp;icy;&amp;iecy; &amp;icy; &amp;zcy;&amp;icy;&amp;mcy;&amp;ncy;&amp;icy;&amp;iecy; &amp;fcy;&amp;ocy;&amp;ncy;&amp;ycy;. &amp;CHcy;&amp;acy;&amp;scy;&amp;tcy;&amp;softcy; 2 - Style your Site- &amp;yacy;.&amp;rcy;&amp;ucy;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WordArt 6"/>
          <p:cNvSpPr txBox="1"/>
          <p:nvPr/>
        </p:nvSpPr>
        <p:spPr>
          <a:xfrm>
            <a:off x="1981080" y="4724280"/>
            <a:ext cx="601992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Здравствуйте!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5" descr="&amp;Ocy;&amp;tscy;&amp;iecy;&amp;ncy;&amp;kcy;&amp;acy; &amp;fcy;&amp;ocy;&amp;tcy;&amp;ocy;&amp;gcy;&amp;rcy;&amp;acy;&amp;fcy;&amp;icy;&amp;jcy; - &amp;Scy;&amp;tcy;&amp;rcy;&amp;acy;&amp;ncy;&amp;icy;&amp;tscy;&amp;acy; 75 - C&amp;iecy;&amp;kcy;&amp;rcy;&amp;iecy;&amp;tcy;&amp;ycy; &amp;scy;&amp;hardcy;&amp;iecy;&amp;mcy;&amp;kcy;&amp;icy; - &amp;Kcy;&amp;lcy;&amp;ucy;&amp;bcy; &amp;lcy;&amp;yucy;&amp;bcy;&amp;icy;&amp;tcy;&amp;iecy;&amp;lcy;&amp;iecy;&amp;jcy; Nikon - &amp;Scy;&amp;tcy;&amp;rcy;&amp;acy;&amp;ncy;&amp;icy;&amp;tscy;&amp;acy; 7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релакс - успокаивающая мелодия.mp3" descr=""/>
          <p:cNvPicPr/>
          <p:nvPr/>
        </p:nvPicPr>
        <p:blipFill>
          <a:blip r:embed="rId2"/>
          <a:stretch/>
        </p:blipFill>
        <p:spPr>
          <a:xfrm>
            <a:off x="609480" y="59436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34097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Box 4"/>
          <p:cNvSpPr/>
          <p:nvPr/>
        </p:nvSpPr>
        <p:spPr>
          <a:xfrm>
            <a:off x="1066680" y="762120"/>
            <a:ext cx="7543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изминутка «Снегири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т на ветках посмотри,           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Руками хлопают себя по бок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красных майках снегири.      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оказывают груд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спустили перышки,                 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Руки слегка в стороны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реются на солнышке.               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 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Шевелят пальчик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оловой вертят, вертят,                 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овороты головой вправо, вле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лететь они хотят.                         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Бегут по кругу, взмахивая рук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ыш! Кыш! Улетели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 метелью, за метелью!                 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Разбегаются по группе, машут рук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5" descr="&amp;Pcy;&amp;ocy;&amp;ecy;&amp;tcy;&amp;icy;&amp;chcy;&amp;iecy;&amp;scy;&amp;kcy;&amp;acy;&amp;yacy; &amp;tcy;&amp;iecy;&amp;tcy;&amp;rcy;&amp;acy;&amp;dcy;&amp;softcy; - &amp;Tcy;&amp;acy;&amp;icy;&amp;ncy;&amp;scy;&amp;tcy;&amp;vcy;&amp;iecy;&amp;ncy;&amp;ncy;&amp;acy;&amp;yacy; &amp;Scy;&amp;tcy;&amp;rcy;&amp;acy;&amp;ncy;&amp;acy;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Детские песни из мультфильмов - Кабы не было зимы.mp3" descr=""/>
          <p:cNvPicPr/>
          <p:nvPr/>
        </p:nvPicPr>
        <p:blipFill>
          <a:blip r:embed="rId2"/>
          <a:stretch/>
        </p:blipFill>
        <p:spPr>
          <a:xfrm>
            <a:off x="457200" y="59436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67771" fill="hold"/>
                                        <p:tgtEl>
                                          <p:spTgt spid="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Елена</cp:lastModifiedBy>
  <dcterms:modified xsi:type="dcterms:W3CDTF">2014-12-17T13:53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