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E25-79D7-477B-A8A4-3EA0A089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E93-62C4-4B26-B8E4-F1325BD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946-5E83-42BF-9D74-9A17E7DB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06A-E399-47C1-806E-F7DD4C5A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540-BCF1-46F9-BCB0-87629AE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9E3-D42D-4266-B4E5-1D9998D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721-5013-411B-BC92-47493453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EDB-DA6F-4462-B587-EA17665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36A-96AB-4741-ACAD-4C6C227E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8B9-BE33-4556-AFB6-AD0CC14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094-0282-488E-8270-01F4BF3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F6F-65EF-4C63-BE7C-209E992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3A9-1D3B-4FA7-B0A1-B13D596C4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&amp;Ncy;&amp;ocy;&amp;vcy;&amp;ocy;&amp;gcy;&amp;ocy;&amp;dcy;&amp;ncy;&amp;icy;&amp;iecy; &amp;icy; &amp;zcy;&amp;icy;&amp;mcy;&amp;ncy;&amp;icy;&amp;iecy; &amp;fcy;&amp;ocy;&amp;ncy;&amp;ycy;. &amp;CHcy;&amp;acy;&amp;scy;&amp;tcy;&amp;softcy; 2 - Style your Site- &amp;yacy;.&amp;rcy;&amp;u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81080" y="47242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равствуйт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&amp;Ocy;&amp;tscy;&amp;iecy;&amp;ncy;&amp;kcy;&amp;acy; &amp;fcy;&amp;ocy;&amp;tcy;&amp;ocy;&amp;gcy;&amp;rcy;&amp;acy;&amp;fcy;&amp;icy;&amp;jcy; - &amp;Scy;&amp;tcy;&amp;rcy;&amp;acy;&amp;ncy;&amp;icy;&amp;tscy;&amp;acy; 75 - C&amp;iecy;&amp;kcy;&amp;rcy;&amp;iecy;&amp;tcy;&amp;ycy; &amp;scy;&amp;hardcy;&amp;iecy;&amp;mcy;&amp;kcy;&amp;icy; - &amp;Kcy;&amp;lcy;&amp;ucy;&amp;bcy; &amp;lcy;&amp;yucy;&amp;bcy;&amp;icy;&amp;tcy;&amp;iecy;&amp;lcy;&amp;iecy;&amp;jcy; Nikon - &amp;Scy;&amp;tcy;&amp;rcy;&amp;acy;&amp;ncy;&amp;icy;&amp;tscy;&amp;acy; 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елакс - успокаивающая мелодия.mp3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09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1066680" y="7621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минутка «Снеги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а ветках посмотри,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ами хлопают себя по бо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сных майках снегири. 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ывают гру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устили перышки,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и слегка в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еются на солнышке. 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евелят пальч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ой вертят, вертят,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вороты головой вправо,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ететь они хотят.         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гут по кругу, взмахивая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ыш! Кыш! Улет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етелью, за метелью!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бегаются по группе, машут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&amp;Pcy;&amp;ocy;&amp;ecy;&amp;tcy;&amp;icy;&amp;chcy;&amp;iecy;&amp;scy;&amp;kcy;&amp;acy;&amp;yacy; &amp;tcy;&amp;iecy;&amp;tcy;&amp;rcy;&amp;acy;&amp;dcy;&amp;softcy; - &amp;Tcy;&amp;acy;&amp;icy;&amp;ncy;&amp;scy;&amp;tcy;&amp;vcy;&amp;iecy;&amp;ncy;&amp;ncy;&amp;acy;&amp;yacy; &amp;Scy;&amp;tcy;&amp;rcy;&amp;acy;&amp;n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Детские песни из мультфильмов - Кабы не было зимы.mp3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77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4-12-17T13:53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